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63E-BC87-4E98-BAA7-874C229B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5B1-7449-4EF8-BF9A-656A2C16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99A-DF50-4354-A217-5F147679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DBB-F009-4E61-8ED1-165B0284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70D-1F17-4366-A059-C829E8F3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6C4-371B-4CFF-91BD-016A281B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622-31D7-45A3-A969-3EF1998A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13F-8657-422C-9477-0DE4B35D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283-781E-4011-A2A5-F531B8C1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C53-6565-4A1B-9CA6-E6A5215F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942-7918-442E-A60D-6A2BA44B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F45-E8EF-4646-8960-59D45103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1C2E-FE8A-4F38-961D-3C88C1F7B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Мышка\Desktop\s180100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1f497d"/>
                </a:solidFill>
                <a:latin typeface="Times New Roman"/>
              </a:rPr>
              <a:t>Ознакомление с пространств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580000" y="4724280"/>
            <a:ext cx="219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f497d"/>
                </a:solidFill>
                <a:latin typeface="Times New Roman"/>
              </a:rPr>
              <a:t>Подготови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f497d"/>
                </a:solidFill>
                <a:latin typeface="Times New Roman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f497d"/>
                </a:solidFill>
                <a:latin typeface="Times New Roman"/>
              </a:rPr>
              <a:t>Ганиева Л.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392720" cy="3290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176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116000" y="2492280"/>
            <a:ext cx="669924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8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лагодарю за внимание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br>
              <a:rPr sz="4400"/>
            </a:b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Формирование ориентировки в пространстве в дошкольном возрасте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Виды игр, формирующих ориентировку в пространстве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Игры по формированию ориентировки в пространст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странственная ориентировка осуществляется на основе непосредственного восприятия пространства и словесного обозначения пространственных категорий (местоположения, удаленности, пространственных отношений между предметами)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А.А.Столя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0"/>
          <p:cNvSpPr/>
          <p:nvPr/>
        </p:nvSpPr>
        <p:spPr>
          <a:xfrm>
            <a:off x="2916360" y="671400"/>
            <a:ext cx="3095640" cy="1084680"/>
          </a:xfrm>
          <a:prstGeom prst="cloudCallout">
            <a:avLst>
              <a:gd name="adj1" fmla="val -20828"/>
              <a:gd name="adj2" fmla="val 91703"/>
            </a:avLst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иентир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b018"/>
          <p:cNvPicPr/>
          <p:nvPr/>
        </p:nvPicPr>
        <p:blipFill>
          <a:blip r:embed="rId1"/>
          <a:srcRect l="20449" t="-1201" r="38225" b="0"/>
          <a:stretch/>
        </p:blipFill>
        <p:spPr>
          <a:xfrm>
            <a:off x="3344760" y="2205000"/>
            <a:ext cx="19605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1"/>
          <p:cNvSpPr/>
          <p:nvPr/>
        </p:nvSpPr>
        <p:spPr>
          <a:xfrm>
            <a:off x="684360" y="1557360"/>
            <a:ext cx="2158920" cy="896760"/>
          </a:xfrm>
          <a:prstGeom prst="leftArrowCallout">
            <a:avLst>
              <a:gd name="adj1" fmla="val 25002"/>
              <a:gd name="adj2" fmla="val 25000"/>
              <a:gd name="adj3" fmla="val 40124"/>
              <a:gd name="adj4" fmla="val 66673"/>
            </a:avLst>
          </a:prstGeom>
          <a:solidFill>
            <a:srgbClr val="eff4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на друг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1187280" y="2637000"/>
            <a:ext cx="1760760" cy="1511280"/>
          </a:xfrm>
          <a:prstGeom prst="downArrowCallout">
            <a:avLst>
              <a:gd name="adj1" fmla="val 29129"/>
              <a:gd name="adj2" fmla="val 29127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т дру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1116000" y="4508640"/>
            <a:ext cx="1871640" cy="1655640"/>
          </a:xfrm>
          <a:prstGeom prst="downArrowCallout">
            <a:avLst>
              <a:gd name="adj1" fmla="val 28264"/>
              <a:gd name="adj2" fmla="val 28262"/>
              <a:gd name="adj3" fmla="val 16667"/>
              <a:gd name="adj4" fmla="val 66667"/>
            </a:avLst>
          </a:prstGeom>
          <a:solidFill>
            <a:srgbClr val="e12b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по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6156360" y="1413000"/>
            <a:ext cx="2160720" cy="1330200"/>
          </a:xfrm>
          <a:prstGeom prst="leftArrowCallout">
            <a:avLst>
              <a:gd name="adj1" fmla="val 25002"/>
              <a:gd name="adj2" fmla="val 25000"/>
              <a:gd name="adj3" fmla="val 27073"/>
              <a:gd name="adj4" fmla="val 666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на себ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6804000" y="2997360"/>
            <a:ext cx="2138400" cy="1185840"/>
          </a:xfrm>
          <a:prstGeom prst="rightArrowCallout">
            <a:avLst>
              <a:gd name="adj1" fmla="val 25002"/>
              <a:gd name="adj2" fmla="val 25000"/>
              <a:gd name="adj3" fmla="val 30055"/>
              <a:gd name="adj4" fmla="val 6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т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5940360" y="5013360"/>
            <a:ext cx="2138400" cy="1130400"/>
          </a:xfrm>
          <a:prstGeom prst="rect">
            <a:avLst/>
          </a:prstGeom>
          <a:solidFill>
            <a:srgbClr val="d7e4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лос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4859280" y="3860640"/>
            <a:ext cx="1800360" cy="122400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Мышка\Desktop\kalendar-fon-dlya-prezentacij.jpg"/>
          <p:cNvPicPr/>
          <p:nvPr/>
        </p:nvPicPr>
        <p:blipFill>
          <a:blip r:embed="rId2"/>
          <a:stretch/>
        </p:blipFill>
        <p:spPr>
          <a:xfrm>
            <a:off x="-27000" y="10008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 младшая груп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Игры с подвесным шариком способствует усвоению понятий вверх,   вн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«Где звенит колокольчик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«Одевание кукл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«Купание кукл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Средняя группа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* «Найди спрятанную игрушку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* «Что изменилось?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* «Угадай, что где находится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* «Далеко – близк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3168720" cy="273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140360" y="3789360"/>
            <a:ext cx="32572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Старшая груп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Отгадай, кто где стои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Что изменилось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908000" y="3213000"/>
            <a:ext cx="48452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671640" cy="2968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356000" y="3213000"/>
            <a:ext cx="4032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0" y="-17136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одготовительная груп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989000"/>
            <a:ext cx="822960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Кто запомнит и расскажет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Что изменилось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Чем отличаются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Парные карточ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Путешествие по лабиринт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Опиши путь сказочного геро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7T12:50:18Z</dcterms:created>
  <dc:creator>Мышка</dc:creator>
  <dc:description/>
  <dc:language>en-US</dc:language>
  <cp:lastModifiedBy>Екатерина</cp:lastModifiedBy>
  <dcterms:modified xsi:type="dcterms:W3CDTF">2015-11-12T08:30:32Z</dcterms:modified>
  <cp:revision>8</cp:revision>
  <dc:subject/>
  <dc:title>Презентация PowerPoint</dc:title>
</cp:coreProperties>
</file>