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F70-5370-4AFC-8954-37A64226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D05A-C8FC-45C0-ABA5-252F8AC40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2B1-E7EA-4202-B068-85DBD7A5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021F-37CC-40B6-BC59-00A7F8A4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7627-2074-4036-B8D2-3A07AF1B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9E5-DFA7-45FC-80A8-94667719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869-722C-4896-965F-4867E2D0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A07-12CB-4CB0-8B83-808136D6B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7B2-F5F8-4D9E-9308-4E46767A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CE22-6326-4F01-BE93-733A6C7B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00B4-EA49-436F-BE2B-FBD6ECD7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C46-87C9-4D88-83DE-24E98A49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6B6C-3B53-4D25-AEB2-15EB65275E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Мышка\Desktop\s180100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1f497d"/>
                </a:solidFill>
                <a:latin typeface="Times New Roman"/>
              </a:rPr>
              <a:t>Ознакомление с пространств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580000" y="4724280"/>
            <a:ext cx="219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f497d"/>
                </a:solidFill>
                <a:latin typeface="Times New Roman"/>
              </a:rPr>
              <a:t>Подготови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f497d"/>
                </a:solidFill>
                <a:latin typeface="Times New Roman"/>
              </a:rPr>
              <a:t>воспитател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1f497d"/>
                </a:solidFill>
                <a:latin typeface="Times New Roman"/>
              </a:rPr>
              <a:t>Ганиева Л.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4392720" cy="32907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788000" y="2852640"/>
            <a:ext cx="417672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1116000" y="2492280"/>
            <a:ext cx="6699240" cy="15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02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лагодарю за внимание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br>
              <a:rPr sz="4400"/>
            </a:b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Формирование ориентировки в пространстве в дошкольном возраст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Виды игр, формирующих ориентировку в пространстве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Игры по формированию ориентировки в пространств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33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странственная ориентировка осуществляется на основе непосредственного восприятия пространства и словесного обозначения пространственных категорий (местоположения, удаленности, пространственных отношений между предметами)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А.А.Столя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0"/>
          <p:cNvSpPr/>
          <p:nvPr/>
        </p:nvSpPr>
        <p:spPr>
          <a:xfrm>
            <a:off x="2916360" y="671400"/>
            <a:ext cx="3095640" cy="1084680"/>
          </a:xfrm>
          <a:prstGeom prst="cloudCallout">
            <a:avLst>
              <a:gd name="adj1" fmla="val -20828"/>
              <a:gd name="adj2" fmla="val 91703"/>
            </a:avLst>
          </a:prstGeom>
          <a:solidFill>
            <a:srgbClr val="4f81bd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риенти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b018"/>
          <p:cNvPicPr/>
          <p:nvPr/>
        </p:nvPicPr>
        <p:blipFill>
          <a:blip r:embed="rId1"/>
          <a:srcRect l="20449" t="-1201" r="38225" b="0"/>
          <a:stretch/>
        </p:blipFill>
        <p:spPr>
          <a:xfrm>
            <a:off x="3344760" y="2205000"/>
            <a:ext cx="1960560" cy="360036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1"/>
          <p:cNvSpPr/>
          <p:nvPr/>
        </p:nvSpPr>
        <p:spPr>
          <a:xfrm>
            <a:off x="684360" y="1557360"/>
            <a:ext cx="2158920" cy="896760"/>
          </a:xfrm>
          <a:prstGeom prst="leftArrowCallout">
            <a:avLst>
              <a:gd name="adj1" fmla="val 25002"/>
              <a:gd name="adj2" fmla="val 25000"/>
              <a:gd name="adj3" fmla="val 40124"/>
              <a:gd name="adj4" fmla="val 66673"/>
            </a:avLst>
          </a:prstGeom>
          <a:solidFill>
            <a:srgbClr val="eff4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на друг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2"/>
          <p:cNvSpPr/>
          <p:nvPr/>
        </p:nvSpPr>
        <p:spPr>
          <a:xfrm>
            <a:off x="1187280" y="2637000"/>
            <a:ext cx="1760760" cy="1511280"/>
          </a:xfrm>
          <a:prstGeom prst="downArrowCallout">
            <a:avLst>
              <a:gd name="adj1" fmla="val 29129"/>
              <a:gd name="adj2" fmla="val 29127"/>
              <a:gd name="adj3" fmla="val 16667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т друг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3"/>
          <p:cNvSpPr/>
          <p:nvPr/>
        </p:nvSpPr>
        <p:spPr>
          <a:xfrm>
            <a:off x="1116000" y="4508640"/>
            <a:ext cx="1871640" cy="1655640"/>
          </a:xfrm>
          <a:prstGeom prst="downArrowCallout">
            <a:avLst>
              <a:gd name="adj1" fmla="val 28264"/>
              <a:gd name="adj2" fmla="val 28262"/>
              <a:gd name="adj3" fmla="val 16667"/>
              <a:gd name="adj4" fmla="val 66667"/>
            </a:avLst>
          </a:prstGeom>
          <a:solidFill>
            <a:srgbClr val="e12b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предел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заим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поло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4"/>
          <p:cNvSpPr/>
          <p:nvPr/>
        </p:nvSpPr>
        <p:spPr>
          <a:xfrm>
            <a:off x="6156360" y="1413000"/>
            <a:ext cx="2160720" cy="1330200"/>
          </a:xfrm>
          <a:prstGeom prst="leftArrowCallout">
            <a:avLst>
              <a:gd name="adj1" fmla="val 25002"/>
              <a:gd name="adj2" fmla="val 25000"/>
              <a:gd name="adj3" fmla="val 27073"/>
              <a:gd name="adj4" fmla="val 6667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на себ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804000" y="2997360"/>
            <a:ext cx="2138400" cy="1185840"/>
          </a:xfrm>
          <a:prstGeom prst="rightArrowCallout">
            <a:avLst>
              <a:gd name="adj1" fmla="val 25002"/>
              <a:gd name="adj2" fmla="val 25000"/>
              <a:gd name="adj3" fmla="val 30055"/>
              <a:gd name="adj4" fmla="val 6666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от себ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5940360" y="5013360"/>
            <a:ext cx="2138400" cy="1130400"/>
          </a:xfrm>
          <a:prstGeom prst="rect">
            <a:avLst/>
          </a:prstGeom>
          <a:solidFill>
            <a:srgbClr val="d7e4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7"/>
          <p:cNvSpPr/>
          <p:nvPr/>
        </p:nvSpPr>
        <p:spPr>
          <a:xfrm>
            <a:off x="4859280" y="3860640"/>
            <a:ext cx="1800360" cy="1224000"/>
          </a:xfrm>
          <a:prstGeom prst="pi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Мышка\Desktop\kalendar-fon-dlya-prezentacij.jpg"/>
          <p:cNvPicPr/>
          <p:nvPr/>
        </p:nvPicPr>
        <p:blipFill>
          <a:blip r:embed="rId2"/>
          <a:stretch/>
        </p:blipFill>
        <p:spPr>
          <a:xfrm>
            <a:off x="-27000" y="10008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 младшая групп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Игры с подвесным шариком способствует усвоению понятий вверх,   вни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«Где звенит колокольчик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«Одевание кукл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«Купание кукл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844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Средняя группа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* «Найди спрятанную игрушку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* «Что изменилось?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* «Угадай, что где находится»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* «Далеко – близк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168720" cy="273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140360" y="3789360"/>
            <a:ext cx="32572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-27000" y="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Старшая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Отгадай, кто где стои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Что изменилось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08000" y="3213000"/>
            <a:ext cx="48452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Заголовок 1" descr=""/>
          <p:cNvPicPr/>
          <p:nvPr/>
        </p:nvPicPr>
        <p:blipFill>
          <a:blip r:embed="rId2"/>
          <a:stretch/>
        </p:blipFill>
        <p:spPr>
          <a:xfrm>
            <a:off x="250920" y="1844640"/>
            <a:ext cx="3671640" cy="2968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356000" y="3213000"/>
            <a:ext cx="4032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Users\Мышка\Desktop\kalendar-fon-dlya-prezentacij.jpg"/>
          <p:cNvPicPr/>
          <p:nvPr/>
        </p:nvPicPr>
        <p:blipFill>
          <a:blip r:embed="rId1"/>
          <a:stretch/>
        </p:blipFill>
        <p:spPr>
          <a:xfrm>
            <a:off x="0" y="-171360"/>
            <a:ext cx="9171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Подготовительная групп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989000"/>
            <a:ext cx="8229600" cy="34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Кто запомнит и расскаже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Что изменилось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Чем отличаются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Парные карточки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Путешествие по лабиринт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«Опиши путь сказочного геро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7T12:50:18Z</dcterms:created>
  <dc:creator>Мышка</dc:creator>
  <dc:description/>
  <dc:language>en-US</dc:language>
  <cp:lastModifiedBy>Екатерина</cp:lastModifiedBy>
  <dcterms:modified xsi:type="dcterms:W3CDTF">2015-11-12T08:30:32Z</dcterms:modified>
  <cp:revision>8</cp:revision>
  <dc:subject/>
  <dc:title>Презентация PowerPoint</dc:title>
</cp:coreProperties>
</file>