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BD1-91D2-48EF-B70C-42B74E18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D0E-BFC7-484E-8863-402F21B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EAA-966D-4485-A0CE-9124ED12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2B1-15F5-4DAC-BEB2-7713E11C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1BA-2C6A-4990-A58A-4F4FD2E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3B7-E8C4-46A2-88D3-28A5ACF9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930-FF5B-4B2A-8350-666E29E4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746-E99F-43CF-B518-8DF540B5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BEF-4735-4459-85F4-A1716E7D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049-93DE-4AC7-B282-98D1750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C0E-3787-4A83-A7A8-64500ED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932-11FB-470F-BB69-6B82041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DAEF-46CD-43F1-B044-21E34D901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ервая помощь при ран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ботка раны (туа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я раны обработать раствором антисептика в направлении от раны к периф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ить повязку и зафиксировать её перевяз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анние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24640" y="3067200"/>
            <a:ext cx="208728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SP_A038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148360" y="1773360"/>
            <a:ext cx="952560" cy="179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P_A0383"/>
          <p:cNvPicPr/>
          <p:nvPr/>
        </p:nvPicPr>
        <p:blipFill>
          <a:blip r:embed="rId3"/>
          <a:stretch/>
        </p:blipFill>
        <p:spPr>
          <a:xfrm>
            <a:off x="7451640" y="4365720"/>
            <a:ext cx="952560" cy="176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435640" y="5124600"/>
            <a:ext cx="15127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рещается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лять выпавш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 из раны торчащие костные отло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адывать холод на выпавшие орган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адывать давящую повязку на выпавш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 из раны инородные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ть пострадавшего при травме живота и в без 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адывать на рану вату, мазевые повязки, засыпать в рану порошки лекарственных препа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ать в рану спиртовые раств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G_082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8360" y="57636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MG_0893"/>
          <p:cNvPicPr/>
          <p:nvPr/>
        </p:nvPicPr>
        <p:blipFill>
          <a:blip r:embed="rId2"/>
          <a:stretch/>
        </p:blipFill>
        <p:spPr>
          <a:xfrm>
            <a:off x="6156360" y="6825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2556000" y="2492280"/>
            <a:ext cx="397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вя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PA204964"/>
          <p:cNvPicPr/>
          <p:nvPr/>
        </p:nvPicPr>
        <p:blipFill>
          <a:blip r:embed="rId3"/>
          <a:stretch/>
        </p:blipFill>
        <p:spPr>
          <a:xfrm>
            <a:off x="3348000" y="4076640"/>
            <a:ext cx="27478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пращ"/>
          <p:cNvPicPr/>
          <p:nvPr/>
        </p:nvPicPr>
        <p:blipFill>
          <a:blip r:embed="rId4"/>
          <a:stretch/>
        </p:blipFill>
        <p:spPr>
          <a:xfrm>
            <a:off x="395280" y="3500280"/>
            <a:ext cx="2438280" cy="2705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Изображение 320"/>
          <p:cNvPicPr/>
          <p:nvPr/>
        </p:nvPicPr>
        <p:blipFill>
          <a:blip r:embed="rId5"/>
          <a:stretch/>
        </p:blipFill>
        <p:spPr>
          <a:xfrm>
            <a:off x="7005600" y="3284640"/>
            <a:ext cx="21384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язки     необходимы   для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2723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я повязки, наложенной на 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обилизации поврежденной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я давящей повя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59"/>
          <p:cNvPicPr/>
          <p:nvPr/>
        </p:nvPicPr>
        <p:blipFill>
          <a:blip r:embed="rId1"/>
          <a:stretch/>
        </p:blipFill>
        <p:spPr>
          <a:xfrm>
            <a:off x="3924360" y="4076640"/>
            <a:ext cx="163656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SDC17231"/>
          <p:cNvPicPr/>
          <p:nvPr/>
        </p:nvPicPr>
        <p:blipFill>
          <a:blip r:embed="rId2"/>
          <a:stretch/>
        </p:blipFill>
        <p:spPr>
          <a:xfrm>
            <a:off x="25092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SDC1723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084720" y="4508640"/>
            <a:ext cx="2486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повяз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т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ы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щеви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копласты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сетка"/>
          <p:cNvPicPr/>
          <p:nvPr/>
        </p:nvPicPr>
        <p:blipFill>
          <a:blip r:embed="rId1"/>
          <a:stretch/>
        </p:blipFill>
        <p:spPr>
          <a:xfrm>
            <a:off x="6948360" y="1341360"/>
            <a:ext cx="1839960" cy="223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бинпов"/>
          <p:cNvPicPr/>
          <p:nvPr/>
        </p:nvPicPr>
        <p:blipFill>
          <a:blip r:embed="rId2"/>
          <a:stretch/>
        </p:blipFill>
        <p:spPr>
          <a:xfrm>
            <a:off x="4859280" y="4149720"/>
            <a:ext cx="1795680" cy="239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пращ"/>
          <p:cNvPicPr/>
          <p:nvPr/>
        </p:nvPicPr>
        <p:blipFill>
          <a:blip r:embed="rId3"/>
          <a:stretch/>
        </p:blipFill>
        <p:spPr>
          <a:xfrm>
            <a:off x="4284720" y="1773360"/>
            <a:ext cx="1881000" cy="20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SP_A040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547640" y="436572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правила налож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нтовых    повя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т удерживают в правой 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тование начинают от более узкого места к широкому, т.е. от периферии к тулов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язку начинают  и заканчивают с наложения  циркулярной повя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е витков повязки слева на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т наматывается с легким натяжением, но повязка не должна быть очень туг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интовых повяз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3673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ркуля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алеви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ст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Изображение 270"/>
          <p:cNvPicPr/>
          <p:nvPr/>
        </p:nvPicPr>
        <p:blipFill>
          <a:blip r:embed="rId1"/>
          <a:stretch/>
        </p:blipFill>
        <p:spPr>
          <a:xfrm>
            <a:off x="755640" y="3573360"/>
            <a:ext cx="1827360" cy="297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Изображение 274"/>
          <p:cNvPicPr/>
          <p:nvPr/>
        </p:nvPicPr>
        <p:blipFill>
          <a:blip r:embed="rId2"/>
          <a:stretch/>
        </p:blipFill>
        <p:spPr>
          <a:xfrm>
            <a:off x="5940360" y="3573360"/>
            <a:ext cx="1871640" cy="296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31"/>
          <p:cNvPicPr/>
          <p:nvPr/>
        </p:nvPicPr>
        <p:blipFill>
          <a:blip r:embed="rId3"/>
          <a:stretch/>
        </p:blipFill>
        <p:spPr>
          <a:xfrm>
            <a:off x="3276720" y="3573360"/>
            <a:ext cx="2023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ая повя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наложения повязки каждый новый тур полностью закрывает предыд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вязки начинаются и заканчиваются такой повяз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Изображение 270"/>
          <p:cNvPicPr/>
          <p:nvPr/>
        </p:nvPicPr>
        <p:blipFill>
          <a:blip r:embed="rId1"/>
          <a:stretch/>
        </p:blipFill>
        <p:spPr>
          <a:xfrm>
            <a:off x="5432400" y="1743120"/>
            <a:ext cx="24764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евидная повя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адывается на конечности, грудную клетку, жив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последующий виток повязки накладывается на предыдущий, частично перекрывая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олее прочной повязки выполняют «перекрут» би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Изображение 274"/>
          <p:cNvPicPr/>
          <p:nvPr/>
        </p:nvPicPr>
        <p:blipFill>
          <a:blip r:embed="rId1"/>
          <a:stretch/>
        </p:blipFill>
        <p:spPr>
          <a:xfrm>
            <a:off x="5148360" y="1557360"/>
            <a:ext cx="2950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стообразная повя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адывается в виде восьм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а наложения-глаза, суставы, грудная клетка, про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131"/>
          <p:cNvPicPr/>
          <p:nvPr/>
        </p:nvPicPr>
        <p:blipFill>
          <a:blip r:embed="rId1"/>
          <a:stretch/>
        </p:blipFill>
        <p:spPr>
          <a:xfrm>
            <a:off x="1619280" y="4451400"/>
            <a:ext cx="3097080" cy="2122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Изображение 28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516720" y="4149720"/>
            <a:ext cx="1901880" cy="253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5148360" y="1125360"/>
            <a:ext cx="21160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ение –  механическое повреждение тканей, при котором нарушается целостность кожи, слизистых оболочек, глубжележащих тканей  и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щевидная повя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адывается на лоб, нос, подбородок, зат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пращ"/>
          <p:cNvPicPr/>
          <p:nvPr/>
        </p:nvPicPr>
        <p:blipFill>
          <a:blip r:embed="rId1"/>
          <a:stretch/>
        </p:blipFill>
        <p:spPr>
          <a:xfrm>
            <a:off x="6443640" y="1700280"/>
            <a:ext cx="2306520" cy="25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PA204988"/>
          <p:cNvPicPr/>
          <p:nvPr/>
        </p:nvPicPr>
        <p:blipFill>
          <a:blip r:embed="rId2"/>
          <a:stretch/>
        </p:blipFill>
        <p:spPr>
          <a:xfrm>
            <a:off x="3132000" y="2637000"/>
            <a:ext cx="29131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тчатые повя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чатые бинты выпускаются разных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ложить на любую часть тела не имея навыков бин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SP_A0388"/>
          <p:cNvPicPr/>
          <p:nvPr/>
        </p:nvPicPr>
        <p:blipFill>
          <a:blip r:embed="rId1"/>
          <a:stretch/>
        </p:blipFill>
        <p:spPr>
          <a:xfrm>
            <a:off x="5326200" y="2924280"/>
            <a:ext cx="32940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ыночные повя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94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ый платок-кос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80-80-11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ации повязо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обилизации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гут – «уда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rot="8184600">
            <a:off x="6281640" y="2503080"/>
            <a:ext cx="2376720" cy="2303640"/>
          </a:xfrm>
          <a:prstGeom prst="rtTriangle">
            <a:avLst/>
          </a:prstGeom>
          <a:solidFill>
            <a:srgbClr val="b4b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134"/>
          <p:cNvPicPr/>
          <p:nvPr/>
        </p:nvPicPr>
        <p:blipFill>
          <a:blip r:embed="rId1"/>
          <a:stretch/>
        </p:blipFill>
        <p:spPr>
          <a:xfrm>
            <a:off x="1979640" y="4562640"/>
            <a:ext cx="46800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ыночные повязки на го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134"/>
          <p:cNvPicPr/>
          <p:nvPr/>
        </p:nvPicPr>
        <p:blipFill>
          <a:blip r:embed="rId1"/>
          <a:stretch/>
        </p:blipFill>
        <p:spPr>
          <a:xfrm>
            <a:off x="900000" y="1844640"/>
            <a:ext cx="3810240" cy="166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A204919"/>
          <p:cNvPicPr/>
          <p:nvPr/>
        </p:nvPicPr>
        <p:blipFill>
          <a:blip r:embed="rId2"/>
          <a:stretch/>
        </p:blipFill>
        <p:spPr>
          <a:xfrm>
            <a:off x="7451640" y="19890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A204918"/>
          <p:cNvPicPr/>
          <p:nvPr/>
        </p:nvPicPr>
        <p:blipFill>
          <a:blip r:embed="rId3"/>
          <a:stretch/>
        </p:blipFill>
        <p:spPr>
          <a:xfrm>
            <a:off x="5219640" y="2060640"/>
            <a:ext cx="1524240" cy="123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A204928"/>
          <p:cNvPicPr/>
          <p:nvPr/>
        </p:nvPicPr>
        <p:blipFill>
          <a:blip r:embed="rId4"/>
          <a:stretch/>
        </p:blipFill>
        <p:spPr>
          <a:xfrm>
            <a:off x="1619280" y="4292640"/>
            <a:ext cx="148572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6"/>
          <p:cNvPicPr/>
          <p:nvPr/>
        </p:nvPicPr>
        <p:blipFill>
          <a:blip r:embed="rId5"/>
          <a:stretch/>
        </p:blipFill>
        <p:spPr>
          <a:xfrm>
            <a:off x="3708360" y="4292640"/>
            <a:ext cx="1511280" cy="154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PA204932"/>
          <p:cNvPicPr/>
          <p:nvPr/>
        </p:nvPicPr>
        <p:blipFill>
          <a:blip r:embed="rId6"/>
          <a:stretch/>
        </p:blipFill>
        <p:spPr>
          <a:xfrm>
            <a:off x="6227640" y="3645000"/>
            <a:ext cx="1905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ыночные повяз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ерхнюю кон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9"/>
          <p:cNvPicPr/>
          <p:nvPr/>
        </p:nvPicPr>
        <p:blipFill>
          <a:blip r:embed="rId1"/>
          <a:stretch/>
        </p:blipFill>
        <p:spPr>
          <a:xfrm>
            <a:off x="971640" y="1773360"/>
            <a:ext cx="2031840" cy="271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Изображение 320"/>
          <p:cNvPicPr/>
          <p:nvPr/>
        </p:nvPicPr>
        <p:blipFill>
          <a:blip r:embed="rId2"/>
          <a:stretch/>
        </p:blipFill>
        <p:spPr>
          <a:xfrm>
            <a:off x="3556080" y="2075040"/>
            <a:ext cx="2031840" cy="270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Изображение 300"/>
          <p:cNvPicPr/>
          <p:nvPr/>
        </p:nvPicPr>
        <p:blipFill>
          <a:blip r:embed="rId3"/>
          <a:stretch/>
        </p:blipFill>
        <p:spPr>
          <a:xfrm>
            <a:off x="5651640" y="3141720"/>
            <a:ext cx="316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ыночные повяз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ижнюю кон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Изображение 305"/>
          <p:cNvPicPr/>
          <p:nvPr/>
        </p:nvPicPr>
        <p:blipFill>
          <a:blip r:embed="rId1"/>
          <a:stretch/>
        </p:blipFill>
        <p:spPr>
          <a:xfrm>
            <a:off x="4824360" y="198900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8"/>
          <p:cNvPicPr/>
          <p:nvPr/>
        </p:nvPicPr>
        <p:blipFill>
          <a:blip r:embed="rId2"/>
          <a:stretch/>
        </p:blipFill>
        <p:spPr>
          <a:xfrm>
            <a:off x="0" y="1557360"/>
            <a:ext cx="2540160" cy="314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A204956"/>
          <p:cNvPicPr/>
          <p:nvPr/>
        </p:nvPicPr>
        <p:blipFill>
          <a:blip r:embed="rId3"/>
          <a:stretch/>
        </p:blipFill>
        <p:spPr>
          <a:xfrm>
            <a:off x="2484360" y="3284640"/>
            <a:ext cx="25401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ыночные повяз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грудную кл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PA204946"/>
          <p:cNvPicPr/>
          <p:nvPr/>
        </p:nvPicPr>
        <p:blipFill>
          <a:blip r:embed="rId1"/>
          <a:stretch/>
        </p:blipFill>
        <p:spPr>
          <a:xfrm>
            <a:off x="1332000" y="1628640"/>
            <a:ext cx="2860560" cy="440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р"/>
          <p:cNvPicPr/>
          <p:nvPr/>
        </p:nvPicPr>
        <p:blipFill>
          <a:blip r:embed="rId2"/>
          <a:stretch/>
        </p:blipFill>
        <p:spPr>
          <a:xfrm>
            <a:off x="5580000" y="1844640"/>
            <a:ext cx="2873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ейшие приемы обезбол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53276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 на область 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об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ое положение в зависимости от локализации травмы и состояния пострадав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SP_A0374"/>
          <p:cNvPicPr/>
          <p:nvPr/>
        </p:nvPicPr>
        <p:blipFill>
          <a:blip r:embed="rId1"/>
          <a:stretch/>
        </p:blipFill>
        <p:spPr>
          <a:xfrm>
            <a:off x="6516720" y="1989000"/>
            <a:ext cx="1905120" cy="117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DC17280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971640" y="41767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SDC1729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92720" y="416880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26920" y="2133720"/>
            <a:ext cx="2664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24360" y="1915920"/>
            <a:ext cx="2811600" cy="86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епроник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383480" y="219852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проник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900000" y="4149720"/>
            <a:ext cx="3959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поврежд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х орг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076720" y="4149720"/>
            <a:ext cx="388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повреждением внутрен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979640" y="2997360"/>
            <a:ext cx="504720" cy="107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484360" y="2997360"/>
            <a:ext cx="3816360" cy="107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>
            <a:off x="3924360" y="2852640"/>
            <a:ext cx="2232000" cy="122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156360" y="2781360"/>
            <a:ext cx="1440000" cy="136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771640" y="549360"/>
            <a:ext cx="345600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H="1">
            <a:off x="2555640" y="1484280"/>
            <a:ext cx="158580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859280" y="1484280"/>
            <a:ext cx="180036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наки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50920" y="1844640"/>
            <a:ext cx="469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ждение краев 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функции поврежденного 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артерия"/>
          <p:cNvPicPr/>
          <p:nvPr/>
        </p:nvPicPr>
        <p:blipFill>
          <a:blip r:embed="rId1"/>
          <a:stretch/>
        </p:blipFill>
        <p:spPr>
          <a:xfrm>
            <a:off x="179280" y="1844640"/>
            <a:ext cx="35337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ые признаки проникающего 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нутренних органов из р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P_A0078"/>
          <p:cNvPicPr/>
          <p:nvPr/>
        </p:nvPicPr>
        <p:blipFill>
          <a:blip r:embed="rId1"/>
          <a:stretch/>
        </p:blipFill>
        <p:spPr>
          <a:xfrm>
            <a:off x="2556000" y="28526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78598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аны, расположенные на голове, груди, животе, в области суставов   условно  следует считать проникающ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р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 характеру пов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о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а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б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уш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ьп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нестр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о-взры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ра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епосред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реждение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Ближай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ноение 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гнойная инфекция (сепс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рядок оказания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ран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новить крово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мотреть пострада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вать скорую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обработку 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жить повязку на рану  и закрепить её перевяз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дать пострадавшему положение в зависимости от локализации трав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 простейшие приемы обезбо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ить холод на область 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 иммоби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еобходимости транспортировать пострадавше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4:07:37Z</dcterms:created>
  <dc:creator>Байлов В. В.</dc:creator>
  <dc:description/>
  <dc:language>en-US</dc:language>
  <cp:lastModifiedBy>Мамуля</cp:lastModifiedBy>
  <dcterms:modified xsi:type="dcterms:W3CDTF">2017-12-06T15:21:05Z</dcterms:modified>
  <cp:revision>39</cp:revision>
  <dc:subject/>
  <dc:title>Первая помощи при ранении</dc:title>
</cp:coreProperties>
</file>