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283-01D3-4897-AE75-4CD47018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324-22A2-4152-947B-A0C4933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635-EC8C-45A4-912B-291C70C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FA5-61D5-41EB-BDCF-60A2E1C6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080-0ABC-4359-B727-A9E8B41F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F3F-F4B6-4977-A5AD-D9E59E02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A28-018B-4230-85EF-3D7FAE4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27F-AE3F-4158-A054-6FC97AD2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15E-9902-4118-8612-CA054EF3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D51-F7C8-4A1F-9990-E29E79E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AC9-6196-4084-BB99-C0C14B2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A89-DD8C-47DB-A1B0-083DB4B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DF1-C1AD-4F3D-A469-4C356AC5F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Марина\Documents\Марина\1 класс\посвящение в первоклассники\2016-17\1376496580_wut4qunaemx7vvy.jpg"/>
          <p:cNvPicPr/>
          <p:nvPr/>
        </p:nvPicPr>
        <p:blipFill>
          <a:blip r:embed="rId1"/>
          <a:stretch/>
        </p:blipFill>
        <p:spPr>
          <a:xfrm>
            <a:off x="2700360" y="2133720"/>
            <a:ext cx="4319640" cy="3606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85680"/>
            <a:ext cx="7777080" cy="2644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78000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Марина Шами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Марина\Documents\Марина\1 класс\посвящение в первоклассники\2016-17\196.jpg"/>
          <p:cNvPicPr/>
          <p:nvPr/>
        </p:nvPicPr>
        <p:blipFill>
          <a:blip r:embed="rId1"/>
          <a:stretch/>
        </p:blipFill>
        <p:spPr>
          <a:xfrm>
            <a:off x="2484360" y="260280"/>
            <a:ext cx="4186440" cy="4187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-252360" y="3441960"/>
            <a:ext cx="100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чудесном домике жи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сёлые друз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х всех по имени зо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 буквы А до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ты, коль с ними не зна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учись быстрее в дружн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то книга не проста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ней я буквы изучаю</a:t>
            </a:r>
            <a:r>
              <a:rPr b="0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Марина\Documents\Марина\2015-2016\посвящение в первоклассники\huge.jpeg"/>
          <p:cNvPicPr/>
          <p:nvPr/>
        </p:nvPicPr>
        <p:blipFill>
          <a:blip r:embed="rId1"/>
          <a:stretch/>
        </p:blipFill>
        <p:spPr>
          <a:xfrm>
            <a:off x="1476360" y="549360"/>
            <a:ext cx="6480360" cy="30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Марина\Documents\Марина\2015-2016\посвящение в первоклассники\48uYF.gif"/>
          <p:cNvPicPr/>
          <p:nvPr/>
        </p:nvPicPr>
        <p:blipFill>
          <a:blip r:embed="rId2"/>
          <a:stretch/>
        </p:blipFill>
        <p:spPr>
          <a:xfrm>
            <a:off x="363528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Марина\Documents\Марина\1 класс\посвящение в первоклассники\2016-17\b379cdfe75bc08f92f424edd78dc0635.jpg"/>
          <p:cNvPicPr/>
          <p:nvPr/>
        </p:nvPicPr>
        <p:blipFill>
          <a:blip r:embed="rId1"/>
          <a:stretch/>
        </p:blipFill>
        <p:spPr>
          <a:xfrm>
            <a:off x="1835280" y="33336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835280" y="401760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 школу ты п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овый статус приобр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ыл ребенок, был дошколь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теперь зовешь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619280" y="2781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Шк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Марина\Documents\Марина\1 класс\посвящение в первоклассники\2016-17\depositphotos_4617979-School-desk-on-white-isolated-background-Vector-illustration.jpg"/>
          <p:cNvPicPr/>
          <p:nvPr/>
        </p:nvPicPr>
        <p:blipFill>
          <a:blip r:embed="rId1"/>
          <a:stretch/>
        </p:blipFill>
        <p:spPr>
          <a:xfrm>
            <a:off x="3492360" y="1052640"/>
            <a:ext cx="5340600" cy="4365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250920" y="1713960"/>
            <a:ext cx="324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тоит чудесная скам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 ней уселись ты да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камья ведет обоих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з года в г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з класса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Users\Марина\Documents\Марина\1 класс\посвящение в первоклассники\2016-17\divigel-pri-beremennosti-posle-jeko_1_1.png"/>
          <p:cNvPicPr/>
          <p:nvPr/>
        </p:nvPicPr>
        <p:blipFill>
          <a:blip r:embed="rId1"/>
          <a:stretch/>
        </p:blipFill>
        <p:spPr>
          <a:xfrm>
            <a:off x="2843280" y="585720"/>
            <a:ext cx="5627520" cy="3511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451368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елый камешек растая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 доске свой след остав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а\Documents\Марина\1 класс\посвящение в первоклассники\2016-17\Dnevnik.jpg"/>
          <p:cNvPicPr/>
          <p:nvPr/>
        </p:nvPicPr>
        <p:blipFill>
          <a:blip r:embed="rId1"/>
          <a:srcRect l="3619" t="5796" r="17903" b="11244"/>
          <a:stretch/>
        </p:blipFill>
        <p:spPr>
          <a:xfrm>
            <a:off x="3708360" y="2637000"/>
            <a:ext cx="468000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84360" y="92016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школьной сумке я леж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се оценки пока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71640" y="776160"/>
            <a:ext cx="520992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 я в клетку, то в линей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писать на мне сумей-ка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ожешь и нарисовать…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такое 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Марина\Documents\Марина\2015-2016\посвящение в первоклассники\39.gif"/>
          <p:cNvPicPr/>
          <p:nvPr/>
        </p:nvPicPr>
        <p:blipFill>
          <a:blip r:embed="rId1"/>
          <a:stretch/>
        </p:blipFill>
        <p:spPr>
          <a:xfrm>
            <a:off x="3492360" y="2924280"/>
            <a:ext cx="5199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309960" y="1328040"/>
            <a:ext cx="5497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ты его отточ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рисуешь всё, что хочешь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Солнце, море, горы, пляж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Марина\Documents\Марина\2015-2016\посвящение в первоклассники\karand_an.gif"/>
          <p:cNvPicPr/>
          <p:nvPr/>
        </p:nvPicPr>
        <p:blipFill>
          <a:blip r:embed="rId1"/>
          <a:stretch/>
        </p:blipFill>
        <p:spPr>
          <a:xfrm>
            <a:off x="4176720" y="765000"/>
            <a:ext cx="496728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Марина\Documents\Марина\1 класс\посвящение в первоклассники\2016-17\u_f82e44e9c427f853d2bb165a71fe5bc5_800.jpg"/>
          <p:cNvPicPr/>
          <p:nvPr/>
        </p:nvPicPr>
        <p:blipFill>
          <a:blip r:embed="rId1"/>
          <a:stretch/>
        </p:blipFill>
        <p:spPr>
          <a:xfrm>
            <a:off x="611280" y="907920"/>
            <a:ext cx="4881600" cy="5035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580000" y="185868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рные пти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 рождения молч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когда вдруг встанут в р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разу же заговор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Марина\Documents\Марина\1 класс\посвящение в первоклассники\2016-17\productimage-picture-00090534-128316.jpg"/>
          <p:cNvPicPr/>
          <p:nvPr/>
        </p:nvPicPr>
        <p:blipFill>
          <a:blip r:embed="rId1"/>
          <a:stretch/>
        </p:blipFill>
        <p:spPr>
          <a:xfrm>
            <a:off x="3708360" y="1916280"/>
            <a:ext cx="4842000" cy="416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95280" y="49140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андаш, линейку, ласт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хранит коробка-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е беда, что очень мал,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н для ручек домом с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зываетс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4:08:05Z</dcterms:created>
  <dc:creator>Марина Гончарова</dc:creator>
  <dc:description/>
  <dc:language>en-US</dc:language>
  <cp:lastModifiedBy>Марина</cp:lastModifiedBy>
  <dcterms:modified xsi:type="dcterms:W3CDTF">2017-12-06T13:42:53Z</dcterms:modified>
  <cp:revision>17</cp:revision>
  <dc:subject/>
  <dc:title>Слайд 1</dc:title>
</cp:coreProperties>
</file>