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gif" ContentType="image/gif"/>
  <Override PartName="/ppt/media/image9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35D4-470C-4611-BD4A-B71C9204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95C0-0363-444C-9955-4CBE0545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260F-DAB4-4C28-9644-FF314F04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786E-1F12-456E-B24A-16A55845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30C9-2CCB-4B3D-8A7E-DD481D7F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893D-7F92-44C9-9C14-941DFABB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795-CD91-4887-86B2-7D773AA5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B362-B66A-4334-95A4-8E229EC8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434-E737-48C3-B3E5-CF775D28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000A-2E20-4953-8E31-E0B2EB87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76AA-1C69-499B-B4DC-876B32CF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2500-5E63-4A86-8CBC-F5F662F0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1228-6186-4FC9-B84E-652874AD6D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:\Users\Марина\Documents\Марина\1 класс\посвящение в первоклассники\2016-17\1376496580_wut4qunaemx7vvy.jpg"/>
          <p:cNvPicPr/>
          <p:nvPr/>
        </p:nvPicPr>
        <p:blipFill>
          <a:blip r:embed="rId1"/>
          <a:stretch/>
        </p:blipFill>
        <p:spPr>
          <a:xfrm>
            <a:off x="2700360" y="2133720"/>
            <a:ext cx="4319640" cy="36068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890640" y="85680"/>
            <a:ext cx="7777080" cy="264492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780000" y="602136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нчарова Марина Шамилье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Г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Марина\Documents\Марина\1 класс\посвящение в первоклассники\2016-17\196.jpg"/>
          <p:cNvPicPr/>
          <p:nvPr/>
        </p:nvPicPr>
        <p:blipFill>
          <a:blip r:embed="rId1"/>
          <a:stretch/>
        </p:blipFill>
        <p:spPr>
          <a:xfrm>
            <a:off x="2484360" y="260280"/>
            <a:ext cx="4186440" cy="4187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-252360" y="3441960"/>
            <a:ext cx="1000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чудесном домике жив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есёлые друзь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Их всех по имени зов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От буквы А до 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И ты, коль с ними не знак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тучись быстрее в дружный д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Это книга не проста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По ней я буквы изучаю</a:t>
            </a:r>
            <a:r>
              <a:rPr b="0" lang="ru-RU" sz="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Марина\Documents\Марина\2015-2016\посвящение в первоклассники\huge.jpeg"/>
          <p:cNvPicPr/>
          <p:nvPr/>
        </p:nvPicPr>
        <p:blipFill>
          <a:blip r:embed="rId1"/>
          <a:stretch/>
        </p:blipFill>
        <p:spPr>
          <a:xfrm>
            <a:off x="1476360" y="549360"/>
            <a:ext cx="6480360" cy="30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Марина\Documents\Марина\2015-2016\посвящение в первоклассники\48uYF.gif"/>
          <p:cNvPicPr/>
          <p:nvPr/>
        </p:nvPicPr>
        <p:blipFill>
          <a:blip r:embed="rId2"/>
          <a:stretch/>
        </p:blipFill>
        <p:spPr>
          <a:xfrm>
            <a:off x="3635280" y="34290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:\Users\Марина\Documents\Марина\1 класс\посвящение в первоклассники\2016-17\b379cdfe75bc08f92f424edd78dc0635.jpg"/>
          <p:cNvPicPr/>
          <p:nvPr/>
        </p:nvPicPr>
        <p:blipFill>
          <a:blip r:embed="rId1"/>
          <a:stretch/>
        </p:blipFill>
        <p:spPr>
          <a:xfrm>
            <a:off x="1835280" y="333360"/>
            <a:ext cx="5364000" cy="35751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1835280" y="4017600"/>
            <a:ext cx="52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Если в школу ты пош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—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овый статус приобр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Был ребенок, был дошколь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А теперь зовешься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619280" y="27813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Школь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Марина\Documents\Марина\1 класс\посвящение в первоклассники\2016-17\depositphotos_4617979-School-desk-on-white-isolated-background-Vector-illustration.jpg"/>
          <p:cNvPicPr/>
          <p:nvPr/>
        </p:nvPicPr>
        <p:blipFill>
          <a:blip r:embed="rId1"/>
          <a:stretch/>
        </p:blipFill>
        <p:spPr>
          <a:xfrm>
            <a:off x="3492360" y="1052640"/>
            <a:ext cx="5340600" cy="43653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250920" y="1713960"/>
            <a:ext cx="324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Стоит чудесная скамь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На ней уселись ты да 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Скамья ведет обоих н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Из года в го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Из класса в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C:\Users\Марина\Documents\Марина\1 класс\посвящение в первоклассники\2016-17\divigel-pri-beremennosti-posle-jeko_1_1.png"/>
          <p:cNvPicPr/>
          <p:nvPr/>
        </p:nvPicPr>
        <p:blipFill>
          <a:blip r:embed="rId1"/>
          <a:stretch/>
        </p:blipFill>
        <p:spPr>
          <a:xfrm>
            <a:off x="2843280" y="585720"/>
            <a:ext cx="5627520" cy="3511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324000" y="4513680"/>
            <a:ext cx="48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Белый камешек растая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а доске свой след остави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Марина\Documents\Марина\1 класс\посвящение в первоклассники\2016-17\Dnevnik.jpg"/>
          <p:cNvPicPr/>
          <p:nvPr/>
        </p:nvPicPr>
        <p:blipFill>
          <a:blip r:embed="rId1"/>
          <a:srcRect l="3619" t="5796" r="17903" b="11244"/>
          <a:stretch/>
        </p:blipFill>
        <p:spPr>
          <a:xfrm>
            <a:off x="3708360" y="2637000"/>
            <a:ext cx="4680000" cy="3095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684360" y="920160"/>
            <a:ext cx="259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В школьной сумке я леж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Все оценки покаж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971640" y="776160"/>
            <a:ext cx="520992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То я в клетку, то в линей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Написать на мне сумей-ка!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Можешь и нарисовать…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Что такое 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C:\Users\Марина\Documents\Марина\2015-2016\посвящение в первоклассники\39.gif"/>
          <p:cNvPicPr/>
          <p:nvPr/>
        </p:nvPicPr>
        <p:blipFill>
          <a:blip r:embed="rId1"/>
          <a:stretch/>
        </p:blipFill>
        <p:spPr>
          <a:xfrm>
            <a:off x="3492360" y="2924280"/>
            <a:ext cx="5199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309960" y="1328040"/>
            <a:ext cx="549792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Если ты его отточиш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Нарисуешь всё, что хочешь!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Солнце, море, горы, пляж.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Что же эт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Users\Марина\Documents\Марина\2015-2016\посвящение в первоклассники\karand_an.gif"/>
          <p:cNvPicPr/>
          <p:nvPr/>
        </p:nvPicPr>
        <p:blipFill>
          <a:blip r:embed="rId1"/>
          <a:stretch/>
        </p:blipFill>
        <p:spPr>
          <a:xfrm>
            <a:off x="4176720" y="765000"/>
            <a:ext cx="4967280" cy="57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Users\Марина\Documents\Марина\1 класс\посвящение в первоклассники\2016-17\u_f82e44e9c427f853d2bb165a71fe5bc5_800.jpg"/>
          <p:cNvPicPr/>
          <p:nvPr/>
        </p:nvPicPr>
        <p:blipFill>
          <a:blip r:embed="rId1"/>
          <a:stretch/>
        </p:blipFill>
        <p:spPr>
          <a:xfrm>
            <a:off x="611280" y="907920"/>
            <a:ext cx="4881600" cy="50356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580000" y="1858680"/>
            <a:ext cx="338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Черные пти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От рождения молча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А когда вдруг встанут в ря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разу же заговор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Users\Марина\Documents\Марина\1 класс\посвящение в первоклассники\2016-17\productimage-picture-00090534-128316.jpg"/>
          <p:cNvPicPr/>
          <p:nvPr/>
        </p:nvPicPr>
        <p:blipFill>
          <a:blip r:embed="rId1"/>
          <a:stretch/>
        </p:blipFill>
        <p:spPr>
          <a:xfrm>
            <a:off x="3708360" y="1916280"/>
            <a:ext cx="4842000" cy="41637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395280" y="491400"/>
            <a:ext cx="309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Карандаш, линейку, ласт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Сохранит коробка-пласт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Не беда, что очень мал, 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н для ручек домом ст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Называется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6T14:08:05Z</dcterms:created>
  <dc:creator>Марина Гончарова</dc:creator>
  <dc:description/>
  <dc:language>en-US</dc:language>
  <cp:lastModifiedBy>Марина</cp:lastModifiedBy>
  <dcterms:modified xsi:type="dcterms:W3CDTF">2017-12-06T13:42:53Z</dcterms:modified>
  <cp:revision>17</cp:revision>
  <dc:subject/>
  <dc:title>Слайд 1</dc:title>
</cp:coreProperties>
</file>