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187-F173-4FCE-9256-9FFAC1C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620-DC2C-499F-A019-2AFD1F4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83A-2D30-439A-9CC9-C743BAC5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367-559C-485A-AB75-1E748877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580-F99B-4BC5-9524-3960EB5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A45-5AC8-42AA-BC3B-18536E8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238-38A5-4F3B-B5D6-9268DB22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8C8-46D5-4721-A11B-834F3C02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68E-1D9E-42D0-ACB5-CD8664EA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40A-4BB4-442C-9CA8-5543015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310-6723-4FF5-8074-E284449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FB5-6088-4A93-87A0-73349F9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4E28-DC2C-4C76-B952-54BADB372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Марина\Documents\Марина\1 класс\посвящение в первоклассники\2016-17\1376496580_wut4qunaemx7vvy.jpg"/>
          <p:cNvPicPr/>
          <p:nvPr/>
        </p:nvPicPr>
        <p:blipFill>
          <a:blip r:embed="rId1"/>
          <a:stretch/>
        </p:blipFill>
        <p:spPr>
          <a:xfrm>
            <a:off x="2700360" y="2133720"/>
            <a:ext cx="4319640" cy="3606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85680"/>
            <a:ext cx="7777080" cy="2644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8000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Марина Шами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Марина\Documents\Марина\1 класс\посвящение в первоклассники\2016-17\196.jpg"/>
          <p:cNvPicPr/>
          <p:nvPr/>
        </p:nvPicPr>
        <p:blipFill>
          <a:blip r:embed="rId1"/>
          <a:stretch/>
        </p:blipFill>
        <p:spPr>
          <a:xfrm>
            <a:off x="2484360" y="260280"/>
            <a:ext cx="4186440" cy="4187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-252360" y="3441960"/>
            <a:ext cx="100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чудесном домике жи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сёлые друз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х всех по имени зо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 буквы А до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ты, коль с ними не зна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учись быстрее в дружн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 книга не прост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ней я буквы изучаю</a:t>
            </a:r>
            <a:r>
              <a:rPr b="0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1476360" y="549360"/>
            <a:ext cx="6480360" cy="30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Марина\Documents\Марина\1 класс\посвящение в первоклассники\2016-17\b379cdfe75bc08f92f424edd78dc0635.jpg"/>
          <p:cNvPicPr/>
          <p:nvPr/>
        </p:nvPicPr>
        <p:blipFill>
          <a:blip r:embed="rId1"/>
          <a:stretch/>
        </p:blipFill>
        <p:spPr>
          <a:xfrm>
            <a:off x="1835280" y="33336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835280" y="401760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 школу ты п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овый статус приобр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ыл ребенок, был дошколь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теперь зовешь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619280" y="2781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Шк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Марина\Documents\Марина\1 класс\посвящение в первоклассники\2016-17\depositphotos_4617979-School-desk-on-white-isolated-background-Vector-illustration.jpg"/>
          <p:cNvPicPr/>
          <p:nvPr/>
        </p:nvPicPr>
        <p:blipFill>
          <a:blip r:embed="rId1"/>
          <a:stretch/>
        </p:blipFill>
        <p:spPr>
          <a:xfrm>
            <a:off x="3492360" y="1052640"/>
            <a:ext cx="5340600" cy="436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250920" y="1713960"/>
            <a:ext cx="324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тоит чудесная скам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 ней уселись ты да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камья ведет обоих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года в г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класса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Марина\Documents\Марина\1 класс\посвящение в первоклассники\2016-17\divigel-pri-beremennosti-posle-jeko_1_1.png"/>
          <p:cNvPicPr/>
          <p:nvPr/>
        </p:nvPicPr>
        <p:blipFill>
          <a:blip r:embed="rId1"/>
          <a:stretch/>
        </p:blipFill>
        <p:spPr>
          <a:xfrm>
            <a:off x="2843280" y="585720"/>
            <a:ext cx="5627520" cy="3511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451368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елый камешек растая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 доске свой след остав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а\Documents\Марина\1 класс\посвящение в первоклассники\2016-17\Dnevnik.jpg"/>
          <p:cNvPicPr/>
          <p:nvPr/>
        </p:nvPicPr>
        <p:blipFill>
          <a:blip r:embed="rId1"/>
          <a:srcRect l="3619" t="5796" r="17903" b="11244"/>
          <a:stretch/>
        </p:blipFill>
        <p:spPr>
          <a:xfrm>
            <a:off x="3708360" y="2637000"/>
            <a:ext cx="468000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84360" y="92016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школьной сумке я леж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се оценки пока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71640" y="776160"/>
            <a:ext cx="520992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492360" y="2924280"/>
            <a:ext cx="5199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09960" y="1328040"/>
            <a:ext cx="5497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176720" y="765000"/>
            <a:ext cx="496728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Марина\Documents\Марина\1 класс\посвящение в первоклассники\2016-17\u_f82e44e9c427f853d2bb165a71fe5bc5_800.jpg"/>
          <p:cNvPicPr/>
          <p:nvPr/>
        </p:nvPicPr>
        <p:blipFill>
          <a:blip r:embed="rId1"/>
          <a:stretch/>
        </p:blipFill>
        <p:spPr>
          <a:xfrm>
            <a:off x="611280" y="907920"/>
            <a:ext cx="4881600" cy="5035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580000" y="185868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рные пти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 рождения молч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когда вдруг встанут в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разу же загово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Марина\Documents\Марина\1 класс\посвящение в первоклассники\2016-17\productimage-picture-00090534-128316.jpg"/>
          <p:cNvPicPr/>
          <p:nvPr/>
        </p:nvPicPr>
        <p:blipFill>
          <a:blip r:embed="rId1"/>
          <a:stretch/>
        </p:blipFill>
        <p:spPr>
          <a:xfrm>
            <a:off x="3708360" y="1916280"/>
            <a:ext cx="4842000" cy="416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95280" y="49140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андаш, линейку, ла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хранит коробка-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е беда, что очень мал,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н для ручек домом 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зываетс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2:53Z</dcterms:modified>
  <cp:revision>17</cp:revision>
  <dc:subject/>
  <dc:title>Слайд 1</dc:title>
</cp:coreProperties>
</file>