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D84-EDE2-47BF-8B18-3ADA7643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09DF-4D49-4144-B0EC-CD5F6752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5EB-CE14-4963-ACDF-0D83EFAA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A21-CC42-4FB0-A03E-B23E76AB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13E-D0D5-49A1-BEF7-455417E9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820-5807-4C3E-8DD1-12262B0E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301-3408-49F1-97BD-85F060FA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CE4-91E6-40BB-9710-975D8194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D11-5190-486E-90F7-F1DB9EE2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BA9-F8E9-4479-9777-FC834863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474-C351-4979-90FE-0B9B6A2A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B91-2A6E-46CE-9060-FC5E91EF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4BC1-A0A5-4D8C-A10B-3AFE9B7BA8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684360" y="1285560"/>
            <a:ext cx="431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Здравствуйте, дорогие первоклаш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Я, королева страны Знаний, спешу поздравить вас с первыми уро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и пожелать вам учиться только на пя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обольше интересного в стране моей узн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Марина\Documents\Марина\2015-2016\посвящение в первоклассники\3677009-7a00ce404185e385.gif"/>
          <p:cNvPicPr/>
          <p:nvPr/>
        </p:nvPicPr>
        <p:blipFill>
          <a:blip r:embed="rId1"/>
          <a:stretch/>
        </p:blipFill>
        <p:spPr>
          <a:xfrm>
            <a:off x="5076720" y="333360"/>
            <a:ext cx="330516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:\Users\Марина\Documents\Марина\2015-2016\посвящение в первоклассники\63212664.gif"/>
          <p:cNvPicPr/>
          <p:nvPr/>
        </p:nvPicPr>
        <p:blipFill>
          <a:blip r:embed="rId1"/>
          <a:stretch/>
        </p:blipFill>
        <p:spPr>
          <a:xfrm>
            <a:off x="179280" y="404640"/>
            <a:ext cx="3961080" cy="5742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3059280" y="1140480"/>
            <a:ext cx="608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Сегодня я хочу вам подарить "волшебную" кисто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Её волшебство заключается в т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что стоит провести ею по листу бумаги или экра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как тут же появляется рису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И если вы правильно отгадает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на экране появятся отгадки к моим загадкам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11840" y="916200"/>
            <a:ext cx="528300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У меня чудесный д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Всё, что нужно, есть в н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А живут в доме том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Книжки, ручки и альбом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Users\Марина\Documents\Марина\2015-2016\посвящение в первоклассники\ed599e7afebb970bd51b627f9f1b1435.jpg"/>
          <p:cNvPicPr/>
          <p:nvPr/>
        </p:nvPicPr>
        <p:blipFill>
          <a:blip r:embed="rId1"/>
          <a:stretch/>
        </p:blipFill>
        <p:spPr>
          <a:xfrm>
            <a:off x="826920" y="3068640"/>
            <a:ext cx="3529080" cy="294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Марина\Documents\Марина\2015-2016\посвящение в первоклассники\2217002.gif"/>
          <p:cNvPicPr/>
          <p:nvPr/>
        </p:nvPicPr>
        <p:blipFill>
          <a:blip r:embed="rId2"/>
          <a:stretch/>
        </p:blipFill>
        <p:spPr>
          <a:xfrm>
            <a:off x="4275000" y="0"/>
            <a:ext cx="486900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050920" y="2133720"/>
            <a:ext cx="489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вящение в первокласс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500720" y="5157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Гончарова Марина Шамильевна, воспитатель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1567080" y="294840"/>
            <a:ext cx="6694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МБОУ Илькинская средняя общеобразовательная 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71331,Республика Бурятия, Заиграевский район, с.Илька, ул.Трактовая 4, тел.57-2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ai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Isoch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_2007@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ai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u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ilkinskaya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@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yandex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u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, сайт: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http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isosh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ozrb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492360" y="847440"/>
            <a:ext cx="521028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То я в клетку, то в линей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Написать на мне сумей-ка!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Можешь и нарисовать…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Что такое 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Марина\Documents\Марина\2015-2016\посвящение в первоклассники\39.gif"/>
          <p:cNvPicPr/>
          <p:nvPr/>
        </p:nvPicPr>
        <p:blipFill>
          <a:blip r:embed="rId1"/>
          <a:stretch/>
        </p:blipFill>
        <p:spPr>
          <a:xfrm>
            <a:off x="3564000" y="3141720"/>
            <a:ext cx="5199120" cy="3022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Марина\Documents\Марина\2015-2016\посвящение в первоклассники\2de915bb9056.gif"/>
          <p:cNvPicPr/>
          <p:nvPr/>
        </p:nvPicPr>
        <p:blipFill>
          <a:blip r:embed="rId2"/>
          <a:stretch/>
        </p:blipFill>
        <p:spPr>
          <a:xfrm>
            <a:off x="-252360" y="260280"/>
            <a:ext cx="43797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327600" y="987480"/>
            <a:ext cx="474372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Если ты его отточиш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Нарисуешь всё, что хочешь!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Солнце, море, горы, пляж.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Что же эт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C:\Users\Марина\Documents\Марина\2015-2016\посвящение в первоклассники\karand_an.gif"/>
          <p:cNvPicPr/>
          <p:nvPr/>
        </p:nvPicPr>
        <p:blipFill>
          <a:blip r:embed="rId1"/>
          <a:stretch/>
        </p:blipFill>
        <p:spPr>
          <a:xfrm>
            <a:off x="468360" y="2708280"/>
            <a:ext cx="2879640" cy="335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C:\Users\Марина\Documents\Марина\2015-2016\посвящение в первоклассники\63212664.gif"/>
          <p:cNvPicPr/>
          <p:nvPr/>
        </p:nvPicPr>
        <p:blipFill>
          <a:blip r:embed="rId2"/>
          <a:stretch/>
        </p:blipFill>
        <p:spPr>
          <a:xfrm>
            <a:off x="4427640" y="476280"/>
            <a:ext cx="40860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Марина\Documents\Марина\2015-2016\посвящение в первоклассники\huge.jpeg"/>
          <p:cNvPicPr/>
          <p:nvPr/>
        </p:nvPicPr>
        <p:blipFill>
          <a:blip r:embed="rId1"/>
          <a:stretch/>
        </p:blipFill>
        <p:spPr>
          <a:xfrm>
            <a:off x="2340000" y="549360"/>
            <a:ext cx="6480000" cy="30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Марина\Documents\Марина\2015-2016\посвящение в первоклассники\48uYF.gif"/>
          <p:cNvPicPr/>
          <p:nvPr/>
        </p:nvPicPr>
        <p:blipFill>
          <a:blip r:embed="rId2"/>
          <a:stretch/>
        </p:blipFill>
        <p:spPr>
          <a:xfrm>
            <a:off x="363528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Марина\Documents\Марина\2015-2016\посвящение в первоклассники\33547251.gif"/>
          <p:cNvPicPr/>
          <p:nvPr/>
        </p:nvPicPr>
        <p:blipFill>
          <a:blip r:embed="rId3"/>
          <a:stretch/>
        </p:blipFill>
        <p:spPr>
          <a:xfrm>
            <a:off x="-181080" y="620640"/>
            <a:ext cx="3240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6T14:08:05Z</dcterms:created>
  <dc:creator>Марина Гончарова</dc:creator>
  <dc:description/>
  <dc:language>en-US</dc:language>
  <cp:lastModifiedBy>Марина</cp:lastModifiedBy>
  <dcterms:modified xsi:type="dcterms:W3CDTF">2017-12-06T13:46:42Z</dcterms:modified>
  <cp:revision>7</cp:revision>
  <dc:subject/>
  <dc:title>Слайд 1</dc:title>
</cp:coreProperties>
</file>