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436-C2E5-41E1-A45C-3DF1DFD9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2E9-34D7-4A3E-9226-40D6F67F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4C1-1357-42FD-8FFB-8FFCEE7D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C09-9925-4AA9-BEF9-7B1AA1EF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E91-3CE0-4985-A16B-48E488C6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BB7-F900-4B61-A24C-01D2BEE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BFDE-0612-4B2B-8C7F-91690F64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08B-0EDD-4E9C-ABEB-5223810A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217-B00A-46EF-9ED6-86B26BD1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770-BF29-4C54-BE2C-76E240A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744-3B2C-48B8-A149-172DD1A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B6C-58F2-43C8-A807-D51F5F9E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F1DF-9AD9-48B7-8AFB-990179428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684360" y="1285560"/>
            <a:ext cx="4319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Здравствуйте, дорогие первоклаш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Я, королева страны Знаний, спешу поздравить вас с первыми ур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пожелать вам учиться только на пя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обольше интересного в стране моей у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Марина\Documents\Марина\2015-2016\посвящение в первоклассники\3677009-7a00ce404185e385.gif"/>
          <p:cNvPicPr/>
          <p:nvPr/>
        </p:nvPicPr>
        <p:blipFill>
          <a:blip r:embed="rId1"/>
          <a:stretch/>
        </p:blipFill>
        <p:spPr>
          <a:xfrm>
            <a:off x="5076720" y="333360"/>
            <a:ext cx="33051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Марина\Documents\Марина\2015-2016\посвящение в первоклассники\63212664.gif"/>
          <p:cNvPicPr/>
          <p:nvPr/>
        </p:nvPicPr>
        <p:blipFill>
          <a:blip r:embed="rId1"/>
          <a:stretch/>
        </p:blipFill>
        <p:spPr>
          <a:xfrm>
            <a:off x="179280" y="404640"/>
            <a:ext cx="3961080" cy="5742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3059280" y="1140480"/>
            <a:ext cx="608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Сегодня я хочу вам подарить "волшебную" кисточ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Её волшебство заключается в т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что стоит провести ею по листу бумаги или экр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ак тут же появляется рису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И если вы правильно отгадае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на экране появятся отгадки к моим загадка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1840" y="916200"/>
            <a:ext cx="52830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У меня чудесный д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Всё, что нужно, есть в нё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А живут в доме том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Книжки, ручки и альбом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Users\Марина\Documents\Марина\2015-2016\посвящение в первоклассники\ed599e7afebb970bd51b627f9f1b1435.jpg"/>
          <p:cNvPicPr/>
          <p:nvPr/>
        </p:nvPicPr>
        <p:blipFill>
          <a:blip r:embed="rId1"/>
          <a:stretch/>
        </p:blipFill>
        <p:spPr>
          <a:xfrm>
            <a:off x="826920" y="3068640"/>
            <a:ext cx="3529080" cy="294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Марина\Documents\Марина\2015-2016\посвящение в первоклассники\2217002.gif"/>
          <p:cNvPicPr/>
          <p:nvPr/>
        </p:nvPicPr>
        <p:blipFill>
          <a:blip r:embed="rId2"/>
          <a:stretch/>
        </p:blipFill>
        <p:spPr>
          <a:xfrm>
            <a:off x="4275000" y="0"/>
            <a:ext cx="486900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2050920" y="213372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вящение в первокласс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500720" y="5157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арина Шамильевна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1567080" y="294840"/>
            <a:ext cx="6694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МБОУ Илькинская средняя общеобразовательная шк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c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_2007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lkinskaya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yandex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, сайт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http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isosh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ozrb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492360" y="847440"/>
            <a:ext cx="521028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564000" y="3141720"/>
            <a:ext cx="5199120" cy="302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Марина\Documents\Марина\2015-2016\посвящение в первоклассники\2de915bb9056.gif"/>
          <p:cNvPicPr/>
          <p:nvPr/>
        </p:nvPicPr>
        <p:blipFill>
          <a:blip r:embed="rId2"/>
          <a:stretch/>
        </p:blipFill>
        <p:spPr>
          <a:xfrm>
            <a:off x="-252360" y="260280"/>
            <a:ext cx="4379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327600" y="987480"/>
            <a:ext cx="474372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68360" y="2708280"/>
            <a:ext cx="2879640" cy="335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:\Users\Марина\Documents\Марина\2015-2016\посвящение в первоклассники\63212664.gif"/>
          <p:cNvPicPr/>
          <p:nvPr/>
        </p:nvPicPr>
        <p:blipFill>
          <a:blip r:embed="rId2"/>
          <a:stretch/>
        </p:blipFill>
        <p:spPr>
          <a:xfrm>
            <a:off x="4427640" y="476280"/>
            <a:ext cx="4086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2340000" y="549360"/>
            <a:ext cx="6480000" cy="30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арина\Documents\Марина\2015-2016\посвящение в первоклассники\33547251.gif"/>
          <p:cNvPicPr/>
          <p:nvPr/>
        </p:nvPicPr>
        <p:blipFill>
          <a:blip r:embed="rId3"/>
          <a:stretch/>
        </p:blipFill>
        <p:spPr>
          <a:xfrm>
            <a:off x="-181080" y="620640"/>
            <a:ext cx="3240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6:42Z</dcterms:modified>
  <cp:revision>7</cp:revision>
  <dc:subject/>
  <dc:title>Слайд 1</dc:title>
</cp:coreProperties>
</file>