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0C0-26E0-44A6-8DC0-98AF2244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697-B22F-4D02-97BA-C2BB9873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4DF-9ED3-4F6C-ADEA-693EAEF2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851-0230-4CD1-92BD-B90EBE03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7DA-CB45-4603-A0AA-986F184E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1AD-A281-4CF6-915C-A112EED9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F5A-70C4-46A7-A44E-92B45E11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A87-EF74-4E3B-B13C-27F257F6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73F-E0BB-4CF9-9E7D-52C4E92A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D3E-066F-407F-B9A4-30971B8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584-42A6-4895-A53E-5315C32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653-45FA-4638-9778-E734D071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17F4-26AF-48D1-B42F-7BD6A2A79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684360" y="1285560"/>
            <a:ext cx="43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Здравствуйте, дорогие первоклаш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Я, королева страны Знаний, спешу поздравить вас с первыми уро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и пожелать вам учиться только на п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обольше интересного в стране моей узн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Марина\Documents\Марина\2015-2016\посвящение в первоклассники\3677009-7a00ce404185e385.gif"/>
          <p:cNvPicPr/>
          <p:nvPr/>
        </p:nvPicPr>
        <p:blipFill>
          <a:blip r:embed="rId1"/>
          <a:stretch/>
        </p:blipFill>
        <p:spPr>
          <a:xfrm>
            <a:off x="5076720" y="333360"/>
            <a:ext cx="33051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Марина\Documents\Марина\2015-2016\посвящение в первоклассники\63212664.gif"/>
          <p:cNvPicPr/>
          <p:nvPr/>
        </p:nvPicPr>
        <p:blipFill>
          <a:blip r:embed="rId1"/>
          <a:stretch/>
        </p:blipFill>
        <p:spPr>
          <a:xfrm>
            <a:off x="179280" y="404640"/>
            <a:ext cx="3961080" cy="574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3059280" y="1140480"/>
            <a:ext cx="60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егодня я хочу вам подарить "волшебную" кист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Её волшебство заключается в 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что стоит провести ею по листу бумаги или экр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ак тут же появляется рису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И если вы правильно отгадае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а экране появятся отгадки к моим загадка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1840" y="916200"/>
            <a:ext cx="528300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У меня чудесный д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сё, что нужно, есть в 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А живут в доме том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Книжки, ручки и альбом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Users\Марина\Documents\Марина\2015-2016\посвящение в первоклассники\ed599e7afebb970bd51b627f9f1b1435.jpg"/>
          <p:cNvPicPr/>
          <p:nvPr/>
        </p:nvPicPr>
        <p:blipFill>
          <a:blip r:embed="rId1"/>
          <a:stretch/>
        </p:blipFill>
        <p:spPr>
          <a:xfrm>
            <a:off x="826920" y="3068640"/>
            <a:ext cx="3529080" cy="294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Марина\Documents\Марина\2015-2016\посвящение в первоклассники\2217002.gif"/>
          <p:cNvPicPr/>
          <p:nvPr/>
        </p:nvPicPr>
        <p:blipFill>
          <a:blip r:embed="rId2"/>
          <a:stretch/>
        </p:blipFill>
        <p:spPr>
          <a:xfrm>
            <a:off x="4275000" y="0"/>
            <a:ext cx="4869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050920" y="213372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вящение в первокласс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500720" y="51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Гончарова Марина Шамильевна, 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567080" y="294840"/>
            <a:ext cx="6694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БОУ Илькинск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71331,Республика Бурятия, Заиграевский район, с.Илька, ул.Трактовая 4, тел.57-2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soch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_2007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u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lkinskaya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yandex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u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, сайт: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http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sosh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ozrb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492360" y="847440"/>
            <a:ext cx="521028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То я в клетку, то в линей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аписать на мне сумей-ка!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Можешь и нарисовать…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такое 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Марина\Documents\Марина\2015-2016\посвящение в первоклассники\39.gif"/>
          <p:cNvPicPr/>
          <p:nvPr/>
        </p:nvPicPr>
        <p:blipFill>
          <a:blip r:embed="rId1"/>
          <a:stretch/>
        </p:blipFill>
        <p:spPr>
          <a:xfrm>
            <a:off x="3564000" y="3141720"/>
            <a:ext cx="5199120" cy="302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Марина\Documents\Марина\2015-2016\посвящение в первоклассники\2de915bb9056.gif"/>
          <p:cNvPicPr/>
          <p:nvPr/>
        </p:nvPicPr>
        <p:blipFill>
          <a:blip r:embed="rId2"/>
          <a:stretch/>
        </p:blipFill>
        <p:spPr>
          <a:xfrm>
            <a:off x="-252360" y="260280"/>
            <a:ext cx="4379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27600" y="987480"/>
            <a:ext cx="474372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Если ты его отточиш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Нарисуешь всё, что хочешь!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олнце, море, горы, пляж.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Users\Марина\Documents\Марина\2015-2016\посвящение в первоклассники\karand_an.gif"/>
          <p:cNvPicPr/>
          <p:nvPr/>
        </p:nvPicPr>
        <p:blipFill>
          <a:blip r:embed="rId1"/>
          <a:stretch/>
        </p:blipFill>
        <p:spPr>
          <a:xfrm>
            <a:off x="468360" y="2708280"/>
            <a:ext cx="2879640" cy="335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Users\Марина\Documents\Марина\2015-2016\посвящение в первоклассники\63212664.gif"/>
          <p:cNvPicPr/>
          <p:nvPr/>
        </p:nvPicPr>
        <p:blipFill>
          <a:blip r:embed="rId2"/>
          <a:stretch/>
        </p:blipFill>
        <p:spPr>
          <a:xfrm>
            <a:off x="4427640" y="476280"/>
            <a:ext cx="4086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Марина\Documents\Марина\2015-2016\посвящение в первоклассники\huge.jpeg"/>
          <p:cNvPicPr/>
          <p:nvPr/>
        </p:nvPicPr>
        <p:blipFill>
          <a:blip r:embed="rId1"/>
          <a:stretch/>
        </p:blipFill>
        <p:spPr>
          <a:xfrm>
            <a:off x="2340000" y="549360"/>
            <a:ext cx="648000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Марина\Documents\Марина\2015-2016\посвящение в первоклассники\48uYF.gif"/>
          <p:cNvPicPr/>
          <p:nvPr/>
        </p:nvPicPr>
        <p:blipFill>
          <a:blip r:embed="rId2"/>
          <a:stretch/>
        </p:blipFill>
        <p:spPr>
          <a:xfrm>
            <a:off x="36352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Марина\Documents\Марина\2015-2016\посвящение в первоклассники\33547251.gif"/>
          <p:cNvPicPr/>
          <p:nvPr/>
        </p:nvPicPr>
        <p:blipFill>
          <a:blip r:embed="rId3"/>
          <a:stretch/>
        </p:blipFill>
        <p:spPr>
          <a:xfrm>
            <a:off x="-181080" y="620640"/>
            <a:ext cx="324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14:08:05Z</dcterms:created>
  <dc:creator>Марина Гончарова</dc:creator>
  <dc:description/>
  <dc:language>en-US</dc:language>
  <cp:lastModifiedBy>Марина</cp:lastModifiedBy>
  <dcterms:modified xsi:type="dcterms:W3CDTF">2017-12-06T13:46:42Z</dcterms:modified>
  <cp:revision>7</cp:revision>
  <dc:subject/>
  <dc:title>Слайд 1</dc:title>
</cp:coreProperties>
</file>