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CCE0-54B4-49CC-B3FA-BEF77E0DC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C6F1-23B7-40D4-A61E-083323C4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7A72-850A-4291-AF89-C8E5A51C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7704-BC04-4761-B88D-B32D0FAD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2754-57C5-45D1-A13D-7C148F3B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8047-856F-4671-A867-01E874D7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7EFC-9718-4DE9-9813-A4EE1D86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13A5-8714-43C4-A988-5820EC09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ACC0-E97B-4E27-8108-5CE497D3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1527-EE41-4407-8993-ED5A628A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C879-A522-4C12-BEEA-323FD443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594-A4F6-457A-B7F8-B23CC994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B1F5-BEF3-454D-A4A0-565EAA20B7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1822320" y="706320"/>
            <a:ext cx="5919840" cy="310356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5398920" y="5084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Гончарова М.Ш.. Воспитатель ГП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406160" y="325080"/>
            <a:ext cx="640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МБОУ Илькинская средняя общеобразовательн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671331,Республика Бурятия, Заиграевский район, с.Илька, ул.Трактовая 4, тел.57-2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ail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: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soch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_2007@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ail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u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lkinskaya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@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yandex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u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, сайт: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ttp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: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sosh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uozrb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2143080" y="5716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него есть лук и стрел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е его поступки сме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 родился наш храб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д созвездием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4857840" y="1714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трел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C:\Users\Марина\Documents\Марина\2015-2016\сагаалган\6b666c7ce4cf.gif"/>
          <p:cNvPicPr/>
          <p:nvPr/>
        </p:nvPicPr>
        <p:blipFill>
          <a:blip r:embed="rId1"/>
          <a:stretch/>
        </p:blipFill>
        <p:spPr>
          <a:xfrm>
            <a:off x="2843280" y="2276640"/>
            <a:ext cx="309708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1714680" y="785880"/>
            <a:ext cx="542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то рожден неугомонн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чень гордым и упор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то к друзьям излишне строг?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т, чей символ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4357800" y="178596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зер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C:\Users\Марина\Documents\Марина\2015-2016\сагаалган\20aef03480b1.gif"/>
          <p:cNvPicPr/>
          <p:nvPr/>
        </p:nvPicPr>
        <p:blipFill>
          <a:blip r:embed="rId1"/>
          <a:stretch/>
        </p:blipFill>
        <p:spPr>
          <a:xfrm>
            <a:off x="2556000" y="2492280"/>
            <a:ext cx="37051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2000160" y="857160"/>
            <a:ext cx="55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Это славный зимний зн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Кто рожден под ним — смельч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сех добрей и вес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Дружелюбный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4429080" y="19288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одо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C:\Users\Марина\Documents\Марина\2015-2016\сагаалган\bc36ac758c1d.gif"/>
          <p:cNvPicPr/>
          <p:nvPr/>
        </p:nvPicPr>
        <p:blipFill>
          <a:blip r:embed="rId1"/>
          <a:stretch/>
        </p:blipFill>
        <p:spPr>
          <a:xfrm>
            <a:off x="2771640" y="2421000"/>
            <a:ext cx="35258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2286000" y="7142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дный символ зодиа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корпиона друг и Р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о бывают неулы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, чей знак зовется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5572080" y="17146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Ры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C:\Users\Марина\Documents\Марина\2015-2016\сагаалган\3a8d15afd700.gif"/>
          <p:cNvPicPr/>
          <p:nvPr/>
        </p:nvPicPr>
        <p:blipFill>
          <a:blip r:embed="rId1"/>
          <a:stretch/>
        </p:blipFill>
        <p:spPr>
          <a:xfrm>
            <a:off x="2771640" y="2565360"/>
            <a:ext cx="300204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500040" y="50004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Это властный знак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Он с барашками ро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Смелый, неотступный во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Догадались? Это..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3929040" y="2357280"/>
            <a:ext cx="178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Ове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:\Users\Марина\Documents\Марина\2015-2016\сагаалган\57a4cec6f7cd.gif"/>
          <p:cNvPicPr/>
          <p:nvPr/>
        </p:nvPicPr>
        <p:blipFill>
          <a:blip r:embed="rId1"/>
          <a:stretch/>
        </p:blipFill>
        <p:spPr>
          <a:xfrm>
            <a:off x="5292720" y="3141720"/>
            <a:ext cx="273528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"/>
          <p:cNvSpPr/>
          <p:nvPr/>
        </p:nvSpPr>
        <p:spPr>
          <a:xfrm>
            <a:off x="642960" y="64296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то рожден в апреле - ма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Рассудительным быв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И в работе удал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аленький бычок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4000680" y="22860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Тел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Users\Марина\Documents\Марина\2015-2016\сагаалган\458982acbcfa.gif"/>
          <p:cNvPicPr/>
          <p:nvPr/>
        </p:nvPicPr>
        <p:blipFill>
          <a:blip r:embed="rId1"/>
          <a:stretch/>
        </p:blipFill>
        <p:spPr>
          <a:xfrm>
            <a:off x="3203640" y="3068640"/>
            <a:ext cx="309708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928880" y="7858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то родился ранним лет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ожет стать певцом, поэ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ежливые продав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, чей символ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572000" y="235728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Близне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:\Users\Марина\Documents\Марина\2015-2016\сагаалган\2781416d04c9.gif"/>
          <p:cNvPicPr/>
          <p:nvPr/>
        </p:nvPicPr>
        <p:blipFill>
          <a:blip r:embed="rId1"/>
          <a:stretch/>
        </p:blipFill>
        <p:spPr>
          <a:xfrm>
            <a:off x="2843280" y="3141720"/>
            <a:ext cx="331308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2143080" y="8571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 готов друзьям помоч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аже если будет но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о добрый водный зн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азывается он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4929120" y="228600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Р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C:\Users\Марина\Documents\Марина\2015-2016\сагаалган\b82d33bce893.gif"/>
          <p:cNvPicPr/>
          <p:nvPr/>
        </p:nvPicPr>
        <p:blipFill>
          <a:blip r:embed="rId1"/>
          <a:stretch/>
        </p:blipFill>
        <p:spPr>
          <a:xfrm>
            <a:off x="2700360" y="2852640"/>
            <a:ext cx="349884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214720" y="5000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Этот знак огня не з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зял манеры у ца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ырастет из детки шеф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оль она по знаку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072040" y="1714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Л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C:\Users\Марина\Documents\Марина\2015-2016\сагаалган\2a9c0d3cb378.gif"/>
          <p:cNvPicPr/>
          <p:nvPr/>
        </p:nvPicPr>
        <p:blipFill>
          <a:blip r:embed="rId1"/>
          <a:stretch/>
        </p:blipFill>
        <p:spPr>
          <a:xfrm>
            <a:off x="2987640" y="2565360"/>
            <a:ext cx="2664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2214720" y="5716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то живет, не зная ску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юбит важные нау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рпелив, а нрав без гне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гадались? — Это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5429160" y="178596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:\Users\Марина\Documents\Марина\2015-2016\сагаалган\80394d3fc9a6.gif"/>
          <p:cNvPicPr/>
          <p:nvPr/>
        </p:nvPicPr>
        <p:blipFill>
          <a:blip r:embed="rId1"/>
          <a:stretch/>
        </p:blipFill>
        <p:spPr>
          <a:xfrm>
            <a:off x="2987640" y="2708280"/>
            <a:ext cx="273672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2000160" y="6429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Кто, скажи, они по зна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Не затеют ссору, дра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Но везде суют н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Непослушны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4357800" y="17146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е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C:\Users\Марина\Documents\Марина\2015-2016\сагаалган\63b6b256079c.gif"/>
          <p:cNvPicPr/>
          <p:nvPr/>
        </p:nvPicPr>
        <p:blipFill>
          <a:blip r:embed="rId1"/>
          <a:stretch/>
        </p:blipFill>
        <p:spPr>
          <a:xfrm>
            <a:off x="2987640" y="2637000"/>
            <a:ext cx="29527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2214720" y="6429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Он по знаку зоди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Нравом чуть похож на Р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Ну а если разозл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То ужалит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3786120" y="1785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корпи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C:\Users\Марина\Documents\Марина\2015-2016\сагаалган\da7d8cb99a00.gif"/>
          <p:cNvPicPr/>
          <p:nvPr/>
        </p:nvPicPr>
        <p:blipFill>
          <a:blip r:embed="rId1"/>
          <a:stretch/>
        </p:blipFill>
        <p:spPr>
          <a:xfrm>
            <a:off x="2771640" y="2565360"/>
            <a:ext cx="32194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17-12-06T13:53:58Z</dcterms:modified>
  <cp:revision>15</cp:revision>
  <dc:subject/>
  <dc:title>Слайд 1</dc:title>
</cp:coreProperties>
</file>