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B50-1E7A-48A1-9F1D-0B761ECA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241-4A60-4081-ACEF-60D7BA85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01A-B840-4EAF-854F-3816EE02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7AA-C490-471F-96FC-D418A13C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F90-124C-4F2A-9539-B2F20148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DC3-66B0-4DEE-A149-662DCACC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E12-F551-48D5-A8DA-922EDED0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22A-B547-48A8-BC63-3584935E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987-79EF-4CB7-B715-AF210DEC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A79-835E-4E49-98EC-96CF6447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51D-D78B-40D0-9023-34168C49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20A-226F-4ED0-AAE2-C974EC26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F8D4-0115-4162-9681-6A08E3227A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822320" y="706320"/>
            <a:ext cx="5919840" cy="3103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398920" y="5084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Гончарова М.Ш.. 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06160" y="325080"/>
            <a:ext cx="64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БОУ Илькинская средня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671331,Республика Бурятия, Заиграевский район, с.Илька, ул.Трактовая 4, тел.57-2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soch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_2007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u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lkinskay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andex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u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, сайт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tt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sosh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ozrb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14308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него есть лук и стрел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 его поступки см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 родился наш храб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 созвездие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485784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тре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Users\Марина\Documents\Марина\2015-2016\сагаалган\6b666c7ce4cf.gif"/>
          <p:cNvPicPr/>
          <p:nvPr/>
        </p:nvPicPr>
        <p:blipFill>
          <a:blip r:embed="rId1"/>
          <a:stretch/>
        </p:blipFill>
        <p:spPr>
          <a:xfrm>
            <a:off x="2843280" y="2276640"/>
            <a:ext cx="30970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14680" y="785880"/>
            <a:ext cx="542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рожден неугомон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нь гордым и упор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к друзьям излишне строг?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, чей символ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357800" y="17859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зер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Марина\Documents\Марина\2015-2016\сагаалган\20aef03480b1.gif"/>
          <p:cNvPicPr/>
          <p:nvPr/>
        </p:nvPicPr>
        <p:blipFill>
          <a:blip r:embed="rId1"/>
          <a:stretch/>
        </p:blipFill>
        <p:spPr>
          <a:xfrm>
            <a:off x="2556000" y="2492280"/>
            <a:ext cx="3705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000160" y="857160"/>
            <a:ext cx="55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Это славный зимн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то рожден под ним — смельч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сех добрей и вес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ружелюбный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429080" y="19288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до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:\Users\Марина\Documents\Марина\2015-2016\сагаалган\bc36ac758c1d.gif"/>
          <p:cNvPicPr/>
          <p:nvPr/>
        </p:nvPicPr>
        <p:blipFill>
          <a:blip r:embed="rId1"/>
          <a:stretch/>
        </p:blipFill>
        <p:spPr>
          <a:xfrm>
            <a:off x="2771640" y="2421000"/>
            <a:ext cx="3525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0" y="7142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дный символ зодиа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орпиона друг и Р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 бывают неул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, чей знак зовется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5572080" y="1714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ы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:\Users\Марина\Documents\Марина\2015-2016\сагаалган\3a8d15afd700.gif"/>
          <p:cNvPicPr/>
          <p:nvPr/>
        </p:nvPicPr>
        <p:blipFill>
          <a:blip r:embed="rId1"/>
          <a:stretch/>
        </p:blipFill>
        <p:spPr>
          <a:xfrm>
            <a:off x="2771640" y="2565360"/>
            <a:ext cx="30020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00040" y="50004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Это властный зна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н с барашками ро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мелый, неотступный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огадались? Это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929040" y="235728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в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Марина\Documents\Марина\2015-2016\сагаалган\57a4cec6f7cd.gif"/>
          <p:cNvPicPr/>
          <p:nvPr/>
        </p:nvPicPr>
        <p:blipFill>
          <a:blip r:embed="rId1"/>
          <a:stretch/>
        </p:blipFill>
        <p:spPr>
          <a:xfrm>
            <a:off x="5292720" y="3141720"/>
            <a:ext cx="27352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642960" y="6429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то рожден в апреле - ма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ссудительным б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в работе удал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ленький бычок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000680" y="2286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Те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Users\Марина\Documents\Марина\2015-2016\сагаалган\458982acbcfa.gif"/>
          <p:cNvPicPr/>
          <p:nvPr/>
        </p:nvPicPr>
        <p:blipFill>
          <a:blip r:embed="rId1"/>
          <a:stretch/>
        </p:blipFill>
        <p:spPr>
          <a:xfrm>
            <a:off x="3203640" y="3068640"/>
            <a:ext cx="309708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928880" y="785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то родился ранним ле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жет стать певцом, поэ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ежливые продав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, чей символ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572000" y="23572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Близне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Марина\Documents\Марина\2015-2016\сагаалган\2781416d04c9.gif"/>
          <p:cNvPicPr/>
          <p:nvPr/>
        </p:nvPicPr>
        <p:blipFill>
          <a:blip r:embed="rId1"/>
          <a:stretch/>
        </p:blipFill>
        <p:spPr>
          <a:xfrm>
            <a:off x="2843280" y="3141720"/>
            <a:ext cx="33130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143080" y="8571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 готов друзьям пом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аже если будет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о добрый водный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зывается о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929120" y="228600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Users\Марина\Documents\Марина\2015-2016\сагаалган\b82d33bce893.gif"/>
          <p:cNvPicPr/>
          <p:nvPr/>
        </p:nvPicPr>
        <p:blipFill>
          <a:blip r:embed="rId1"/>
          <a:stretch/>
        </p:blipFill>
        <p:spPr>
          <a:xfrm>
            <a:off x="2700360" y="2852640"/>
            <a:ext cx="34988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214720" y="5000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тот знак огня не з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зял манеры у ц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растет из детки ше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ль она по знаку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07204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Марина\Documents\Марина\2015-2016\сагаалган\2a9c0d3cb378.gif"/>
          <p:cNvPicPr/>
          <p:nvPr/>
        </p:nvPicPr>
        <p:blipFill>
          <a:blip r:embed="rId1"/>
          <a:stretch/>
        </p:blipFill>
        <p:spPr>
          <a:xfrm>
            <a:off x="2987640" y="2565360"/>
            <a:ext cx="2664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2147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живет, не зная ск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юбит важные на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рпелив, а нрав без гне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гадались? — Это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429160" y="17859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Марина\Documents\Марина\2015-2016\сагаалган\80394d3fc9a6.gif"/>
          <p:cNvPicPr/>
          <p:nvPr/>
        </p:nvPicPr>
        <p:blipFill>
          <a:blip r:embed="rId1"/>
          <a:stretch/>
        </p:blipFill>
        <p:spPr>
          <a:xfrm>
            <a:off x="2987640" y="2708280"/>
            <a:ext cx="27367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000160" y="642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то, скажи, они по зна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е затеют ссору, дра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о везде суют 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епослушны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357800" y="1714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е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Марина\Documents\Марина\2015-2016\сагаалган\63b6b256079c.gif"/>
          <p:cNvPicPr/>
          <p:nvPr/>
        </p:nvPicPr>
        <p:blipFill>
          <a:blip r:embed="rId1"/>
          <a:stretch/>
        </p:blipFill>
        <p:spPr>
          <a:xfrm>
            <a:off x="2987640" y="2637000"/>
            <a:ext cx="2952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214720" y="642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н по знаку зоди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равом чуть похож на Р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у а если разозл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о ужалит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3786120" y="1785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корпи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Марина\Documents\Марина\2015-2016\сагаалган\da7d8cb99a00.gif"/>
          <p:cNvPicPr/>
          <p:nvPr/>
        </p:nvPicPr>
        <p:blipFill>
          <a:blip r:embed="rId1"/>
          <a:stretch/>
        </p:blipFill>
        <p:spPr>
          <a:xfrm>
            <a:off x="2771640" y="2565360"/>
            <a:ext cx="3219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7-12-06T13:53:58Z</dcterms:modified>
  <cp:revision>15</cp:revision>
  <dc:subject/>
  <dc:title>Слайд 1</dc:title>
</cp:coreProperties>
</file>