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80E-EB69-4DF8-A0EB-D772A97B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717-C52D-4A3A-934E-C34971CF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EE1-6305-417D-962A-01263B58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643-5F32-4FC1-AC3A-0AAC724E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B30F-3C66-4088-B298-9EA8C22B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58E-938F-459A-9394-4A96E88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DDA6-74DA-42B8-AD85-CC21D000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AB17-0587-427D-A225-18BDB06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9F96-FB3F-4EBF-8C25-89B7500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6956-13F1-441A-91F5-D75F647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1C47-681F-4478-831B-6FE39E84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F24-5C52-4495-9D98-93CB9C2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60F-DF26-47E9-94AA-8F37763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3DFB-4CF7-41DF-B3A2-C33BDC99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62E-3138-44BB-A86D-24D3B05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240-D129-4C72-A31C-32A37690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47B5-1398-4CA9-AC06-28B0C13D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DC6-2120-4758-9432-360EDD9C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6C4-45D8-4C4D-B1D2-0947741D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F13-4A4C-48E7-A517-BCBA43C5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E16-6C7C-4922-948E-ED1FA63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7C6-988D-4BA8-8C6E-0B92221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8BD-B318-4655-B0D9-CB949F0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823-63EB-4A63-8E96-07CBDE8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66"/>
            </a:gs>
            <a:gs pos="50000">
              <a:srgbClr val="ffeebd"/>
            </a:gs>
            <a:gs pos="100000">
              <a:srgbClr val="cc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09D-A81C-4B30-9475-6A1F927152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66"/>
            </a:gs>
            <a:gs pos="50000">
              <a:srgbClr val="ffeebd"/>
            </a:gs>
            <a:gs pos="100000">
              <a:srgbClr val="cc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7E7-4914-42C9-80E4-BCB370EF095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501040" cy="192564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тябрьская революция 1917 г. в Росс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2928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й урок, приуроченный к 100-ю Великой российской революции 191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357720" y="4357800"/>
            <a:ext cx="5572080" cy="64260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е забывай прошлого, оно учитель будущег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ревнекитайская пословиц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врал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итическая стачка перерастает в восст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рота Павловского полка открыла огонь по конной пол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ий указ 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ус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Дум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арт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торон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вших перешёл ве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ский гарниз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петроградский гарнизон"/>
          <p:cNvPicPr/>
          <p:nvPr/>
        </p:nvPicPr>
        <p:blipFill>
          <a:blip r:embed="rId1"/>
          <a:stretch/>
        </p:blipFill>
        <p:spPr>
          <a:xfrm>
            <a:off x="3851280" y="2349360"/>
            <a:ext cx="5292720" cy="43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56920" y="28584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4600"/>
                </a:solidFill>
                <a:latin typeface="Garamond"/>
              </a:rPr>
              <a:t>ДВОЕВЛАСТ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Совет"/>
          <p:cNvPicPr/>
          <p:nvPr/>
        </p:nvPicPr>
        <p:blipFill>
          <a:blip r:embed="rId1"/>
          <a:stretch/>
        </p:blipFill>
        <p:spPr>
          <a:xfrm>
            <a:off x="285840" y="1428840"/>
            <a:ext cx="5665680" cy="421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двоевластие"/>
          <p:cNvPicPr/>
          <p:nvPr/>
        </p:nvPicPr>
        <p:blipFill>
          <a:blip r:embed="rId2"/>
          <a:stretch/>
        </p:blipFill>
        <p:spPr>
          <a:xfrm>
            <a:off x="4464000" y="5183280"/>
            <a:ext cx="4680000" cy="1674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940360" y="1557360"/>
            <a:ext cx="3203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. Г.Е. Львов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ский совет рабоч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С. Чхеидз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Я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Стрелка вниз 6"/>
          <p:cNvSpPr/>
          <p:nvPr/>
        </p:nvSpPr>
        <p:spPr>
          <a:xfrm>
            <a:off x="7215120" y="4143240"/>
            <a:ext cx="28584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4600"/>
                </a:solidFill>
                <a:latin typeface="Garamond"/>
              </a:rPr>
              <a:t>2 марта – подписание Николаем </a:t>
            </a:r>
            <a:r>
              <a:rPr b="1" lang="en-US" sz="3600" spc="-1" strike="noStrike">
                <a:solidFill>
                  <a:srgbClr val="484600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484600"/>
                </a:solidFill>
                <a:latin typeface="Garamond"/>
              </a:rPr>
              <a:t> отречения от престол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3" descr="Захват-12"/>
          <p:cNvPicPr/>
          <p:nvPr/>
        </p:nvPicPr>
        <p:blipFill>
          <a:blip r:embed="rId1"/>
          <a:stretch/>
        </p:blipFill>
        <p:spPr>
          <a:xfrm>
            <a:off x="826920" y="1268280"/>
            <a:ext cx="7415280" cy="538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50230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3500"/>
                </a:solidFill>
                <a:latin typeface="Garamond"/>
              </a:rPr>
              <a:t>АПРЕЛЬ 191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апреля 1917 г. в Петроград из Цюриха возвратилась группа социал-демократов, во главе с Лени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преля 1917 г. - выступление В. И. Ленина с Апрельскими тезисами с трибуны Петроградского Совета рабоч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ленин на броневике"/>
          <p:cNvPicPr/>
          <p:nvPr/>
        </p:nvPicPr>
        <p:blipFill>
          <a:blip r:embed="rId1"/>
          <a:stretch/>
        </p:blipFill>
        <p:spPr>
          <a:xfrm>
            <a:off x="395280" y="1413000"/>
            <a:ext cx="408456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816120" y="63244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 на бронев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3500"/>
                </a:solidFill>
                <a:latin typeface="Garamond"/>
              </a:rPr>
              <a:t>«АПРЕЛЬСКИЕ ТЕЗИСЫ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Picture 5" descr="11"/>
          <p:cNvPicPr/>
          <p:nvPr/>
        </p:nvPicPr>
        <p:blipFill>
          <a:blip r:embed="rId1"/>
          <a:stretch/>
        </p:blipFill>
        <p:spPr>
          <a:xfrm>
            <a:off x="684360" y="1125360"/>
            <a:ext cx="7920000" cy="562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3500"/>
                </a:solidFill>
                <a:latin typeface="Times New Roman"/>
                <a:ea typeface="Times New Roman"/>
              </a:rPr>
              <a:t>25-30 августа  </a:t>
            </a:r>
            <a:br>
              <a:rPr sz="3200"/>
            </a:br>
            <a:r>
              <a:rPr b="1" lang="ru-RU" sz="3200" spc="-1" strike="noStrike">
                <a:solidFill>
                  <a:srgbClr val="363500"/>
                </a:solidFill>
                <a:latin typeface="Times New Roman"/>
                <a:ea typeface="Times New Roman"/>
              </a:rPr>
              <a:t>провал попытки генерала Л.Г. Корнилова установить военную диктатуру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Picture 5" descr="Корнилов"/>
          <p:cNvPicPr/>
          <p:nvPr/>
        </p:nvPicPr>
        <p:blipFill>
          <a:blip r:embed="rId1"/>
          <a:stretch/>
        </p:blipFill>
        <p:spPr>
          <a:xfrm>
            <a:off x="7223040" y="1428840"/>
            <a:ext cx="1920960" cy="2428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85840" y="1428840"/>
            <a:ext cx="692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ниловская программа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становление правительственной власти, совершенно независимой от всяких безответственных организаций — впредь до Учредительного собр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становление на местах органов власти и суда, независимых от самочинных организа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йна в полном единении с союзниками до заключения скорейшего мира, обеспечивающего достояние и жизненные интересы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боеспособной армии и организованного тыла — без политики, без вмешательства комитетов и комиссаров и с твердой дисципли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беспечение жизнедеятельности страны и армии путём упорядочения транспорта и восстановления продуктивности работы фабрик и заводов; упорядочение продовольственного дела привлечением к нему кооперативов и торгового аппарата, регулируемых правительств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азрешение основных государственных, национальных и социальных вопросов откладывается до Учредительного Собр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357120" y="357120"/>
            <a:ext cx="857268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револю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Вопрос о земл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ость аграрного вопроса и обнищание крестья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Экономические и политические проблемы:  оттягивание социально-экономических рефор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Временного правительства решить вопросы власти, войны и мира, аграрный и д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опрос о мире: усталость от войн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циональный воп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БОЛЬШЕВИКИ ПРИХОДЯТ </a:t>
            </a:r>
            <a:br>
              <a:rPr sz="3600"/>
            </a:b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К ВЛАСТ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нтябрь 191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ыборы в Петроградский со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евики получают большинство гол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едатель Л.Д. Троц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Троцкий"/>
          <p:cNvPicPr/>
          <p:nvPr/>
        </p:nvPicPr>
        <p:blipFill>
          <a:blip r:embed="rId1"/>
          <a:stretch/>
        </p:blipFill>
        <p:spPr>
          <a:xfrm>
            <a:off x="5357880" y="1557360"/>
            <a:ext cx="3473280" cy="49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БОЛЬШЕВИКИ ПРИХОДЯТ </a:t>
            </a:r>
            <a:br>
              <a:rPr sz="3600"/>
            </a:b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К ВЛАСТ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468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е тактики большевик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октября – заседание ЦК партии -  резолюция о вооружённом восст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 октября - создан ВРК (председатель Л.Д. Троц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 октября – расширенное заседание ЦК с участием депутатов Петросовета, столичного комитета РСДРП (б), представителей фабзавкомов: решение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ка вооружённого восст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числ партии больш"/>
          <p:cNvPicPr/>
          <p:nvPr/>
        </p:nvPicPr>
        <p:blipFill>
          <a:blip r:embed="rId1"/>
          <a:stretch/>
        </p:blipFill>
        <p:spPr>
          <a:xfrm>
            <a:off x="4859280" y="1484280"/>
            <a:ext cx="4284720" cy="51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причины.JPG"/>
          <p:cNvPicPr/>
          <p:nvPr/>
        </p:nvPicPr>
        <p:blipFill>
          <a:blip r:embed="rId1"/>
          <a:stretch/>
        </p:blipFill>
        <p:spPr>
          <a:xfrm>
            <a:off x="106200" y="1989000"/>
            <a:ext cx="79138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250920" y="500040"/>
            <a:ext cx="6480000" cy="94932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РОНИКА ОКТЯБ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ая соединительная линия 5"/>
          <p:cNvSpPr/>
          <p:nvPr/>
        </p:nvSpPr>
        <p:spPr>
          <a:xfrm>
            <a:off x="6769080" y="1305000"/>
            <a:ext cx="21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Прямая соединительная линия 6"/>
          <p:cNvSpPr/>
          <p:nvPr/>
        </p:nvSpPr>
        <p:spPr>
          <a:xfrm>
            <a:off x="9036000" y="1305000"/>
            <a:ext cx="0" cy="22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ая соединительная линия 7"/>
          <p:cNvSpPr/>
          <p:nvPr/>
        </p:nvSpPr>
        <p:spPr>
          <a:xfrm>
            <a:off x="8604360" y="19875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ая соединительная линия 8"/>
          <p:cNvSpPr/>
          <p:nvPr/>
        </p:nvSpPr>
        <p:spPr>
          <a:xfrm>
            <a:off x="8607600" y="3573360"/>
            <a:ext cx="4284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4500720" y="1557360"/>
            <a:ext cx="4174920" cy="19429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ВОД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4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ные правительству юнкера захватывают типографию большевистской газеты «Рабочий пут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4500720" y="3500280"/>
            <a:ext cx="4176720" cy="129564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яды Красной гвардии захватывают мосты, вокзалы, телеграф, поч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785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ытия Октября 1917 года: закономерность или случай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причины.JPG"/>
          <p:cNvPicPr/>
          <p:nvPr/>
        </p:nvPicPr>
        <p:blipFill>
          <a:blip r:embed="rId1"/>
          <a:stretch/>
        </p:blipFill>
        <p:spPr>
          <a:xfrm>
            <a:off x="0" y="1500120"/>
            <a:ext cx="6656400" cy="51116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250920" y="571680"/>
            <a:ext cx="6480000" cy="87768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РОНИКА ОКТЯБ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5"/>
          <p:cNvSpPr/>
          <p:nvPr/>
        </p:nvSpPr>
        <p:spPr>
          <a:xfrm>
            <a:off x="6769080" y="1305000"/>
            <a:ext cx="21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6"/>
          <p:cNvSpPr/>
          <p:nvPr/>
        </p:nvSpPr>
        <p:spPr>
          <a:xfrm>
            <a:off x="9036000" y="1305000"/>
            <a:ext cx="0" cy="37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8604360" y="19875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607600" y="3573360"/>
            <a:ext cx="4284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4572000" y="1557360"/>
            <a:ext cx="4176720" cy="129528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еву входит «Аврора» и в 21.45 дает холостой залп по Зимнему двор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4572000" y="2997360"/>
            <a:ext cx="4176720" cy="129528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6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ется штурм Зимнего дворца (6 чел. погибло, 50 ранен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1"/>
          <p:cNvSpPr/>
          <p:nvPr/>
        </p:nvSpPr>
        <p:spPr>
          <a:xfrm>
            <a:off x="8607600" y="50133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4572000" y="4437000"/>
            <a:ext cx="4176720" cy="129564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6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е правительство арестовано (А.Ф. Керенский бежа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2357280" y="5979960"/>
            <a:ext cx="6786720" cy="87804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волюция в Петрограде побед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5" descr="october_37.jpg"/>
          <p:cNvPicPr/>
          <p:nvPr/>
        </p:nvPicPr>
        <p:blipFill>
          <a:blip r:embed="rId1"/>
          <a:stretch/>
        </p:blipFill>
        <p:spPr>
          <a:xfrm>
            <a:off x="4859280" y="1052640"/>
            <a:ext cx="4105440" cy="57448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1285920" y="357120"/>
            <a:ext cx="6480000" cy="86364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5 – 27 октября 1917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торой съезд Со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0" name="Вертикальный свиток 8"/>
          <p:cNvGrpSpPr/>
          <p:nvPr/>
        </p:nvGrpSpPr>
        <p:grpSpPr>
          <a:xfrm>
            <a:off x="414360" y="1414440"/>
            <a:ext cx="2457360" cy="2097000"/>
            <a:chOff x="414360" y="1414440"/>
            <a:chExt cx="2457360" cy="2097000"/>
          </a:xfrm>
        </p:grpSpPr>
        <p:pic>
          <p:nvPicPr>
            <p:cNvPr id="161" name="Вертикальный свиток 8" descr=""/>
            <p:cNvPicPr/>
            <p:nvPr/>
          </p:nvPicPr>
          <p:blipFill>
            <a:blip r:embed="rId2"/>
            <a:stretch/>
          </p:blipFill>
          <p:spPr>
            <a:xfrm>
              <a:off x="414360" y="1414440"/>
              <a:ext cx="245736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87240" y="1687680"/>
              <a:ext cx="19116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МИР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" name="Вертикальный свиток 6"/>
          <p:cNvGrpSpPr/>
          <p:nvPr/>
        </p:nvGrpSpPr>
        <p:grpSpPr>
          <a:xfrm>
            <a:off x="2414520" y="3060720"/>
            <a:ext cx="2455920" cy="2097000"/>
            <a:chOff x="2414520" y="3060720"/>
            <a:chExt cx="2455920" cy="2097000"/>
          </a:xfrm>
        </p:grpSpPr>
        <p:pic>
          <p:nvPicPr>
            <p:cNvPr id="164" name="Вертикальный свиток 6" descr=""/>
            <p:cNvPicPr/>
            <p:nvPr/>
          </p:nvPicPr>
          <p:blipFill>
            <a:blip r:embed="rId3"/>
            <a:stretch/>
          </p:blipFill>
          <p:spPr>
            <a:xfrm>
              <a:off x="2414520" y="3060720"/>
              <a:ext cx="245592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687760" y="3330720"/>
              <a:ext cx="19112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ЗЕМЛ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Вертикальный свиток 9"/>
          <p:cNvGrpSpPr/>
          <p:nvPr/>
        </p:nvGrpSpPr>
        <p:grpSpPr>
          <a:xfrm>
            <a:off x="201600" y="4486320"/>
            <a:ext cx="2455920" cy="2097000"/>
            <a:chOff x="201600" y="4486320"/>
            <a:chExt cx="2455920" cy="2097000"/>
          </a:xfrm>
        </p:grpSpPr>
        <p:pic>
          <p:nvPicPr>
            <p:cNvPr id="167" name="Вертикальный свиток 9" descr=""/>
            <p:cNvPicPr/>
            <p:nvPr/>
          </p:nvPicPr>
          <p:blipFill>
            <a:blip r:embed="rId4"/>
            <a:stretch/>
          </p:blipFill>
          <p:spPr>
            <a:xfrm>
              <a:off x="201600" y="4486320"/>
              <a:ext cx="245592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3040" y="4759200"/>
              <a:ext cx="1911240" cy="16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ВЛАСТ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1739880" y="214200"/>
            <a:ext cx="64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вые высшие органы в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928960" y="928800"/>
            <a:ext cx="2971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Съезд Советов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в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28960" y="2714760"/>
            <a:ext cx="2971800" cy="19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К (Совет Народных Комиссаро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главе с В. И. Ленины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 вла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равом законодательной инициатив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4285800" y="2071800"/>
            <a:ext cx="7164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85840" y="2786040"/>
            <a:ext cx="207144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ЦИ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российский Центральный Исполнительный Комите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межд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здами Совет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ый, распорядительный и контролирующий орг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1214280" y="1643040"/>
            <a:ext cx="1743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2428920" y="3786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286760" y="2071800"/>
            <a:ext cx="185724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российская Чрезвычайная Комиссия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орьбы с контрреволю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929200" y="1500120"/>
            <a:ext cx="135756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928960" y="5357880"/>
            <a:ext cx="47149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ты = Народные комиссариаты во главе с наркомом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м комиссар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"/>
          <p:cNvSpPr/>
          <p:nvPr/>
        </p:nvSpPr>
        <p:spPr>
          <a:xfrm flipH="1">
            <a:off x="4142880" y="4643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-42876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428760" y="1071720"/>
            <a:ext cx="6480000" cy="68400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Рисунок 5" descr="october_37.jpg"/>
          <p:cNvPicPr/>
          <p:nvPr/>
        </p:nvPicPr>
        <p:blipFill>
          <a:blip r:embed="rId1"/>
          <a:stretch/>
        </p:blipFill>
        <p:spPr>
          <a:xfrm>
            <a:off x="324000" y="1989000"/>
            <a:ext cx="8448480" cy="478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тябрьская революция открыла эпоху перехода от капитализма к социализму и коммунизму во всем ми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285840" y="114300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тор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Рисунок 5" descr="october_37.jpg"/>
          <p:cNvPicPr/>
          <p:nvPr/>
        </p:nvPicPr>
        <p:blipFill>
          <a:blip r:embed="rId1"/>
          <a:stretch/>
        </p:blipFill>
        <p:spPr>
          <a:xfrm>
            <a:off x="250920" y="1986120"/>
            <a:ext cx="7296120" cy="4684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4716360" y="1916280"/>
            <a:ext cx="4032360" cy="2736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волюция была демократической рабоче-крестьянской, открывшей путь для перехода к социализму в будущем. Сама же революция сформировала только предпосылки к этому перех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реть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Рисунок 5" descr="october_37.jpg"/>
          <p:cNvPicPr/>
          <p:nvPr/>
        </p:nvPicPr>
        <p:blipFill>
          <a:blip r:embed="rId1"/>
          <a:stretch/>
        </p:blipFill>
        <p:spPr>
          <a:xfrm>
            <a:off x="395280" y="1844640"/>
            <a:ext cx="4930920" cy="478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бытия октября 1917 года – военный переворот, совершенный большевиками с опорой на революционную часть армии и фл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етверт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Рисунок 5" descr="october_37.jpg"/>
          <p:cNvPicPr/>
          <p:nvPr/>
        </p:nvPicPr>
        <p:blipFill>
          <a:blip r:embed="rId1"/>
          <a:stretch/>
        </p:blipFill>
        <p:spPr>
          <a:xfrm>
            <a:off x="179280" y="1844640"/>
            <a:ext cx="7242120" cy="4788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говор, захват власти кучкой большевистских лидеров, навязавших стране трагический путь 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ят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Рисунок 5" descr="october_37.jpg"/>
          <p:cNvPicPr/>
          <p:nvPr/>
        </p:nvPicPr>
        <p:blipFill>
          <a:blip r:embed="rId1"/>
          <a:stretch/>
        </p:blipFill>
        <p:spPr>
          <a:xfrm>
            <a:off x="250920" y="1916280"/>
            <a:ext cx="7020000" cy="4789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архический бунт, разрушительная революция люмпенов, отбросившая страну далеко наз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285840" y="214200"/>
            <a:ext cx="88581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ств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тябрьской революции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власти к партии большевиков (формирование однопартийной системы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ая вой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России из Первой мировой вой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 России на путь построения социализма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ционализация промышленных предприят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дел помещичьих земел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иквидация «нетрудовых классов» (дворянство, буржуазия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Гвоздём» первой российской революции современники назвали требова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я крестья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чтожение помещичьего землевлад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здание в стране органов народного представитель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метьте требования рабочих в Петиции к Никола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январе 1905 г. (3 варианта ответа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здание института фабричных инспекто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ведение демократических прав и своб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должение русско-японской вой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хранение помещичьего землевлад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8-часовой рабочий д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12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ель аграрной реформы П. А. Столыпин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зрушение общинной психологии русского крестьянств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широкого слоя мелких собственников в деревне как опоры царской в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ликвидацию крупных земельных собствен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иже приведён список терминов. Все они, за исключением двух, относятся к аграрной реформе П.А. Столыпина. Найдите и запишите порядковые номера терминов, не относящиеся к указанному событию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ременнообязанный крестьяни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хуто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ставная грамо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ереселене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тру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 результату первой российской революции 1905-1907 гг. относи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адение монархии в Росс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реждение Государственной дум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прет политических пар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чина вступления России в Первую мировую войн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язательства перед Тройственным союз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бийство эрцгерцога Австрийского Франца Фердинан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ремление решить проблему черноморских пролив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желание разгромить Великобритан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Россия не участвовала в Первой мировой вой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32144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84600"/>
                </a:solidFill>
                <a:latin typeface="Garamond"/>
              </a:rPr>
              <a:t>От Февраля к Октябрю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457200" y="277920"/>
            <a:ext cx="8400960" cy="18651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2968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РЕВОЛЮ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429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объективная причина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решенность задач революции 1905-1907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итический блок противоречи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державие, хотя и ограниченное созданием законодательной Государственной думы, неполнота и нарушение властью демократических свобод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грарно-крестьянский вопрос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ещичье землевладение,  малоземелье и обнищание крестья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чий вопрос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степень эксплуатации рабочих, отсутствие рабочего законодательств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циональный блок противоречи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о народов России, национальная (русификаторская) политика правительст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Д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и с подвозом хлеба в Петрограде из-за снежных заносов на железнодорожных путя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→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ись стихийные выступления масс, главным требованием которых  было «Хлеб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феврал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бастовка 90 тыс. рабочих Петрограда с требованием увеличения заработной платы из-за роста дороговизн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6666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монстрация женщин, лозунги: «Хлеба!», «Долой войну!»,  «Верните мужей!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манифестация женьщин"/>
          <p:cNvPicPr/>
          <p:nvPr/>
        </p:nvPicPr>
        <p:blipFill>
          <a:blip r:embed="rId1"/>
          <a:stretch/>
        </p:blipFill>
        <p:spPr>
          <a:xfrm>
            <a:off x="5929200" y="4748040"/>
            <a:ext cx="3214800" cy="21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февраля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ая политическая стачка. Лозунги: «Долой царизм!», «Долой самодержавие!», «Долой войну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февраля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мма Никола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баррикады на Литейном"/>
          <p:cNvPicPr/>
          <p:nvPr/>
        </p:nvPicPr>
        <p:blipFill>
          <a:blip r:embed="rId1"/>
          <a:stretch/>
        </p:blipFill>
        <p:spPr>
          <a:xfrm>
            <a:off x="5767560" y="2500200"/>
            <a:ext cx="3376440" cy="235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рекратить беспорядки"/>
          <p:cNvPicPr/>
          <p:nvPr/>
        </p:nvPicPr>
        <p:blipFill>
          <a:blip r:embed="rId2"/>
          <a:stretch/>
        </p:blipFill>
        <p:spPr>
          <a:xfrm>
            <a:off x="1000080" y="3000240"/>
            <a:ext cx="4376880" cy="33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7:18:51Z</dcterms:created>
  <dc:creator>ОЛЬГА</dc:creator>
  <dc:description/>
  <dc:language>en-US</dc:language>
  <cp:lastModifiedBy>Инкогнито</cp:lastModifiedBy>
  <dcterms:modified xsi:type="dcterms:W3CDTF">2017-10-26T17:58:54Z</dcterms:modified>
  <cp:revision>78</cp:revision>
  <dc:subject/>
  <dc:title>Педагогическое проектирование</dc:title>
</cp:coreProperties>
</file>