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71C8-D1CC-4F13-92E0-6275D97E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6980-A89D-4C3E-8E6B-17B639CC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82FF-7B7F-4C61-B990-904033B3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86E-42B1-44ED-97FF-4F919EC5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E4D0-D240-49E5-826C-CA8B884C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54CE-1813-4D93-BAE6-67F66C90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D5DF-6A9E-45AF-B94D-9E6F2235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81FD-CCB4-4F38-B170-97E1D8DA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BD54-0AD8-4E34-93F6-D080DBD3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7F70-93CD-4158-9444-A86201C8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DF2B-8B29-47B5-B648-706F6FD0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C8F-7705-478F-8A02-1CBF7DBE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E4B7-D372-439C-8AA1-5E68EEF3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8680-E15A-467C-941D-69DC74C4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7E9F-451B-44DD-AB7A-36732538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A88A-C81C-48DA-B016-0254349D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43E4-D338-496F-BF96-35081537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08B-E4E0-4760-B91D-E333A863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6AE6-A917-4FAC-AE96-2D60B764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D2B-E6CD-446C-A498-AC6A0947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902D-5FB9-4B5D-8F76-D34CB19A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6996-05EC-4685-8776-AD37C764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2B5E-666E-4B4C-8400-524E8DCC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415-F876-4280-8A19-06100B9E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66"/>
            </a:gs>
            <a:gs pos="50000">
              <a:srgbClr val="ffeebd"/>
            </a:gs>
            <a:gs pos="100000">
              <a:srgbClr val="cccc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A8E6-B06F-4BBB-91AF-E223CC469FF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66"/>
            </a:gs>
            <a:gs pos="50000">
              <a:srgbClr val="ffeebd"/>
            </a:gs>
            <a:gs pos="100000">
              <a:srgbClr val="cccc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E7F3-32F1-4DAF-964B-4B023BE77E7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501040" cy="1925640"/>
          </a:xfrm>
          <a:prstGeom prst="rect">
            <a:avLst/>
          </a:prstGeom>
          <a:solidFill>
            <a:srgbClr val="ebeb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тябрьская революция 1917 г. в Росс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4240" y="29286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ый урок, приуроченный к 100-ю Великой российской революции 1917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3357720" y="4357800"/>
            <a:ext cx="5572080" cy="642600"/>
          </a:xfrm>
          <a:prstGeom prst="rect">
            <a:avLst/>
          </a:prstGeom>
          <a:solidFill>
            <a:srgbClr val="ebe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Не забывай прошлого, оно учитель будущего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древнекитайская пословиц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84600"/>
                </a:solidFill>
                <a:latin typeface="Garamond"/>
              </a:rPr>
              <a:t>Февраль 1917 г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6600"/>
              </a:buClr>
              <a:buSzPct val="105000"/>
              <a:buFont typeface="Courier New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еврал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литическая стачка перерастает в восст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6600"/>
              </a:buClr>
              <a:buSzPct val="105000"/>
              <a:buFont typeface="Courier New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рота Павловского полка открыла огонь по конной пол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6600"/>
              </a:buClr>
              <a:buSzPct val="105000"/>
              <a:buFont typeface="Courier New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ский указ 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ус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й Думы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6600"/>
              </a:buClr>
              <a:buSzPct val="105000"/>
              <a:buFont typeface="Courier New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арт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 сторон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вших перешёл вес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оградский гарнизо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4" descr="петроградский гарнизон"/>
          <p:cNvPicPr/>
          <p:nvPr/>
        </p:nvPicPr>
        <p:blipFill>
          <a:blip r:embed="rId1"/>
          <a:stretch/>
        </p:blipFill>
        <p:spPr>
          <a:xfrm>
            <a:off x="3851280" y="2349360"/>
            <a:ext cx="5292720" cy="4334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56920" y="285840"/>
            <a:ext cx="4537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4600"/>
                </a:solidFill>
                <a:latin typeface="Garamond"/>
              </a:rPr>
              <a:t>ДВОЕВЛАСТИЕ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Совет"/>
          <p:cNvPicPr/>
          <p:nvPr/>
        </p:nvPicPr>
        <p:blipFill>
          <a:blip r:embed="rId1"/>
          <a:stretch/>
        </p:blipFill>
        <p:spPr>
          <a:xfrm>
            <a:off x="285840" y="1428840"/>
            <a:ext cx="5665680" cy="4214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двоевластие"/>
          <p:cNvPicPr/>
          <p:nvPr/>
        </p:nvPicPr>
        <p:blipFill>
          <a:blip r:embed="rId2"/>
          <a:stretch/>
        </p:blipFill>
        <p:spPr>
          <a:xfrm>
            <a:off x="4464000" y="5183280"/>
            <a:ext cx="4680000" cy="1674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5940360" y="1557360"/>
            <a:ext cx="320364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ое правитель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. Г.Е. Львов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оградский совет рабочих и солдатских депу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.С. Чхеидз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СТОЯНИ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Стрелка вниз 6"/>
          <p:cNvSpPr/>
          <p:nvPr/>
        </p:nvSpPr>
        <p:spPr>
          <a:xfrm>
            <a:off x="7215120" y="4143240"/>
            <a:ext cx="285840" cy="3574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84600"/>
                </a:solidFill>
                <a:latin typeface="Garamond"/>
              </a:rPr>
              <a:t>2 марта – подписание Николаем </a:t>
            </a:r>
            <a:r>
              <a:rPr b="1" lang="en-US" sz="3600" spc="-1" strike="noStrike">
                <a:solidFill>
                  <a:srgbClr val="484600"/>
                </a:solidFill>
                <a:latin typeface="Garamond"/>
              </a:rPr>
              <a:t>II</a:t>
            </a:r>
            <a:r>
              <a:rPr b="1" lang="ru-RU" sz="3600" spc="-1" strike="noStrike">
                <a:solidFill>
                  <a:srgbClr val="484600"/>
                </a:solidFill>
                <a:latin typeface="Garamond"/>
              </a:rPr>
              <a:t> отречения от престола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2" name="Picture 3" descr="Захват-12"/>
          <p:cNvPicPr/>
          <p:nvPr/>
        </p:nvPicPr>
        <p:blipFill>
          <a:blip r:embed="rId1"/>
          <a:stretch/>
        </p:blipFill>
        <p:spPr>
          <a:xfrm>
            <a:off x="826920" y="1268280"/>
            <a:ext cx="7415280" cy="538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502308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63500"/>
                </a:solidFill>
                <a:latin typeface="Garamond"/>
              </a:rPr>
              <a:t>АПРЕЛЬ 1917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0" y="1412640"/>
            <a:ext cx="4572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апреля 1917 г. в Петроград из Цюриха возвратилась группа социал-демократов, во главе с Ленины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апреля 1917 г. - выступление В. И. Ленина с Апрельскими тезисами с трибуны Петроградского Совета рабочих и солдатских депу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ленин на броневике"/>
          <p:cNvPicPr/>
          <p:nvPr/>
        </p:nvPicPr>
        <p:blipFill>
          <a:blip r:embed="rId1"/>
          <a:stretch/>
        </p:blipFill>
        <p:spPr>
          <a:xfrm>
            <a:off x="395280" y="1413000"/>
            <a:ext cx="4084560" cy="48956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816120" y="632448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ин на броневи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63500"/>
                </a:solidFill>
                <a:latin typeface="Garamond"/>
              </a:rPr>
              <a:t>«АПРЕЛЬСКИЕ ТЕЗИСЫ»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8" name="Picture 5" descr="11"/>
          <p:cNvPicPr/>
          <p:nvPr/>
        </p:nvPicPr>
        <p:blipFill>
          <a:blip r:embed="rId1"/>
          <a:stretch/>
        </p:blipFill>
        <p:spPr>
          <a:xfrm>
            <a:off x="684360" y="1125360"/>
            <a:ext cx="7920000" cy="562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6760" y="35676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3500"/>
                </a:solidFill>
                <a:latin typeface="Times New Roman"/>
                <a:ea typeface="Times New Roman"/>
              </a:rPr>
              <a:t>25-30 августа  </a:t>
            </a:r>
            <a:br>
              <a:rPr sz="3200"/>
            </a:br>
            <a:r>
              <a:rPr b="1" lang="ru-RU" sz="3200" spc="-1" strike="noStrike">
                <a:solidFill>
                  <a:srgbClr val="363500"/>
                </a:solidFill>
                <a:latin typeface="Times New Roman"/>
                <a:ea typeface="Times New Roman"/>
              </a:rPr>
              <a:t>провал попытки генерала Л.Г. Корнилова установить военную диктатуру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0" name="Picture 5" descr="Корнилов"/>
          <p:cNvPicPr/>
          <p:nvPr/>
        </p:nvPicPr>
        <p:blipFill>
          <a:blip r:embed="rId1"/>
          <a:stretch/>
        </p:blipFill>
        <p:spPr>
          <a:xfrm>
            <a:off x="7223040" y="1428840"/>
            <a:ext cx="1920960" cy="2428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285840" y="1428840"/>
            <a:ext cx="6929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рниловская программа»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Установление правительственной власти, совершенно независимой от всяких безответственных организаций — впредь до Учредительного собр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становление на местах органов власти и суда, независимых от самочинных организац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ойна в полном единении с союзниками до заключения скорейшего мира, обеспечивающего достояние и жизненные интересы Росс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оздание боеспособной армии и организованного тыла — без политики, без вмешательства комитетов и комиссаров и с твердой дисципли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беспечение жизнедеятельности страны и армии путём упорядочения транспорта и восстановления продуктивности работы фабрик и заводов; упорядочение продовольственного дела привлечением к нему кооперативов и торгового аппарата, регулируемых правительств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Разрешение основных государственных, национальных и социальных вопросов откладывается до Учредительного Собр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3"/>
          <p:cNvSpPr/>
          <p:nvPr/>
        </p:nvSpPr>
        <p:spPr>
          <a:xfrm>
            <a:off x="357120" y="357120"/>
            <a:ext cx="8572680" cy="54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чины револю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Вопрос о земле: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шенность аграрного вопроса и обнищание крестья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Экономические и политические проблемы:  оттягивание социально-экономических рефор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особность Временного правительства решить вопросы власти, войны и мира, аграрный и др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Вопрос о мире: усталость от войн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циональный вопр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63500"/>
                </a:solidFill>
                <a:latin typeface="Garamond"/>
              </a:rPr>
              <a:t>БОЛЬШЕВИКИ ПРИХОДЯТ </a:t>
            </a:r>
            <a:br>
              <a:rPr sz="3600"/>
            </a:br>
            <a:r>
              <a:rPr b="1" lang="ru-RU" sz="3600" spc="-1" strike="noStrike">
                <a:solidFill>
                  <a:srgbClr val="363500"/>
                </a:solidFill>
                <a:latin typeface="Garamond"/>
              </a:rPr>
              <a:t>К ВЛАСТИ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нтябрь 191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выборы в Петроградский со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ьшевики получают большинство голос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седатель Л.Д. Троц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Троцкий"/>
          <p:cNvPicPr/>
          <p:nvPr/>
        </p:nvPicPr>
        <p:blipFill>
          <a:blip r:embed="rId1"/>
          <a:stretch/>
        </p:blipFill>
        <p:spPr>
          <a:xfrm>
            <a:off x="5357880" y="1557360"/>
            <a:ext cx="3473280" cy="496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63500"/>
                </a:solidFill>
                <a:latin typeface="Garamond"/>
              </a:rPr>
              <a:t>БОЛЬШЕВИКИ ПРИХОДЯТ </a:t>
            </a:r>
            <a:br>
              <a:rPr sz="3600"/>
            </a:br>
            <a:r>
              <a:rPr b="1" lang="ru-RU" sz="3600" spc="-1" strike="noStrike">
                <a:solidFill>
                  <a:srgbClr val="363500"/>
                </a:solidFill>
                <a:latin typeface="Garamond"/>
              </a:rPr>
              <a:t>К ВЛАСТИ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4200" y="1499760"/>
            <a:ext cx="468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менение тактики большевиков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 октября – заседание ЦК партии -  резолюция о вооружённом восстан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2 октября - создан ВРК (председатель Л.Д. Троцки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6 октября – расширенное заседание ЦК с участием депутатов Петросовета, столичного комитета РСДРП (б), представителей фабзавкомов: решение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готовка вооружённого восст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5" descr="числ партии больш"/>
          <p:cNvPicPr/>
          <p:nvPr/>
        </p:nvPicPr>
        <p:blipFill>
          <a:blip r:embed="rId1"/>
          <a:stretch/>
        </p:blipFill>
        <p:spPr>
          <a:xfrm>
            <a:off x="4859280" y="1484280"/>
            <a:ext cx="4284720" cy="512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3" descr="причины.JPG"/>
          <p:cNvPicPr/>
          <p:nvPr/>
        </p:nvPicPr>
        <p:blipFill>
          <a:blip r:embed="rId1"/>
          <a:stretch/>
        </p:blipFill>
        <p:spPr>
          <a:xfrm>
            <a:off x="106200" y="1989000"/>
            <a:ext cx="7913880" cy="47880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4"/>
          <p:cNvSpPr/>
          <p:nvPr/>
        </p:nvSpPr>
        <p:spPr>
          <a:xfrm>
            <a:off x="250920" y="500040"/>
            <a:ext cx="6480000" cy="949320"/>
          </a:xfrm>
          <a:prstGeom prst="rect">
            <a:avLst/>
          </a:prstGeom>
          <a:gradFill rotWithShape="0">
            <a:gsLst>
              <a:gs pos="0">
                <a:srgbClr val="363600"/>
              </a:gs>
              <a:gs pos="100000">
                <a:srgbClr val="636300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ХРОНИКА ОКТЯБР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Прямая соединительная линия 5"/>
          <p:cNvSpPr/>
          <p:nvPr/>
        </p:nvSpPr>
        <p:spPr>
          <a:xfrm>
            <a:off x="6769080" y="1305000"/>
            <a:ext cx="2195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Прямая соединительная линия 6"/>
          <p:cNvSpPr/>
          <p:nvPr/>
        </p:nvSpPr>
        <p:spPr>
          <a:xfrm>
            <a:off x="9036000" y="1305000"/>
            <a:ext cx="0" cy="226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Прямая соединительная линия 7"/>
          <p:cNvSpPr/>
          <p:nvPr/>
        </p:nvSpPr>
        <p:spPr>
          <a:xfrm>
            <a:off x="8604360" y="1987560"/>
            <a:ext cx="4284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Прямая соединительная линия 8"/>
          <p:cNvSpPr/>
          <p:nvPr/>
        </p:nvSpPr>
        <p:spPr>
          <a:xfrm>
            <a:off x="8607600" y="3573360"/>
            <a:ext cx="42840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Прямоугольник 9"/>
          <p:cNvSpPr/>
          <p:nvPr/>
        </p:nvSpPr>
        <p:spPr>
          <a:xfrm>
            <a:off x="4500720" y="1557360"/>
            <a:ext cx="4174920" cy="1942920"/>
          </a:xfrm>
          <a:prstGeom prst="rect">
            <a:avLst/>
          </a:prstGeom>
          <a:gradFill rotWithShape="0">
            <a:gsLst>
              <a:gs pos="0">
                <a:srgbClr val="dada97"/>
              </a:gs>
              <a:gs pos="100000">
                <a:srgbClr val="f2f2e1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ОВОД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4 октября 19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рные правительству юнкера захватывают типографию большевистской газеты «Рабочий путь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ик 10"/>
          <p:cNvSpPr/>
          <p:nvPr/>
        </p:nvSpPr>
        <p:spPr>
          <a:xfrm>
            <a:off x="4500720" y="3500280"/>
            <a:ext cx="4176720" cy="1295640"/>
          </a:xfrm>
          <a:prstGeom prst="rect">
            <a:avLst/>
          </a:prstGeom>
          <a:gradFill rotWithShape="0">
            <a:gsLst>
              <a:gs pos="0">
                <a:srgbClr val="dada97"/>
              </a:gs>
              <a:gs pos="100000">
                <a:srgbClr val="f2f2e1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5 октября 19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ряды Красной гвардии захватывают мосты, вокзалы, телеграф, почт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400960" cy="1139760"/>
          </a:xfrm>
          <a:prstGeom prst="rect">
            <a:avLst/>
          </a:prstGeom>
          <a:solidFill>
            <a:srgbClr val="ebeb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БЛЕМНЫЙ ВОПРОС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7120" y="17856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бытия Октября 1917 года: закономерность или случайнос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3" descr="причины.JPG"/>
          <p:cNvPicPr/>
          <p:nvPr/>
        </p:nvPicPr>
        <p:blipFill>
          <a:blip r:embed="rId1"/>
          <a:stretch/>
        </p:blipFill>
        <p:spPr>
          <a:xfrm>
            <a:off x="0" y="1500120"/>
            <a:ext cx="6656400" cy="51116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4"/>
          <p:cNvSpPr/>
          <p:nvPr/>
        </p:nvSpPr>
        <p:spPr>
          <a:xfrm>
            <a:off x="250920" y="571680"/>
            <a:ext cx="6480000" cy="877680"/>
          </a:xfrm>
          <a:prstGeom prst="rect">
            <a:avLst/>
          </a:prstGeom>
          <a:gradFill rotWithShape="0">
            <a:gsLst>
              <a:gs pos="0">
                <a:srgbClr val="363600"/>
              </a:gs>
              <a:gs pos="100000">
                <a:srgbClr val="636300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ХРОНИКА ОКТЯБР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Прямая соединительная линия 5"/>
          <p:cNvSpPr/>
          <p:nvPr/>
        </p:nvSpPr>
        <p:spPr>
          <a:xfrm>
            <a:off x="6769080" y="1305000"/>
            <a:ext cx="2195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ая соединительная линия 6"/>
          <p:cNvSpPr/>
          <p:nvPr/>
        </p:nvSpPr>
        <p:spPr>
          <a:xfrm>
            <a:off x="9036000" y="1305000"/>
            <a:ext cx="0" cy="370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ая соединительная линия 7"/>
          <p:cNvSpPr/>
          <p:nvPr/>
        </p:nvSpPr>
        <p:spPr>
          <a:xfrm>
            <a:off x="8604360" y="1987560"/>
            <a:ext cx="4284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рямая соединительная линия 8"/>
          <p:cNvSpPr/>
          <p:nvPr/>
        </p:nvSpPr>
        <p:spPr>
          <a:xfrm>
            <a:off x="8607600" y="3573360"/>
            <a:ext cx="42840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рямоугольник 9"/>
          <p:cNvSpPr/>
          <p:nvPr/>
        </p:nvSpPr>
        <p:spPr>
          <a:xfrm>
            <a:off x="4572000" y="1557360"/>
            <a:ext cx="4176720" cy="1295280"/>
          </a:xfrm>
          <a:prstGeom prst="rect">
            <a:avLst/>
          </a:prstGeom>
          <a:gradFill rotWithShape="0">
            <a:gsLst>
              <a:gs pos="0">
                <a:srgbClr val="dada97"/>
              </a:gs>
              <a:gs pos="100000">
                <a:srgbClr val="f2f2e1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5 октября 19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Неву входит «Аврора» и в 21.45 дает холостой залп по Зимнему дворц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Прямоугольник 10"/>
          <p:cNvSpPr/>
          <p:nvPr/>
        </p:nvSpPr>
        <p:spPr>
          <a:xfrm>
            <a:off x="4572000" y="2997360"/>
            <a:ext cx="4176720" cy="1295280"/>
          </a:xfrm>
          <a:prstGeom prst="rect">
            <a:avLst/>
          </a:prstGeom>
          <a:gradFill rotWithShape="0">
            <a:gsLst>
              <a:gs pos="0">
                <a:srgbClr val="dada97"/>
              </a:gs>
              <a:gs pos="100000">
                <a:srgbClr val="f2f2e1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6 октября 19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чинается штурм Зимнего дворца (6 чел. погибло, 50 ранен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Прямая соединительная линия 11"/>
          <p:cNvSpPr/>
          <p:nvPr/>
        </p:nvSpPr>
        <p:spPr>
          <a:xfrm>
            <a:off x="8607600" y="5013360"/>
            <a:ext cx="4284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4572000" y="4437000"/>
            <a:ext cx="4176720" cy="1295640"/>
          </a:xfrm>
          <a:prstGeom prst="rect">
            <a:avLst/>
          </a:prstGeom>
          <a:gradFill rotWithShape="0">
            <a:gsLst>
              <a:gs pos="0">
                <a:srgbClr val="dada97"/>
              </a:gs>
              <a:gs pos="100000">
                <a:srgbClr val="f2f2e1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6 октября 19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ременное правительство арестовано (А.Ф. Керенский бежа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2357280" y="5979960"/>
            <a:ext cx="6786720" cy="878040"/>
          </a:xfrm>
          <a:prstGeom prst="rect">
            <a:avLst/>
          </a:prstGeom>
          <a:gradFill rotWithShape="0">
            <a:gsLst>
              <a:gs pos="0">
                <a:srgbClr val="363600"/>
              </a:gs>
              <a:gs pos="100000">
                <a:srgbClr val="636300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еволюция в Петрограде побед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5" descr="october_37.jpg"/>
          <p:cNvPicPr/>
          <p:nvPr/>
        </p:nvPicPr>
        <p:blipFill>
          <a:blip r:embed="rId1"/>
          <a:stretch/>
        </p:blipFill>
        <p:spPr>
          <a:xfrm>
            <a:off x="4859280" y="1052640"/>
            <a:ext cx="4105440" cy="574488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7"/>
          <p:cNvSpPr/>
          <p:nvPr/>
        </p:nvSpPr>
        <p:spPr>
          <a:xfrm>
            <a:off x="1285920" y="357120"/>
            <a:ext cx="6480000" cy="863640"/>
          </a:xfrm>
          <a:prstGeom prst="rect">
            <a:avLst/>
          </a:prstGeom>
          <a:gradFill rotWithShape="0">
            <a:gsLst>
              <a:gs pos="0">
                <a:srgbClr val="363600"/>
              </a:gs>
              <a:gs pos="100000">
                <a:srgbClr val="636300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5 – 27 октября 1917 го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торой съезд Сове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0" name="Вертикальный свиток 8"/>
          <p:cNvGrpSpPr/>
          <p:nvPr/>
        </p:nvGrpSpPr>
        <p:grpSpPr>
          <a:xfrm>
            <a:off x="414360" y="1414440"/>
            <a:ext cx="2457360" cy="2097000"/>
            <a:chOff x="414360" y="1414440"/>
            <a:chExt cx="2457360" cy="2097000"/>
          </a:xfrm>
        </p:grpSpPr>
        <p:pic>
          <p:nvPicPr>
            <p:cNvPr id="161" name="Вертикальный свиток 8" descr=""/>
            <p:cNvPicPr/>
            <p:nvPr/>
          </p:nvPicPr>
          <p:blipFill>
            <a:blip r:embed="rId2"/>
            <a:stretch/>
          </p:blipFill>
          <p:spPr>
            <a:xfrm>
              <a:off x="414360" y="1414440"/>
              <a:ext cx="2457360" cy="20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87240" y="1687680"/>
              <a:ext cx="191160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ДЕКРЕТ О МИР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3" name="Вертикальный свиток 6"/>
          <p:cNvGrpSpPr/>
          <p:nvPr/>
        </p:nvGrpSpPr>
        <p:grpSpPr>
          <a:xfrm>
            <a:off x="2414520" y="3060720"/>
            <a:ext cx="2455920" cy="2097000"/>
            <a:chOff x="2414520" y="3060720"/>
            <a:chExt cx="2455920" cy="2097000"/>
          </a:xfrm>
        </p:grpSpPr>
        <p:pic>
          <p:nvPicPr>
            <p:cNvPr id="164" name="Вертикальный свиток 6" descr=""/>
            <p:cNvPicPr/>
            <p:nvPr/>
          </p:nvPicPr>
          <p:blipFill>
            <a:blip r:embed="rId3"/>
            <a:stretch/>
          </p:blipFill>
          <p:spPr>
            <a:xfrm>
              <a:off x="2414520" y="3060720"/>
              <a:ext cx="2455920" cy="20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687760" y="3330720"/>
              <a:ext cx="191124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ДЕКРЕТ О ЗЕМЛ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" name="Вертикальный свиток 9"/>
          <p:cNvGrpSpPr/>
          <p:nvPr/>
        </p:nvGrpSpPr>
        <p:grpSpPr>
          <a:xfrm>
            <a:off x="201600" y="4486320"/>
            <a:ext cx="2455920" cy="2097000"/>
            <a:chOff x="201600" y="4486320"/>
            <a:chExt cx="2455920" cy="2097000"/>
          </a:xfrm>
        </p:grpSpPr>
        <p:pic>
          <p:nvPicPr>
            <p:cNvPr id="167" name="Вертикальный свиток 9" descr=""/>
            <p:cNvPicPr/>
            <p:nvPr/>
          </p:nvPicPr>
          <p:blipFill>
            <a:blip r:embed="rId4"/>
            <a:stretch/>
          </p:blipFill>
          <p:spPr>
            <a:xfrm>
              <a:off x="201600" y="4486320"/>
              <a:ext cx="2455920" cy="20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73040" y="4759200"/>
              <a:ext cx="1911240" cy="16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Arial"/>
                  <a:ea typeface="Arial"/>
                </a:rPr>
                <a:t>ДЕКРЕТ О ВЛАСТИ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3"/>
          <p:cNvSpPr/>
          <p:nvPr/>
        </p:nvSpPr>
        <p:spPr>
          <a:xfrm>
            <a:off x="1739880" y="214200"/>
            <a:ext cx="641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овые высшие органы вла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2928960" y="928800"/>
            <a:ext cx="2971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российский Съезд Советов –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ий законодательный орган вла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928960" y="2714760"/>
            <a:ext cx="2971800" cy="19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К (Совет Народных Комиссаров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главе с В. И. Лениным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ий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ьны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 власт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правом законодательной инициатив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8"/>
          <p:cNvSpPr/>
          <p:nvPr/>
        </p:nvSpPr>
        <p:spPr>
          <a:xfrm flipH="1">
            <a:off x="4285800" y="2071800"/>
            <a:ext cx="71640" cy="71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85840" y="2786040"/>
            <a:ext cx="2071440" cy="29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ЦИК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сероссийский Центральный Исполнительный Комитет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между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ездами Советов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ный, распорядительный и контролирующий орга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6"/>
          <p:cNvSpPr/>
          <p:nvPr/>
        </p:nvSpPr>
        <p:spPr>
          <a:xfrm flipH="1">
            <a:off x="1214280" y="1643040"/>
            <a:ext cx="1743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5"/>
          <p:cNvSpPr/>
          <p:nvPr/>
        </p:nvSpPr>
        <p:spPr>
          <a:xfrm flipH="1">
            <a:off x="2428920" y="3786120"/>
            <a:ext cx="46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7286760" y="2071800"/>
            <a:ext cx="1857240" cy="17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ЧК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сероссийская Чрезвычайная Комиссия)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борьбы с контрреволю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5929200" y="1500120"/>
            <a:ext cx="1357560" cy="85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2928960" y="5357880"/>
            <a:ext cx="471492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маты = Народные комиссариаты во главе с наркомом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м комиссаро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1"/>
          <p:cNvSpPr/>
          <p:nvPr/>
        </p:nvSpPr>
        <p:spPr>
          <a:xfrm flipH="1">
            <a:off x="4142880" y="4643280"/>
            <a:ext cx="7164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-428760" y="428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6348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ссии о характер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ских событий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428760" y="1071720"/>
            <a:ext cx="6480000" cy="684000"/>
          </a:xfrm>
          <a:prstGeom prst="rect">
            <a:avLst/>
          </a:prstGeom>
          <a:gradFill rotWithShape="0">
            <a:gsLst>
              <a:gs pos="0">
                <a:srgbClr val="363600"/>
              </a:gs>
              <a:gs pos="100000">
                <a:srgbClr val="636300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ервая точка зр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Рисунок 5" descr="october_37.jpg"/>
          <p:cNvPicPr/>
          <p:nvPr/>
        </p:nvPicPr>
        <p:blipFill>
          <a:blip r:embed="rId1"/>
          <a:stretch/>
        </p:blipFill>
        <p:spPr>
          <a:xfrm>
            <a:off x="324000" y="1989000"/>
            <a:ext cx="8448480" cy="478800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6"/>
          <p:cNvSpPr/>
          <p:nvPr/>
        </p:nvSpPr>
        <p:spPr>
          <a:xfrm>
            <a:off x="4716360" y="1916280"/>
            <a:ext cx="4032360" cy="1728720"/>
          </a:xfrm>
          <a:prstGeom prst="rect">
            <a:avLst/>
          </a:prstGeom>
          <a:gradFill rotWithShape="0">
            <a:gsLst>
              <a:gs pos="0">
                <a:srgbClr val="dada97"/>
              </a:gs>
              <a:gs pos="100000">
                <a:srgbClr val="f2f2e1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ктябрьская революция открыла эпоху перехода от капитализма к социализму и коммунизму во всем мир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4"/>
          <p:cNvSpPr/>
          <p:nvPr/>
        </p:nvSpPr>
        <p:spPr>
          <a:xfrm>
            <a:off x="285840" y="1143000"/>
            <a:ext cx="6480000" cy="684360"/>
          </a:xfrm>
          <a:prstGeom prst="rect">
            <a:avLst/>
          </a:prstGeom>
          <a:gradFill rotWithShape="0">
            <a:gsLst>
              <a:gs pos="0">
                <a:srgbClr val="363600"/>
              </a:gs>
              <a:gs pos="100000">
                <a:srgbClr val="636300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торая точка зр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Рисунок 5" descr="october_37.jpg"/>
          <p:cNvPicPr/>
          <p:nvPr/>
        </p:nvPicPr>
        <p:blipFill>
          <a:blip r:embed="rId1"/>
          <a:stretch/>
        </p:blipFill>
        <p:spPr>
          <a:xfrm>
            <a:off x="250920" y="1986120"/>
            <a:ext cx="7296120" cy="468468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6"/>
          <p:cNvSpPr/>
          <p:nvPr/>
        </p:nvSpPr>
        <p:spPr>
          <a:xfrm>
            <a:off x="4716360" y="1916280"/>
            <a:ext cx="4032360" cy="2736720"/>
          </a:xfrm>
          <a:prstGeom prst="rect">
            <a:avLst/>
          </a:prstGeom>
          <a:gradFill rotWithShape="0">
            <a:gsLst>
              <a:gs pos="0">
                <a:srgbClr val="dada97"/>
              </a:gs>
              <a:gs pos="100000">
                <a:srgbClr val="f2f2e1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волюция была демократической рабоче-крестьянской, открывшей путь для перехода к социализму в будущем. Сама же революция сформировала только предпосылки к этому переход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Заголовок 1"/>
          <p:cNvSpPr/>
          <p:nvPr/>
        </p:nvSpPr>
        <p:spPr>
          <a:xfrm>
            <a:off x="66348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ссии о характер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ских событ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4"/>
          <p:cNvSpPr/>
          <p:nvPr/>
        </p:nvSpPr>
        <p:spPr>
          <a:xfrm>
            <a:off x="250920" y="1015920"/>
            <a:ext cx="6480000" cy="684360"/>
          </a:xfrm>
          <a:prstGeom prst="rect">
            <a:avLst/>
          </a:prstGeom>
          <a:gradFill rotWithShape="0">
            <a:gsLst>
              <a:gs pos="0">
                <a:srgbClr val="363600"/>
              </a:gs>
              <a:gs pos="100000">
                <a:srgbClr val="636300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ретья точка зр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Рисунок 5" descr="october_37.jpg"/>
          <p:cNvPicPr/>
          <p:nvPr/>
        </p:nvPicPr>
        <p:blipFill>
          <a:blip r:embed="rId1"/>
          <a:stretch/>
        </p:blipFill>
        <p:spPr>
          <a:xfrm>
            <a:off x="395280" y="1844640"/>
            <a:ext cx="4930920" cy="47880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6"/>
          <p:cNvSpPr/>
          <p:nvPr/>
        </p:nvSpPr>
        <p:spPr>
          <a:xfrm>
            <a:off x="4716360" y="1916280"/>
            <a:ext cx="4032360" cy="1728720"/>
          </a:xfrm>
          <a:prstGeom prst="rect">
            <a:avLst/>
          </a:prstGeom>
          <a:gradFill rotWithShape="0">
            <a:gsLst>
              <a:gs pos="0">
                <a:srgbClr val="dada97"/>
              </a:gs>
              <a:gs pos="100000">
                <a:srgbClr val="f2f2e1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бытия октября 1917 года – военный переворот, совершенный большевиками с опорой на революционную часть армии и фло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Заголовок 1"/>
          <p:cNvSpPr/>
          <p:nvPr/>
        </p:nvSpPr>
        <p:spPr>
          <a:xfrm>
            <a:off x="66348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ссии о характер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ских событ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4"/>
          <p:cNvSpPr/>
          <p:nvPr/>
        </p:nvSpPr>
        <p:spPr>
          <a:xfrm>
            <a:off x="250920" y="1015920"/>
            <a:ext cx="6480000" cy="684360"/>
          </a:xfrm>
          <a:prstGeom prst="rect">
            <a:avLst/>
          </a:prstGeom>
          <a:gradFill rotWithShape="0">
            <a:gsLst>
              <a:gs pos="0">
                <a:srgbClr val="363600"/>
              </a:gs>
              <a:gs pos="100000">
                <a:srgbClr val="636300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етвертая точка зр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Рисунок 5" descr="october_37.jpg"/>
          <p:cNvPicPr/>
          <p:nvPr/>
        </p:nvPicPr>
        <p:blipFill>
          <a:blip r:embed="rId1"/>
          <a:stretch/>
        </p:blipFill>
        <p:spPr>
          <a:xfrm>
            <a:off x="179280" y="1844640"/>
            <a:ext cx="7242120" cy="478800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6"/>
          <p:cNvSpPr/>
          <p:nvPr/>
        </p:nvSpPr>
        <p:spPr>
          <a:xfrm>
            <a:off x="4716360" y="1916280"/>
            <a:ext cx="4032360" cy="1728720"/>
          </a:xfrm>
          <a:prstGeom prst="rect">
            <a:avLst/>
          </a:prstGeom>
          <a:gradFill rotWithShape="0">
            <a:gsLst>
              <a:gs pos="0">
                <a:srgbClr val="dada97"/>
              </a:gs>
              <a:gs pos="100000">
                <a:srgbClr val="f2f2e1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говор, захват власти кучкой большевистских лидеров, навязавших стране трагический путь развит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Заголовок 1"/>
          <p:cNvSpPr/>
          <p:nvPr/>
        </p:nvSpPr>
        <p:spPr>
          <a:xfrm>
            <a:off x="66348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ссии о характер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ских событ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4"/>
          <p:cNvSpPr/>
          <p:nvPr/>
        </p:nvSpPr>
        <p:spPr>
          <a:xfrm>
            <a:off x="250920" y="1015920"/>
            <a:ext cx="6480000" cy="684360"/>
          </a:xfrm>
          <a:prstGeom prst="rect">
            <a:avLst/>
          </a:prstGeom>
          <a:gradFill rotWithShape="0">
            <a:gsLst>
              <a:gs pos="0">
                <a:srgbClr val="363600"/>
              </a:gs>
              <a:gs pos="100000">
                <a:srgbClr val="636300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ятая точка зр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Рисунок 5" descr="october_37.jpg"/>
          <p:cNvPicPr/>
          <p:nvPr/>
        </p:nvPicPr>
        <p:blipFill>
          <a:blip r:embed="rId1"/>
          <a:stretch/>
        </p:blipFill>
        <p:spPr>
          <a:xfrm>
            <a:off x="250920" y="1916280"/>
            <a:ext cx="7020000" cy="478944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6"/>
          <p:cNvSpPr/>
          <p:nvPr/>
        </p:nvSpPr>
        <p:spPr>
          <a:xfrm>
            <a:off x="4716360" y="1916280"/>
            <a:ext cx="4032360" cy="1728720"/>
          </a:xfrm>
          <a:prstGeom prst="rect">
            <a:avLst/>
          </a:prstGeom>
          <a:gradFill rotWithShape="0">
            <a:gsLst>
              <a:gs pos="0">
                <a:srgbClr val="dada97"/>
              </a:gs>
              <a:gs pos="100000">
                <a:srgbClr val="f2f2e1"/>
              </a:gs>
            </a:gsLst>
            <a:lin ang="162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нархический бунт, разрушительная революция люмпенов, отбросившая страну далеко наза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Заголовок 1"/>
          <p:cNvSpPr/>
          <p:nvPr/>
        </p:nvSpPr>
        <p:spPr>
          <a:xfrm>
            <a:off x="66348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ссии о характер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ских событ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3"/>
          <p:cNvSpPr/>
          <p:nvPr/>
        </p:nvSpPr>
        <p:spPr>
          <a:xfrm>
            <a:off x="285840" y="214200"/>
            <a:ext cx="885816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ледстви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тябрьской революции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власти к партии большевиков (формирование однопартийной системы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ая войн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 России из Первой мировой вой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ление России на путь построения социализма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ционализация промышленных предприят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дел помещичьих земел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ликвидация «нетрудовых классов» (дворянство, буржуазия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400960" cy="1139760"/>
          </a:xfrm>
          <a:prstGeom prst="rect">
            <a:avLst/>
          </a:prstGeom>
          <a:solidFill>
            <a:srgbClr val="ebeb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ИЗАЦИЯ ЗНАНИ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712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«Гвоздём» первой российской революции современники назвали требовани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ия крестья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чтожение помещичьего землевладе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оздание в стране органов народного представитель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тметьте требования рабочих в Петиции к Николаю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январе 1905 г. (3 варианта ответа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оздание института фабричных инспектор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ведение демократических прав и свобод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одолжение русско-японской войн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охранение помещичьего землевладе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8-часовой рабочий ден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400960" cy="1139760"/>
          </a:xfrm>
          <a:prstGeom prst="rect">
            <a:avLst/>
          </a:prstGeom>
          <a:solidFill>
            <a:srgbClr val="ebeb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ИЗАЦИЯ ЗНАНИ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7120" y="14284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Цель аграрной реформы П. А. Столыпин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разрушение общинной психологии русского крестьянств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формирование широкого слоя мелких собственников в деревне как опоры царской власт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ликвидацию крупных земельных собственни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иже приведён список терминов. Все они, за исключением двух, относятся к аграрной реформе П.А. Столыпина. Найдите и запишите порядковые номера терминов, не относящиеся к указанному событию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ременнообязанный крестьяни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хутор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уставная грамот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ереселенец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отруб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400960" cy="1139760"/>
          </a:xfrm>
          <a:prstGeom prst="rect">
            <a:avLst/>
          </a:prstGeom>
          <a:solidFill>
            <a:srgbClr val="ebeb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ИЗАЦИЯ ЗНАНИ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57120" y="14284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 результату первой российской революции 1905-1907 гг. относит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адение монархии в Росс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чреждение Государственной дум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запрет политических парт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ичина вступления России в Первую мировую войн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бязательства перед Тройственным союзо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бийство эрцгерцога Австрийского Франца Фердинанд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тремление решить проблему черноморских пролив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желание разгромить Великобританию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Россия не участвовала в Первой мировой войн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321444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84600"/>
                </a:solidFill>
                <a:latin typeface="Garamond"/>
              </a:rPr>
              <a:t>От Февраля к Октябрю</a:t>
            </a:r>
            <a:endParaRPr b="0" lang="en-US" sz="7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Заголовок 1"/>
          <p:cNvSpPr/>
          <p:nvPr/>
        </p:nvSpPr>
        <p:spPr>
          <a:xfrm>
            <a:off x="457200" y="277920"/>
            <a:ext cx="8400960" cy="1865160"/>
          </a:xfrm>
          <a:prstGeom prst="rect">
            <a:avLst/>
          </a:prstGeom>
          <a:solidFill>
            <a:srgbClr val="ebe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ИЗАЦИЯ ЗНАНИЙ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29680" cy="1139760"/>
          </a:xfrm>
          <a:prstGeom prst="rect">
            <a:avLst/>
          </a:prstGeom>
          <a:solidFill>
            <a:srgbClr val="ebeb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ЧИНЫ РЕВОЛЮ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8400" y="1500120"/>
            <a:ext cx="8429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ая объективная причина: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решенность задач революции 1905-1907 г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литический блок противоречий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державие, хотя и ограниченное созданием законодательной Государственной думы, неполнота и нарушение властью демократических свобод и др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грарно-крестьянский вопрос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мещичье землевладение,  малоземелье и обнищание крестья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бочий вопрос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 степень эксплуатации рабочих, отсутствие рабочего законодательства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циональный блок противоречий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енство народов России, национальная (русификаторская) политика правительст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84600"/>
                </a:solidFill>
                <a:latin typeface="Garamond"/>
              </a:rPr>
              <a:t>Февраль 1917 г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Д: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и с подвозом хлеба в Петрограде из-за снежных заносов на железнодорожных путя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║→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ись стихийные выступления масс, главным требованием которых  было «Хлеба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февраля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абастовка 90 тыс. рабочих Петрограда с требованием увеличения заработной платы из-за роста дороговизн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6666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феврал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монстрация женщин, лозунги: «Хлеба!», «Долой войну!»,  «Верните мужей!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манифестация женьщин"/>
          <p:cNvPicPr/>
          <p:nvPr/>
        </p:nvPicPr>
        <p:blipFill>
          <a:blip r:embed="rId1"/>
          <a:stretch/>
        </p:blipFill>
        <p:spPr>
          <a:xfrm>
            <a:off x="5929200" y="4748040"/>
            <a:ext cx="3214800" cy="2109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84600"/>
                </a:solidFill>
                <a:latin typeface="Garamond"/>
              </a:rPr>
              <a:t>Февраль 1917 г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666600"/>
              </a:buClr>
              <a:buSzPct val="105000"/>
              <a:buFont typeface="Courier New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февраля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общая политическая стачка. Лозунги: «Долой царизм!», «Долой самодержавие!», «Долой войну!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666600"/>
              </a:buClr>
              <a:buSzPct val="105000"/>
              <a:buFont typeface="Courier New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февраля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грамма Никола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5" descr="баррикады на Литейном"/>
          <p:cNvPicPr/>
          <p:nvPr/>
        </p:nvPicPr>
        <p:blipFill>
          <a:blip r:embed="rId1"/>
          <a:stretch/>
        </p:blipFill>
        <p:spPr>
          <a:xfrm>
            <a:off x="5767560" y="2500200"/>
            <a:ext cx="3376440" cy="235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Прекратить беспорядки"/>
          <p:cNvPicPr/>
          <p:nvPr/>
        </p:nvPicPr>
        <p:blipFill>
          <a:blip r:embed="rId2"/>
          <a:stretch/>
        </p:blipFill>
        <p:spPr>
          <a:xfrm>
            <a:off x="1000080" y="3000240"/>
            <a:ext cx="4376880" cy="335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7:18:51Z</dcterms:created>
  <dc:creator>ОЛЬГА</dc:creator>
  <dc:description/>
  <dc:language>en-US</dc:language>
  <cp:lastModifiedBy>Инкогнито</cp:lastModifiedBy>
  <dcterms:modified xsi:type="dcterms:W3CDTF">2017-10-26T17:58:54Z</dcterms:modified>
  <cp:revision>78</cp:revision>
  <dc:subject/>
  <dc:title>Педагогическое проектирование</dc:title>
</cp:coreProperties>
</file>