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741240" y="4262040"/>
            <a:ext cx="876456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741240" y="426204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232240" y="426204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04760" y="196380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668280" y="196380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741240" y="426204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04760" y="426204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668280" y="4262040"/>
            <a:ext cx="282204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6456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0" algn="ctr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876456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41240" y="282600"/>
            <a:ext cx="8601120" cy="58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2720" indent="-342720" algn="ctr">
              <a:lnSpc>
                <a:spcPct val="95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741240" y="426204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232240" y="426204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41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32240" y="1963800"/>
            <a:ext cx="427680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741240" y="4262040"/>
            <a:ext cx="8764560" cy="209844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1120" cy="125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Click to edit the title text format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1240" y="1963800"/>
            <a:ext cx="8764560" cy="439992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Click to edit the outline text format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1" marL="742680" indent="-28548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55520"/>
                <a:tab algn="l" pos="604800"/>
                <a:tab algn="l" pos="1054080"/>
                <a:tab algn="l" pos="1503360"/>
                <a:tab algn="l" pos="1952280"/>
                <a:tab algn="l" pos="2401560"/>
                <a:tab algn="l" pos="2850840"/>
                <a:tab algn="l" pos="3300120"/>
                <a:tab algn="l" pos="3749400"/>
                <a:tab algn="l" pos="4198680"/>
                <a:tab algn="l" pos="4647960"/>
                <a:tab algn="l" pos="5097240"/>
                <a:tab algn="l" pos="5546520"/>
                <a:tab algn="l" pos="599580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</a:tabLst>
            </a:pPr>
            <a:r>
              <a:rPr b="0" lang="ru-RU" sz="2800" spc="-1" strike="noStrike">
                <a:solidFill>
                  <a:srgbClr val="e6e6e6"/>
                </a:solidFill>
                <a:latin typeface="Times New Roman"/>
              </a:rPr>
              <a:t>Second Outline Level</a:t>
            </a:r>
            <a:endParaRPr b="0" lang="ru-RU" sz="2800" spc="-1" strike="noStrike">
              <a:solidFill>
                <a:srgbClr val="e6e6e6"/>
              </a:solidFill>
              <a:latin typeface="Times New Roman"/>
            </a:endParaRPr>
          </a:p>
          <a:p>
            <a:pPr lvl="2" marL="11430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04480"/>
                <a:tab algn="l" pos="653760"/>
                <a:tab algn="l" pos="1103040"/>
                <a:tab algn="l" pos="1552320"/>
                <a:tab algn="l" pos="2001600"/>
                <a:tab algn="l" pos="2450880"/>
                <a:tab algn="l" pos="2900160"/>
                <a:tab algn="l" pos="3349440"/>
                <a:tab algn="l" pos="3798720"/>
                <a:tab algn="l" pos="4248000"/>
                <a:tab algn="l" pos="4697280"/>
                <a:tab algn="l" pos="5146560"/>
                <a:tab algn="l" pos="5595840"/>
                <a:tab algn="l" pos="6045120"/>
                <a:tab algn="l" pos="6494400"/>
                <a:tab algn="l" pos="6943680"/>
                <a:tab algn="l" pos="7392960"/>
                <a:tab algn="l" pos="7842240"/>
                <a:tab algn="l" pos="8291160"/>
                <a:tab algn="l" pos="874044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</a:rPr>
              <a:t>Third Outline Level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lvl="3" marL="16002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96560"/>
                <a:tab algn="l" pos="645840"/>
                <a:tab algn="l" pos="1095120"/>
                <a:tab algn="l" pos="1544400"/>
                <a:tab algn="l" pos="1993680"/>
                <a:tab algn="l" pos="2442960"/>
                <a:tab algn="l" pos="2892240"/>
                <a:tab algn="l" pos="3341520"/>
                <a:tab algn="l" pos="3790800"/>
                <a:tab algn="l" pos="4240080"/>
                <a:tab algn="l" pos="4689360"/>
                <a:tab algn="l" pos="5138640"/>
                <a:tab algn="l" pos="5587920"/>
                <a:tab algn="l" pos="6037200"/>
                <a:tab algn="l" pos="6486480"/>
                <a:tab algn="l" pos="6935760"/>
                <a:tab algn="l" pos="7385040"/>
                <a:tab algn="l" pos="7833960"/>
                <a:tab algn="l" pos="8283240"/>
                <a:tab algn="l" pos="873252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our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4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Fif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5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ix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  <a:p>
            <a:pPr lvl="6" marL="2057400" indent="-228600">
              <a:lnSpc>
                <a:spcPct val="95000"/>
              </a:lnSpc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8640"/>
                <a:tab algn="l" pos="637920"/>
                <a:tab algn="l" pos="1087200"/>
                <a:tab algn="l" pos="1536480"/>
                <a:tab algn="l" pos="1985760"/>
                <a:tab algn="l" pos="243504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6760"/>
                <a:tab algn="l" pos="7826040"/>
                <a:tab algn="l" pos="8275320"/>
                <a:tab algn="l" pos="8724600"/>
              </a:tabLst>
            </a:pPr>
            <a:r>
              <a:rPr b="0" lang="ru-RU" sz="2000" spc="-1" strike="noStrike">
                <a:solidFill>
                  <a:srgbClr val="e6e6e6"/>
                </a:solidFill>
                <a:latin typeface="Times New Roman"/>
              </a:rPr>
              <a:t>Seventh Outline Level</a:t>
            </a:r>
            <a:endParaRPr b="0" lang="ru-RU" sz="20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725400" y="7077240"/>
            <a:ext cx="935532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987560" y="7289640"/>
            <a:ext cx="8093160" cy="96840"/>
          </a:xfrm>
          <a:prstGeom prst="roundRect">
            <a:avLst>
              <a:gd name="adj" fmla="val 1667"/>
            </a:avLst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1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Классная работа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741240" y="1963800"/>
            <a:ext cx="8772480" cy="493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396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ffff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cc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-144720" y="93636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                  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Зорька, Пушок, Роза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12520" y="2109600"/>
            <a:ext cx="2498760" cy="235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260880" y="2541600"/>
            <a:ext cx="3867120" cy="235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891480" y="1668600"/>
            <a:ext cx="2684160" cy="3155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81120" y="1187280"/>
            <a:ext cx="8607240" cy="12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Запишите слова в алфавитном порядке: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трава, друг, сад, аист, белка, ягода, река, кот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87280" y="3456000"/>
            <a:ext cx="8064720" cy="367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64160" y="2830680"/>
            <a:ext cx="2824200" cy="235404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272360" y="863640"/>
            <a:ext cx="2376360" cy="31208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832880" y="3527280"/>
            <a:ext cx="2823840" cy="206532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0000" y="5327640"/>
            <a:ext cx="1671480" cy="11523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0360" y="2735280"/>
            <a:ext cx="2824200" cy="2519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37880" y="647280"/>
            <a:ext cx="860724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Запишите слова в алфавитном порядке: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мак, сон, конь, день, ёж, эхо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86920" y="1584360"/>
            <a:ext cx="9791640" cy="54007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943280" y="366840"/>
            <a:ext cx="5400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         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День, ёж, конь, мак, сон, эхо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3280" y="1871640"/>
            <a:ext cx="2735280" cy="187164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71640" y="4197240"/>
            <a:ext cx="2320920" cy="1922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600360" y="1822320"/>
            <a:ext cx="2463840" cy="199404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920000" y="4103640"/>
            <a:ext cx="2081160" cy="1793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912000" y="2087640"/>
            <a:ext cx="2211480" cy="179388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256360" y="4103640"/>
            <a:ext cx="2087280" cy="17938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03640" y="3743280"/>
            <a:ext cx="43164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16360" y="3886200"/>
            <a:ext cx="503280" cy="509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4720" y="3816360"/>
            <a:ext cx="360360" cy="576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7056360" y="3957480"/>
            <a:ext cx="503280" cy="509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423280" y="3881520"/>
            <a:ext cx="360360" cy="58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74124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Запишите названия городов в алфавитном порядке: Липецк, Елец, Воронеж, Москва, Тамбов </a:t>
            </a: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41240" y="1728720"/>
            <a:ext cx="1922760" cy="2232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4128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87640" y="1728720"/>
            <a:ext cx="1871640" cy="216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4128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12000" y="1728720"/>
            <a:ext cx="1871640" cy="216072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4128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669000" y="4538520"/>
            <a:ext cx="2822760" cy="23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88000" y="4608360"/>
            <a:ext cx="1871640" cy="221004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4128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cc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60720" y="4535640"/>
            <a:ext cx="1944720" cy="228276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4128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cc0000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40880" y="282600"/>
            <a:ext cx="860292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79640" y="282600"/>
            <a:ext cx="8426160" cy="6611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1480" y="676440"/>
            <a:ext cx="860256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Домашнее задание: стр. 44 правила, выучить алфавит наизусть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16360" y="2518920"/>
            <a:ext cx="3027240" cy="35830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1240" y="282600"/>
            <a:ext cx="86090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42520" y="2046240"/>
            <a:ext cx="4281480" cy="4937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3960" bIns="0" anchor="t">
            <a:no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024000" y="1544400"/>
            <a:ext cx="6911640" cy="219852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            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              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И дома и в школе будьте внимательны: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  <a:p>
            <a:pPr marL="43164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                </a:t>
            </a:r>
            <a:r>
              <a:rPr b="0" lang="ru-RU" sz="24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Грамматику учить всем обязательно!</a:t>
            </a:r>
            <a:endParaRPr b="0" lang="ru-RU" sz="24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819520" y="439560"/>
            <a:ext cx="5389560" cy="9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1240" bIns="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На диване лежит кот (П/п)ушок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Ветер несет (П/п)ушок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     Этот торт пекла тётя (Р/р)оз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     Возле дома растет (Р/р)оз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    На небе яркая (З/з)орька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9966"/>
                </a:solidFill>
                <a:latin typeface="Arial"/>
                <a:ea typeface="Arial Unicode MS"/>
              </a:rPr>
              <a:t>      На лугу пасется коза (З/з)орька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endParaRPr b="0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5800" y="93600"/>
            <a:ext cx="2824200" cy="206712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76360" y="5327640"/>
            <a:ext cx="2735280" cy="12952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488360" y="93600"/>
            <a:ext cx="2016000" cy="192240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e6e6e6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20720" y="2597040"/>
            <a:ext cx="2297160" cy="222588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704000" y="4967280"/>
            <a:ext cx="2232000" cy="1922400"/>
          </a:xfrm>
          <a:prstGeom prst="rect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920000" y="2735280"/>
            <a:ext cx="1655640" cy="1295280"/>
          </a:xfrm>
          <a:prstGeom prst="rect">
            <a:avLst/>
          </a:prstGeom>
          <a:blipFill rotWithShape="0">
            <a:blip r:embed="rId6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960" bIns="0" anchor="t">
            <a:noAutofit/>
          </a:bodyPr>
          <a:p>
            <a:pPr marL="431640" indent="-31752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6760" y="93636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Зорька, Пушок, Роза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812520" y="2109600"/>
            <a:ext cx="2498760" cy="23540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60880" y="2541600"/>
            <a:ext cx="3867120" cy="235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91480" y="1668600"/>
            <a:ext cx="2684160" cy="3155760"/>
          </a:xfrm>
          <a:prstGeom prst="rect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15120" bIns="0" anchor="t">
            <a:noAutofit/>
          </a:bodyPr>
          <a:p>
            <a:pPr marL="342720" indent="-336600">
              <a:lnSpc>
                <a:spcPct val="95000"/>
              </a:lnSpc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600" spc="-1" strike="noStrike">
                <a:solidFill>
                  <a:srgbClr val="0000cc"/>
                </a:solidFill>
                <a:latin typeface="Times New Roman"/>
                <a:ea typeface="Arial Unicode MS"/>
              </a:rPr>
              <a:t>1</a:t>
            </a:r>
            <a:endParaRPr b="0" lang="ru-RU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   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Тема урока: «Алфавит»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728360" y="1380600"/>
            <a:ext cx="6983640" cy="5604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7680" y="936720"/>
            <a:ext cx="7599240" cy="27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лан урока: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1. Уточним знание об алфавите.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2. Уточним название каждой буквы и ее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место в алфавите. </a:t>
            </a:r>
            <a:br>
              <a:rPr sz="2400"/>
            </a:b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3. Научимся располагать слова по алфавиту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5280" y="2192400"/>
            <a:ext cx="8771040" cy="4935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96760" y="806400"/>
            <a:ext cx="8607600" cy="509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Чтоб стали нам знакомы 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Межзвездные края,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ужна нам Астрономия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т А до Я.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И чтоб секреты многие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ткрыла нам земля,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ужна Археология От А до Я.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Как много интересного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В себе они таят –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Различные професси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т  А до Я.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Но ни одной профессии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Постичь, друзья, нельзя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Без королевства грамоты </a:t>
            </a:r>
            <a:br>
              <a:rPr sz="2400"/>
            </a:br>
            <a:r>
              <a:rPr b="1" i="1" lang="ru-RU" sz="2400" spc="-1" strike="noStrike">
                <a:solidFill>
                  <a:srgbClr val="ff9966"/>
                </a:solidFill>
                <a:latin typeface="Arial"/>
              </a:rPr>
              <a:t>От А до Я.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40080" y="2808000"/>
            <a:ext cx="3824280" cy="373068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                           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Правило, стр. 44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84520" y="1616040"/>
            <a:ext cx="4586400" cy="493560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1240" y="282240"/>
            <a:ext cx="86076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8920"/>
                <a:tab algn="l" pos="898200"/>
                <a:tab algn="l" pos="1347480"/>
                <a:tab algn="l" pos="1796760"/>
                <a:tab algn="l" pos="2246040"/>
                <a:tab algn="l" pos="2695320"/>
                <a:tab algn="l" pos="3144600"/>
                <a:tab algn="l" pos="3593880"/>
                <a:tab algn="l" pos="4043160"/>
                <a:tab algn="l" pos="449244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                            </a:t>
            </a:r>
            <a:r>
              <a:rPr b="1" lang="ru-RU" sz="2400" spc="-1" strike="noStrike">
                <a:solidFill>
                  <a:srgbClr val="ff9966"/>
                </a:solidFill>
                <a:latin typeface="Arial"/>
              </a:rPr>
              <a:t>Упражнение 55, стр. 44</a:t>
            </a:r>
            <a:endParaRPr b="1" i="1" lang="ru-RU" sz="2400" spc="-1" strike="noStrike">
              <a:solidFill>
                <a:srgbClr val="ff99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303640" y="1944360"/>
            <a:ext cx="5543280" cy="394812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0" rIns="0" tIns="15120" bIns="0" anchor="t">
            <a:noAutofit/>
          </a:bodyPr>
          <a:p>
            <a:pPr marL="342720" indent="0">
              <a:lnSpc>
                <a:spcPct val="95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8640"/>
                <a:tab algn="l" pos="5047920"/>
                <a:tab algn="l" pos="5497200"/>
                <a:tab algn="l" pos="5946480"/>
                <a:tab algn="l" pos="6395760"/>
                <a:tab algn="l" pos="6845040"/>
                <a:tab algn="l" pos="7294320"/>
                <a:tab algn="l" pos="7743600"/>
                <a:tab algn="l" pos="8192880"/>
                <a:tab algn="l" pos="8642160"/>
              </a:tabLst>
            </a:pPr>
            <a:r>
              <a:rPr b="0" lang="ru-RU" sz="6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ru-RU" sz="600" spc="-1" strike="noStrike">
              <a:solidFill>
                <a:srgbClr val="e6e6e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01T23:47:43Z</dcterms:created>
  <dc:creator>Леново </dc:creator>
  <dc:description/>
  <dc:language>en-US</dc:language>
  <cp:lastModifiedBy>Леново </cp:lastModifiedBy>
  <dcterms:modified xsi:type="dcterms:W3CDTF">2017-12-08T18:02:21Z</dcterms:modified>
  <cp:revision>1</cp:revision>
  <dc:subject/>
  <dc:title/>
</cp:coreProperties>
</file>