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E9B-DA87-4127-ABE5-80B2DFE8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BDA-F2E5-4658-ABD6-D382E19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716-FB38-40BD-AB99-A591A605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456-50F0-4D2C-B484-55446D41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D8E-0352-4114-9327-000239CA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C1F-C587-4F33-8AF3-FF8E929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EB2-4EAD-47C1-8280-2ABB5B6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9A5-7869-4CA0-B73E-CEFCD361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8C5-FA8D-4069-81F5-E7EBE3E4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992-382E-467A-B0BC-A387752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201-F00E-4500-BC67-6308DCC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210-04F7-4EE8-A7AD-B0D1272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930-EA64-4914-B568-FC0A43B07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88;&#1086;&#1090;&#1086;&#1076;&#1100;&#1103;&#1082;&#1086;&#1085;&#1086;&#1074;.avi" TargetMode="External"/><Relationship Id="rId3" Type="http://schemas.openxmlformats.org/officeDocument/2006/relationships/hyperlink" Target="file:///&#1055;&#1088;&#1086;&#1090;&#1086;&#1076;&#1100;&#1103;&#1082;&#1086;&#1085;&#1086;&#1074;.avi" TargetMode="External"/><Relationship Id="rId4" Type="http://schemas.openxmlformats.org/officeDocument/2006/relationships/hyperlink" Target="file:///&#1058;&#1077;&#1083;&#1077;&#1081;&#1089;&#1082;&#1072;&#1103;%20&#1057;&#1054;&#1064;.avi" TargetMode="External"/><Relationship Id="rId5" Type="http://schemas.openxmlformats.org/officeDocument/2006/relationships/hyperlink" Target="file:///&#1058;&#1077;&#1083;&#1077;&#1081;&#1089;&#1082;&#1072;&#1103;%20&#1057;&#1054;&#1064;.avi" TargetMode="External"/><Relationship Id="rId6" Type="http://schemas.openxmlformats.org/officeDocument/2006/relationships/hyperlink" Target="file:///&#1073;&#1091;&#1082;&#1090;&#1088;&#1077;&#1081;&#1083;&#1077;&#1088;%20&#1058;&#1057;&#1054;&#1064;%207&#1082;&#1083;/&#1041;&#1091;&#1082;&#1090;&#1088;&#1077;&#1081;&#1083;&#1077;&#1088;%20&#1058;&#1057;&#1054;&#1064;%207&#1082;&#1083;&#1072;&#1089;&#1089;%20-%20&#1058;&#1088;&#1080;&#1091;&#1084;&#1092;%20&#1055;&#1072;&#1074;&#1083;&#1072;%20&#1055;&#1080;&#1085;&#1080;&#1075;&#1080;&#1085;&#1072;.mp4" TargetMode="External"/><Relationship Id="rId7" Type="http://schemas.openxmlformats.org/officeDocument/2006/relationships/hyperlink" Target="file:///&#1073;&#1091;&#1082;&#1090;&#1088;&#1077;&#1081;&#1083;&#1077;&#1088;%20&#1058;&#1057;&#1054;&#1064;%207&#1082;&#1083;/&#1041;&#1091;&#1082;&#1090;&#1088;&#1077;&#1081;&#1083;&#1077;&#1088;%20&#1058;&#1057;&#1054;&#1064;%207&#1082;&#1083;&#1072;&#1089;&#1089;%20-%20&#1058;&#1088;&#1080;&#1091;&#1084;&#1092;%20&#1055;&#1072;&#1074;&#1083;&#1072;%20&#1055;&#1080;&#1085;&#1080;&#1075;&#1080;&#1085;&#1072;.mp4" TargetMode="External"/><Relationship Id="rId8" Type="http://schemas.openxmlformats.org/officeDocument/2006/relationships/hyperlink" Target="file:///&#1041;&#1091;&#1082;&#1090;&#1088;&#1077;&#1081;&#1083;&#1077;&#1088;%20&#1058;&#1057;&#1054;&#1064;%207&#1082;&#1083;&#1072;&#1089;&#1089;%20-%20&#1058;&#1088;&#1080;&#1091;&#1084;&#1092;%20&#1055;&#1072;&#1074;&#1083;&#1072;%20&#1055;&#1080;&#1085;&#1080;&#1075;&#1080;&#1085;&#1072;.mp4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Users\Public\Pictures\Sample Pictures\iY95QX0G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трейлер – это короткий видеоролик , рассказывающий  в произвольной художественной форме о какой-либо книге.  Цель таких роликов рекламы свежевышедших книг и пропаганда чтения, привлечение  внимания к книгам при  помощи визуальных средств характерных для трейлеров  к кинофильм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отодьяконов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елейская СОШ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3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Буктрейлер ТСОШ 7класс - Триумф Павла Пинигина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p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СОШ 5 к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Заголовок 3" descr=""/>
          <p:cNvPicPr/>
          <p:nvPr/>
        </p:nvPicPr>
        <p:blipFill>
          <a:blip r:embed="rId9"/>
          <a:stretch/>
        </p:blipFill>
        <p:spPr>
          <a:xfrm>
            <a:off x="2419200" y="189000"/>
            <a:ext cx="4518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Выгнутая вправо стрелка 6"/>
          <p:cNvSpPr/>
          <p:nvPr/>
        </p:nvSpPr>
        <p:spPr>
          <a:xfrm>
            <a:off x="7858080" y="5715000"/>
            <a:ext cx="571680" cy="714240"/>
          </a:xfrm>
          <a:custGeom>
            <a:avLst/>
            <a:gdLst>
              <a:gd name="textAreaLeft" fmla="*/ 76320 w 571680"/>
              <a:gd name="textAreaRight" fmla="*/ 495360 w 571680"/>
              <a:gd name="textAreaTop" fmla="*/ 124920 h 714240"/>
              <a:gd name="textAreaBottom" fmla="*/ 518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6:49:57Z</dcterms:created>
  <dc:creator>Иннокентий Саввич</dc:creator>
  <dc:description/>
  <dc:language>en-US</dc:language>
  <cp:lastModifiedBy>Иннокентий Саввич</cp:lastModifiedBy>
  <dcterms:modified xsi:type="dcterms:W3CDTF">2017-12-08T06:50:48Z</dcterms:modified>
  <cp:revision>1</cp:revision>
  <dc:subject/>
  <dc:title>Буктрейлеры</dc:title>
</cp:coreProperties>
</file>