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FAD3-9257-4FD3-A791-088FEEFF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2CDF-4DBD-43B2-A225-B0B17F46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C5F67-B76D-455F-8A94-B58BA7BA2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F4BC-9D63-413C-AD73-2D6241AF9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CF75-33D0-4A12-8827-FA3FAF0D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9992-7D14-4B90-BAFD-6AF11512F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5EAB-0551-4BEB-A126-06A774958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0D6E-1B35-43FD-9F34-F71A113F7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7107-3DC1-4ACA-B2C8-7EDED133E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117E-E54B-445F-A76C-0242E2EA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74CC9-7E9C-419A-BA57-45F608B5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561D-3EC1-4F59-BC3C-863C5EE2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2230-2B34-4DEF-A9C8-77DF734645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5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6132600" cy="308484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7" descr="E:\Data\Скаченные файлы\Картинки\1c3f8f0bcef1.png"/>
          <p:cNvPicPr/>
          <p:nvPr/>
        </p:nvPicPr>
        <p:blipFill>
          <a:blip r:embed="rId2"/>
          <a:stretch/>
        </p:blipFill>
        <p:spPr>
          <a:xfrm>
            <a:off x="2500200" y="5072040"/>
            <a:ext cx="3929040" cy="4071960"/>
          </a:xfrm>
          <a:prstGeom prst="rect">
            <a:avLst/>
          </a:prstGeom>
          <a:ln w="0">
            <a:noFill/>
          </a:ln>
        </p:spPr>
      </p:pic>
      <p:sp>
        <p:nvSpPr>
          <p:cNvPr id="43" name="Прямоугольник 8"/>
          <p:cNvSpPr/>
          <p:nvPr/>
        </p:nvSpPr>
        <p:spPr>
          <a:xfrm>
            <a:off x="1500120" y="4786200"/>
            <a:ext cx="47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b9579"/>
                </a:solidFill>
                <a:latin typeface="Times New Roman"/>
                <a:ea typeface="Times New Roman"/>
              </a:rPr>
              <a:t>Воспитатель: Желибо Марина Анатольев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рямоугольник 9"/>
          <p:cNvSpPr/>
          <p:nvPr/>
        </p:nvSpPr>
        <p:spPr>
          <a:xfrm>
            <a:off x="509760" y="366840"/>
            <a:ext cx="6143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b9579"/>
                </a:solidFill>
                <a:latin typeface="Times New Roman"/>
                <a:ea typeface="Times New Roman"/>
              </a:rPr>
              <a:t>Федеральное государственное  бюджетное дошкольно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b9579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2b9579"/>
                </a:solidFill>
                <a:latin typeface="Times New Roman"/>
                <a:ea typeface="Times New Roman"/>
              </a:rPr>
              <a:t>образовательное учреждение  -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b9579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2b9579"/>
                </a:solidFill>
                <a:latin typeface="Times New Roman"/>
                <a:ea typeface="Times New Roman"/>
              </a:rPr>
              <a:t>«Детский сад комбинированного вида №53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Прямоугольник 6"/>
          <p:cNvSpPr/>
          <p:nvPr/>
        </p:nvSpPr>
        <p:spPr>
          <a:xfrm>
            <a:off x="1285920" y="500040"/>
            <a:ext cx="5072040" cy="81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оличество детей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челове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кологическая ситуац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стонахождение дошкольного учреждения характеризуется благоприятной экологической обстановкой. В непосредственной близости нет промышленных предприятий. Мы живем в умеренно увлажненной зоне с умеренно - континентальным климато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Состояние здоровья дете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шей группе дети со 2 группой здоровь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еленые массив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епосредственной близости к ФБГДОУ не проходит проезжая часть, а находится жилая з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арактеристика территории прогулочного участ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я участка ровная. Газоны составляют 22 %, остальная площадь приходится на асфальтовые и песчаные площади, дорожки. Затененность территории недостаточная, что в летний период создает неблагоприятный микроклимат для прогулок. На территории имеются игровые и резиновые протекторы, использующиеся как клумбы, также имеется песочница, спортивное оборудование. Кроме того, есть мини - спортивная площад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астительный ми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участка представлены различные жизненные формы растений: деревья, кустарники, травянистые растения, - что дает возможность проводить разнообразные экологические занятия. Деревьев на участке не достаточно. Видовой состав деревьев: ель, береза, рябина, дикая яблоня. Кустарники: акация. Вдоль тропинок преобладают полынь, одуванчик лекарственны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оугольник 1"/>
          <p:cNvSpPr/>
          <p:nvPr/>
        </p:nvSpPr>
        <p:spPr>
          <a:xfrm>
            <a:off x="1214280" y="0"/>
            <a:ext cx="5143680" cy="909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 участке оформлены цветники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произрастают разные виды многолетних и однолетних цветов : гиацинты, нарциссы, тюльпаны, касатики сибирские (ирисы) разного цвета, пионы,  петунья, декоративная цветная капуста, роза, виола, хризантемы, турецкая гвоздик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Животный ми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наблюдаем пролетающих птиц: ворон, воробьев, сорок, ласточек, голубей. ; различные виды насекомых - бабочки, жуки, мухи, комары, осы, шмели, муравьи, пауки, божьи коровки, стрекозы. Дети наблюдают за живущими на территории участка воробьями, голубями и их птенчиками, зимующими птицами – синицами, воробьями. Многие из них прилетают на кормушку.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чв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территории участка преобладает натуральный грунт - песок, очень плотный. Привозится речной песок для песочниц.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Загрязнение территор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ыленность территории с северной стороны низкая, так как автодорога достаточно далеко от территории детской площадки. С восточной стороны запыленности нет, так как рядом находится жилой комплекс и нет дороги. Шумовой фон умеренный. Территория не посещается легковыми машинами. Участок в целом чистый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Характеристика здания и помещения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иродном уголке растут комнатные растения: Кливия,    примула, бальзамин, хлорофитум,  колеус, драцена, спатифилиум, аспидистра, эухариес, алое, толстянка. В живом уголке живут два попуг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формлени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ые пособия, подборка дидактических игр, энциклопедии о цветах, о животных детские работы и поделки из природного материала. Уголок наблюдения за природой и погод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"/>
          <p:cNvSpPr/>
          <p:nvPr/>
        </p:nvSpPr>
        <p:spPr>
          <a:xfrm>
            <a:off x="1285920" y="285840"/>
            <a:ext cx="5072040" cy="81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кологический уголок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натные растения и паспорт к ним. 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ый материа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кет «Скотный дво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457200" algn="just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удование для ухода за комнатными растениям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орудование и учебные материалы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Микроскоп, лупа, зеркала, термометры, бинокль, весы, веревки, пипетки, линейки, глобус, фонарик, мыло, венчик, взбивалка, щетки, губки, желоба, одноразовые шприцы, пищевые красители, песочные часы, ножницы, отвертки, винтики, терка, наждачная бумага, лоскутки ткани, соль, клей, колесики, дерево, металл, мел, пластмасса, магни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Емкости : пластиковые бутылки, стаканы разной формы, величины, мерки, воронки, сита, лопатки, формоч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Материалы : природные (шишки, семена, ракушки, спилы дерева, бросовые (пробки, палочки, резиновые шланги, трубочки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Неструктурированные материалы : песок, вода, опилки, пенопласт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граммы и методик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аботе используются следующие программы : Основная общеобразовательная программа дошкольного образован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Программы от рождения до школы» Н. В. Васильевой 2013 г. 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пользуемая методическая литература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. В. Дыбина «Занятия по ознакомлению с окружающим миром» Москва, 2011 Мозаика-синтез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1"/>
          <p:cNvSpPr/>
          <p:nvPr/>
        </p:nvSpPr>
        <p:spPr>
          <a:xfrm>
            <a:off x="1357200" y="357120"/>
            <a:ext cx="4714920" cy="86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Дидактические материалы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Наглядный материал по темам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«Лето», «Сад», «Лес», «Луг», «Осень», «Перелетные птицы», «Огород», «Овощи», «Фрукты»,  «Зима», «Зимующие птицы», «Дикие животные», «Домашние животные», «Домашние птицы», «Ранняя весна», «Первоцветы», «Деревья», «Дикие животные», «Птицы», «Грибы», «Насекомые», «Ягоды»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Фотоальбо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Дикие и домашние животные». Альбом «Времена года». Календарь природы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артотека загадок по темам: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Явления природы», «Животные», «Цветы», «Грибы», «Времена года», «Листья и трава», «Деревья»,  «Ягоды и фрукты». Познавательные книги, детские энциклопедии о растениях и животных. Раскраски с изображением животных и растений. Конспекты занятий по экологии.  Сценарий праздника «Земля – наш дом родной».  Красная книга Республики Бурятия (список растений и животных) Конспект занятия «Как живешь мой край родной? Картотека экологических опытов 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Экологические игры :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отека дидактических игр по экологии.  «Лекарственные растения», «Кто где живет? », «Чей лист? », «Загадки о животных», «Собери картинку», «Времена года», «Вершки-корешки», «В лесу», «Силуэты домашних животных», «Комнатные растения», «Про кошек и собак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течение года в группе проходят занятия по экологии с детьми, экологические праздники, викторины как в помещении детского сада, так и на территори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2"/>
          <p:cNvSpPr/>
          <p:nvPr/>
        </p:nvSpPr>
        <p:spPr>
          <a:xfrm>
            <a:off x="1357200" y="285840"/>
            <a:ext cx="4714920" cy="85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ыводы и рекомендации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ритория группы ухожена. Растительный покров на территории недостаточно разнообразен, но может неплохо использоваться в целях экологического образования. При подборе видов для озеленения следует соблюдать требования СанПина, не производить посадку деревьев и кустарников с ядовитыми плодами, а также колючих и вызывающих аллергию кустарников. Рекомендуется расширить видовой состав культурных растений, продолжить уход за  цветник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формление помещ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утреннее оформление группы производит благоприятное впечатл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омещениях есть необходимые условия и оборудование для экологического образования детей. В целях оздоровления детей необходимо дополнить группу растениями, влияющими на оздоровление детей, длительный и спокойный сон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офессиональная и методическая баз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ведения занятий с детьми и организации методической работы, необходимо систематически пополнять картотеки игр, опытов, наглядного и демонстрационного материала по экологии, видеозаписей и аудиозапис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08T05:37:27Z</dcterms:created>
  <dc:creator>OEM</dc:creator>
  <dc:description/>
  <dc:language>en-US</dc:language>
  <cp:lastModifiedBy>OEM</cp:lastModifiedBy>
  <dcterms:modified xsi:type="dcterms:W3CDTF">2014-12-07T13:57:42Z</dcterms:modified>
  <cp:revision>22</cp:revision>
  <dc:subject/>
  <dc:title>Комнатные Растения  в детском саду</dc:title>
</cp:coreProperties>
</file>