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FC2D-3CEC-42CB-A110-4F446FA5E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F6D3-CDD8-4577-8CE7-B11DB501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C782-EF66-4927-A832-07247A1DE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7FBE-F3BE-425F-B0AF-DF0A96A9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6926-B17F-486F-BA46-2D310E93B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1184-B538-44A3-80BA-2001CF32B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7909-F8A0-4ACD-8B68-23C300DC8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8CEC-A110-4DC2-B83B-0811B8437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5EBC-DB6E-43CE-899B-33FE5524B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1F47-7CC8-402D-BF3D-C2EEEBF8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C044-1E02-474A-B081-8D29DAEF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0D2F-CDA9-45BE-ACE3-1DF5824F7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4C673-A625-4F64-86F5-ACAF63FE6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5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6132600" cy="30848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E:\Data\Скаченные файлы\Картинки\1c3f8f0bcef1.png"/>
          <p:cNvPicPr/>
          <p:nvPr/>
        </p:nvPicPr>
        <p:blipFill>
          <a:blip r:embed="rId2"/>
          <a:stretch/>
        </p:blipFill>
        <p:spPr>
          <a:xfrm>
            <a:off x="2500200" y="5072040"/>
            <a:ext cx="3929040" cy="40719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8"/>
          <p:cNvSpPr/>
          <p:nvPr/>
        </p:nvSpPr>
        <p:spPr>
          <a:xfrm>
            <a:off x="1500120" y="478620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Воспитатель: Желибо Ма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509760" y="366840"/>
            <a:ext cx="61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Федеральное государственное  бюджетное дошко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образовательное учреждение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«Детский сад комбинированного вида №5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6"/>
          <p:cNvSpPr/>
          <p:nvPr/>
        </p:nvSpPr>
        <p:spPr>
          <a:xfrm>
            <a:off x="1285920" y="500040"/>
            <a:ext cx="5072040" cy="81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ичество дете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ологическая ситу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нахождение дошкольного учреждения характеризуется благоприятной экологической обстановкой. В непосредственной близости нет промышленных предприятий. Мы живем в умеренно увлажненной зоне с умеренно - континентальным климат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стояние здоровья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группе дети со 2 группой здоров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еленые масс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посредственной близости к ФБГДОУ не проходит проезжая часть, а находится жилая 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арактеристика территории прогулочного участ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участка ровная. Газоны составляют 22 %, остальная площадь приходится на асфальтовые и песчаные площади, дорожки. Затененность территории недостаточная, что в летний период создает неблагоприятный микроклимат для прогулок. На территории имеются игровые и резиновые протекторы, использующиеся как клумбы, также имеется песочница, спортивное оборудование. Кроме того, есть мини - спортивная площад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ительный ми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участка представлены различные жизненные формы растений: деревья, кустарники, травянистые растения, - что дает возможность проводить разнообразные экологические занятия. Деревьев на участке не достаточно. Видовой состав деревьев: ель, береза, рябина, дикая яблоня. Кустарники: акация. Вдоль тропинок преобладают полынь, одуванчик лекарствен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214280" y="0"/>
            <a:ext cx="5143680" cy="90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участке оформлены цвет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произрастают разные виды многолетних и однолетних цветов : гиацинты, нарциссы, тюльпаны, касатики сибирские (ирисы) разного цвета, пионы,  петунья, декоративная цветная капуста, роза, виола, хризантемы, турецкая гвозд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вотный ми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наблюдаем пролетающих птиц: ворон, воробьев, сорок, ласточек, голубей. ; различные виды насекомых - бабочки, жуки, мухи, комары, осы, шмели, муравьи, пауки, божьи коровки, стрекозы. Дети наблюдают за живущими на территории участка воробьями, голубями и их птенчиками, зимующими птицами – синицами, воробьями. Многие из них прилетают на кормушку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ч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участка преобладает натуральный грунт - песок, очень плотный. Привозится речной песок для песочниц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грязнение террит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ыленность территории с северной стороны низкая, так как автодорога достаточно далеко от территории детской площадки. С восточной стороны запыленности нет, так как рядом находится жилой комплекс и нет дороги. Шумовой фон умеренный. Территория не посещается легковыми машинами. Участок в целом чист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арактеристика здания и помещ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родном уголке растут комнатные растения: Кливия,    примула, бальзамин, хлорофитум,  колеус, драцена, спатифилиум, аспидистра, эухариес, алое, толстянка. В живом уголке живут два попуг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ормл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подборка дидактических игр, энциклопедии о цветах, о животных детские работы и поделки из природного материала. Уголок наблюдения за природой и пого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1285920" y="285840"/>
            <a:ext cx="5072040" cy="81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ологический уголок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ные растения и паспорт к ним. 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й матери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ет «Скотный дв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 для ухода за комнатными растен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рудование и учебные материалы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икроскоп, лупа, зеркала, термометры, бинокль, весы, веревки, пипетки, линейки, глобус, фонарик, мыло, венчик, взбивалка, щетки, губки, желоба, одноразовые шприцы, пищевые красители, песочные часы, ножницы, отвертки, винтики, терка, наждачная бумага, лоскутки ткани, соль, клей, колесики, дерево, металл, мел, пластмасса, магни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мкости : пластиковые бутылки, стаканы разной формы, величины, мерки, воронки, сита, лопатки, формоч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териалы : природные (шишки, семена, ракушки, спилы дерева, бросовые (пробки, палочки, резиновые шланги, трубочк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структурированные материалы : песок, вода, опилки, пенопла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раммы и метод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используются следующие программы : Основная общеобразовательная программа дошкольного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граммы от рождения до школы» Н. В. Васильевой 2013 г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уемая методическая литература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В. Дыбина «Занятия по ознакомлению с окружающим миром» Москва, 2011 Мозаика-синт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357200" y="357120"/>
            <a:ext cx="471492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актические материа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глядный материал по тема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Лето», «Сад», «Лес», «Луг», «Осень», «Перелетные птицы», «Огород», «Овощи», «Фрукты»,  «Зима», «Зимующие птицы», «Дикие животные», «Домашние животные», «Домашние птицы», «Ранняя весна», «Первоцветы», «Деревья», «Дикие животные», «Птицы», «Грибы», «Насекомые», «Ягоды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тоальб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Дикие и домашние животные». Альбом «Времена года». Календарь природ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тека загадок по темам: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вления природы», «Животные», «Цветы», «Грибы», «Времена года», «Листья и трава», «Деревья»,  «Ягоды и фрукты». Познавательные книги, детские энциклопедии о растениях и животных. Раскраски с изображением животных и растений. Конспекты занятий по экологии.  Сценарий праздника «Земля – наш дом родной».  Красная книга Республики Бурятия (список растений и животных) Конспект занятия «Как живешь мой край родной? Картотека экологических опытов 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ологические игры :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а дидактических игр по экологии.  «Лекарственные растения», «Кто где живет? », «Чей лист? », «Загадки о животных», «Собери картинку», «Времена года», «Вершки-корешки», «В лесу», «Силуэты домашних животных», «Комнатные растения», «Про кошек и собак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года в группе проходят занятия по экологии с детьми, экологические праздники, викторины как в помещении детского сада, так и на террит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1357200" y="285840"/>
            <a:ext cx="471492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ы и рекоменд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группы ухожена. Растительный покров на территории недостаточно разнообразен, но может неплохо использоваться в целях экологического образования. При подборе видов для озеленения следует соблюдать требования СанПина, не производить посадку деревьев и кустарников с ядовитыми плодами, а также колючих и вызывающих аллергию кустарников. Рекомендуется расширить видовой состав культурных растений, продолжить уход за  цветн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ормление помещ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е оформление группы производит благоприятное впечат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мещениях есть необходимые условия и оборудование для экологического образования детей. В целях оздоровления детей необходимо дополнить группу растениями, влияющими на оздоровление детей, длительный и спокойный с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ессиональная и методическая б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занятий с детьми и организации методической работы, необходимо систематически пополнять картотеки игр, опытов, наглядного и демонстрационного материала по экологии, видеозаписей и аудиозапи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5:37:27Z</dcterms:created>
  <dc:creator>OEM</dc:creator>
  <dc:description/>
  <dc:language>en-US</dc:language>
  <cp:lastModifiedBy>OEM</cp:lastModifiedBy>
  <dcterms:modified xsi:type="dcterms:W3CDTF">2014-12-07T13:57:42Z</dcterms:modified>
  <cp:revision>22</cp:revision>
  <dc:subject/>
  <dc:title>Комнатные Растения  в детском саду</dc:title>
</cp:coreProperties>
</file>