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25B-D602-49E9-91B5-C653D29D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DB2-9EEB-4B04-8FE8-BA935813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8C9-E257-42B8-BEE5-69DE8A7B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CA6-517C-47A3-A77C-ACDA3223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D10-058D-4C39-8D8D-6A983D01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AC1-C363-4740-B2B8-C203C584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10B7-3390-4ABF-B479-D292B53A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E0B-A9D9-416E-A546-D5EB158B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154-9500-4F69-A4F0-9CFAB327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171-654D-4FCC-A5F9-3466E104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587-DF22-4DFA-91B0-465E2E50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6C8-8860-49AD-B91B-029CDD37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EDA6-00B7-4EFD-8049-0FD05B12B0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Users\Public\Pictures\Sample Pictures\iY95QX0G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вилт – большое полотно, состоящее из отдельных частей лоскутков, созданных совместно группой лю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Заголовок 3" descr=""/>
          <p:cNvPicPr/>
          <p:nvPr/>
        </p:nvPicPr>
        <p:blipFill>
          <a:blip r:embed="rId2"/>
          <a:stretch/>
        </p:blipFill>
        <p:spPr>
          <a:xfrm>
            <a:off x="3139920" y="262080"/>
            <a:ext cx="2760840" cy="938160"/>
          </a:xfrm>
          <a:prstGeom prst="rect">
            <a:avLst/>
          </a:prstGeom>
          <a:ln w="0">
            <a:noFill/>
          </a:ln>
        </p:spPr>
      </p:pic>
      <p:sp>
        <p:nvSpPr>
          <p:cNvPr id="44" name="Выгнутая вправо стрелка 8">
            <a:hlinkClick r:id="rId3" action="ppaction://hlinksldjump"/>
          </p:cNvPr>
          <p:cNvSpPr/>
          <p:nvPr/>
        </p:nvSpPr>
        <p:spPr>
          <a:xfrm>
            <a:off x="8286840" y="6143760"/>
            <a:ext cx="642960" cy="714240"/>
          </a:xfrm>
          <a:custGeom>
            <a:avLst/>
            <a:gdLst>
              <a:gd name="textAreaLeft" fmla="*/ 86040 w 642960"/>
              <a:gd name="textAreaRight" fmla="*/ 556920 w 642960"/>
              <a:gd name="textAreaTop" fmla="*/ 118080 h 714240"/>
              <a:gd name="textAreaBottom" fmla="*/ 51552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55" stAng="-5400000" swAng="5400000"/>
                <a:lnTo>
                  <a:pt x="21600" y="12015"/>
                </a:lnTo>
                <a:arcTo wR="21600" hR="7155" stAng="0" swAng="3123883"/>
                <a:lnTo>
                  <a:pt x="5400" y="21373"/>
                </a:lnTo>
                <a:lnTo>
                  <a:pt x="0" y="16740"/>
                </a:lnTo>
                <a:lnTo>
                  <a:pt x="5400" y="11653"/>
                </a:lnTo>
                <a:lnTo>
                  <a:pt x="5400" y="14083"/>
                </a:lnTo>
                <a:arcTo wR="21600" hR="7155" stAng="3123883" swAng="-2714640"/>
                <a:lnTo>
                  <a:pt x="20316" y="9585"/>
                </a:lnTo>
                <a:arcTo wR="21600" hR="7155" stAng="-409243" swAng="-4990757"/>
                <a:close/>
              </a:path>
              <a:path fill="darkenLess" w="21600" h="21600">
                <a:moveTo>
                  <a:pt x="0" y="0"/>
                </a:moveTo>
                <a:arcTo wR="21600" hR="7155" stAng="-5400000" swAng="5400000"/>
                <a:lnTo>
                  <a:pt x="21600" y="12015"/>
                </a:lnTo>
                <a:arcTo wR="21600" hR="7155" stAng="0" swAng="-409243"/>
                <a:lnTo>
                  <a:pt x="20316" y="9585"/>
                </a:lnTo>
                <a:arcTo wR="21600" hR="7155" stAng="-409243" swAng="-49907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9" descr="C:\Users\Телей школа\Desktop\Квилт\20171206_144623.jpg"/>
          <p:cNvPicPr/>
          <p:nvPr/>
        </p:nvPicPr>
        <p:blipFill>
          <a:blip r:embed="rId4"/>
          <a:srcRect l="7141" t="2379" r="10006" b="2379"/>
          <a:stretch/>
        </p:blipFill>
        <p:spPr>
          <a:xfrm rot="21354600">
            <a:off x="1114560" y="2637000"/>
            <a:ext cx="1861920" cy="1282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C:\Users\Телей школа\Desktop\Квилт\20171206_145246.jpg"/>
          <p:cNvPicPr/>
          <p:nvPr/>
        </p:nvPicPr>
        <p:blipFill>
          <a:blip r:embed="rId5"/>
          <a:srcRect l="0" t="2183" r="0" b="1451"/>
          <a:stretch/>
        </p:blipFill>
        <p:spPr>
          <a:xfrm>
            <a:off x="3857760" y="2428920"/>
            <a:ext cx="1504800" cy="2415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C:\Users\Телей школа\Desktop\Квилт\20171206_145834.jpg"/>
          <p:cNvPicPr/>
          <p:nvPr/>
        </p:nvPicPr>
        <p:blipFill>
          <a:blip r:embed="rId6"/>
          <a:srcRect l="12209" t="7167" r="14540" b="2159"/>
          <a:stretch/>
        </p:blipFill>
        <p:spPr>
          <a:xfrm rot="399000">
            <a:off x="6216480" y="2532240"/>
            <a:ext cx="1865520" cy="137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C:\Users\Телей школа\Desktop\Квилт\20171206_145747.jpg"/>
          <p:cNvPicPr/>
          <p:nvPr/>
        </p:nvPicPr>
        <p:blipFill>
          <a:blip r:embed="rId7"/>
          <a:srcRect l="7521" t="0" r="3129" b="2647"/>
          <a:stretch/>
        </p:blipFill>
        <p:spPr>
          <a:xfrm rot="21088200">
            <a:off x="650880" y="4079520"/>
            <a:ext cx="1862280" cy="1217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C:\Users\Телей школа\Desktop\Квилт\20171206_150013.jpg"/>
          <p:cNvPicPr/>
          <p:nvPr/>
        </p:nvPicPr>
        <p:blipFill>
          <a:blip r:embed="rId8"/>
          <a:srcRect l="11041" t="2159" r="5763" b="3616"/>
          <a:stretch/>
        </p:blipFill>
        <p:spPr>
          <a:xfrm rot="263400">
            <a:off x="6474960" y="4070160"/>
            <a:ext cx="1852560" cy="125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:\Users\Телей школа\Desktop\Квилт\20171206_145533.jpg"/>
          <p:cNvPicPr/>
          <p:nvPr/>
        </p:nvPicPr>
        <p:blipFill>
          <a:blip r:embed="rId9"/>
          <a:srcRect l="10740" t="6536" r="8689" b="0"/>
          <a:stretch/>
        </p:blipFill>
        <p:spPr>
          <a:xfrm rot="20805000">
            <a:off x="2282400" y="5078520"/>
            <a:ext cx="2092320" cy="145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C:\Users\Телей школа\Desktop\Квилт\20171206_145913.jpg"/>
          <p:cNvPicPr/>
          <p:nvPr/>
        </p:nvPicPr>
        <p:blipFill>
          <a:blip r:embed="rId10"/>
          <a:srcRect l="8404" t="1670" r="8992" b="1670"/>
          <a:stretch/>
        </p:blipFill>
        <p:spPr>
          <a:xfrm rot="844800">
            <a:off x="4789080" y="5169960"/>
            <a:ext cx="2076480" cy="14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8T06:49:57Z</dcterms:created>
  <dc:creator>Иннокентий Саввич</dc:creator>
  <dc:description/>
  <dc:language>en-US</dc:language>
  <cp:lastModifiedBy>Иннокентий Саввич</cp:lastModifiedBy>
  <dcterms:modified xsi:type="dcterms:W3CDTF">2017-12-08T06:51:59Z</dcterms:modified>
  <cp:revision>3</cp:revision>
  <dc:subject/>
  <dc:title>Буктрейлеры</dc:title>
</cp:coreProperties>
</file>