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33C-151B-4C12-88D2-974D534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758-D22F-40C6-B1DF-14BE8C1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42F-2405-40D8-A57F-8C59336E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2DB-D657-42AF-A0F6-BE3A7E74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88A-FE03-453F-99F8-5399B71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3DD-A8BB-4535-8BE4-2CD76781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AA5-F9D1-40CD-9CC6-45BA9ADB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0944-FBD3-4079-9D7B-D47CB6B8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19A-8CED-4681-9D6D-CF04DE1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BF3-D13C-4DAF-90BC-4F6F800D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4D86-0FD0-40A3-853A-32464FF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335-DD06-43A4-9F05-3D649CF4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0844-FB34-4A63-85B1-638D03B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75C-2E2A-4833-B04F-F2C5E85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B90-413C-46BB-9171-01291B5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9B6-406D-4268-9C2D-A14FCD68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A724-7356-4C62-BF5D-90160BF3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6435-435D-4CB5-8FD6-CA5E1998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40AD-F747-4FCD-A2D5-33ECEDF1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78A3-B30B-45DC-B3A0-4411D193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6C6D-7766-4A9C-8C68-EDC37AC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7E5E-3AF9-4A43-9CA7-0839E7E7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31F-84D6-41BF-962E-9BC33751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9703-DEE7-422C-8594-2A53D237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ED70-092C-4B02-9CA8-2D660FC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A8CE-FC58-459A-B2F5-2EE3106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09BB-9F7E-429F-BAE7-B6A39DB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35EB-0C35-4FBB-A03D-F56EE1A8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7B1F-A2DA-40A3-8BC0-BEDAF3E2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01C21-0288-493D-B491-74FE7081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5173-F58E-42FE-8408-5753D544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DF45-D71A-4885-A4EB-514C03AD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AA65-34D3-461B-9D3E-2D0720C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091-8A88-40FE-AA6D-5E51A9D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DF26-A62A-44D5-B3A2-54CB270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5FEF-76CE-430B-B2C8-3B2A7C5B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F4C3-5210-478C-A442-38FE27D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22C4-8DCB-4370-9DD8-1D9BD10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D712-78E1-4DF0-969B-ACCAD2E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A10A-5EF2-4FAF-810A-F6EF06D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DB7C-E807-4F17-AEB7-437B216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FF19-97FD-43C9-B739-84D16CF5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B652-2D15-4853-908E-DDE5DBC4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863-8005-4B5D-893A-CB615C1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64C-E4CC-46A8-99AC-39BFC32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3A5-3E7B-4A9C-8C1E-9E53B0E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8C0-1B0D-4AB7-BAFD-8FCFE34B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5C2-CE6F-49EA-9DE2-E6113ED5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C7BB-023D-47BC-BDF4-D69ABF7C5E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060-4721-464D-97C8-C9D02AF603A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8F9-FFB2-4007-8FCE-479898EF54E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2C8-5FD5-4CCB-AF76-66C40015992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2719440" y="353880"/>
            <a:ext cx="12254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Ольга\Мои документы\Мои рисунки\2008-10-09\IMAGE0249.JPG"/>
          <p:cNvPicPr/>
          <p:nvPr/>
        </p:nvPicPr>
        <p:blipFill>
          <a:blip r:embed="rId1">
            <a:lum bright="10000"/>
          </a:blip>
          <a:srcRect l="0" t="0" r="54416" b="0"/>
          <a:stretch/>
        </p:blipFill>
        <p:spPr>
          <a:xfrm>
            <a:off x="1214280" y="2643120"/>
            <a:ext cx="2214720" cy="211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Ольга\Мои документы\Мои рисунки\2008-10-09\IMAGE0240.JPG"/>
          <p:cNvPicPr/>
          <p:nvPr/>
        </p:nvPicPr>
        <p:blipFill>
          <a:blip r:embed="rId2">
            <a:lum bright="10000"/>
          </a:blip>
          <a:srcRect l="8091" t="0" r="46117" b="34255"/>
          <a:stretch/>
        </p:blipFill>
        <p:spPr>
          <a:xfrm>
            <a:off x="6083280" y="2643120"/>
            <a:ext cx="1820880" cy="2143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3542040" y="164304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Раз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1359720" y="214308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Constantia"/>
              </a:rPr>
              <a:t>Лин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6118200" y="214308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95c"/>
                </a:solidFill>
                <a:latin typeface="Constantia"/>
              </a:rPr>
              <a:t>Уг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Заголовок 11" descr=""/>
          <p:cNvPicPr/>
          <p:nvPr/>
        </p:nvPicPr>
        <p:blipFill>
          <a:blip r:embed="rId3"/>
          <a:stretch/>
        </p:blipFill>
        <p:spPr>
          <a:xfrm>
            <a:off x="189000" y="281160"/>
            <a:ext cx="86202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202" name="Прямая со стрелкой 13"/>
          <p:cNvCxnSpPr/>
          <p:nvPr/>
        </p:nvCxnSpPr>
        <p:spPr>
          <a:xfrm>
            <a:off x="5643360" y="207144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Прямая со стрелкой 14"/>
          <p:cNvCxnSpPr/>
          <p:nvPr/>
        </p:nvCxnSpPr>
        <p:spPr>
          <a:xfrm flipH="1">
            <a:off x="3214080" y="2070720"/>
            <a:ext cx="5007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TextBox 17"/>
          <p:cNvSpPr/>
          <p:nvPr/>
        </p:nvSpPr>
        <p:spPr>
          <a:xfrm>
            <a:off x="649440" y="4857840"/>
            <a:ext cx="356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ля  измерения отрез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в  миллиметрах  (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(слово «ММ» не пиш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5520240" y="4929120"/>
            <a:ext cx="30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для измерения уг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в  град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146160" y="122400"/>
            <a:ext cx="8431200" cy="124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Ольга\Мои документы\Мои рисунки\2008-10-09\Элементы.JPG"/>
          <p:cNvPicPr/>
          <p:nvPr/>
        </p:nvPicPr>
        <p:blipFill>
          <a:blip r:embed="rId2"/>
          <a:srcRect l="0" t="15154" r="13841" b="1514"/>
          <a:stretch/>
        </p:blipFill>
        <p:spPr>
          <a:xfrm>
            <a:off x="1857240" y="1500120"/>
            <a:ext cx="5786640" cy="46116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333360" y="4572000"/>
            <a:ext cx="2530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Выносные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сплошные тон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820160" y="5572080"/>
            <a:ext cx="2643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змерные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сплошные тон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6584400" y="4500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7013160" y="4500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360920" y="4500720"/>
            <a:ext cx="38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3960000" y="5000760"/>
            <a:ext cx="26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змер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          </a:t>
            </a:r>
            <a:r>
              <a:rPr b="1" lang="ru-RU" sz="1800" spc="-1" strike="noStrike">
                <a:solidFill>
                  <a:srgbClr val="2a3211"/>
                </a:solidFill>
                <a:latin typeface="Constantia"/>
              </a:rPr>
              <a:t>шрифт 3,5 …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558000" y="1928880"/>
            <a:ext cx="23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П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линии-выно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498240" y="285768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e6d"/>
                </a:solidFill>
                <a:latin typeface="Constantia"/>
              </a:rPr>
              <a:t>Линия-вын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Documents and Settings\Ольга\Мои документы\Мои рисунки\2008-10-09\IMAGE0242.JPG"/>
          <p:cNvPicPr/>
          <p:nvPr/>
        </p:nvPicPr>
        <p:blipFill>
          <a:blip r:embed="rId3"/>
          <a:stretch/>
        </p:blipFill>
        <p:spPr>
          <a:xfrm>
            <a:off x="6643800" y="5500800"/>
            <a:ext cx="1849320" cy="10062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5"/>
          <p:cNvSpPr/>
          <p:nvPr/>
        </p:nvSpPr>
        <p:spPr>
          <a:xfrm>
            <a:off x="6971760" y="50720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Стре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66304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Ольга\Мои документы\Мои рисунки\2008-10-09\IMAGE0249.JPG"/>
          <p:cNvPicPr/>
          <p:nvPr/>
        </p:nvPicPr>
        <p:blipFill>
          <a:blip r:embed="rId2">
            <a:lum bright="10000"/>
          </a:blip>
          <a:srcRect l="0" t="4351" r="0" b="0"/>
          <a:stretch/>
        </p:blipFill>
        <p:spPr>
          <a:xfrm>
            <a:off x="836640" y="2643120"/>
            <a:ext cx="7537320" cy="31431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06080" y="1500120"/>
            <a:ext cx="800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Пересечение выносных и размерных линий на черте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недопустимо, поэтому меньшие размеры наносят бли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303e"/>
                </a:solidFill>
                <a:latin typeface="Constantia"/>
              </a:rPr>
              <a:t>к контуру детали, а большие –да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514160" y="5857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Целесообразность нанесения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:\Documents and Settings\Ольга\Мои документы\Мои рисунки\2008-09-23\IMAGE0081.JPG"/>
          <p:cNvPicPr/>
          <p:nvPr/>
        </p:nvPicPr>
        <p:blipFill>
          <a:blip r:embed="rId3"/>
          <a:srcRect l="17263" t="0" r="19320" b="8312"/>
          <a:stretch/>
        </p:blipFill>
        <p:spPr>
          <a:xfrm>
            <a:off x="3500280" y="48578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Ольга\Мои документы\Мои рисунки\2008-09-23\IMAGE0080.JPG"/>
          <p:cNvPicPr/>
          <p:nvPr/>
        </p:nvPicPr>
        <p:blipFill>
          <a:blip r:embed="rId4"/>
          <a:srcRect l="20874" t="0" r="16667" b="8312"/>
          <a:stretch/>
        </p:blipFill>
        <p:spPr>
          <a:xfrm>
            <a:off x="6143760" y="4929120"/>
            <a:ext cx="8571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Ольга\Мои документы\Мои рисунки\2008-10-09\IMAGE0245.JPG"/>
          <p:cNvPicPr/>
          <p:nvPr/>
        </p:nvPicPr>
        <p:blipFill>
          <a:blip r:embed="rId2">
            <a:lum bright="10000"/>
          </a:blip>
          <a:srcRect l="74008" t="24280" r="10478" b="20015"/>
          <a:stretch/>
        </p:blipFill>
        <p:spPr>
          <a:xfrm>
            <a:off x="5214960" y="56437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Documents and Settings\Ольга\Мои документы\Мои рисунки\2008-10-09\IMAGE0247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42960" y="2286000"/>
            <a:ext cx="4103640" cy="342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Documents and Settings\Ольга\Мои документы\Мои рисунки\2008-10-09\IMAGE0245.JPG"/>
          <p:cNvPicPr/>
          <p:nvPr/>
        </p:nvPicPr>
        <p:blipFill>
          <a:blip r:embed="rId4">
            <a:lum bright="10000"/>
          </a:blip>
          <a:srcRect l="52295" t="14327" r="28063" b="10098"/>
          <a:stretch/>
        </p:blipFill>
        <p:spPr>
          <a:xfrm>
            <a:off x="5214960" y="2286000"/>
            <a:ext cx="1300320" cy="92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Ольга\Мои документы\Мои рисунки\2008-10-09\IMAGE0245.JPG"/>
          <p:cNvPicPr/>
          <p:nvPr/>
        </p:nvPicPr>
        <p:blipFill>
          <a:blip r:embed="rId5">
            <a:lum bright="10000"/>
          </a:blip>
          <a:srcRect l="11236" t="18410" r="70956" b="12577"/>
          <a:stretch/>
        </p:blipFill>
        <p:spPr>
          <a:xfrm>
            <a:off x="5214960" y="4500720"/>
            <a:ext cx="1290600" cy="928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:\Documents and Settings\Ольга\Мои документы\Мои рисунки\2008-10-09\IMAGE0245.JPG"/>
          <p:cNvPicPr/>
          <p:nvPr/>
        </p:nvPicPr>
        <p:blipFill>
          <a:blip r:embed="rId6">
            <a:lum bright="10000"/>
          </a:blip>
          <a:srcRect l="33457" t="18009" r="49824" b="14437"/>
          <a:stretch/>
        </p:blipFill>
        <p:spPr>
          <a:xfrm>
            <a:off x="5214960" y="3357720"/>
            <a:ext cx="1285920" cy="965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-234720" y="1500120"/>
            <a:ext cx="9137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Количество размеров на чертеже должно быть минималь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72428"/>
                </a:solidFill>
                <a:latin typeface="Constantia"/>
              </a:rPr>
              <a:t>но достаточным для изготовления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06080" y="5715000"/>
            <a:ext cx="372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Нанесение разм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с использованием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6502680" y="2357280"/>
            <a:ext cx="163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ДИА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211"/>
                </a:solidFill>
                <a:latin typeface="Constantia"/>
              </a:rPr>
              <a:t>ТОЛ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59644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Ольга\Мои документы\Мои рисунки\2008-10-09\IMAGE0244.JPG"/>
          <p:cNvPicPr/>
          <p:nvPr/>
        </p:nvPicPr>
        <p:blipFill>
          <a:blip r:embed="rId2">
            <a:lum bright="10000"/>
          </a:blip>
          <a:srcRect l="1690" t="0" r="67028" b="0"/>
          <a:stretch/>
        </p:blipFill>
        <p:spPr>
          <a:xfrm>
            <a:off x="428760" y="1643040"/>
            <a:ext cx="2643120" cy="4786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Ольга\Мои документы\Мои рисунки\2008-10-09\IMAGE0244.JPG"/>
          <p:cNvPicPr/>
          <p:nvPr/>
        </p:nvPicPr>
        <p:blipFill>
          <a:blip r:embed="rId3"/>
          <a:srcRect l="66144" t="0" r="1575" b="0"/>
          <a:stretch/>
        </p:blipFill>
        <p:spPr>
          <a:xfrm>
            <a:off x="5929200" y="1643040"/>
            <a:ext cx="2727360" cy="4786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Ольга\Мои документы\Мои рисунки\2008-10-09\IMAGE0244.JPG"/>
          <p:cNvPicPr/>
          <p:nvPr/>
        </p:nvPicPr>
        <p:blipFill>
          <a:blip r:embed="rId4"/>
          <a:srcRect l="33045" t="0" r="32174" b="0"/>
          <a:stretch/>
        </p:blipFill>
        <p:spPr>
          <a:xfrm>
            <a:off x="3071880" y="1643040"/>
            <a:ext cx="29383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5964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Ольга\Мои документы\Мои рисунки\2008-10-09\IMAGE0252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85920" y="1571760"/>
            <a:ext cx="6643800" cy="41050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1634400" y="5786280"/>
            <a:ext cx="59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В заштрихованных зонах разм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Constantia"/>
              </a:rPr>
              <a:t>помещают на линии-выно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6040" y="701640"/>
            <a:ext cx="884556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Documents and Settings\Ольга\Мои документы\Мои рисунки\2008-10-09\IMAGE0250.JPG"/>
          <p:cNvPicPr/>
          <p:nvPr/>
        </p:nvPicPr>
        <p:blipFill>
          <a:blip r:embed="rId2"/>
          <a:srcRect l="0" t="0" r="41172" b="0"/>
          <a:stretch/>
        </p:blipFill>
        <p:spPr>
          <a:xfrm>
            <a:off x="571680" y="1571760"/>
            <a:ext cx="3990960" cy="46432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4359960" y="1571760"/>
            <a:ext cx="47498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Размеры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величины отверстий, паз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выступов и вые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Координирующие 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размеры, показы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расположение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относительно контура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и  друг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2428"/>
                </a:solidFill>
                <a:latin typeface="Constantia"/>
              </a:rPr>
              <a:t>Габарит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наибольшие размеры де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5964"/>
                </a:solidFill>
                <a:latin typeface="Constantia"/>
              </a:rPr>
              <a:t>по длине, ширине и выс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7:21Z</dcterms:created>
  <dc:creator>Home</dc:creator>
  <dc:description/>
  <dc:language>en-US</dc:language>
  <cp:lastModifiedBy>ПК</cp:lastModifiedBy>
  <dcterms:modified xsi:type="dcterms:W3CDTF">2017-11-23T08:29:17Z</dcterms:modified>
  <cp:revision>80</cp:revision>
  <dc:subject/>
  <dc:title>Слайд 1</dc:title>
</cp:coreProperties>
</file>