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386-894B-4AC1-A3E6-00F5F22A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9C3-BB83-4444-A6F2-D31E975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EF7-E353-444C-A987-8B566DEE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1B5-3238-4689-AF3F-1274C195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861C-289C-4B5A-9525-E2BF9A37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CF50-CC9D-42FA-853C-1ECB736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8D5-CEE6-4F09-8FB1-0D00348F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1885-C185-4546-A658-71E77AA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C9E-CA4F-496E-8E66-9E0E39E4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4BE-9872-459F-9226-781B13A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9A2-9E15-46F4-824C-1DFA38E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A5F-84A5-4DCF-BC97-BE0562C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4ACB-59CC-4709-990A-574360B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AD9-8633-471A-9908-85B1D8B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124-BE81-4D85-B878-58680F4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A6E-EF2E-4C1A-BE5B-BB850976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2BE-4B38-45DC-8C57-F2A98DF2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BC6D-AC4E-4D7D-A246-8983F3C2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9DFF-940D-4E2A-AD75-C180358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368B-541F-4B05-966F-2D458F7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522C-ACC6-40B9-9F0B-F8F6A8B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CC6F-55F0-44D7-8FD6-39CD8140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4E4-0C9F-4DD2-BC3E-ABC25A2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041B-E27D-455A-BE78-93A8353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C638-FD94-41BA-B284-11A6827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5AC4-F3E9-4E9F-A7D8-C2BD397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2F0F-687D-4A44-A464-8AF3ABF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6492-55DC-4A85-89FA-464E3AB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C7E2-F502-4816-9300-E9B4F9DF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2C6F-B7D7-4B9E-AA49-4485E865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4A7C-8816-4F8F-940B-3F1D0C1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36B4-1319-4228-9AC1-E93BFB7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3A84-240E-400E-B2A6-142744A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DE9-DE67-44DE-942F-D8C9477A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CECB-CA8B-4FA2-AA7A-2E6354D8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1AE1-F2B6-4C48-9DC7-D135C03B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ED4F0-1F7F-4A8E-9942-472FC42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49E9-F97D-4280-AECA-7A8AF32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503B-5A5F-4761-8541-2EC1603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FEC3-2A5A-4FAD-9B8F-9B716F8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9892-AD06-4AAD-B55F-B32A2DC5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1038-6361-46D2-B65A-0FF1AD61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1248-A15C-44C6-B01C-64A5CB42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230-6920-4175-AE7D-012308B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AAF-A3DC-4D97-BC66-D73C7827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775-1F37-42A7-84C8-26171C5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E2D-F72D-46DB-B44D-55B9EEC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63C-43B1-46BA-8B5D-8292818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928-C299-4D6A-A698-86C91E49AD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4AB-8DBC-423E-BD71-836932AE88F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D3FC-9325-45AA-8850-E91B52F9FFF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7EB3-EC7C-409C-91B2-6A159956F2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2719440" y="353880"/>
            <a:ext cx="122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Ольга\Мои документы\Мои рисунки\2008-10-09\IMAGE0249.JPG"/>
          <p:cNvPicPr/>
          <p:nvPr/>
        </p:nvPicPr>
        <p:blipFill>
          <a:blip r:embed="rId1">
            <a:lum bright="10000"/>
          </a:blip>
          <a:srcRect l="0" t="0" r="54416" b="0"/>
          <a:stretch/>
        </p:blipFill>
        <p:spPr>
          <a:xfrm>
            <a:off x="1214280" y="2643120"/>
            <a:ext cx="2214720" cy="211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Ольга\Мои документы\Мои рисунки\2008-10-09\IMAGE0240.JPG"/>
          <p:cNvPicPr/>
          <p:nvPr/>
        </p:nvPicPr>
        <p:blipFill>
          <a:blip r:embed="rId2">
            <a:lum bright="10000"/>
          </a:blip>
          <a:srcRect l="8091" t="0" r="46117" b="34255"/>
          <a:stretch/>
        </p:blipFill>
        <p:spPr>
          <a:xfrm>
            <a:off x="6083280" y="2643120"/>
            <a:ext cx="1820880" cy="2143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3542040" y="164304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Раз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1359720" y="21430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Constantia"/>
              </a:rPr>
              <a:t>Лин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6118200" y="214308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Constantia"/>
              </a:rPr>
              <a:t>Уг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Заголовок 11" descr=""/>
          <p:cNvPicPr/>
          <p:nvPr/>
        </p:nvPicPr>
        <p:blipFill>
          <a:blip r:embed="rId3"/>
          <a:stretch/>
        </p:blipFill>
        <p:spPr>
          <a:xfrm>
            <a:off x="189000" y="281160"/>
            <a:ext cx="86202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202" name="Прямая со стрелкой 13"/>
          <p:cNvCxnSpPr/>
          <p:nvPr/>
        </p:nvCxnSpPr>
        <p:spPr>
          <a:xfrm>
            <a:off x="5643360" y="207144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Прямая со стрелкой 14"/>
          <p:cNvCxnSpPr/>
          <p:nvPr/>
        </p:nvCxnSpPr>
        <p:spPr>
          <a:xfrm flipH="1">
            <a:off x="3214080" y="207072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TextBox 17"/>
          <p:cNvSpPr/>
          <p:nvPr/>
        </p:nvSpPr>
        <p:spPr>
          <a:xfrm>
            <a:off x="649440" y="4857840"/>
            <a:ext cx="356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ля  измерения отрез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в  миллиметрах  (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(слово «ММ» не пиш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5520240" y="4929120"/>
            <a:ext cx="30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ля измерения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в  град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146160" y="122400"/>
            <a:ext cx="8431200" cy="124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Ольга\Мои документы\Мои рисунки\2008-10-09\Элементы.JPG"/>
          <p:cNvPicPr/>
          <p:nvPr/>
        </p:nvPicPr>
        <p:blipFill>
          <a:blip r:embed="rId2"/>
          <a:srcRect l="0" t="15154" r="13841" b="1514"/>
          <a:stretch/>
        </p:blipFill>
        <p:spPr>
          <a:xfrm>
            <a:off x="1857240" y="1500120"/>
            <a:ext cx="5786640" cy="4611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33360" y="4572000"/>
            <a:ext cx="2530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Выносные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сплошные тон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820160" y="5572080"/>
            <a:ext cx="2643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змерные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сплошные тон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6584400" y="4500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7013160" y="4500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360920" y="450072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3960000" y="5000760"/>
            <a:ext cx="26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змер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          </a:t>
            </a: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шрифт 3,5 …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58000" y="1928880"/>
            <a:ext cx="23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П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линии-выно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498240" y="285768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Линия-вын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Documents and Settings\Ольга\Мои документы\Мои рисунки\2008-10-09\IMAGE0242.JPG"/>
          <p:cNvPicPr/>
          <p:nvPr/>
        </p:nvPicPr>
        <p:blipFill>
          <a:blip r:embed="rId3"/>
          <a:stretch/>
        </p:blipFill>
        <p:spPr>
          <a:xfrm>
            <a:off x="6643800" y="5500800"/>
            <a:ext cx="1849320" cy="1006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5"/>
          <p:cNvSpPr/>
          <p:nvPr/>
        </p:nvSpPr>
        <p:spPr>
          <a:xfrm>
            <a:off x="6971760" y="50720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Стре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Ольга\Мои документы\Мои рисунки\2008-10-09\IMAGE0249.JPG"/>
          <p:cNvPicPr/>
          <p:nvPr/>
        </p:nvPicPr>
        <p:blipFill>
          <a:blip r:embed="rId2">
            <a:lum bright="10000"/>
          </a:blip>
          <a:srcRect l="0" t="4351" r="0" b="0"/>
          <a:stretch/>
        </p:blipFill>
        <p:spPr>
          <a:xfrm>
            <a:off x="836640" y="2643120"/>
            <a:ext cx="7537320" cy="31431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06080" y="1500120"/>
            <a:ext cx="800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Пересечение выносных и размерных линий на черте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недопустимо, поэтому меньшие размеры наносят бли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к контуру детали, а большие –да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514160" y="5857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Целесообразность нанесения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:\Documents and Settings\Ольга\Мои документы\Мои рисунки\2008-09-23\IMAGE0081.JPG"/>
          <p:cNvPicPr/>
          <p:nvPr/>
        </p:nvPicPr>
        <p:blipFill>
          <a:blip r:embed="rId3"/>
          <a:srcRect l="17263" t="0" r="19320" b="8312"/>
          <a:stretch/>
        </p:blipFill>
        <p:spPr>
          <a:xfrm>
            <a:off x="3500280" y="4857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Ольга\Мои документы\Мои рисунки\2008-09-23\IMAGE0080.JPG"/>
          <p:cNvPicPr/>
          <p:nvPr/>
        </p:nvPicPr>
        <p:blipFill>
          <a:blip r:embed="rId4"/>
          <a:srcRect l="20874" t="0" r="16667" b="8312"/>
          <a:stretch/>
        </p:blipFill>
        <p:spPr>
          <a:xfrm>
            <a:off x="6143760" y="4929120"/>
            <a:ext cx="857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Ольга\Мои документы\Мои рисунки\2008-10-09\IMAGE0245.JPG"/>
          <p:cNvPicPr/>
          <p:nvPr/>
        </p:nvPicPr>
        <p:blipFill>
          <a:blip r:embed="rId2">
            <a:lum bright="10000"/>
          </a:blip>
          <a:srcRect l="74008" t="24280" r="10478" b="20015"/>
          <a:stretch/>
        </p:blipFill>
        <p:spPr>
          <a:xfrm>
            <a:off x="5214960" y="56437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Ольга\Мои документы\Мои рисунки\2008-10-09\IMAGE0247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42960" y="2286000"/>
            <a:ext cx="4103640" cy="342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Documents and Settings\Ольга\Мои документы\Мои рисунки\2008-10-09\IMAGE0245.JPG"/>
          <p:cNvPicPr/>
          <p:nvPr/>
        </p:nvPicPr>
        <p:blipFill>
          <a:blip r:embed="rId4">
            <a:lum bright="10000"/>
          </a:blip>
          <a:srcRect l="52295" t="14327" r="28063" b="10098"/>
          <a:stretch/>
        </p:blipFill>
        <p:spPr>
          <a:xfrm>
            <a:off x="5214960" y="2286000"/>
            <a:ext cx="1300320" cy="9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Ольга\Мои документы\Мои рисунки\2008-10-09\IMAGE0245.JPG"/>
          <p:cNvPicPr/>
          <p:nvPr/>
        </p:nvPicPr>
        <p:blipFill>
          <a:blip r:embed="rId5">
            <a:lum bright="10000"/>
          </a:blip>
          <a:srcRect l="11236" t="18410" r="70956" b="12577"/>
          <a:stretch/>
        </p:blipFill>
        <p:spPr>
          <a:xfrm>
            <a:off x="5214960" y="4500720"/>
            <a:ext cx="1290600" cy="928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Documents and Settings\Ольга\Мои документы\Мои рисунки\2008-10-09\IMAGE0245.JPG"/>
          <p:cNvPicPr/>
          <p:nvPr/>
        </p:nvPicPr>
        <p:blipFill>
          <a:blip r:embed="rId6">
            <a:lum bright="10000"/>
          </a:blip>
          <a:srcRect l="33457" t="18009" r="49824" b="14437"/>
          <a:stretch/>
        </p:blipFill>
        <p:spPr>
          <a:xfrm>
            <a:off x="5214960" y="3357720"/>
            <a:ext cx="1285920" cy="965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-234720" y="1500120"/>
            <a:ext cx="9137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Количество размеров на чертеже должно быть минималь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но достаточным для изготовления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06080" y="5715000"/>
            <a:ext cx="37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Нанесение раз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с использованием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6502680" y="2357280"/>
            <a:ext cx="163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ДИА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ТОЛ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59644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Ольга\Мои документы\Мои рисунки\2008-10-09\IMAGE0244.JPG"/>
          <p:cNvPicPr/>
          <p:nvPr/>
        </p:nvPicPr>
        <p:blipFill>
          <a:blip r:embed="rId2">
            <a:lum bright="10000"/>
          </a:blip>
          <a:srcRect l="1690" t="0" r="67028" b="0"/>
          <a:stretch/>
        </p:blipFill>
        <p:spPr>
          <a:xfrm>
            <a:off x="428760" y="1643040"/>
            <a:ext cx="2643120" cy="4786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Ольга\Мои документы\Мои рисунки\2008-10-09\IMAGE0244.JPG"/>
          <p:cNvPicPr/>
          <p:nvPr/>
        </p:nvPicPr>
        <p:blipFill>
          <a:blip r:embed="rId3"/>
          <a:srcRect l="66144" t="0" r="1575" b="0"/>
          <a:stretch/>
        </p:blipFill>
        <p:spPr>
          <a:xfrm>
            <a:off x="5929200" y="1643040"/>
            <a:ext cx="2727360" cy="4786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Ольга\Мои документы\Мои рисунки\2008-10-09\IMAGE0244.JPG"/>
          <p:cNvPicPr/>
          <p:nvPr/>
        </p:nvPicPr>
        <p:blipFill>
          <a:blip r:embed="rId4"/>
          <a:srcRect l="33045" t="0" r="32174" b="0"/>
          <a:stretch/>
        </p:blipFill>
        <p:spPr>
          <a:xfrm>
            <a:off x="3071880" y="1643040"/>
            <a:ext cx="29383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5964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Ольга\Мои документы\Мои рисунки\2008-10-09\IMAGE0252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85920" y="1571760"/>
            <a:ext cx="6643800" cy="41050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1634400" y="5786280"/>
            <a:ext cx="59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В заштрихованных зонах разм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помещают на линии-выно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84556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Documents and Settings\Ольга\Мои документы\Мои рисунки\2008-10-09\IMAGE0250.JPG"/>
          <p:cNvPicPr/>
          <p:nvPr/>
        </p:nvPicPr>
        <p:blipFill>
          <a:blip r:embed="rId2"/>
          <a:srcRect l="0" t="0" r="41172" b="0"/>
          <a:stretch/>
        </p:blipFill>
        <p:spPr>
          <a:xfrm>
            <a:off x="571680" y="1571760"/>
            <a:ext cx="3990960" cy="46432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4359960" y="1571760"/>
            <a:ext cx="47498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Размеры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величины отверстий, паз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выступов и вые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Координирующие 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размеры, показы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расположение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относительно контура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и  друг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Габарит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наибольшие размеры де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по длине, ширине и выс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7:21Z</dcterms:created>
  <dc:creator>Home</dc:creator>
  <dc:description/>
  <dc:language>en-US</dc:language>
  <cp:lastModifiedBy>ПК</cp:lastModifiedBy>
  <dcterms:modified xsi:type="dcterms:W3CDTF">2017-11-23T08:29:17Z</dcterms:modified>
  <cp:revision>80</cp:revision>
  <dc:subject/>
  <dc:title>Слайд 1</dc:title>
</cp:coreProperties>
</file>