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C70A-713F-4740-BB7E-26F8378C9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7D52-19C6-4CDF-A10B-298F38670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690B-6D5C-4246-BDDD-B5D066268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876E-8F4F-4224-B427-56ADBE35C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309B-9CF3-470C-A5E0-C2693DEE4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A607-6488-4CAF-B6F2-44458F2D9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EC48-813E-48FC-971E-62C3799E9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5478-2ECB-4C05-83BC-CEBFA4131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33BA-A1FF-47F9-BA58-AD0A485DA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07D4-060A-4411-95A3-B750834AE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C18F-430F-4356-9F93-0B01199E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41F2-7586-44E6-9B4B-E064D6F90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6C6A5-4120-45B1-8E54-D884D11F57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" Target=""/><Relationship Id="rId4" Type="http://schemas.openxmlformats.org/officeDocument/2006/relationships/image" Target="../media/image3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jpe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2" descr="C:\Users\Public\Pictures\Sample Pictures\iY95QX0G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Заголовок 3" descr=""/>
          <p:cNvPicPr/>
          <p:nvPr/>
        </p:nvPicPr>
        <p:blipFill>
          <a:blip r:embed="rId2"/>
          <a:stretch/>
        </p:blipFill>
        <p:spPr>
          <a:xfrm>
            <a:off x="3206880" y="334800"/>
            <a:ext cx="3084480" cy="933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C:\Users\Телей школа\Desktop\IMG-20171024-WA0048.jp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797520" y="3614760"/>
            <a:ext cx="2249640" cy="2627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C:\Users\Телей школа\Desktop\IMG-20171024-WA0045.jpg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852640" y="4145040"/>
            <a:ext cx="1798560" cy="25797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C:\Users\Телей школа\Desktop\IMG-20171024-WA0043.jpg"/>
          <p:cNvPicPr/>
          <p:nvPr/>
        </p:nvPicPr>
        <p:blipFill>
          <a:blip r:embed="rId7"/>
          <a:stretch/>
        </p:blipFill>
        <p:spPr>
          <a:xfrm>
            <a:off x="4791240" y="4206960"/>
            <a:ext cx="1933560" cy="2297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C:\Users\Телей школа\Desktop\IMG-20171024-WA0044.jpg"/>
          <p:cNvPicPr/>
          <p:nvPr/>
        </p:nvPicPr>
        <p:blipFill>
          <a:blip r:embed="rId8"/>
          <a:stretch/>
        </p:blipFill>
        <p:spPr>
          <a:xfrm>
            <a:off x="-6480" y="353880"/>
            <a:ext cx="2438640" cy="2797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C:\Users\Телей школа\Desktop\IMG-20171024-WA0047.jpg"/>
          <p:cNvPicPr/>
          <p:nvPr/>
        </p:nvPicPr>
        <p:blipFill>
          <a:blip r:embed="rId9"/>
          <a:stretch/>
        </p:blipFill>
        <p:spPr>
          <a:xfrm>
            <a:off x="6851520" y="420840"/>
            <a:ext cx="2298960" cy="2584440"/>
          </a:xfrm>
          <a:prstGeom prst="rect">
            <a:avLst/>
          </a:prstGeom>
          <a:ln w="0">
            <a:noFill/>
          </a:ln>
        </p:spPr>
      </p:pic>
      <p:sp>
        <p:nvSpPr>
          <p:cNvPr id="48" name="TextBox 11"/>
          <p:cNvSpPr/>
          <p:nvPr/>
        </p:nvSpPr>
        <p:spPr>
          <a:xfrm>
            <a:off x="2500200" y="1643040"/>
            <a:ext cx="44290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Реклама новых изданий и поступлений. Обновляется раз в месяц. В каждой книге  находится краткое  содержание литературы, для  привлечения интересов  дет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1" descr=""/>
          <p:cNvPicPr/>
          <p:nvPr/>
        </p:nvPicPr>
        <p:blipFill>
          <a:blip r:embed="rId10"/>
          <a:stretch/>
        </p:blipFill>
        <p:spPr>
          <a:xfrm rot="4636200">
            <a:off x="-9720" y="4189680"/>
            <a:ext cx="261936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2" descr="C:\Users\Public\Pictures\Sample Pictures\iY95QX0G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85880" y="3567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алаах дьон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дрей Кривошапкин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Содержимое 2"/>
          <p:cNvSpPr/>
          <p:nvPr/>
        </p:nvSpPr>
        <p:spPr>
          <a:xfrm>
            <a:off x="2914560" y="2903400"/>
            <a:ext cx="565812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Таба</a:t>
            </a:r>
            <a:r>
              <a:rPr b="0" lang="en-US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h</a:t>
            </a:r>
            <a:r>
              <a:rPr b="0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ыттар билинни  олохторо итэ5этиилээхтик кердеруллэр. Тун  былыргы ураты  культуралаах эбээн норуотун инники дьыл5атын бы</a:t>
            </a:r>
            <a:r>
              <a:rPr b="0" lang="en-US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h</a:t>
            </a:r>
            <a:r>
              <a:rPr b="0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аарар тереебут тыл, угэс буолбут олохторун уонна сиэр-майгы боппуруостара аа5ааччы интириэьин тардар.  Ааптар норуоттар до5ордоьууларын, ейде</a:t>
            </a:r>
            <a:r>
              <a:rPr b="0" lang="en-US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h</a:t>
            </a:r>
            <a:r>
              <a:rPr b="0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уулэрин, ейе</a:t>
            </a:r>
            <a:r>
              <a:rPr b="0" lang="en-US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h</a:t>
            </a:r>
            <a:r>
              <a:rPr b="0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уулэрин кердербутэ  кэрэхсэбиллээх</a:t>
            </a: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142920" y="2928960"/>
            <a:ext cx="27147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…Арай ейдеебутэ- бу иэдээни! Бы</a:t>
            </a:r>
            <a:r>
              <a:rPr b="0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5ын муччу тутан кээспит эбит! Кэтэ</a:t>
            </a:r>
            <a:r>
              <a:rPr b="0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р кыыл тыына билиннэ.Отакчаан, эргичис гынаат , тиюн-ура5а</a:t>
            </a:r>
            <a:r>
              <a:rPr b="0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ынан кыыл ардьайбыт тиистэрдээх айа5ын туора саайда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C:\Users\Иннокентий Саввич\Desktop\Аммосова МИ\Аммосова МИ\3.jpg"/>
          <p:cNvPicPr/>
          <p:nvPr/>
        </p:nvPicPr>
        <p:blipFill>
          <a:blip r:embed="rId2"/>
          <a:stretch/>
        </p:blipFill>
        <p:spPr>
          <a:xfrm>
            <a:off x="500040" y="285840"/>
            <a:ext cx="2071800" cy="24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2" descr="C:\Users\Public\Pictures\Sample Pictures\iY95QX0G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43040" y="6854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птыыбын…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пот сердца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85680" y="2643120"/>
            <a:ext cx="601524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17375e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Бу кинигэ5э Саха норуодунай суруйааччыта  Н.Е. Мординов – Амма Аччыгыйа аатынан Саха Ереспуубулукэтин «Кэскил» о5о бэчээтин кыьата 2015 сылга «Айар ыллык»  диэн о5о5о аналлаах айымньыны суруйууга сабыылаах улахан курэ5ин кыайыылаахтарын айымньылара  тумуллэн киирбиттэр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214200" y="2714760"/>
            <a:ext cx="2714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«…Ньургун сулбу хааман паартатыгар олороот, хара5ынан Дайаананы булан ылла. Кыыс кэмчиэрийбит керуннээх, сотору-сотору суу</a:t>
            </a:r>
            <a:r>
              <a:rPr b="0" lang="en-US" sz="1800" spc="-1" strike="noStrike">
                <a:solidFill>
                  <a:srgbClr val="002060"/>
                </a:solidFill>
                <a:latin typeface="Calibri"/>
              </a:rPr>
              <a:t>h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угэр саба ту</a:t>
            </a:r>
            <a:r>
              <a:rPr b="0" lang="en-US" sz="1800" spc="-1" strike="noStrike">
                <a:solidFill>
                  <a:srgbClr val="002060"/>
                </a:solidFill>
                <a:latin typeface="Calibri"/>
              </a:rPr>
              <a:t>h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эр батта5ын суумэ5ин у</a:t>
            </a:r>
            <a:r>
              <a:rPr b="0" lang="en-US" sz="1800" spc="-1" strike="noStrike">
                <a:solidFill>
                  <a:srgbClr val="002060"/>
                </a:solidFill>
                <a:latin typeface="Calibri"/>
              </a:rPr>
              <a:t>h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ун нарын тарбахтарынан ерутэ анньыммахтыыр. Кэккэлэ</a:t>
            </a:r>
            <a:r>
              <a:rPr b="0" lang="en-US" sz="1800" spc="-1" strike="noStrike">
                <a:solidFill>
                  <a:srgbClr val="002060"/>
                </a:solidFill>
                <a:latin typeface="Calibri"/>
              </a:rPr>
              <a:t>h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э Дима олорбут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C:\Users\Иннокентий Саввич\Desktop\Аммосова МИ\Аммосова МИ\2.jpg"/>
          <p:cNvPicPr/>
          <p:nvPr/>
        </p:nvPicPr>
        <p:blipFill>
          <a:blip r:embed="rId2"/>
          <a:stretch/>
        </p:blipFill>
        <p:spPr>
          <a:xfrm>
            <a:off x="642960" y="285840"/>
            <a:ext cx="189216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2" descr="C:\Users\Public\Pictures\Sample Pictures\iY95QX0G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57320" y="356760"/>
            <a:ext cx="61578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ретная любовь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ислав Авдее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100400" y="2928960"/>
            <a:ext cx="497232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Они любили друг друга наперекор  всему, коммунист и ссыльнопоселенка, якут и немка. Не тюрьма, не лагерь не могли сломить их. Это трагическая история  любви не кого не оставит равнодушны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142920" y="3000240"/>
            <a:ext cx="41432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«…Проводив Марту до самого барака, пожелал ей спокойной ночи, подождал, пока за дверью затихнут ее шаги, и двинулся в село. Отошел недалеко, и тут же дорогу преградил высокий немец, тот, что не хотел говорить, в какой комнате живет Марта. Широко расставив ноги и подбоченившись, он с угрозой сказа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- Больше здесь не появляйся, а то голову оторву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C:\Users\Иннокентий Саввич\Desktop\Аммосова МИ\Аммосова МИ\12.jpg"/>
          <p:cNvPicPr/>
          <p:nvPr/>
        </p:nvPicPr>
        <p:blipFill>
          <a:blip r:embed="rId2"/>
          <a:stretch/>
        </p:blipFill>
        <p:spPr>
          <a:xfrm>
            <a:off x="928800" y="177840"/>
            <a:ext cx="1785960" cy="26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2" descr="C:\Users\Public\Pictures\Sample Pictures\iY95QX0G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71600" y="713880"/>
            <a:ext cx="69436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тталлаах сундуук</a:t>
            </a:r>
            <a:br>
              <a:rPr sz="4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П. Федотова - Нулгынэ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142800" y="2445840"/>
            <a:ext cx="554364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История  араас кэмнэрэ, ол иьигэр  репрессия ыар сыллара, суола –ииьэ суох хаалбаттара , дьон-сэргэ дьыл5атыгар улаханнык  дьайбыттара бу  кинигэ5э итэ5этиилээхтик ойуулана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7" descr="C:\Users\Телей школа\Desktop\IMG-20171024-WA0045.jpg"/>
          <p:cNvPicPr/>
          <p:nvPr/>
        </p:nvPicPr>
        <p:blipFill>
          <a:blip r:embed="rId2"/>
          <a:stretch/>
        </p:blipFill>
        <p:spPr>
          <a:xfrm>
            <a:off x="420840" y="208080"/>
            <a:ext cx="1798560" cy="25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2" descr="C:\Users\Public\Pictures\Sample Pictures\iY95QX0G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14760" y="428400"/>
            <a:ext cx="62863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волшебной стране  </a:t>
            </a:r>
            <a:br>
              <a:rPr sz="44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.В. Мигалкин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928600" y="2286000"/>
            <a:ext cx="572940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В  книге  вошли сказки о необыкновенных приключениях забавных игрушек, а  также  стихи посвященных детям младшего возрас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7" descr="C:\Users\Иннокентий Саввич\Desktop\Аммосова МИ\Аммосова МИ\1.jpg"/>
          <p:cNvPicPr/>
          <p:nvPr/>
        </p:nvPicPr>
        <p:blipFill>
          <a:blip r:embed="rId2"/>
          <a:stretch/>
        </p:blipFill>
        <p:spPr>
          <a:xfrm>
            <a:off x="357120" y="357120"/>
            <a:ext cx="228600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2" descr="C:\Users\Public\Pictures\Sample Pictures\iY95QX0G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99840" y="642600"/>
            <a:ext cx="66438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атырбыт снайпер Уйбаан Кульбертинов</a:t>
            </a:r>
            <a:br>
              <a:rPr sz="3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П. Васильев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571560" y="2786040"/>
            <a:ext cx="542916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7375e"/>
                </a:solidFill>
                <a:latin typeface="Calibri"/>
              </a:rPr>
              <a:t>            </a:t>
            </a:r>
            <a:r>
              <a:rPr b="0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Номоххо киирбит эбэнки чулуу, аатырбыт снайпер Кульбертинов Иван Николаевич бойобуой суолун туоьулуур архыып докумуоннара, буорах сыттаах фроннаа5ы  хаьыаттар, бииргэ сэриилэспит до5отторун ахтыылара хомуллан киирдилэр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6"/>
          <p:cNvSpPr/>
          <p:nvPr/>
        </p:nvSpPr>
        <p:spPr>
          <a:xfrm>
            <a:off x="142920" y="2857680"/>
            <a:ext cx="37148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…Иван ыстанан туран, хаптас, гына-гына эрийэ-буруйа суурэн , эмиэ да сыылан кыракый ханааба баарыгар хор5ойбута. Иннэ бутуннуу, ытыска уурбут курдук, а</a:t>
            </a:r>
            <a:r>
              <a:rPr b="0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а5ас сир этэ. Ханна да хаххаланар, кирийэр сир кестубэ. Кини ер кэтэспэтэ. Арай талах кэнниттэн таас диэки биир фриц сыылан и</a:t>
            </a:r>
            <a:r>
              <a:rPr b="0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рэ. Пулемет ленталарын сукпут бы</a:t>
            </a:r>
            <a:r>
              <a:rPr b="0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ыылаа5а. Кыратык тебете быкпытыгар, снайпер винтовкатын чыыбы</a:t>
            </a:r>
            <a:r>
              <a:rPr b="0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ын тардан кэбистэ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8" descr="C:\Users\Иннокентий Саввич\Desktop\Аммосова МИ\Аммосова МИ\Безымянный.jpg"/>
          <p:cNvPicPr/>
          <p:nvPr/>
        </p:nvPicPr>
        <p:blipFill>
          <a:blip r:embed="rId2"/>
          <a:stretch/>
        </p:blipFill>
        <p:spPr>
          <a:xfrm>
            <a:off x="357120" y="142920"/>
            <a:ext cx="2214720" cy="25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08T06:49:57Z</dcterms:created>
  <dc:creator>Иннокентий Саввич</dc:creator>
  <dc:description/>
  <dc:language>en-US</dc:language>
  <cp:lastModifiedBy>Иннокентий Саввич</cp:lastModifiedBy>
  <dcterms:modified xsi:type="dcterms:W3CDTF">2017-12-08T07:06:17Z</dcterms:modified>
  <cp:revision>9</cp:revision>
  <dc:subject/>
  <dc:title>Буктрейлеры</dc:title>
</cp:coreProperties>
</file>