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961C-A03F-4D5C-9375-EE1809B20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2F1D-43B3-4305-B647-8F2776886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2700-84AD-4636-B39F-D7C923914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58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58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A234-99CC-4AFC-B353-DF5203B02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42D3-A4EB-4028-B78C-0D4CB58DE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67B1-4B05-46C8-A8AF-4FA0A0B85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11E5-A5F4-4B76-9072-5177B94A4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8A63-FB1E-4028-93DB-58AA2D1E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14DC-3C1C-41E6-BFE5-6D9865D61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BE88-3F7E-4CE8-B496-8AE8EBD03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8E34-1597-4B10-A0A1-13948F15D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15E4-F3E4-436E-BB4A-724678B8B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A8244-02A1-40AE-B2ED-12C14576652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116000"/>
            <a:ext cx="87631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резентация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Тема: «Патриотическое воспитание дошкольник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9840" y="4903920"/>
            <a:ext cx="4168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«Головчинский детский сад комбинированного вида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олова Р.А., Новомлинская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03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 группах име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5360"/>
            <a:ext cx="914400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апка-передвижка «Дымковская роспись», «Профессии», «Достопримечательности села Головчино», Достопримечательности столицы нашей родины Москв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льбом для рассматривания«Моё село Головчино»  – (фото достопримечательностей села), «Наша Армия», Дети России з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дактиче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монстрационный материал по теме «Великая Отечеств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ценарии утренников «День защитника Отечества», «День Победы», «Осенн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зентации «23 февраля – День защитника Отечества», «Никто не забыт, ни что не забыто», «Этот день мы приближали как могли!», «Русские народные промыс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ая литература по 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– Белгоро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России, Белгородской области, города Грайв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74640" y="241200"/>
            <a:ext cx="7772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бовь к родному краю, родной культуре, родной речи начинается с малого – с любви к своей семье, к своему жилищу, к своему детскому саду. Постепенно расширяясь, эта любовь переходит в любовь к Родине, её истории, прошлому и настоящему, ко всему человечеству». Д.С.Лих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080" y="1590840"/>
            <a:ext cx="86328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воспитание гуманной, духовно-нравственной личности, достойных будущих граждан России, патриотов своего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итие детям чувства любви к своему родному краю, своей малой родине на основе приобщения к родной природе, культуре и тради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чувства привязанности к своему дому, детскому саду, своим близ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представлений о России, как о родной стране, о Костроме, как о родном 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патриотизма, уважение к культурному прошлому России средствами эстетического воспитания: изодеятельность, художественн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УВСТВО РОДИ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9120" y="641520"/>
            <a:ext cx="869328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– это город, в котором живет человек, и улица, на которой стоит его дом, и деревце под окном, и пение птички: все это Родина. Дошкольное детство – важнейший период становления личности человека, когда закладываются нравственные основы гражданских качеств, формируются первые представления детей об окружающем мире, обществе и куль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т возраст – имеет свои потенциальные возможности для формирования высших социальных чувств, к которым относится чувство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вство Родины начинается с восхищения тем, что видит перед собой ребенок, чему он изумляется, и что вызывает отклик в его душе…И хотя многие впечатления еще не осознанны им глубоко, но пропущены через детское восприятие, они играют огромную роль в становлении личности патри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я детей с родной страной, расширяется их представления о значении государственных символах России. Воспитывается уважительное отношение к гербу, флагу, гимну Российской Федерации. Знакомя детей со столицей нашей Родины – Москвой и другими городами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тся представления о том, что Россия – многонациональная страна с самобытными, равноправными культурами. У детей формируются основы гражданско-патриотических чувств: любовь, гордость и уважение к своей стране, ее культуре, осознанию личной причастности к жизни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равственно-патриотическом воспитании огромное значение имеет пример взрослых, близких людей. На конкретных фактах из жизни старших членов семьи: дедушек, бабушек, участников Великой Отечественной войны, их фронтовых и трудовых подвигах, прививаются детям такие важные понятия, как: долг перед Родиной, любовь к Отечеству, ненависть к врагу, трудовой подвиг.  Ребенок подводится к пониманию, что мы победили потому, что любим свою Отчиз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0320"/>
            <a:ext cx="7772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СЕМЬ-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680" y="771480"/>
            <a:ext cx="86090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 ребенка начинается с его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Родины у дошкольников  тесно связано с конкретными представлениями о том, что им близко и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о начинается у ребенка с отношения к семье, к самым близким людям – к матери, отцу, бабушке, дедушке. Это корни, связывающие его с родным домом и ближайшим окру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еседах дети рассказывают о своей семье, семейных историях, тради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87840" y="2779560"/>
            <a:ext cx="438480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малая Родина – Головчи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680" y="1081080"/>
            <a:ext cx="87757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бовь к Родине начинается с чувства любви к своему се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села – это живая история, она отражается и в биографии семьи и в судьбе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живем в Головчино, селе с необыкновенной историей, неповторимым внешним обликом. И наша задача – с самых ранних лет заложить в детях не только интерес к истории нашего села, но и воспитать чувство уважения к нему, гордость за героическое прошлое и настоящ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епосредственно-образовательной деятельности, экскурсиях, беседах детям в доступной форме даются краеведческие сведения о родном селе, об истории его возникновения, о его достопримечательностях, городских зданиях и учреждениях, знаменитых земля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у детей любовь к своему городу, подводим к пониманию, что наш город Кострома – частица Родины, поскольку во всех местах, больших и маленьких, есть много обще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люди трудятся для все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езде соблюдают традиции: Родина помнит героев, защитивших ее от вра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живут люди разных национальностей, совместно трудятся и помогают друг друг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люди берегут и охраняют при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есть общие национальные и обществен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гордость за свою малую Родину, у детей формируется желание сделать ее луч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епенно от прогулки к экскурсии, от беседы и чтения книги, у детей складывается прекрасный образ родного края, своей малой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это закладывает у детей первые основы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– будущее нашей Родины, им беречь и охранять ее просторы, ее красоты, ее богат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17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зодеятельность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30880" y="4351320"/>
            <a:ext cx="2538360" cy="1770120"/>
            <a:chOff x="6230880" y="4351320"/>
            <a:chExt cx="2538360" cy="17701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3515" r="0" b="8375"/>
            <a:stretch/>
          </p:blipFill>
          <p:spPr>
            <a:xfrm>
              <a:off x="6230880" y="4351320"/>
              <a:ext cx="25383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230880" y="4351320"/>
              <a:ext cx="2538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21520" y="2212920"/>
            <a:ext cx="2550960" cy="1670040"/>
            <a:chOff x="6221520" y="2212920"/>
            <a:chExt cx="2550960" cy="1670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rcRect l="0" t="0" r="5458" b="0"/>
            <a:stretch/>
          </p:blipFill>
          <p:spPr>
            <a:xfrm>
              <a:off x="6221520" y="2212920"/>
              <a:ext cx="2550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221520" y="2212920"/>
              <a:ext cx="255096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70040" y="1351080"/>
            <a:ext cx="2501640" cy="2268360"/>
            <a:chOff x="770040" y="1351080"/>
            <a:chExt cx="2501640" cy="22683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770040" y="1351080"/>
              <a:ext cx="25016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0040" y="1351080"/>
              <a:ext cx="2501640" cy="22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03440" y="2649600"/>
            <a:ext cx="2644920" cy="2144520"/>
            <a:chOff x="3403440" y="2649600"/>
            <a:chExt cx="2644920" cy="214452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403440" y="2649600"/>
              <a:ext cx="264492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403440" y="2649600"/>
              <a:ext cx="264492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960" y="274680"/>
            <a:ext cx="863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аздники и развлечения в ДО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7280" y="1414440"/>
            <a:ext cx="4038480" cy="3029040"/>
            <a:chOff x="287280" y="1414440"/>
            <a:chExt cx="4038480" cy="30290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7280" y="141444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87280" y="1414440"/>
              <a:ext cx="403848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724280" y="1452600"/>
            <a:ext cx="4021200" cy="2548080"/>
            <a:chOff x="4724280" y="1452600"/>
            <a:chExt cx="4021200" cy="254808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724280" y="1452600"/>
              <a:ext cx="402120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24280" y="1452600"/>
              <a:ext cx="402120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1520" y="4114800"/>
            <a:ext cx="39243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764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Экску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3280" y="1442880"/>
            <a:ext cx="4033800" cy="301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91080" y="1504800"/>
            <a:ext cx="3717720" cy="24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52920" y="4229280"/>
            <a:ext cx="36576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80880" y="0"/>
            <a:ext cx="9524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атриотическое воспитание в 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 формирование духовности, нравственно-патрио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и последовательность работы по нравственно-патриотическому воспитанию представлена в бло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й детск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ё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ультура и традиции родн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Р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удем Родине сл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 каждой теме включает: беседы,, дидактические игры, игры-беседы, игры-инсценировки, экскурсии, игры-соревнования, ра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2:17Z</dcterms:created>
  <dc:creator>Пользователь</dc:creator>
  <dc:description/>
  <dc:language>en-US</dc:language>
  <cp:lastModifiedBy>RePack by Diakov</cp:lastModifiedBy>
  <dcterms:modified xsi:type="dcterms:W3CDTF">2017-12-04T18:36:07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