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D405-6379-43C7-9741-E86A20C73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DBAE-661B-483D-987E-582C03046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64AD-61D8-4501-B079-877FEA813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38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58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38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58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E761-D665-4A75-971D-AAD6B6A23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4228-2F01-4D31-AAB3-DA263529E2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1544-5BDD-4D3C-96DB-CFBE938E4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9DBA-905A-4CAB-9796-7EE824440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B75A-942B-4764-B83D-C06BA5213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88DA-739B-449C-9500-EB0561141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C93A-8B6E-4B44-AF2F-F6198C450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0A31-5E55-4343-8909-463E0E66E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F296-6CB7-4840-949D-A0A4569CE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2824E1-26F6-444D-8572-1A992551D9A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116000"/>
            <a:ext cx="876312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Презентация.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Тема: «Патриотическое воспитание дошкольник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9840" y="4903920"/>
            <a:ext cx="41688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ДОУ «Головчинский детский сад комбинированного вида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ролова Р.А., Новомлинская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031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 группах име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95360"/>
            <a:ext cx="9144000" cy="63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апка-передвижка «Дымковская роспись», «Профессии», «Достопримечательности села Головчино», Достопримечательности столицы нашей родины Москв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льбом для рассматривания«Моё село Головчино»  – (фото достопримечательностей села), «Наша Армия», Дети России з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дидактически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монстрационный материал по теме «Великая Отечественн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ценарии утренников «День защитника Отечества», «День Победы», «Осенни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зентации «23 февраля – День защитника Отечества», «Никто не забыт, ни что не забыто», «Этот день мы приближали как могли!», «Русские народные промыс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ественная литература по патриотическому воспит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а – Белгород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ы России, Белгородской области, города Грайв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74640" y="241200"/>
            <a:ext cx="77724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юбовь к родному краю, родной культуре, родной речи начинается с малого – с любви к своей семье, к своему жилищу, к своему детскому саду. Постепенно расширяясь, эта любовь переходит в любовь к Родине, её истории, прошлому и настоящему, ко всему человечеству». Д.С.Лихач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080" y="1590840"/>
            <a:ext cx="863280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воспитание гуманной, духовно-нравственной личности, достойных будущих граждан России, патриотов своего От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итие детям чувства любви к своему родному краю, своей малой родине на основе приобщения к родной природе, культуре и тради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чувства привязанности к своему дому, детскому саду, своим близ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ширение представлений о России, как о родной стране, о Костроме, как о родном го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ние патриотизма, уважение к культурному прошлому России средствами эстетического воспитания: изодеятельность, художественное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0"/>
            <a:ext cx="77724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УВСТВО РОДИ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9120" y="641520"/>
            <a:ext cx="869328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на – это город, в котором живет человек, и улица, на которой стоит его дом, и деревце под окном, и пение птички: все это Родина. Дошкольное детство – важнейший период становления личности человека, когда закладываются нравственные основы гражданских качеств, формируются первые представления детей об окружающем мире, обществе и куль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т возраст – имеет свои потенциальные возможности для формирования высших социальных чувств, к которым относится чувство патриот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вство Родины начинается с восхищения тем, что видит перед собой ребенок, чему он изумляется, и что вызывает отклик в его душе…И хотя многие впечатления еще не осознанны им глубоко, но пропущены через детское восприятие, они играют огромную роль в становлении личности патри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я детей с родной страной, расширяется их представления о значении государственных символах России. Воспитывается уважительное отношение к гербу, флагу, гимну Российской Федерации. Знакомя детей со столицей нашей Родины – Москвой и другими городами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тся представления о том, что Россия – многонациональная страна с самобытными, равноправными культурами. У детей формируются основы гражданско-патриотических чувств: любовь, гордость и уважение к своей стране, ее культуре, осознанию личной причастности к жизни Род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равственно-патриотическом воспитании огромное значение имеет пример взрослых, близких людей. На конкретных фактах из жизни старших членов семьи: дедушек, бабушек, участников Великой Отечественной войны, их фронтовых и трудовых подвигах, прививаются детям такие важные понятия, как: долг перед Родиной, любовь к Отечеству, ненависть к врагу, трудовой подвиг.  Ребенок подводится к пониманию, что мы победили потому, что любим свою Отчиз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30320"/>
            <a:ext cx="77724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ОЯ СЕМЬ-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6680" y="771480"/>
            <a:ext cx="860904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 ребенка начинается с его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нимание Родины у дошкольников  тесно связано с конкретными представлениями о том, что им близко и дор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о начинается у ребенка с отношения к семье, к самым близким людям – к матери, отцу, бабушке, дедушке. Это корни, связывающие его с родным домом и ближайшим окру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беседах дети рассказывают о своей семье, семейных историях, тради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87840" y="2779560"/>
            <a:ext cx="438480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0"/>
            <a:ext cx="7772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оя малая Родина – Головчи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680" y="1081080"/>
            <a:ext cx="877572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юбовь к Родине начинается с чувства любви к своему се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села – это живая история, она отражается и в биографии семьи и в судьбе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живем в Головчино, селе с необыкновенной историей, неповторимым внешним обликом. И наша задача – с самых ранних лет заложить в детях не только интерес к истории нашего села, но и воспитать чувство уважения к нему, гордость за героическое прошлое и настоящ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епосредственно-образовательной деятельности, экскурсиях, беседах детям в доступной форме даются краеведческие сведения о родном селе, об истории его возникновения, о его достопримечательностях, городских зданиях и учреждениях, знаменитых земля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ывая у детей любовь к своему городу, подводим к пониманию, что наш город Кострома – частица Родины, поскольку во всех местах, больших и маленьких, есть много обще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всюду люди трудятся для все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везде соблюдают традиции: Родина помнит героев, защитивших ее от враг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всюду живут люди разных национальностей, совместно трудятся и помогают друг друг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люди берегут и охраняют при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есть общие национальные и обществен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ывая гордость за свою малую Родину, у детей формируется желание сделать ее луч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епенно от прогулки к экскурсии, от беседы и чтения книги, у детей складывается прекрасный образ родного края, своей малой Род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это закладывает у детей первые основы патриот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и – будущее нашей Родины, им беречь и охранять ее просторы, ее красоты, ее богат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017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Изодеятельность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230880" y="4351320"/>
            <a:ext cx="2538360" cy="1770120"/>
            <a:chOff x="6230880" y="4351320"/>
            <a:chExt cx="2538360" cy="1770120"/>
          </a:xfrm>
        </p:grpSpPr>
        <p:pic>
          <p:nvPicPr>
            <p:cNvPr id="54" name="" descr=""/>
            <p:cNvPicPr/>
            <p:nvPr/>
          </p:nvPicPr>
          <p:blipFill>
            <a:blip r:embed="rId2"/>
            <a:srcRect l="0" t="3515" r="0" b="8375"/>
            <a:stretch/>
          </p:blipFill>
          <p:spPr>
            <a:xfrm>
              <a:off x="6230880" y="4351320"/>
              <a:ext cx="2538360" cy="17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230880" y="4351320"/>
              <a:ext cx="253836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21520" y="2212920"/>
            <a:ext cx="2550960" cy="1670040"/>
            <a:chOff x="6221520" y="2212920"/>
            <a:chExt cx="2550960" cy="1670040"/>
          </a:xfrm>
        </p:grpSpPr>
        <p:pic>
          <p:nvPicPr>
            <p:cNvPr id="57" name="" descr=""/>
            <p:cNvPicPr/>
            <p:nvPr/>
          </p:nvPicPr>
          <p:blipFill>
            <a:blip r:embed="rId3"/>
            <a:srcRect l="0" t="0" r="5458" b="0"/>
            <a:stretch/>
          </p:blipFill>
          <p:spPr>
            <a:xfrm>
              <a:off x="6221520" y="2212920"/>
              <a:ext cx="25509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221520" y="2212920"/>
              <a:ext cx="255096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70040" y="1351080"/>
            <a:ext cx="2501640" cy="2268360"/>
            <a:chOff x="770040" y="1351080"/>
            <a:chExt cx="2501640" cy="226836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770040" y="1351080"/>
              <a:ext cx="250164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0040" y="1351080"/>
              <a:ext cx="2501640" cy="22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403440" y="2649600"/>
            <a:ext cx="2644920" cy="2144520"/>
            <a:chOff x="3403440" y="2649600"/>
            <a:chExt cx="2644920" cy="2144520"/>
          </a:xfrm>
        </p:grpSpPr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3403440" y="2649600"/>
              <a:ext cx="2644920" cy="21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403440" y="2649600"/>
              <a:ext cx="2644920" cy="21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9960" y="274680"/>
            <a:ext cx="863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раздники и развлечения в ДОУ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87280" y="1414440"/>
            <a:ext cx="4038480" cy="3029040"/>
            <a:chOff x="287280" y="1414440"/>
            <a:chExt cx="4038480" cy="302904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7280" y="1414440"/>
              <a:ext cx="40384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87280" y="1414440"/>
              <a:ext cx="403848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724280" y="1452600"/>
            <a:ext cx="4021200" cy="2548080"/>
            <a:chOff x="4724280" y="1452600"/>
            <a:chExt cx="4021200" cy="2548080"/>
          </a:xfrm>
        </p:grpSpPr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4724280" y="1452600"/>
              <a:ext cx="402120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24280" y="1452600"/>
              <a:ext cx="4021200" cy="25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1520" y="4114800"/>
            <a:ext cx="39243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47640" y="419040"/>
            <a:ext cx="77724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Экскур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33280" y="1442880"/>
            <a:ext cx="4033800" cy="3015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91080" y="1504800"/>
            <a:ext cx="3717720" cy="2457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52920" y="4229280"/>
            <a:ext cx="365760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380880" y="0"/>
            <a:ext cx="9524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атриотическое воспитание в  групп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 формирование духовности, нравственно-патрио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ств у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и последовательность работы по нравственно-патриотическому воспитанию представлена в бло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й детский с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я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ё с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Культура и традиции родн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я Ро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Будем Родине сл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по каждой теме включает: беседы,, дидактические игры, игры-беседы, игры-инсценировки, экскурсии, игры-соревнования, разв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2:42:17Z</dcterms:created>
  <dc:creator>Пользователь</dc:creator>
  <dc:description/>
  <dc:language>en-US</dc:language>
  <cp:lastModifiedBy>RePack by Diakov</cp:lastModifiedBy>
  <dcterms:modified xsi:type="dcterms:W3CDTF">2017-12-04T18:36:07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</Properties>
</file>