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088C-B9EC-4EE3-8AAA-C76D100A2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DFA2-E163-4862-AAA6-757652720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C97E-1184-41BF-B863-D1E56776F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2FFE-73EC-4A08-8F44-F6D4FAEB7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7B9BC-63FF-4041-A010-8FCCC6879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B40CF-235E-40E4-AEBF-72F366E4D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166F8-F388-4066-A32F-81854E8CE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0347-E3A6-48B1-8748-208A305C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66473-1B63-4F4B-B129-E44CEC3D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046A9-D603-46C9-8722-E1C04821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F7D89-9112-4107-930A-BD9BD8A9A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70FF6-89CA-4FE3-9C59-211C693B3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AAD30-9C3E-4E13-B614-07B6658E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AE916-B274-4737-9A0B-DB2A720A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0441B-7EF5-44EE-B0A7-CB074B1E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6E8B-9EA0-4704-B323-7DBE53883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8F415-6CDD-4489-9987-86D76F7CE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B96B-C7D1-4A17-A9BC-A316F5B0C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BD1D-76CF-4AF5-BE60-DBF9971B2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76396-A5F6-4B2A-8B12-9A4F85876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E8EB-E803-40E7-99A5-AE00E1817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FD7E-2DEF-4E1C-B104-45912996B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16D2-C3A1-4F4F-B6C0-5E0BEF3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D80F1-60BC-472D-A588-06E7257D5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500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1000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28D8-755A-422B-AA4E-2FFB6F28FAC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7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1000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7CD5-D055-4A1B-9B56-D556D8E4B7C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logopatiki.ru/" TargetMode="External"/><Relationship Id="rId2" Type="http://schemas.openxmlformats.org/officeDocument/2006/relationships/hyperlink" Target="http://logopatiki.ru/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 u="sng">
                <a:solidFill>
                  <a:srgbClr val="ffcc00"/>
                </a:solidFill>
                <a:uFillTx/>
                <a:latin typeface="Arial"/>
              </a:rPr>
              <a:t>Причины нарушений развития речи у детей.</a:t>
            </a: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дготовила: педагог-психолог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БДОУ № 8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ыборгского района г.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олубева Наталья Леонид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ffcc00"/>
                </a:solidFill>
                <a:uFillTx/>
                <a:latin typeface="Arial"/>
              </a:rPr>
              <a:t>Причины нарушений развития речи у детей: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утренние (эндогенные) причины речевых нар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5"/>
          <p:cNvSpPr/>
          <p:nvPr/>
        </p:nvSpPr>
        <p:spPr>
          <a:xfrm>
            <a:off x="826920" y="2923560"/>
            <a:ext cx="7704360" cy="13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Внешние (экзогенные) причины речевых наруш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6"/>
          <p:cNvSpPr/>
          <p:nvPr/>
        </p:nvSpPr>
        <p:spPr>
          <a:xfrm>
            <a:off x="468360" y="1989000"/>
            <a:ext cx="287280" cy="266760"/>
          </a:xfrm>
          <a:custGeom>
            <a:avLst/>
            <a:gdLst>
              <a:gd name="textAreaLeft" fmla="*/ 42480 w 287280"/>
              <a:gd name="textAreaRight" fmla="*/ 244800 w 287280"/>
              <a:gd name="textAreaTop" fmla="*/ 39240 h 266760"/>
              <a:gd name="textAreaBottom" fmla="*/ 22752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8"/>
          <p:cNvSpPr/>
          <p:nvPr/>
        </p:nvSpPr>
        <p:spPr>
          <a:xfrm>
            <a:off x="468360" y="3573360"/>
            <a:ext cx="287280" cy="266760"/>
          </a:xfrm>
          <a:custGeom>
            <a:avLst/>
            <a:gdLst>
              <a:gd name="textAreaLeft" fmla="*/ 42480 w 287280"/>
              <a:gd name="textAreaRight" fmla="*/ 244800 w 287280"/>
              <a:gd name="textAreaTop" fmla="*/ 39240 h 266760"/>
              <a:gd name="textAreaBottom" fmla="*/ 227520 h 266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200" y="3200"/>
                </a:lnTo>
                <a:lnTo>
                  <a:pt x="10800" y="0"/>
                </a:lnTo>
                <a:lnTo>
                  <a:pt x="18400" y="3200"/>
                </a:lnTo>
                <a:lnTo>
                  <a:pt x="21600" y="10800"/>
                </a:lnTo>
                <a:lnTo>
                  <a:pt x="18400" y="18400"/>
                </a:lnTo>
                <a:lnTo>
                  <a:pt x="10800" y="21600"/>
                </a:lnTo>
                <a:lnTo>
                  <a:pt x="3200" y="18400"/>
                </a:lnTo>
                <a:lnTo>
                  <a:pt x="0" y="108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5327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еблагоприятные факторы  во время внутриутробного этапа развития или во время родов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579680" y="1628280"/>
            <a:ext cx="7564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оксикации или инфекции матер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оксикоз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сфикс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довая травм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езус-конфликт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рвно-психические заболевани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докринные болезни будущей матери (гипотиреоз, сахарный диабет и пр.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4"/>
          <p:cNvSpPr txBox="1"/>
          <p:nvPr/>
        </p:nvSpPr>
        <p:spPr>
          <a:xfrm rot="5400000">
            <a:off x="-1243800" y="3555360"/>
            <a:ext cx="4176720" cy="466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2.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Травмы черепа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, сопровождающиеся поражением головного мозг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4360" y="1341360"/>
            <a:ext cx="7850160" cy="45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d3dd7"/>
                </a:solidFill>
                <a:latin typeface="Arial"/>
              </a:rPr>
              <a:t>3. </a:t>
            </a:r>
            <a:r>
              <a:rPr b="1" i="1" lang="ru-RU" sz="3200" spc="-1" strike="noStrike">
                <a:solidFill>
                  <a:srgbClr val="3d3dd7"/>
                </a:solidFill>
                <a:latin typeface="Arial"/>
              </a:rPr>
              <a:t>Наследственность, генетическая патология</a:t>
            </a:r>
            <a:r>
              <a:rPr b="0" lang="ru-RU" sz="3200" spc="-1" strike="noStrike">
                <a:solidFill>
                  <a:srgbClr val="3d3dd7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1116000" y="2525760"/>
            <a:ext cx="71787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ращивание верхней губы (заячья губа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сращение твердого и мягкого неба (волчья пасть)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роткая подъязычная уздечка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менение формы челюст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тологическое развитие зубо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 семье кто-то имеет проблемы с речью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5"/>
          <p:cNvSpPr/>
          <p:nvPr/>
        </p:nvSpPr>
        <p:spPr>
          <a:xfrm>
            <a:off x="1116000" y="2781360"/>
            <a:ext cx="712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6"/>
          <p:cNvSpPr/>
          <p:nvPr/>
        </p:nvSpPr>
        <p:spPr>
          <a:xfrm>
            <a:off x="1116000" y="3141720"/>
            <a:ext cx="71280" cy="71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7"/>
          <p:cNvSpPr/>
          <p:nvPr/>
        </p:nvSpPr>
        <p:spPr>
          <a:xfrm>
            <a:off x="1116000" y="458136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9"/>
          <p:cNvSpPr/>
          <p:nvPr/>
        </p:nvSpPr>
        <p:spPr>
          <a:xfrm flipH="1">
            <a:off x="1115280" y="3860640"/>
            <a:ext cx="730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"/>
          <p:cNvSpPr/>
          <p:nvPr/>
        </p:nvSpPr>
        <p:spPr>
          <a:xfrm flipH="1">
            <a:off x="1115280" y="4221000"/>
            <a:ext cx="730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1"/>
          <p:cNvSpPr/>
          <p:nvPr/>
        </p:nvSpPr>
        <p:spPr>
          <a:xfrm>
            <a:off x="1116000" y="4941720"/>
            <a:ext cx="71280" cy="7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13"/>
          <p:cNvSpPr txBox="1"/>
          <p:nvPr/>
        </p:nvSpPr>
        <p:spPr>
          <a:xfrm rot="5400000">
            <a:off x="-1675800" y="3267720"/>
            <a:ext cx="4176720" cy="466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нутренни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4.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благоприятные факторы жизни матери, предшествующие беременност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8960" y="1413000"/>
            <a:ext cx="7600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лкоголизм и кур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борты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ком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няя половая жизн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еблагоприятная социальная среда, ведущая к нервно-психической нестабильности будущей матер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енерические заболевания и друг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WordArt 4"/>
          <p:cNvSpPr txBox="1"/>
          <p:nvPr/>
        </p:nvSpPr>
        <p:spPr>
          <a:xfrm rot="5400000">
            <a:off x="-1152360" y="3105000"/>
            <a:ext cx="374472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нешние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4" name="WordArt 5"/>
          <p:cNvSpPr txBox="1"/>
          <p:nvPr/>
        </p:nvSpPr>
        <p:spPr>
          <a:xfrm rot="5400000">
            <a:off x="-1152360" y="3105000"/>
            <a:ext cx="374472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нешние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5.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Заболевания, перенесенные ребенком в первые годы жизн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49160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астые инфекционные заболевания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нние расстройства желудочно-кишечного тра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собенно опасны для развития менингит и энцефали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8"/>
          <p:cNvSpPr txBox="1"/>
          <p:nvPr/>
        </p:nvSpPr>
        <p:spPr>
          <a:xfrm rot="5400000">
            <a:off x="-1152360" y="3105000"/>
            <a:ext cx="374472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нешние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6. 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еблагополучные социальные и бытовые условия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ебенку уделяется 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достаточно внимания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гиперопек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со стороны взрослых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WordArt 4"/>
          <p:cNvSpPr txBox="1"/>
          <p:nvPr/>
        </p:nvSpPr>
        <p:spPr>
          <a:xfrm rot="5400000">
            <a:off x="-1547640" y="2960640"/>
            <a:ext cx="3744720" cy="649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внешние</a:t>
            </a:r>
            <a:endParaRPr b="0" i="1" lang="en-US" sz="2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Литература: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Логопедия. </a:t>
            </a:r>
            <a:r>
              <a:rPr b="0" lang="ru-RU" sz="2400" spc="-1" strike="noStrike">
                <a:solidFill>
                  <a:srgbClr val="4d7373"/>
                </a:solidFill>
                <a:latin typeface="Arial"/>
              </a:rPr>
              <a:t>Учебник для студентов дефектологических факультетов педагогических высших учебных заведений / Под ред. Л.С. Волковой, С.Н. Шаховской . – 3-е изд., перераб. и доп. - М.: ВЛАДОС, 200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996666"/>
                </a:solidFill>
                <a:uFillTx/>
                <a:latin typeface="Arial"/>
                <a:hlinkClick r:id="rId2"/>
              </a:rPr>
              <a:t>Основы логопедии. </a:t>
            </a:r>
            <a:r>
              <a:rPr b="0" lang="ru-RU" sz="2400" spc="-1" strike="noStrike">
                <a:solidFill>
                  <a:srgbClr val="4d7373"/>
                </a:solidFill>
                <a:latin typeface="Arial"/>
              </a:rPr>
              <a:t>Учеб. пособие для студентов пед. ин-тов по спец. «Педагогика и психология (дошк.)» / Т. Б. Филичева, Н. А. Чевелева, Г. В. Чиркина.— М.: Просвещение, 1989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5T20:39:49Z</dcterms:created>
  <dc:creator>user</dc:creator>
  <dc:description/>
  <dc:language>en-US</dc:language>
  <cp:lastModifiedBy>Наталья Голубева</cp:lastModifiedBy>
  <dcterms:modified xsi:type="dcterms:W3CDTF">2017-12-08T19:12:37Z</dcterms:modified>
  <cp:revision>9</cp:revision>
  <dc:subject/>
  <dc:title>Причины нарушений развития речи у детей. </dc:title>
</cp:coreProperties>
</file>