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D7DD-1AEE-4346-A728-283ED1450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9F0D-B50D-4277-A763-33374816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FC49-0EFB-43CE-919A-D3A59360A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A9808-8658-4E8F-821B-0E2BE90E3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9E1C9-B047-4EF7-897A-E435F6B26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EFA3-6DB6-4F39-989D-6CFDE28C7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6DDE4-2758-4F3D-AF39-3E7AB061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B4815-81D8-43FB-8175-E3E12E029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8E487-6C4B-492B-B232-44160796C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EEC73-AF9A-4A3B-8A67-9E069756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90BC9-7363-45D5-BB4A-B15AE5F0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CAD-048D-45B8-9742-840DB221C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4570C-2F89-4971-8EA7-57043282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F1F1-4263-4703-A2A3-15201408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E9BB4-AF8F-4E37-8658-D35B9507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34CF4-149D-4CE9-A339-7F22C428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2E922-EF28-449D-BD8A-290ED763E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7A3CD-9C78-4F84-9C9F-29D673B97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2681-44A3-40B8-A610-7638A5F4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1F6-2A5C-44EF-B081-E9C33008D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2058-58DE-4470-A339-FF0913B1E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C015-828F-41C6-A50C-48357D349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D613A-762F-452E-BEE1-1C32B2958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9636-455E-47AF-8F7C-14D1BFD5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1000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949FB-9816-45DE-A4CE-48F47C65D00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1000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7C580-5EB9-4691-B1B6-651EBBA07E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ogopatiki.ru/" TargetMode="External"/><Relationship Id="rId2" Type="http://schemas.openxmlformats.org/officeDocument/2006/relationships/hyperlink" Target="http://logopatiki.r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 u="sng">
                <a:solidFill>
                  <a:srgbClr val="ffcc00"/>
                </a:solidFill>
                <a:uFillTx/>
                <a:latin typeface="Arial"/>
              </a:rPr>
              <a:t>Причины нарушений развития речи у детей.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ла: педагог-психол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БДОУ № 8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оргского района г. Санкт-Петербур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лубева Наталья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cc00"/>
                </a:solidFill>
                <a:uFillTx/>
                <a:latin typeface="Arial"/>
              </a:rPr>
              <a:t>Причины нарушений развития речи у детей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енние (эндогенные) причины речевых нару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826920" y="2923560"/>
            <a:ext cx="7704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шние (экзогенные) причины речевых нару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468360" y="1989000"/>
            <a:ext cx="287280" cy="266760"/>
          </a:xfrm>
          <a:custGeom>
            <a:avLst/>
            <a:gdLst>
              <a:gd name="textAreaLeft" fmla="*/ 42480 w 287280"/>
              <a:gd name="textAreaRight" fmla="*/ 244800 w 287280"/>
              <a:gd name="textAreaTop" fmla="*/ 39240 h 266760"/>
              <a:gd name="textAreaBottom" fmla="*/ 227520 h 266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468360" y="3573360"/>
            <a:ext cx="287280" cy="266760"/>
          </a:xfrm>
          <a:custGeom>
            <a:avLst/>
            <a:gdLst>
              <a:gd name="textAreaLeft" fmla="*/ 42480 w 287280"/>
              <a:gd name="textAreaRight" fmla="*/ 244800 w 287280"/>
              <a:gd name="textAreaTop" fmla="*/ 39240 h 266760"/>
              <a:gd name="textAreaBottom" fmla="*/ 227520 h 266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532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благоприятные факторы  во время внутриутробного этапа развития или во время род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79680" y="1628280"/>
            <a:ext cx="7564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оксикации или инфекции мате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ксико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фикс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овая трав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с-конфлик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вно-психические заболе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докринные болезни будущей матери (гипотиреоз, сахарный диабет и п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 rot="5400000">
            <a:off x="-1243800" y="3555360"/>
            <a:ext cx="4176720" cy="466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равмы череп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сопровождающиеся поражением головного моз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8501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d3dd7"/>
                </a:solidFill>
                <a:latin typeface="Arial"/>
              </a:rPr>
              <a:t>3. </a:t>
            </a:r>
            <a:r>
              <a:rPr b="1" i="1" lang="ru-RU" sz="3200" spc="-1" strike="noStrike">
                <a:solidFill>
                  <a:srgbClr val="3d3dd7"/>
                </a:solidFill>
                <a:latin typeface="Arial"/>
              </a:rPr>
              <a:t>Наследственность, генетическая патология</a:t>
            </a:r>
            <a:r>
              <a:rPr b="0" lang="ru-RU" sz="3200" spc="-1" strike="noStrike">
                <a:solidFill>
                  <a:srgbClr val="3d3dd7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116000" y="2525760"/>
            <a:ext cx="7178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ращивание верхней губы (заячья губ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ращение твердого и мягкого неба (волчья пасть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откая подъязычная уздеч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формы челю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тологическое развитие зуб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семье кто-то имеет проблемы с реч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1116000" y="2781360"/>
            <a:ext cx="7128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1116000" y="3141720"/>
            <a:ext cx="7128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1116000" y="4581360"/>
            <a:ext cx="712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 flipH="1">
            <a:off x="1115280" y="3860640"/>
            <a:ext cx="730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0"/>
          <p:cNvSpPr/>
          <p:nvPr/>
        </p:nvSpPr>
        <p:spPr>
          <a:xfrm flipH="1">
            <a:off x="1115280" y="4221000"/>
            <a:ext cx="730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116000" y="4941720"/>
            <a:ext cx="712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13"/>
          <p:cNvSpPr txBox="1"/>
          <p:nvPr/>
        </p:nvSpPr>
        <p:spPr>
          <a:xfrm rot="5400000">
            <a:off x="-1675800" y="3267720"/>
            <a:ext cx="41767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еблагоприятные факторы жизни матери, предшествующие беремен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413000"/>
            <a:ext cx="7600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коголизм и ку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ор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ком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няя половая жизн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лагоприятная социальная среда, ведущая к нервно-психической нестабильности будущей матер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нерические заболевания и друг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 rot="5400000">
            <a:off x="-1152360" y="3105000"/>
            <a:ext cx="374472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нешние</a:t>
            </a:r>
            <a:endParaRPr b="0" i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5"/>
          <p:cNvSpPr txBox="1"/>
          <p:nvPr/>
        </p:nvSpPr>
        <p:spPr>
          <a:xfrm rot="5400000">
            <a:off x="-1152360" y="3105000"/>
            <a:ext cx="374472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нешние</a:t>
            </a:r>
            <a:endParaRPr b="0" i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болевания, перенесенные ребенком в первые годы жиз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491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ые инфекционные заболе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ние расстройства желудочно-кишечного тр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 опасны для развития менингит и энцефал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8"/>
          <p:cNvSpPr txBox="1"/>
          <p:nvPr/>
        </p:nvSpPr>
        <p:spPr>
          <a:xfrm rot="5400000">
            <a:off x="-1152360" y="3105000"/>
            <a:ext cx="374472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нешние</a:t>
            </a:r>
            <a:endParaRPr b="0" i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еблагополучные социальные и бытовые услов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енку уделяется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достаточно вним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еропе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со стороны взросл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 rot="5400000">
            <a:off x="-1547640" y="2960640"/>
            <a:ext cx="374472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нешние</a:t>
            </a:r>
            <a:endParaRPr b="0" i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Логопедия. </a:t>
            </a:r>
            <a:r>
              <a:rPr b="0" lang="ru-RU" sz="2400" spc="-1" strike="noStrike">
                <a:solidFill>
                  <a:srgbClr val="4d7373"/>
                </a:solidFill>
                <a:latin typeface="Arial"/>
              </a:rPr>
              <a:t>Учебник для студентов дефектологических факультетов педагогических высших учебных заведений / Под ред. Л.С. Волковой, С.Н. Шаховской . – 3-е изд., перераб. и доп. - М.: ВЛАДОС,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Основы логопедии. </a:t>
            </a:r>
            <a:r>
              <a:rPr b="0" lang="ru-RU" sz="2400" spc="-1" strike="noStrike">
                <a:solidFill>
                  <a:srgbClr val="4d7373"/>
                </a:solidFill>
                <a:latin typeface="Arial"/>
              </a:rPr>
              <a:t>Учеб. пособие для студентов пед. ин-тов по спец. «Педагогика и психология (дошк.)» / Т. Б. Филичева, Н. А. Чевелева, Г. В. Чиркина.— М.: Просвещение, 198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20:39:49Z</dcterms:created>
  <dc:creator>user</dc:creator>
  <dc:description/>
  <dc:language>en-US</dc:language>
  <cp:lastModifiedBy>Наталья Голубева</cp:lastModifiedBy>
  <dcterms:modified xsi:type="dcterms:W3CDTF">2017-12-08T19:12:37Z</dcterms:modified>
  <cp:revision>9</cp:revision>
  <dc:subject/>
  <dc:title>Причины нарушений развития речи у детей. </dc:title>
</cp:coreProperties>
</file>