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3EE0-F57A-46B6-A512-F5386FD54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0A9A-8FC2-4DF6-A907-98867079E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2CDA-535C-4D47-8B35-F46FFEC0E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92CB-B38D-4001-B3A2-2A9261872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4F8DA-9D19-4E88-B80B-947FDBFF1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52581-7FC8-4A3D-80D2-B1B0A1C4A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201D1-D75F-41F0-B2B3-ACA06B805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75D6D-6D79-4886-B8B6-054341843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D1454-D961-4C66-8928-9800557BE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E466F-934D-4489-981D-781ACB4B0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5BF71-50F3-4F38-8503-D7A5085F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0578-D722-42F6-A0FB-64D3007D5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695B7-E032-4651-B300-2B0FAA51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61545-AF94-4AF0-9AE1-BB5B16EB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2767B-1584-4E75-961E-8C8D342DD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222D2-B407-4320-9C7E-149533E3E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60353-6B82-48F3-8890-96BF15E2D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713F0-296A-491A-B510-BBDD5CF47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5145F-6A14-4BCB-B0B3-A7CBA149B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380D4-447B-4D7C-84A8-E88A71E84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60CA2-4806-40BB-85E3-375BEEC6C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64FF1-94B4-4448-8EB1-FA26D8DE3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6714-AD11-4B03-9419-2EE02F842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C906C-92B6-44BE-B60F-071793121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4F3D7-E6BE-4458-AA9C-4AC09227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8956A-4805-4EC7-9ADF-B87AE430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18C65-64BE-4084-8EA7-BDBCBC79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EA4E8-17F8-492D-90F1-D0970E7D5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AE426-B1B9-4BC2-8AFA-65ADF40C0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FE371-A972-48B0-A0F2-D878AA687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22B45-77CE-458A-8BC1-14C57C94A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42547-F35B-4F71-B7F9-2A5429E0F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76C7C-5890-49ED-91A4-A4EF82A20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3A01-984C-404F-AE95-1C52BEA30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F5D09-DDC7-4089-BD3D-827F87F86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B8E63-E499-46BA-B34E-B54897DD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1E5F7-88F8-402C-9328-D6539FDC1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8A113-9B93-438D-ACBC-CAD26217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26CC8-31C8-4333-AF09-C9736AB7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B00EA-4968-4780-868D-16A2E988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CD05C-E1C2-4DE1-B537-F05E08EF3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5950A-111A-4BD0-9A70-6BEE06A5C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06ABB-5BCB-41BB-8365-968931D4B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E2182-44BC-4C42-B535-45DA83E87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C127-BE85-4815-A218-DE4EB8A88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C62C8-CC4C-442A-AB30-ECB9E9A2A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97F59-DC67-41C7-8EA2-67D86735C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C99DF-C0DA-4780-A2A5-EEBD95AFD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86B4F-04F0-4A20-842C-AF1F2E2E4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A8C35-38D9-4C7B-AEF3-F9EF0FF01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00510-6AA0-44EB-AC78-0FA909D2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A04FB-82F0-43C6-B63F-3C87346D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54148-361E-403C-87A9-B0BB224A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D2AE2-A6B4-45A1-9D05-546F380A1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2BFC7-AD24-4B09-9D46-A30ECCE4A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1D01-BEB3-4BC8-B6DD-B50A46006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AC017-30D4-49F1-8B86-4E69D72B0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11D8-9D56-4797-9662-73A904F9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0BFB-E6B2-4886-87C0-22CD429B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C36D-936D-4326-A90E-B4C54D8F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dd2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9f9f9">
              <a:alpha val="33000"/>
            </a:srgbClr>
          </a:solidFill>
          <a:ln cap="rnd" w="3240">
            <a:solidFill>
              <a:srgbClr val="bdbd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1f1f1"/>
            </a:solidFill>
            <a:miter/>
          </a:ln>
          <a:effectLst>
            <a:outerShdw dist="12600" dir="5400000" blurRad="0" rotWithShape="0">
              <a:srgbClr val="a3a3a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f4259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53548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c465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3a3a3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3a3a3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3a3a3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C54E2-CA91-411B-9290-0683BC1D1446}" type="slidenum">
              <a:rPr b="0" lang="ru-RU" sz="1200" spc="-1" strike="noStrike">
                <a:solidFill>
                  <a:srgbClr val="a3a3a3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b6b6b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dd2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9f9f9">
              <a:alpha val="33000"/>
            </a:srgbClr>
          </a:solidFill>
          <a:ln cap="rnd" w="3240">
            <a:solidFill>
              <a:srgbClr val="bdbd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1f1f1"/>
            </a:solidFill>
            <a:miter/>
          </a:ln>
          <a:effectLst>
            <a:outerShdw dist="12600" dir="5400000" blurRad="0" rotWithShape="0">
              <a:srgbClr val="a3a3a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b6b6b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3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484979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f4259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53548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c465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3a3a3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3a3a3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3a3a3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1A560-29D0-4278-9346-B0B6B6238CB6}" type="slidenum">
              <a:rPr b="0" lang="ru-RU" sz="1200" spc="-1" strike="noStrike">
                <a:solidFill>
                  <a:srgbClr val="a3a3a3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dd2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9f9f9">
              <a:alpha val="33000"/>
            </a:srgbClr>
          </a:solidFill>
          <a:ln cap="rnd" w="3240">
            <a:solidFill>
              <a:srgbClr val="bdbd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1f1f1"/>
            </a:solidFill>
            <a:miter/>
          </a:ln>
          <a:effectLst>
            <a:outerShdw dist="12600" dir="5400000" blurRad="0" rotWithShape="0">
              <a:srgbClr val="a3a3a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3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b6b6b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b6b6b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10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484979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f4259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53548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c465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3a3a3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3a3a3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3a3a3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77941-871E-4EF0-862C-5D0C4D4FB8CF}" type="slidenum">
              <a:rPr b="0" lang="ru-RU" sz="1200" spc="-1" strike="noStrike">
                <a:solidFill>
                  <a:srgbClr val="a3a3a3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dd2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9f9f9">
              <a:alpha val="33000"/>
            </a:srgbClr>
          </a:solidFill>
          <a:ln cap="rnd" w="3240">
            <a:solidFill>
              <a:srgbClr val="bdbd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1f1f1"/>
            </a:solidFill>
            <a:miter/>
          </a:ln>
          <a:effectLst>
            <a:outerShdw dist="12600" dir="5400000" blurRad="0" rotWithShape="0">
              <a:srgbClr val="a3a3a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57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b6b6b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b6b6b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f4259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53548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c465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3a3a3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3a3a3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3a3a3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D98EC-97D4-4300-A5A5-8858557E62A2}" type="slidenum">
              <a:rPr b="0" lang="ru-RU" sz="1200" spc="-1" strike="noStrike">
                <a:solidFill>
                  <a:srgbClr val="a3a3a3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dd2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9f9f9">
              <a:alpha val="33000"/>
            </a:srgbClr>
          </a:solidFill>
          <a:ln cap="rnd" w="3240">
            <a:solidFill>
              <a:srgbClr val="bdbd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1f1f1"/>
            </a:solidFill>
            <a:miter/>
          </a:ln>
          <a:effectLst>
            <a:outerShdw dist="12600" dir="5400000" blurRad="0" rotWithShape="0">
              <a:srgbClr val="a3a3a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07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b6b6b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12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4d4d4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edede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f4259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53548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c465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3a3a3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3a3a3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3a3a3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08AD3-9C3E-44C6-8A63-75C496C7EDF6}" type="slidenum">
              <a:rPr b="0" lang="ru-RU" sz="1200" spc="-1" strike="noStrike">
                <a:solidFill>
                  <a:srgbClr val="a3a3a3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79280" y="360360"/>
            <a:ext cx="95061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endParaRPr b="0" lang="en-US" sz="39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00360" y="5300280"/>
            <a:ext cx="4338360" cy="10810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БДОУ ДС №37 «Соловушка»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атвейчук Н.П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59" name="Прямоугольник 5" descr=""/>
          <p:cNvPicPr/>
          <p:nvPr/>
        </p:nvPicPr>
        <p:blipFill>
          <a:blip r:embed="rId1"/>
          <a:stretch/>
        </p:blipFill>
        <p:spPr>
          <a:xfrm>
            <a:off x="1616040" y="1773360"/>
            <a:ext cx="6632640" cy="988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C:\Users\Sveta\Desktop\Фото для квест-игры\2.JPG"/>
          <p:cNvPicPr/>
          <p:nvPr/>
        </p:nvPicPr>
        <p:blipFill>
          <a:blip r:embed="rId1"/>
          <a:stretch/>
        </p:blipFill>
        <p:spPr>
          <a:xfrm>
            <a:off x="1682640" y="6480"/>
            <a:ext cx="2944800" cy="23828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C:\Users\Sveta\Desktop\Фото для квест-игры\1.JPG"/>
          <p:cNvPicPr/>
          <p:nvPr/>
        </p:nvPicPr>
        <p:blipFill>
          <a:blip r:embed="rId2"/>
          <a:stretch/>
        </p:blipFill>
        <p:spPr>
          <a:xfrm>
            <a:off x="5407200" y="2736720"/>
            <a:ext cx="3176280" cy="2567160"/>
          </a:xfrm>
          <a:prstGeom prst="rect">
            <a:avLst/>
          </a:prstGeom>
          <a:ln w="0">
            <a:noFill/>
          </a:ln>
        </p:spPr>
      </p:pic>
      <p:sp>
        <p:nvSpPr>
          <p:cNvPr id="262" name="Прямоугольник 4"/>
          <p:cNvSpPr/>
          <p:nvPr/>
        </p:nvSpPr>
        <p:spPr>
          <a:xfrm>
            <a:off x="971640" y="3105000"/>
            <a:ext cx="40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исьмо из шта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6"/>
          <p:cNvSpPr/>
          <p:nvPr/>
        </p:nvSpPr>
        <p:spPr>
          <a:xfrm>
            <a:off x="3924360" y="5877000"/>
            <a:ext cx="52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    </a:t>
            </a:r>
            <a:r>
              <a:rPr b="1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аршрут дви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оугольник 4"/>
          <p:cNvSpPr/>
          <p:nvPr/>
        </p:nvSpPr>
        <p:spPr>
          <a:xfrm>
            <a:off x="1042920" y="2637000"/>
            <a:ext cx="410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опуск в опасную зо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6"/>
          <p:cNvSpPr/>
          <p:nvPr/>
        </p:nvSpPr>
        <p:spPr>
          <a:xfrm>
            <a:off x="3708360" y="5661000"/>
            <a:ext cx="543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</a:t>
            </a:r>
            <a:r>
              <a:rPr b="1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опускной пун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Гор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2" descr="C:\Users\Sveta\Desktop\Фото для квест-игры\3.JPG"/>
          <p:cNvPicPr/>
          <p:nvPr/>
        </p:nvPicPr>
        <p:blipFill>
          <a:blip r:embed="rId1"/>
          <a:stretch/>
        </p:blipFill>
        <p:spPr>
          <a:xfrm>
            <a:off x="1841400" y="-73080"/>
            <a:ext cx="3048120" cy="20350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C:\Users\Sveta\Desktop\Фото для квест-игры\4.JPG"/>
          <p:cNvPicPr/>
          <p:nvPr/>
        </p:nvPicPr>
        <p:blipFill>
          <a:blip r:embed="rId2"/>
          <a:stretch/>
        </p:blipFill>
        <p:spPr>
          <a:xfrm>
            <a:off x="5315040" y="3024360"/>
            <a:ext cx="3316320" cy="2322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Прямоугольник 5"/>
          <p:cNvSpPr/>
          <p:nvPr/>
        </p:nvSpPr>
        <p:spPr>
          <a:xfrm>
            <a:off x="900000" y="2708280"/>
            <a:ext cx="446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опускной пун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Ре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2" descr="C:\Users\Sveta\Desktop\Фото для квест-игры\6.JPG"/>
          <p:cNvPicPr/>
          <p:nvPr/>
        </p:nvPicPr>
        <p:blipFill>
          <a:blip r:embed="rId1"/>
          <a:stretch/>
        </p:blipFill>
        <p:spPr>
          <a:xfrm>
            <a:off x="1736640" y="281160"/>
            <a:ext cx="3365640" cy="25286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" descr="C:\Users\Sveta\Desktop\Фото для квест-игры\11.JPG"/>
          <p:cNvPicPr/>
          <p:nvPr/>
        </p:nvPicPr>
        <p:blipFill>
          <a:blip r:embed="rId2"/>
          <a:stretch/>
        </p:blipFill>
        <p:spPr>
          <a:xfrm>
            <a:off x="5754600" y="1828800"/>
            <a:ext cx="2590920" cy="3157560"/>
          </a:xfrm>
          <a:prstGeom prst="rect">
            <a:avLst/>
          </a:prstGeom>
          <a:ln w="0">
            <a:noFill/>
          </a:ln>
        </p:spPr>
      </p:pic>
      <p:sp>
        <p:nvSpPr>
          <p:cNvPr id="271" name="Прямоугольник 7"/>
          <p:cNvSpPr/>
          <p:nvPr/>
        </p:nvSpPr>
        <p:spPr>
          <a:xfrm>
            <a:off x="4932360" y="5300640"/>
            <a:ext cx="388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</a:t>
            </a:r>
            <a:r>
              <a:rPr b="1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ункт назна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</a:t>
            </a:r>
            <a:r>
              <a:rPr b="1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Аэродро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Прямоугольник 5"/>
          <p:cNvSpPr/>
          <p:nvPr/>
        </p:nvSpPr>
        <p:spPr>
          <a:xfrm>
            <a:off x="900000" y="270828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эродром разминиров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7"/>
          <p:cNvSpPr/>
          <p:nvPr/>
        </p:nvSpPr>
        <p:spPr>
          <a:xfrm>
            <a:off x="2916360" y="5300640"/>
            <a:ext cx="60483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    </a:t>
            </a:r>
            <a:r>
              <a:rPr b="1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ефлек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2" descr="C:\Users\Sveta\Desktop\Фото для квест-игры\8 — копия.JPG"/>
          <p:cNvPicPr/>
          <p:nvPr/>
        </p:nvPicPr>
        <p:blipFill>
          <a:blip r:embed="rId1"/>
          <a:stretch/>
        </p:blipFill>
        <p:spPr>
          <a:xfrm>
            <a:off x="1085760" y="365040"/>
            <a:ext cx="3443400" cy="22813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3" descr="C:\Users\Sveta\Desktop\Фото для квест-игры\10.JPG"/>
          <p:cNvPicPr/>
          <p:nvPr/>
        </p:nvPicPr>
        <p:blipFill>
          <a:blip r:embed="rId2"/>
          <a:stretch/>
        </p:blipFill>
        <p:spPr>
          <a:xfrm>
            <a:off x="5278320" y="3743280"/>
            <a:ext cx="3694320" cy="2328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30T17:21:13Z</dcterms:created>
  <dc:creator>Sveta</dc:creator>
  <dc:description/>
  <dc:language>en-US</dc:language>
  <cp:lastModifiedBy>user</cp:lastModifiedBy>
  <dcterms:modified xsi:type="dcterms:W3CDTF">2017-12-09T14:32:32Z</dcterms:modified>
  <cp:revision>11</cp:revision>
  <dc:subject/>
  <dc:title>Квест-игра «Сапёры»</dc:title>
</cp:coreProperties>
</file>