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AB8-AC3E-4B4A-9FCF-575945B3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7FA-364D-400D-BA62-912A0A33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227-2A9C-46CF-B2CF-1509D6E3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A57-6F4D-4C4A-81F6-56C8E258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CAC-41E8-4B2E-87BB-76F68D4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87DF-7C29-468C-9209-BC4B5E6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86C-5E50-49BC-8B62-BCBEBFB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BDF6-6312-4ED6-93B1-C56FBC7D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B283-9977-4C68-9303-67D0E1D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ABA-9BB8-4531-A858-CC9A7FB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5AFD-AF1F-4CFB-9D47-C1C83B3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806-B3BD-4E7C-8EAD-D780B35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086-B6C0-4E39-9467-464D13A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C36-A595-427C-99EB-0B2F0AE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9595-0614-4AD1-A911-DFBF7723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7450-8C57-41A8-9C3E-6C4E53F5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6DB-AA1B-4C91-BBA2-B4BAE957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C90E-E802-40B0-AEE0-AA3440E4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4218-D9E9-4A59-B151-09660CB9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9F4A-42AA-49E8-A58A-939B7AB4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80D8-C871-45C5-A02D-6E20EFD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0843-4267-4039-A778-B8400F8E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F74-CEDD-4E04-9EA4-D453C6D9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DBD7-CDE5-42CC-A02F-A80F956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236D-219C-49BB-86F0-CB13C1C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9A67-83D1-45DF-9017-041E8F8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9D6B-6FF6-4818-AFBB-546B0B9F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C6B3-9A94-4DFF-A180-2B4BDC8F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FE39-1CC1-4140-8D8E-14487D1B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09A5-AB6C-4B1B-A547-FB93DCAE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85C7-8E0A-4E7E-8A76-4505D2F6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1B65-38E1-4D89-83CD-F5334E4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6C10-C1F2-4022-B6C5-144886D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884-EE23-4083-9DDB-E357EB8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CA77-50FE-48CA-A367-D775C82A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2F13-9FAA-40F1-A86E-A154FFC6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4342-1CAA-4BB9-BDFA-02CD6756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FC5B-A79C-4540-9006-81E1AD1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3F17-2188-47ED-A444-D288E2B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61C1-9B0D-42FC-99BC-4228C6E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07C4-9A46-402E-A738-FD6C5AD2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44EC-9F00-43FF-9BE2-83814E5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A04D-3647-43CF-8B83-248A0B9D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BD6-087A-4780-9E5E-D9FC46B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0BE-6BB2-4A0C-9FCC-B24769E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8D4-F56C-4384-B44E-AD92BFF7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DD9-0D3D-4251-92F6-2046027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419-FB86-4845-BABF-3B2ECF33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294A-4DC2-4DC1-9E6E-0D6A0D61B9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3A21-D89C-4DA2-8B03-4E73AB85EF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EF1-26A6-4212-B347-B6B7E20B09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5C9-CAAB-41E9-B0F6-871C49808B4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Литературная встреча </a:t>
            </a:r>
            <a:br>
              <a:rPr sz="4400"/>
            </a:b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с поэтами приволжанами</a:t>
            </a:r>
            <a:br>
              <a:rPr sz="4400"/>
            </a:b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«Край родной, я тебя воспеваю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Россия"/>
          <p:cNvPicPr/>
          <p:nvPr/>
        </p:nvPicPr>
        <p:blipFill>
          <a:blip r:embed="rId1"/>
          <a:stretch/>
        </p:blipFill>
        <p:spPr>
          <a:xfrm>
            <a:off x="-3240" y="0"/>
            <a:ext cx="5151600" cy="5157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bul1"/>
          <p:cNvPicPr/>
          <p:nvPr/>
        </p:nvPicPr>
        <p:blipFill>
          <a:blip r:embed="rId2"/>
          <a:stretch/>
        </p:blipFill>
        <p:spPr>
          <a:xfrm>
            <a:off x="5148360" y="3213000"/>
            <a:ext cx="405612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0004-004-V-sadu-smorodina"/>
          <p:cNvPicPr/>
          <p:nvPr/>
        </p:nvPicPr>
        <p:blipFill>
          <a:blip r:embed="rId1"/>
          <a:stretch/>
        </p:blipFill>
        <p:spPr>
          <a:xfrm>
            <a:off x="-1440" y="66600"/>
            <a:ext cx="5653080" cy="342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0005-005-Tolstyj-topol-u-vorot"/>
          <p:cNvPicPr/>
          <p:nvPr/>
        </p:nvPicPr>
        <p:blipFill>
          <a:blip r:embed="rId2"/>
          <a:stretch/>
        </p:blipFill>
        <p:spPr>
          <a:xfrm>
            <a:off x="2217600" y="3500280"/>
            <a:ext cx="569592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image002"/>
          <p:cNvPicPr/>
          <p:nvPr/>
        </p:nvPicPr>
        <p:blipFill>
          <a:blip r:embed="rId1"/>
          <a:stretch/>
        </p:blipFill>
        <p:spPr>
          <a:xfrm>
            <a:off x="0" y="0"/>
            <a:ext cx="5219640" cy="4149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0007-007-I-romashkovyj-bugor"/>
          <p:cNvPicPr/>
          <p:nvPr/>
        </p:nvPicPr>
        <p:blipFill>
          <a:blip r:embed="rId2"/>
          <a:stretch/>
        </p:blipFill>
        <p:spPr>
          <a:xfrm>
            <a:off x="2771640" y="3213000"/>
            <a:ext cx="509292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0012-012-Ili-step-ot-makov-krasnaja"/>
          <p:cNvPicPr/>
          <p:nvPr/>
        </p:nvPicPr>
        <p:blipFill>
          <a:blip r:embed="rId1"/>
          <a:stretch/>
        </p:blipFill>
        <p:spPr>
          <a:xfrm>
            <a:off x="-17640" y="20520"/>
            <a:ext cx="4589640" cy="456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0003-003-Staryj-dom"/>
          <p:cNvPicPr/>
          <p:nvPr/>
        </p:nvPicPr>
        <p:blipFill>
          <a:blip r:embed="rId2"/>
          <a:stretch/>
        </p:blipFill>
        <p:spPr>
          <a:xfrm>
            <a:off x="3492360" y="3141720"/>
            <a:ext cx="439740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55640" y="333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Милый сердцу уголо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662472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12105_20110903_185644"/>
          <p:cNvPicPr/>
          <p:nvPr/>
        </p:nvPicPr>
        <p:blipFill>
          <a:blip r:embed="rId1"/>
          <a:stretch/>
        </p:blipFill>
        <p:spPr>
          <a:xfrm>
            <a:off x="0" y="9360"/>
            <a:ext cx="2987640" cy="2853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80440feb76e6"/>
          <p:cNvPicPr/>
          <p:nvPr/>
        </p:nvPicPr>
        <p:blipFill>
          <a:blip r:embed="rId2"/>
          <a:stretch/>
        </p:blipFill>
        <p:spPr>
          <a:xfrm>
            <a:off x="6388200" y="9360"/>
            <a:ext cx="2755800" cy="285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2987640" y="-17640"/>
            <a:ext cx="3400560" cy="2880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08227_20110730_184852"/>
          <p:cNvPicPr/>
          <p:nvPr/>
        </p:nvPicPr>
        <p:blipFill>
          <a:blip r:embed="rId4"/>
          <a:stretch/>
        </p:blipFill>
        <p:spPr>
          <a:xfrm>
            <a:off x="0" y="2862360"/>
            <a:ext cx="2987640" cy="2222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ttps://prv3.lori-images.net/privolzhsk-ivanovskaya-oblast-pochta-rossii-0003903935-preview.jpg"/>
          <p:cNvPicPr/>
          <p:nvPr/>
        </p:nvPicPr>
        <p:blipFill>
          <a:blip r:embed="rId5"/>
          <a:stretch/>
        </p:blipFill>
        <p:spPr>
          <a:xfrm>
            <a:off x="6388200" y="2862360"/>
            <a:ext cx="2749320" cy="2222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0_bcbca_c6d369c3_XL"/>
          <p:cNvPicPr/>
          <p:nvPr/>
        </p:nvPicPr>
        <p:blipFill>
          <a:blip r:embed="rId6"/>
          <a:stretch/>
        </p:blipFill>
        <p:spPr>
          <a:xfrm>
            <a:off x="2987640" y="2867040"/>
            <a:ext cx="3400560" cy="2217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58530423"/>
          <p:cNvPicPr/>
          <p:nvPr/>
        </p:nvPicPr>
        <p:blipFill>
          <a:blip r:embed="rId7"/>
          <a:stretch/>
        </p:blipFill>
        <p:spPr>
          <a:xfrm>
            <a:off x="0" y="5027760"/>
            <a:ext cx="2987640" cy="1804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static.panoramio.com/photos/large/72368439.jpg"/>
          <p:cNvPicPr/>
          <p:nvPr/>
        </p:nvPicPr>
        <p:blipFill>
          <a:blip r:embed="rId8"/>
          <a:stretch/>
        </p:blipFill>
        <p:spPr>
          <a:xfrm>
            <a:off x="2987640" y="5027760"/>
            <a:ext cx="340056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sobory.ru/pic/12100/12105_20090507_234246.jpg"/>
          <p:cNvPicPr/>
          <p:nvPr/>
        </p:nvPicPr>
        <p:blipFill>
          <a:blip r:embed="rId9"/>
          <a:stretch/>
        </p:blipFill>
        <p:spPr>
          <a:xfrm>
            <a:off x="6388200" y="5027760"/>
            <a:ext cx="2749320" cy="183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47:16Z</dcterms:created>
  <dc:creator>Home</dc:creator>
  <dc:description/>
  <dc:language>en-US</dc:language>
  <cp:lastModifiedBy>serg</cp:lastModifiedBy>
  <dcterms:modified xsi:type="dcterms:W3CDTF">2017-12-09T15:43:46Z</dcterms:modified>
  <cp:revision>46</cp:revision>
  <dc:subject/>
  <dc:title>Слайд 1</dc:title>
</cp:coreProperties>
</file>