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FCA-3815-4FB8-9D35-67C8F7E9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C2B-811D-4DA6-A2C9-2D3C062C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928-D22F-4325-9EC3-D4A6FFE3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86F-0A6B-4B76-9160-CE4482D3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41B-927D-4565-8C6D-42230BD4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057-0C89-496F-9358-7B6EC18F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0F4-B825-44C3-9BB8-59AECA89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E36-1D71-4E5F-84B9-B6586698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E6C-7F7B-4B52-937D-AA01D25E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7BE-8424-495F-A6FD-F6B75240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67C-55DB-41B0-BE7A-36DCF066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283-320F-4D89-9556-9157B23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FD355-30B4-49E6-BE8B-288C97228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1260360"/>
            <a:ext cx="7559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ead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0360" y="3600360"/>
            <a:ext cx="7559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0720" y="2340000"/>
            <a:ext cx="468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Arial"/>
              </a:rPr>
              <a:t>[ei]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date, day, may,  game, cake,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0" y="4175280"/>
            <a:ext cx="50403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de-DE" sz="4000" spc="-1" strike="noStrike">
                <a:solidFill>
                  <a:srgbClr val="0000ff"/>
                </a:solidFill>
                <a:latin typeface="Arial"/>
                <a:ea typeface="Arial"/>
              </a:rPr>
              <a:t>æ] </a:t>
            </a:r>
            <a:r>
              <a:rPr b="1" lang="de-DE" sz="4000" spc="-1" strike="noStrike">
                <a:solidFill>
                  <a:srgbClr val="ff0000"/>
                </a:solidFill>
                <a:latin typeface="Arial"/>
                <a:ea typeface="Arial"/>
              </a:rPr>
              <a:t>hand, hat, cap, cat, r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160720" y="2877840"/>
            <a:ext cx="720720" cy="723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4140360"/>
            <a:ext cx="10796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60000" y="590400"/>
            <a:ext cx="9070920" cy="642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\b\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ll, bus, bat, box,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\k\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, cap, car, class,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\d\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, dress, desk, doll,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\g\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grey, glad, grass, g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h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\h\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, hen, hat, honey,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4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09-04-16T08:32:35Z</dcterms:modified>
  <cp:revision>2</cp:revision>
  <dc:subject/>
  <dc:title/>
</cp:coreProperties>
</file>