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DAD-0DF0-4C77-A862-DF30B7A8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C51-B48E-4C78-A6BD-1B4BCF56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45B-4BC3-46A0-BFE8-C90B4AE6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4E8-9AB9-4709-A2BE-31F862A7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2DB-3483-4098-8C81-FF2B0068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68F-44DE-46B1-982D-D5029014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A15-7080-44B7-8891-C3D9132F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485-27B4-42ED-8227-E4EFECA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719-4C8C-4B3B-92FA-F25CE38F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658-CCBB-46BE-88E3-0E939580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43D-AA31-47AB-BE1A-71E94E2A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0E8-E82D-4816-82C8-8C2675D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FC059-70C5-4F8B-8413-22DB5F0AE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1260360"/>
            <a:ext cx="7559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ead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0360" y="3600360"/>
            <a:ext cx="7559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0720" y="2340000"/>
            <a:ext cx="468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Arial"/>
              </a:rPr>
              <a:t>[ei]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date, day, may,  game, cake,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0" y="4175280"/>
            <a:ext cx="50403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de-DE" sz="4000" spc="-1" strike="noStrike">
                <a:solidFill>
                  <a:srgbClr val="0000ff"/>
                </a:solidFill>
                <a:latin typeface="Arial"/>
                <a:ea typeface="Arial"/>
              </a:rPr>
              <a:t>æ] </a:t>
            </a:r>
            <a:r>
              <a:rPr b="1" lang="de-DE" sz="4000" spc="-1" strike="noStrike">
                <a:solidFill>
                  <a:srgbClr val="ff0000"/>
                </a:solidFill>
                <a:latin typeface="Arial"/>
                <a:ea typeface="Arial"/>
              </a:rPr>
              <a:t>hand, hat, cap, cat, r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160720" y="2877840"/>
            <a:ext cx="720720" cy="723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4140360"/>
            <a:ext cx="107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0000" y="590400"/>
            <a:ext cx="907092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\b\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ll, bus, bat, box,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\k\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, cap, car, class,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\d\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, dress, desk, doll,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\g\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grey, glad, grass, g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h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\h\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, hen, hat, honey,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09-04-16T08:32:35Z</dcterms:modified>
  <cp:revision>2</cp:revision>
  <dc:subject/>
  <dc:title/>
</cp:coreProperties>
</file>