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C5A0-322C-40E7-BE4F-6C4756849A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6BE2-325C-44F6-90ED-1C006CDBA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734-2254-40F9-AA36-199D6788E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78FA-17E9-4247-9B59-E4612A545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C198-78AE-45E1-87DB-2D2BC6D82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447-2BCE-42FD-8B02-AAE575560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C659-53F6-4181-9D04-5154E3CB1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5E4E-4EC8-4D99-ADE1-0AEA47718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6A81-7C61-48EE-B5BA-B95D05C02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1FE7-D88B-497D-ABD2-54B3073E5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25F9-2F96-45E9-8E26-C7FEDAD41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144C-00D7-4878-9A52-F3EA40B05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DCD-47E1-4115-BB61-06E980399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7742-4DAB-4F8E-A863-2DB28E57A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1CE6-E513-412C-B1F9-169570B1D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451E-DDEE-4B67-B06A-11A68E740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2F59-0819-43B1-9EC6-B23A19AC6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D4D-37F9-4176-B369-08B0FEF65B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BEE8-79C7-4696-8305-D6D6562A9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3D24-C591-41F0-9175-ED9BD795D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4757-4B19-4E55-9A66-AE0A6A616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2192-1683-43F2-A9E0-79EA2E40A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6B2-C666-42CD-90B0-79040C1A2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7EFE-273A-48E7-A23F-94FC11E0D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778B-4A12-464E-86C7-EDA1032F72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4BA6-EA56-4528-ACDE-3EC2028F1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A4CF-1A30-455E-955E-D2850680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AFE3-904A-41FF-B3BD-A0AD46A0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2A53-8C01-4480-9380-246C4052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CAEA-79C7-49EA-BF57-4A50434A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EF8E-531A-4F21-9F9E-D8297659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9299-19DE-4EC6-8044-219612A0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5670-1809-4641-BB56-DE1FB81E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D2C3-D8E2-45F5-82E0-9502A7AD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372A-AE53-4331-B5DD-54026C1D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447D-E305-4863-9060-F8843FAF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022A-8DED-4BD6-BDB5-DB0B71E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A78A-08E9-4D30-82DC-A4E6509C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155D-D2DA-4D66-8861-7A4BC17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0C7C-D3A3-465E-89B2-91ED237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EB39-D8DD-409E-8F65-C792A78A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E90F-67D6-4E73-8495-F64A66E7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7A70-DFCB-4509-A109-C8318493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3489-063F-4713-947D-D2582CB5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4A89-5CD3-40F8-A048-8D6EC048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D178-7C31-4229-A2D9-56120166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E94C-D993-460C-8858-46611DC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C4FA-F7B5-4228-BC9F-F29701A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84A9-81D9-440C-8C0C-9717A6A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6788-57C1-47AB-8C53-68D9035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DB44-E877-47D1-9DC9-AAB6085874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C850-43B0-410E-B196-FC7532F297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87640" y="198864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реемственность дошкольного и начального уровней образов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rebuchet MS"/>
              </a:rPr>
              <a:t>Лутцева Елена Андреевна, </a:t>
            </a:r>
            <a:r>
              <a:rPr b="1" lang="ru-RU" sz="2000" spc="-1" strike="noStrike">
                <a:solidFill>
                  <a:srgbClr val="800000"/>
                </a:solidFill>
                <a:latin typeface="Trebuchet MS"/>
              </a:rPr>
              <a:t>канд.пед.наук,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Comic Sans MS"/>
              </a:rPr>
              <a:t>Интеллектуальное развитие детей</a:t>
            </a:r>
            <a:r>
              <a:rPr b="1" lang="ru-RU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mic Sans MS"/>
              </a:rPr>
              <a:t>(от 0 до +,-12-ти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2320200" y="1413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72"/>
                </a:solidFill>
                <a:uFillTx/>
                <a:latin typeface="Arial"/>
              </a:rPr>
              <a:t>Этапы формирования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6" descr=""/>
          <p:cNvPicPr/>
          <p:nvPr/>
        </p:nvPicPr>
        <p:blipFill>
          <a:blip r:embed="rId1"/>
          <a:stretch/>
        </p:blipFill>
        <p:spPr>
          <a:xfrm>
            <a:off x="523800" y="2266920"/>
            <a:ext cx="8107560" cy="31035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с одним скругленным углом 7"/>
          <p:cNvSpPr/>
          <p:nvPr/>
        </p:nvSpPr>
        <p:spPr>
          <a:xfrm>
            <a:off x="2484360" y="4579920"/>
            <a:ext cx="6120000" cy="649440"/>
          </a:xfrm>
          <a:prstGeom prst="pie">
            <a:avLst/>
          </a:prstGeom>
          <a:solidFill>
            <a:srgbClr val="dedeec"/>
          </a:solidFill>
          <a:ln w="25560">
            <a:solidFill>
              <a:srgbClr val="d0d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Абстрактно-логическо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логические операции с понятиям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528480" y="580536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упающий в школу ребенок может иметь зачатки образно-логического мышления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уметь сравнивать, классифициров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0720" y="115560"/>
            <a:ext cx="89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Динамика личностного развития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4440" y="10551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Дошкольни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000" y="105228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Младшешкольни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36600" y="1773360"/>
            <a:ext cx="3730680" cy="67716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ый, актив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юбознатель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ый, откры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49200" y="2637000"/>
            <a:ext cx="3718080" cy="67716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рожелатель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зывчивый, полож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ящийся к с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5280" y="4653000"/>
            <a:ext cx="3672000" cy="33732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ренный в с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95280" y="3637080"/>
            <a:ext cx="3672000" cy="58068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ющий чув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го досто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854600" y="3387600"/>
            <a:ext cx="3579840" cy="91692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ажительное отношение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м детям  и  и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ам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854600" y="1989000"/>
            <a:ext cx="3579840" cy="36828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ий 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875120" y="4481640"/>
            <a:ext cx="3559320" cy="64260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регуля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875120" y="2781360"/>
            <a:ext cx="3584520" cy="39888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923000" y="5383080"/>
            <a:ext cx="3511440" cy="64260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 самоорганиза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рового образа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330800" y="6300720"/>
            <a:ext cx="4705200" cy="368280"/>
          </a:xfrm>
          <a:prstGeom prst="rect">
            <a:avLst/>
          </a:prstGeom>
          <a:solidFill>
            <a:srgbClr val="bbee6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еющий основами умения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95280" y="5241960"/>
            <a:ext cx="3672000" cy="82404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ющий обслуживать себя, организовывать окружающее простра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1"/>
          <p:cNvSpPr/>
          <p:nvPr/>
        </p:nvSpPr>
        <p:spPr>
          <a:xfrm>
            <a:off x="4186080" y="1989000"/>
            <a:ext cx="601920" cy="3682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право 21"/>
          <p:cNvSpPr/>
          <p:nvPr/>
        </p:nvSpPr>
        <p:spPr>
          <a:xfrm>
            <a:off x="4203720" y="2795760"/>
            <a:ext cx="601560" cy="368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право 22"/>
          <p:cNvSpPr/>
          <p:nvPr/>
        </p:nvSpPr>
        <p:spPr>
          <a:xfrm>
            <a:off x="4173480" y="3706920"/>
            <a:ext cx="601560" cy="368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23"/>
          <p:cNvSpPr/>
          <p:nvPr/>
        </p:nvSpPr>
        <p:spPr>
          <a:xfrm>
            <a:off x="4211640" y="4653000"/>
            <a:ext cx="601560" cy="3697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право 24"/>
          <p:cNvSpPr/>
          <p:nvPr/>
        </p:nvSpPr>
        <p:spPr>
          <a:xfrm>
            <a:off x="4173480" y="5521320"/>
            <a:ext cx="601560" cy="368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mic Sans MS"/>
              </a:rPr>
              <a:t>Дидактическая стратегия дошкольного и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лок-схема: память с посл. доступом 9"/>
          <p:cNvSpPr/>
          <p:nvPr/>
        </p:nvSpPr>
        <p:spPr>
          <a:xfrm>
            <a:off x="684360" y="3429000"/>
            <a:ext cx="3813120" cy="1800360"/>
          </a:xfrm>
          <a:prstGeom prst="flowChartMagneticTape">
            <a:avLst/>
          </a:prstGeom>
          <a:solidFill>
            <a:srgbClr val="cacaff"/>
          </a:solidFill>
          <a:ln w="25560">
            <a:solidFill>
              <a:srgbClr val="656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т сенсорного восприятия к осмыслению,  пониманию, зна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лок-схема: память с посл. доступом 10"/>
          <p:cNvSpPr/>
          <p:nvPr/>
        </p:nvSpPr>
        <p:spPr>
          <a:xfrm>
            <a:off x="4643280" y="3429000"/>
            <a:ext cx="4032360" cy="1800360"/>
          </a:xfrm>
          <a:prstGeom prst="flowChartMagneticTape">
            <a:avLst/>
          </a:prstGeom>
          <a:gradFill rotWithShape="0">
            <a:gsLst>
              <a:gs pos="0">
                <a:srgbClr val="749774"/>
              </a:gs>
              <a:gs pos="100000">
                <a:srgbClr val="c8ffc8"/>
              </a:gs>
            </a:gsLst>
            <a:lin ang="10800000"/>
          </a:gra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>
              <a:lnSpc>
                <a:spcPct val="80000"/>
              </a:lnSpc>
              <a:tabLst>
                <a:tab algn="l" pos="0"/>
                <a:tab algn="l" pos="241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ние со взрослыми, с предме-тами окружающего мира, изодеятель-ность, движения, работа с материала-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745164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611280" y="3213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900000" y="5661000"/>
            <a:ext cx="7274160" cy="792360"/>
          </a:xfrm>
          <a:prstGeom prst="flowChartAlternateProcess">
            <a:avLst/>
          </a:prstGeom>
          <a:gradFill rotWithShape="0">
            <a:gsLst>
              <a:gs pos="0">
                <a:srgbClr val="aaaf40"/>
              </a:gs>
              <a:gs pos="50000">
                <a:srgbClr val="eef559"/>
              </a:gs>
              <a:gs pos="100000">
                <a:srgbClr val="aaaf4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 кончиках пальцев развитие интеллект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К.Д.Ушин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7120" y="143028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Развит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c0b0a"/>
                </a:solidFill>
                <a:latin typeface="Arial"/>
              </a:rPr>
              <a:t>– личностное изменение, приобретение нового опы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лавное условие развивающего обучения (образования) </a:t>
            </a:r>
            <a:r>
              <a:rPr b="0" lang="ru-RU" sz="1800" spc="-1" strike="noStrike">
                <a:solidFill>
                  <a:srgbClr val="0c0b0a"/>
                </a:solidFill>
                <a:latin typeface="Arial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активная познавательная деятельность ребенка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в процессе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открытия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новых знаний и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Непрерывность и преемственность образования (дошкольники – начальная школа – основная школа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71876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Непрерыв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стоянная потребность человека в образовании и самообразовании в течение вс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Преемстве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дидактическое согласование содержания, методов, и организационных форм на всех ступенях образования в сочетании с максимальной психологической комфорт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omic Sans MS"/>
              </a:rPr>
              <a:t>ФГОС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Образовательные области представляют собой направления развития ребен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социально‑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познаватель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речев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художественно‑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физическое развитие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omic Sans MS"/>
              </a:rPr>
              <a:t>ФГОС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62828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осво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ОПДО понимаются только как целевые ориентиры для всех участников образовательных отношений. Целевые ориентиры не подлежат непосредственной оценке, в том числе, в виде педагогической диагностики (мониторинга), и не являются основанием для их формального сравнения с реальными достижениями дет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415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e5"/>
                </a:solidFill>
                <a:latin typeface="Arial"/>
              </a:rPr>
              <a:t>Готовность  к обучен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единство и взаимосвязь 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физической, интеллектуальной и личност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отов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omic Sans MS"/>
              </a:rPr>
              <a:t>Диагностика готовности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то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 школ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яется уровн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изического, интеллектуального и личностно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я в их совокупност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а не количеством знаний об окружающей действительности, умением считать и читать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агностируется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ровень развития ребенка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с согласия родителей, после записи ребенка в школ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ы диагностики позволя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строить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ограмму индивидуального доразвития ребен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го отдельных качеств, необходимых для успешного обучения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Готовность к обучению в школе – что эт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251460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Comic Sans MS"/>
              </a:rPr>
              <a:t>Физическая гото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Comic Sans MS"/>
              </a:rPr>
              <a:t>(биолог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или отсутствие хронических заболеваний, интеллектуальных нарушений, приведших к некоторому отставанию в общем развитии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940360" y="1557000"/>
            <a:ext cx="295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Comic Sans MS"/>
              </a:rPr>
              <a:t>Интеллектуаль-ная гото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omic Sans MS"/>
              </a:rPr>
              <a:t>(психолог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ень развития психических каче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рият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обра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л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132000" y="1557360"/>
            <a:ext cx="2971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Comic Sans MS"/>
              </a:rPr>
              <a:t>Личностная готовность, </a:t>
            </a:r>
            <a:r>
              <a:rPr b="1" lang="ru-RU" sz="1800" spc="-1" strike="noStrike">
                <a:solidFill>
                  <a:srgbClr val="990033"/>
                </a:solidFill>
                <a:latin typeface="Comic Sans MS"/>
              </a:rPr>
              <a:t>(социальная)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ость коммуникативных каче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ориентировка в окружающей действи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апас знаний о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ень самостоятельности, активности, инициа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ложительное отношение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12720" y="40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Примерная (минимальная) оценка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к обучению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612720" y="1413000"/>
            <a:ext cx="820728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удерживать своё внимание  на одном занятии , заниматься не менее 15-20 мин. нелегким («скучным») делом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нимательность, усидчив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ет фантазировать, представлять в уме -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ообра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мает простейшие рисунки, схемы, чертежи; сам рисует простейшие значки и планы, может пояснить свои рисунки -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мыш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ает координированные, плавные, точные движения, играя (бегает, бросает и ловит мяч, прыгает на двух или одной ноге и др.) -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координа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ет лепить и лепит из пластилина то, что ему нравится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мелкая моторика, интеллек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реемственность ДО и Н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55700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рмативной базе (ФГОС ДО и др. докумен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ормах организации (типы образовательных организаций)- СОШ, прогимназия, школа-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ях и задач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тодических подх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держании (развития, воспитания, образования, здоровьесбережен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818ff"/>
                </a:solidFill>
                <a:latin typeface="Arial"/>
              </a:rPr>
              <a:t>Основа преемственности – природные закономерности развит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612720" y="40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Примерная (минимальная) оценка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к обучению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539640" y="1628640"/>
            <a:ext cx="8353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ко может собрать по одной рассыпавшиеся мелкие детали мозаики или конструктора пальчиками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мелкая мотор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ает с друзьями в сюжетные игры, которые они сами придумывают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общение с детьми (коммуникация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ет взаимодействовать со взрослыми (слушать, слушаться, выполнять поручения, вести диалог)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общение со взрослыми (коммуникация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мает и объясняет смысл сказок и рассказов, которые ему читают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речь,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Минимальная математическая и речевая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готовность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41264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c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ая гото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 и счет от 1 до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последующего и предыдущего числ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исчитыванием или отниманием единиц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вание множеств предмет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больше, меньше, одинаково /равн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множества чис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числ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а примере множества – деление на к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3280" y="1412640"/>
            <a:ext cx="432144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чевая гото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ная осмысленн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сказывание, сочинение (сказок, минирассказ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ое произношение всех звуков (логопе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нематический слу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ыделение звуков в слов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ение» с кни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узнавание и называние бук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ние букв (слов) печатными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5"/>
          <p:cNvSpPr/>
          <p:nvPr/>
        </p:nvSpPr>
        <p:spPr>
          <a:xfrm>
            <a:off x="4572000" y="1405080"/>
            <a:ext cx="0" cy="44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768240" y="61437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руки к письму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лепка, рисование, штрихова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Скругленный прямоугольник 5"/>
          <p:cNvSpPr/>
          <p:nvPr/>
        </p:nvSpPr>
        <p:spPr>
          <a:xfrm>
            <a:off x="539640" y="981000"/>
            <a:ext cx="7848720" cy="244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На самом деле самая лучшая подготовка ребёнка к школе – это </a:t>
            </a:r>
            <a:r>
              <a:rPr b="1" lang="ru-RU" sz="2400" spc="-1" strike="noStrike" u="sng">
                <a:solidFill>
                  <a:srgbClr val="0000e5"/>
                </a:solidFill>
                <a:uFillTx/>
                <a:latin typeface="Arial"/>
              </a:rPr>
              <a:t>полноценно прожитый период дошкольного детства, время, когда ребёнок по своему желанию занимается обычными детскими делами</a:t>
            </a: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539640" y="3933720"/>
            <a:ext cx="7848720" cy="2159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e5"/>
                </a:solidFill>
                <a:uFillTx/>
                <a:latin typeface="Arial"/>
              </a:rPr>
              <a:t>Роль взросл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блюд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овремя без насил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блемы здоровь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ректиро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ллектуальные способности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чностные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ой метод воздействия –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Методические подходы в дошкольном образовании и разви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сновное требование при выборе методов и приемов – соответствие методик психо-физиологическим особенностям каждого возрастного пери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Дошкольники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копление  первоначальных знаний об окружающ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Метод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игровые ситуации, дидактические игры, 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местная познавательная деятельность  ребенка и взрослог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Методические подходы в начальной ступени образовании и разви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59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е требование при выборе методов и приемов – соответствие методик психо-физиологическим особенностям каждого возрастного пери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ладшие школьн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 учебной деятельности как умения учиться, то есть самостоятельно решать учебные задания, задач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етод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оздание ситуаций для максимально самостоятельного открытия нового для ученика знания, перевода знания в умение с последующим его закреплением.           Проблемные ситуации; наблюдения, рассуждения, общение, обсуждение, выводы, тренировочные упражнения, простейшие творческие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ящая и направляющая роль учителя в совместной поисковой деятельности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Дидактические условия реализации преемственности дошкольной и начальной ступеней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2305080"/>
            <a:ext cx="8488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ализация общей цели образования –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Гармоничное сочетание трех направлений развития: физическое, интеллектуальное, личност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нание и опора на возрастные особенности и возмож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спользование приемов и методов, соответствующих возрастным особенностям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ддержание природной потребности детей в познании, формирование положительного отношения к учеб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уткое, внимательное отношение взрослых к детям, педагогическое сотрудничество (воспитателей, учителей, детей и родител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реемственность ДО и Н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267920"/>
            <a:ext cx="83152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ы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ипы образовательных организаций) – детский сад, СОШ, прогимназия, школа-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кола-сад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амый природосообразный, эффективный, результативный тип образовательного учреж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альный режим жизни и деятельности ребен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стресса переходного периода от сада к школе (новое здание, новый коллектив, новый взрослый-педагог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емственность содержания образования (обучения) – У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тог </a:t>
            </a:r>
            <a:r>
              <a:rPr b="1" lang="ru-RU" sz="2400" spc="-1" strike="noStrike">
                <a:solidFill>
                  <a:srgbClr val="000072"/>
                </a:solidFill>
                <a:latin typeface="Monotype Corsiva"/>
              </a:rPr>
              <a:t>– высокие показатели образовательный результатов, сохранение соматического и психического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овременного образова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тие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личности каждог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Arial"/>
              </a:rPr>
              <a:t>Задачи дошкольной ступе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ребенка и сохранение его здоровья  (физического, социального, психическог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Arial"/>
              </a:rPr>
              <a:t>Задачи начальной ступе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творческих способностей и стремления к самообразованию через сохранение здоровья,  развитие эмоционально-чувственной сферы, социально-личностная адаптация каждого ребен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omic Sans MS"/>
              </a:rPr>
              <a:t>Современные дети. Какие о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444320"/>
            <a:ext cx="82803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информир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 слушают чтение книг (читают), больше интересуются компью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о начинают обучаться в ущерб игре, духовно-нравственному воспитанию и личност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рны по уровню умственного и познаватель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активны, открыты, стремятся отставать своё мнение, но и враждеб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617400"/>
            <a:ext cx="8302680" cy="795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  <a:ea typeface="Calibri"/>
              </a:rPr>
              <a:t>Ведущие виды деятельности, заложенные 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природ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8200" y="2125800"/>
            <a:ext cx="78501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школьное детство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ребенок-слушатель, исследователь внешних признаков объектов, 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95280" y="5013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– 9 классы 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щение, социал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95280" y="3500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7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2"/>
                </a:solidFill>
                <a:latin typeface="Arial"/>
              </a:rPr>
              <a:t>Начальная школа + 5, 6 кл. – </a:t>
            </a:r>
            <a:r>
              <a:rPr b="1" lang="ru-RU" sz="2200" spc="-1" strike="noStrike">
                <a:solidFill>
                  <a:srgbClr val="000072"/>
                </a:solidFill>
                <a:latin typeface="Arial"/>
              </a:rPr>
              <a:t>учебная деяте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2"/>
                </a:solidFill>
                <a:latin typeface="Arial"/>
              </a:rPr>
              <a:t>(ребенок-деятель, исследователь внутренних связей объектов, 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95280" y="573408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- 11 классы 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бная деятельность, самоо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"/>
          <p:cNvSpPr/>
          <p:nvPr/>
        </p:nvSpPr>
        <p:spPr>
          <a:xfrm>
            <a:off x="6477120" y="3429000"/>
            <a:ext cx="2514600" cy="1447920"/>
          </a:xfrm>
          <a:prstGeom prst="ellipse">
            <a:avLst/>
          </a:prstGeom>
          <a:solidFill>
            <a:srgbClr val="fdf9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Эмоции и чу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(псих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здоров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3886200" y="2666880"/>
            <a:ext cx="2438280" cy="1219320"/>
          </a:xfrm>
          <a:prstGeom prst="ellipse">
            <a:avLst/>
          </a:prstGeom>
          <a:solidFill>
            <a:srgbClr val="fdf9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Интелл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914400" y="3276720"/>
            <a:ext cx="3124080" cy="1447560"/>
          </a:xfrm>
          <a:prstGeom prst="ellipse">
            <a:avLst/>
          </a:prstGeom>
          <a:solidFill>
            <a:srgbClr val="fdf9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Физическое 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(сомат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здоров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6212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Стороны  человеческой личности</a:t>
            </a:r>
            <a:br>
              <a:rPr sz="2600"/>
            </a:b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 (что развивает педагог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581280" y="3505320"/>
            <a:ext cx="2971800" cy="17524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BD06529_"/>
          <p:cNvPicPr/>
          <p:nvPr/>
        </p:nvPicPr>
        <p:blipFill>
          <a:blip r:embed="rId1"/>
          <a:stretch/>
        </p:blipFill>
        <p:spPr>
          <a:xfrm>
            <a:off x="685800" y="4495680"/>
            <a:ext cx="1676520" cy="132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E02719_"/>
          <p:cNvPicPr/>
          <p:nvPr/>
        </p:nvPicPr>
        <p:blipFill>
          <a:blip r:embed="rId2"/>
          <a:stretch/>
        </p:blipFill>
        <p:spPr>
          <a:xfrm>
            <a:off x="7086600" y="1981080"/>
            <a:ext cx="1600200" cy="1549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EN00349_"/>
          <p:cNvPicPr/>
          <p:nvPr/>
        </p:nvPicPr>
        <p:blipFill>
          <a:blip r:embed="rId3"/>
          <a:stretch/>
        </p:blipFill>
        <p:spPr>
          <a:xfrm>
            <a:off x="7086600" y="4876920"/>
            <a:ext cx="1752480" cy="99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PE01981_"/>
          <p:cNvPicPr/>
          <p:nvPr/>
        </p:nvPicPr>
        <p:blipFill>
          <a:blip r:embed="rId4"/>
          <a:stretch/>
        </p:blipFill>
        <p:spPr>
          <a:xfrm>
            <a:off x="304920" y="2514600"/>
            <a:ext cx="140328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BS00554_"/>
          <p:cNvPicPr/>
          <p:nvPr/>
        </p:nvPicPr>
        <p:blipFill>
          <a:blip r:embed="rId5"/>
          <a:stretch/>
        </p:blipFill>
        <p:spPr>
          <a:xfrm>
            <a:off x="3429000" y="1965240"/>
            <a:ext cx="1066680" cy="93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PE02043_"/>
          <p:cNvPicPr/>
          <p:nvPr/>
        </p:nvPicPr>
        <p:blipFill>
          <a:blip r:embed="rId6"/>
          <a:stretch/>
        </p:blipFill>
        <p:spPr>
          <a:xfrm>
            <a:off x="5232240" y="3657600"/>
            <a:ext cx="93996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PE01561_"/>
          <p:cNvPicPr/>
          <p:nvPr/>
        </p:nvPicPr>
        <p:blipFill>
          <a:blip r:embed="rId7"/>
          <a:stretch/>
        </p:blipFill>
        <p:spPr>
          <a:xfrm>
            <a:off x="4724280" y="1600200"/>
            <a:ext cx="1835280" cy="1217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3581280" y="4114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982800" y="617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581280" y="5756400"/>
            <a:ext cx="2565360" cy="825480"/>
          </a:xfrm>
          <a:prstGeom prst="rect">
            <a:avLst/>
          </a:prstGeom>
          <a:solidFill>
            <a:srgbClr val="bdfde5"/>
          </a:solidFill>
          <a:ln w="9360">
            <a:solidFill>
              <a:srgbClr val="0c1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Социальный опыт,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4944960" y="5245200"/>
            <a:ext cx="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0360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Интеллектуальное развитие детей </a:t>
            </a:r>
            <a:br>
              <a:rPr sz="2600"/>
            </a:br>
            <a:r>
              <a:rPr b="1" lang="ru-RU" sz="2000" spc="-1" strike="noStrike">
                <a:solidFill>
                  <a:srgbClr val="00007d"/>
                </a:solidFill>
                <a:latin typeface="Comic Sans MS"/>
              </a:rPr>
              <a:t>(от 0 до 12-ти лет (+,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9640" y="1557360"/>
            <a:ext cx="84250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Компоненты интеллекта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наивысшая активность до 10 л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постоянная природная способность к всесторон-нему познанию окружающего мира через 5 органов чув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непроизвольное (дошкольник), переход к произвольному (с 5,5 – 6 ле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умение перевести слово в образ, создание фантазий; пространственные предст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9-10 л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ч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 цель и условие развития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88520" y="6021360"/>
            <a:ext cx="80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Arial"/>
              </a:rPr>
              <a:t>Задача педагогов – максимальное развитие всех интеллекту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Arial"/>
              </a:rPr>
              <a:t>компонентов – основы успешного обучения и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5694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90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эмоции, чув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основа нравственности –закладывается до 1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увства и эмоции – важнейшая  сторона личности, неразвитость которой с возрастом ведет к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нижению интеллектуальных способност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Это характер, личностная симпатия или антипатия, успеш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 мозг подавать не подкрепляемую положительными чувствами (эмоциями) информацию, то в коре его формируются центры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йтрализации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й информации. (И.П.Павлов).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А это значит, что знания, не подкрепленные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телесным опытом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чувственным впечатлением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1f"/>
                </a:solidFill>
                <a:uFillTx/>
                <a:latin typeface="Arial"/>
              </a:rPr>
              <a:t>не</a:t>
            </a:r>
            <a:r>
              <a:rPr b="1" lang="ru-RU" sz="1600" spc="-1" strike="noStrike" u="sng">
                <a:solidFill>
                  <a:srgbClr val="a50021"/>
                </a:solidFill>
                <a:uFillTx/>
                <a:latin typeface="Arial"/>
              </a:rPr>
              <a:t> усваиваются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 </a:t>
            </a:r>
            <a:r>
              <a:rPr b="1" lang="ru-RU" sz="2000" spc="-1" strike="noStrike">
                <a:solidFill>
                  <a:srgbClr val="00001f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1f"/>
                </a:solidFill>
                <a:latin typeface="Arial"/>
              </a:rPr>
              <a:t>логические операции (наблюдение, сравнение, класссификация, обобщение…), умение дум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Интеллектуальное развитие детей</a:t>
            </a:r>
            <a:r>
              <a:rPr b="1" lang="ru-RU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0007d"/>
                </a:solidFill>
                <a:latin typeface="Comic Sans MS"/>
              </a:rPr>
              <a:t>(от 0 до 12-ти лет (+, -)</a:t>
            </a:r>
            <a:br>
              <a:rPr sz="2000"/>
            </a:b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 Компоненты интелл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503640" y="5877000"/>
            <a:ext cx="80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Arial"/>
              </a:rPr>
              <a:t>Задача педагогов – максимальное развитие всех интеллекту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Arial"/>
              </a:rPr>
              <a:t>компонентов – основы успешного обучения и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41:46Z</dcterms:created>
  <dc:creator>User</dc:creator>
  <dc:description/>
  <dc:language>en-US</dc:language>
  <cp:lastModifiedBy>user</cp:lastModifiedBy>
  <dcterms:modified xsi:type="dcterms:W3CDTF">2017-12-08T08:18:43Z</dcterms:modified>
  <cp:revision>252</cp:revision>
  <dc:subject/>
  <dc:title>Начальная ступень образования: основные направления модернизации  Е.А.Лутцева, канд.пед.наук доцент АПКиППРО</dc:title>
</cp:coreProperties>
</file>