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4D17-229D-46C2-882A-AD70B7A1A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172F-CD5B-4369-9DF5-348E08CBC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567-D792-4C1B-B31C-23759F004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B43-5737-4417-BD2D-DB6A506DB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C02B-E8FB-4C64-B060-E4B63F916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C81-A6D7-478F-95FB-2164F29A7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19F-E102-4DE1-A2A2-2C76F930F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78E-B6F0-4A13-BB69-8D1ED8606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05A6-EE8B-4885-B6D5-1C7CDD998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9FF-D6DE-4B96-B53A-351E0CD80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45E-1C5F-4608-9118-A58214619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916-929D-41DB-B576-1E1882D3A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570-0FE2-4EAD-9902-1BC31C644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4D2-68C3-4A59-A774-EB1A4AA6C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D99-04EB-42BB-BA58-0642859F4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6E6-F29F-4D34-B66A-7B0494126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CE3B-4332-406D-94C4-331D69EA8D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AF2-27D0-44CB-B5D7-ECBD39F27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8E8-2510-4B1D-9ECF-49CC67D63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0C7-A574-41A7-BE8C-CC3470A6C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0837-90AE-489D-B748-4BB5EBDBCD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7F0-0BBA-4317-A836-E33EA9283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252-CDC2-4480-8092-1BDAEF3B6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7AFC-6311-4057-A4CA-79A813805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0D9F-FDED-4758-B86D-585FF6347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7A4C-8912-4460-8AF5-B16CDCD4A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BCB8-8736-4DEA-9D86-2707AD0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020E-0B72-4176-994A-1BF1BF9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23B0-206F-4756-ACC2-5095FD84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1105-1E2D-44B3-A0B6-C67E726F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4EC6-DE40-4AF3-AD5D-4D8852FE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270A-4233-49D5-9523-32CFA9A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E73-04DC-4764-AA43-0C3977DB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E60-234B-4784-A17C-C8087DA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215B-5A41-49AE-9F48-4859247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AA91-150F-473E-A192-6AC3FEFA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C0C-173D-4C74-9E7B-FBB70FF8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3596-F570-44F3-B709-5B30B93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A9AC-2A1A-44BB-8839-C694B9AD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A15B-0252-4AA6-8E6D-9655A13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7305-39EA-4D92-8C7B-78033F34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64C-694E-4F3B-ADB7-FF66B60B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E0CE-4A79-4E97-A911-F84584C0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E546-E595-435B-A152-ED47ACE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E8EB-749F-4C96-8FDD-B46CA4C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4785-F57E-4D32-B91C-41D147A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8103-7AA0-4BEA-8A8A-CA6F59C5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EADC-5C0C-450D-A2E9-B262BBC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8E18-0285-4431-B3B0-31AAE57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BBA9-F763-4304-BE0D-1EA1EEE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5834-523A-4A03-BC1C-1741664413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E2F-9833-4AF1-B927-4780BBDCB2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640" y="198864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реемственность дошкольного и начального уровней 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rebuchet MS"/>
              </a:rPr>
              <a:t>Лутцева Елена Андреевна, </a:t>
            </a:r>
            <a:r>
              <a:rPr b="1" lang="ru-RU" sz="2000" spc="-1" strike="noStrike">
                <a:solidFill>
                  <a:srgbClr val="800000"/>
                </a:solidFill>
                <a:latin typeface="Trebuchet MS"/>
              </a:rPr>
              <a:t>канд.пед.наук,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</a:t>
            </a: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+,-12-ти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320200" y="1413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72"/>
                </a:solidFill>
                <a:uFillTx/>
                <a:latin typeface="Arial"/>
              </a:rPr>
              <a:t>Этапы формирования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6" descr=""/>
          <p:cNvPicPr/>
          <p:nvPr/>
        </p:nvPicPr>
        <p:blipFill>
          <a:blip r:embed="rId1"/>
          <a:stretch/>
        </p:blipFill>
        <p:spPr>
          <a:xfrm>
            <a:off x="523800" y="2266920"/>
            <a:ext cx="8107560" cy="31035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с одним скругленным углом 7"/>
          <p:cNvSpPr/>
          <p:nvPr/>
        </p:nvSpPr>
        <p:spPr>
          <a:xfrm>
            <a:off x="2484360" y="4579920"/>
            <a:ext cx="6120000" cy="649440"/>
          </a:xfrm>
          <a:prstGeom prst="pie">
            <a:avLst/>
          </a:prstGeom>
          <a:solidFill>
            <a:srgbClr val="dedeec"/>
          </a:solidFill>
          <a:ln w="25560">
            <a:solidFill>
              <a:srgbClr val="d0d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Абстрактно-логическо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логические операции с понятиям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28480" y="580536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упающий в школу ребенок может иметь зачатки образно-логического мышлени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уметь сравнивать, классифициров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0720" y="115560"/>
            <a:ext cx="89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mic Sans MS"/>
              </a:rPr>
              <a:t>Динамика личностного развития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4440" y="1055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Дошкольни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000" y="105228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ладшешкольни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36600" y="1773360"/>
            <a:ext cx="3730680" cy="67716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ый, актив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юбознатель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ый, откры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49200" y="2637000"/>
            <a:ext cx="3718080" cy="67716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ожелатель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зывчивый, полож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ящийся к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5280" y="4653000"/>
            <a:ext cx="3672000" cy="33732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ренный в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95280" y="3637080"/>
            <a:ext cx="3672000" cy="58068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ющий чув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го досто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54600" y="3387600"/>
            <a:ext cx="3579840" cy="91692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ажительное отношени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м детям  и  и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ам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854600" y="1989000"/>
            <a:ext cx="3579840" cy="36828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й 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875120" y="4481640"/>
            <a:ext cx="3559320" cy="64260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регу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875120" y="2781360"/>
            <a:ext cx="3584520" cy="39888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923000" y="5383080"/>
            <a:ext cx="3511440" cy="642600"/>
          </a:xfrm>
          <a:prstGeom prst="rect">
            <a:avLst/>
          </a:prstGeom>
          <a:solidFill>
            <a:srgbClr val="eef55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самоорганиза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ого образа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330800" y="6300720"/>
            <a:ext cx="4705200" cy="368280"/>
          </a:xfrm>
          <a:prstGeom prst="rect">
            <a:avLst/>
          </a:prstGeom>
          <a:solidFill>
            <a:srgbClr val="bbee6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еющий основами умения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95280" y="5241960"/>
            <a:ext cx="3672000" cy="824040"/>
          </a:xfrm>
          <a:prstGeom prst="rect">
            <a:avLst/>
          </a:prstGeom>
          <a:solidFill>
            <a:srgbClr val="cacaff"/>
          </a:solidFill>
          <a:ln w="93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ющий обслуживать себя, организовывать окружающее 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"/>
          <p:cNvSpPr/>
          <p:nvPr/>
        </p:nvSpPr>
        <p:spPr>
          <a:xfrm>
            <a:off x="4186080" y="1989000"/>
            <a:ext cx="601920" cy="3682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21"/>
          <p:cNvSpPr/>
          <p:nvPr/>
        </p:nvSpPr>
        <p:spPr>
          <a:xfrm>
            <a:off x="4203720" y="279576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право 22"/>
          <p:cNvSpPr/>
          <p:nvPr/>
        </p:nvSpPr>
        <p:spPr>
          <a:xfrm>
            <a:off x="4173480" y="370692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право 23"/>
          <p:cNvSpPr/>
          <p:nvPr/>
        </p:nvSpPr>
        <p:spPr>
          <a:xfrm>
            <a:off x="4211640" y="4653000"/>
            <a:ext cx="601560" cy="3697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право 24"/>
          <p:cNvSpPr/>
          <p:nvPr/>
        </p:nvSpPr>
        <p:spPr>
          <a:xfrm>
            <a:off x="4173480" y="5521320"/>
            <a:ext cx="601560" cy="368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2f2f2"/>
          </a:solidFill>
          <a:ln w="324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omic Sans MS"/>
              </a:rPr>
              <a:t>Дидактическая стратегия дошкольного и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память с посл. доступом 9"/>
          <p:cNvSpPr/>
          <p:nvPr/>
        </p:nvSpPr>
        <p:spPr>
          <a:xfrm>
            <a:off x="684360" y="3429000"/>
            <a:ext cx="3813120" cy="1800360"/>
          </a:xfrm>
          <a:prstGeom prst="flowChartMagneticTape">
            <a:avLst/>
          </a:prstGeom>
          <a:solidFill>
            <a:srgbClr val="cacaff"/>
          </a:solidFill>
          <a:ln w="25560">
            <a:solidFill>
              <a:srgbClr val="656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т сенсорного восприятия к осмыслению,  пониманию, зн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память с посл. доступом 10"/>
          <p:cNvSpPr/>
          <p:nvPr/>
        </p:nvSpPr>
        <p:spPr>
          <a:xfrm>
            <a:off x="4643280" y="3429000"/>
            <a:ext cx="4032360" cy="1800360"/>
          </a:xfrm>
          <a:prstGeom prst="flowChartMagneticTape">
            <a:avLst/>
          </a:prstGeom>
          <a:gradFill rotWithShape="0">
            <a:gsLst>
              <a:gs pos="0">
                <a:srgbClr val="749774"/>
              </a:gs>
              <a:gs pos="100000">
                <a:srgbClr val="c8ffc8"/>
              </a:gs>
            </a:gsLst>
            <a:lin ang="108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>
              <a:lnSpc>
                <a:spcPct val="80000"/>
              </a:lnSpc>
              <a:tabLst>
                <a:tab algn="l" pos="0"/>
                <a:tab algn="l" pos="2411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ние со взрослыми, с предме-тами окружающего мира, изодеятель-ность, движения, работа с материала-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745164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611280" y="3213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900000" y="5661000"/>
            <a:ext cx="7274160" cy="792360"/>
          </a:xfrm>
          <a:prstGeom prst="flowChartAlternateProcess">
            <a:avLst/>
          </a:prstGeom>
          <a:gradFill rotWithShape="0">
            <a:gsLst>
              <a:gs pos="0">
                <a:srgbClr val="aaaf40"/>
              </a:gs>
              <a:gs pos="50000">
                <a:srgbClr val="eef559"/>
              </a:gs>
              <a:gs pos="100000">
                <a:srgbClr val="aaaf4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 кончиках пальцев развитие интеллект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К.Д.Ушин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7120" y="1430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Развит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c0b0a"/>
                </a:solidFill>
                <a:latin typeface="Arial"/>
              </a:rPr>
              <a:t>– личностное изменение, приобретение нового опы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лавное условие развивающего обучения (образования) </a:t>
            </a:r>
            <a:r>
              <a:rPr b="0" lang="ru-RU" sz="1800" spc="-1" strike="noStrike">
                <a:solidFill>
                  <a:srgbClr val="0c0b0a"/>
                </a:solidFill>
                <a:latin typeface="Arial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ая познавательная деятельность ребенка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в процесс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открытия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новых знаний и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Непрерывность и преемственность образования (дошкольники – начальная школа – основная школа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71876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Непрерыв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стоянная потребность человека в образовании и самообразовании в течение вс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Преемстве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дидактическое согласование содержания, методов, и организационных форм на всех ступенях образования в сочетании с максимальной психологической комфор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omic Sans MS"/>
              </a:rPr>
              <a:t>ФГОС 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бразовательные области представляют собой направления развития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социально‑коммуникатив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познаватель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речев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художественно‑эстетическ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● 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физическое развитие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ФГОС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62828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осво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ОПДО понимаются только как целевые ориентиры для всех участников образовательных отношений. Целевые ориентиры не подлежат непосредственной оценке, в том числе, в виде педагогической диагностики (мониторинга), и не являются основанием для их формального сравнения с реальными достижениями дет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415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e5"/>
                </a:solidFill>
                <a:latin typeface="Arial"/>
              </a:rPr>
              <a:t>Готовность  к обучен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единство и взаимосвязь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физической, интеллектуальной и личност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отов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omic Sans MS"/>
              </a:rPr>
              <a:t>Диагностика готовности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то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 школ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яется уровн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изического, интеллектуального и личностно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ития в их совокупност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а не количеством знаний об окружающей действительности, умением считать и чита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гностируетс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ровень развития ребенка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с согласия родителей, после записи ребенка в школ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ы диагностики позволя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строить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грамму индивидуального доразвития ребен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го отдельных качеств, необходимых для успешного обучения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Готовность к обучению в школе – что эт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251460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Физическ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биолог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или отсутствие хронических заболеваний, интеллектуальных нарушений, приведших к некоторому отставанию в общем развити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940360" y="1557000"/>
            <a:ext cx="295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Интеллектуаль-н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психолог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ень развития психических каче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ият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132000" y="1557360"/>
            <a:ext cx="2971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Comic Sans MS"/>
              </a:rPr>
              <a:t>Личностная готовность, </a:t>
            </a:r>
            <a:r>
              <a:rPr b="1" lang="ru-RU" sz="1800" spc="-1" strike="noStrike">
                <a:solidFill>
                  <a:srgbClr val="990033"/>
                </a:solidFill>
                <a:latin typeface="Comic Sans MS"/>
              </a:rPr>
              <a:t>(социальная)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ость коммуникативных каче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риентировка в окружающей действи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запас знаний о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тепень самостоятельности, активности, иници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ложительное отношение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12720" y="40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имерная (минимальная) оценка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к обучению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612720" y="1413000"/>
            <a:ext cx="820728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удерживать своё внимание  на одном занятии , заниматься не менее 15-20 мин. нелегким («скучным») делом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нимательность, усидчив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фантазировать, представлять в уме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ообра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ет простейшие рисунки, схемы, чертежи; сам рисует простейшие значки и планы, может пояснить свои рисунки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ыш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ает координированные, плавные, точные движения, играя (бегает, бросает и ловит мяч, прыгает на двух или одной ноге и др.) -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координа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лепить и лепит из пластилина то, что ему нравится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елкая моторика, интеллек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еемственность ДО и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55700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рмативной базе (ФГОС ДО и др. докуме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ормах организации (типы образовательных организаций)- СОШ, прогимназия, школа-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и задач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одических подхо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держании (развития, воспитания, образования, здоровьесбережен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818ff"/>
                </a:solidFill>
                <a:latin typeface="Arial"/>
              </a:rPr>
              <a:t>Основа преемственности – природные закономерности развит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612720" y="40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Примерная (минимальная) оценка гот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Comic Sans MS"/>
              </a:rPr>
              <a:t>к обучению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539640" y="1628640"/>
            <a:ext cx="8353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 может собрать по одной рассыпавшиеся мелкие детали мозаики или конструктора пальчиками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мелкая мотор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ает с друзьями в сюжетные игры, которые они сами придумывают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общение с детьми (коммуникация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ет взаимодействовать со взрослыми (слушать, слушаться, выполнять поручения, вести диалог)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общение со взрослыми (коммуникация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1800"/>
              </a:spcAft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мает и объясняет смысл сказок и рассказов, которые ему читают –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ечь,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Минимальная математическая и речевая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готовность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41264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 и счет от 1 до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последующего и предыдущего чис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исчитыванием или отниманием единиц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вание множеств предмет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больше, меньше, одинаково /равн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ение множества чис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 примере множества – деление на к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3280" y="1412640"/>
            <a:ext cx="432144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чевая гото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ная осмысленная 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казывание, сочинение (сказок, минирассказ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е произношение всех звуков (лог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нематический слу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ыделение звуков в слов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ение» с кни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узнавание и называние бук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ие букв (слов) печатными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5"/>
          <p:cNvSpPr/>
          <p:nvPr/>
        </p:nvSpPr>
        <p:spPr>
          <a:xfrm>
            <a:off x="4572000" y="1405080"/>
            <a:ext cx="0" cy="44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768240" y="61437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руки к письму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лепка, рисование, штрихов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5"/>
          <p:cNvSpPr/>
          <p:nvPr/>
        </p:nvSpPr>
        <p:spPr>
          <a:xfrm>
            <a:off x="539640" y="981000"/>
            <a:ext cx="7848720" cy="244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На самом деле самая лучшая подготовка ребёнка к школе – это </a:t>
            </a:r>
            <a:r>
              <a:rPr b="1" lang="ru-RU" sz="2400" spc="-1" strike="noStrike" u="sng">
                <a:solidFill>
                  <a:srgbClr val="0000e5"/>
                </a:solidFill>
                <a:uFillTx/>
                <a:latin typeface="Arial"/>
              </a:rPr>
              <a:t>полноценно прожитый период дошкольного детства, время, когда ребёнок по своему желанию занимается обычными детскими делами</a:t>
            </a: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539640" y="3933720"/>
            <a:ext cx="7848720" cy="2159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e5"/>
                </a:solidFill>
                <a:uFillTx/>
                <a:latin typeface="Arial"/>
              </a:rPr>
              <a:t>Роль взросл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блюд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овремя без насил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ш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блемы здоровь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ректир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ллектуальные способности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чностн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й метод воздействия –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Методические подходы в дошкольном образовании и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сновное требование при выборе методов и приемов – соответствие методик психо-физиологическим особенностям каждого возрастного пери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Дошкольни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опление  первоначальных знаний об окружающ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Метод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игровые ситуации, дидактические игры,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местная познавательная деятельность  ребенка и взрослог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Методические подходы в начальной ступени образовании и разви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59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 требование при выборе методов и приемов – соответствие методик психо-физиологическим особенностям каждого возрастного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ладшие школьн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 учебной деятельности как умения учиться, то есть самостоятельно решать учебные задания, задач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здание ситуаций для максимально самостоятельного открытия нового для ученика знания, перевода знания в умение с последующим его закреплением.           Проблемные ситуации; наблюдения, рассуждения, общение, обсуждение, выводы, тренировочные упражнения, простейшие творческие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ящая и направляющая роль учителя в совместной поисковой деятельности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mic Sans MS"/>
              </a:rPr>
              <a:t>Дидактические условия реализации преемственности дошкольной и начальной ступеней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2305080"/>
            <a:ext cx="8488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ализация общей цели образования –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Гармоничное сочетание трех направлений развития: физическое, интеллектуальное, личност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нание и опора на возрастные особенности и возмож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спользование приемов и методов, соответствующих возрастным особенностям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ддержание природной потребности детей в познании, формирование положительного отношения к учеб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уткое, внимательное отношение взрослых к детям, педагогическое сотрудничество (воспитателей, учителей, детей и родител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Преемственность ДО и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315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ы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ипы образовательных организаций) – детский сад, СОШ, прогимназия, школа-с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кола-сад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амый природосообразный, эффективный, результативный тип образовательного учреж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альный режим жизни и деятельности ребе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стресса переходного периода от сада к школе (новое здание, новый коллектив, новый взрослый-педагог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емственность содержания образования (обучения) – У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тог </a:t>
            </a:r>
            <a:r>
              <a:rPr b="1" lang="ru-RU" sz="2400" spc="-1" strike="noStrike">
                <a:solidFill>
                  <a:srgbClr val="000072"/>
                </a:solidFill>
                <a:latin typeface="Monotype Corsiva"/>
              </a:rPr>
              <a:t>– высокие показатели образовательный результатов, сохранение соматического и психического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овременного образова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т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ичности каждог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Задачи дошкольной ступ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ребенка и сохранение его здоровья  (физического, социального, психическог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Задачи начальной ступ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творческих способностей и стремления к самообразованию через сохранение здоровья,  развитие эмоционально-чувственной сферы, социально-личностная адаптация кажд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Современные дети. Какие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444320"/>
            <a:ext cx="82803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информир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о слушают чтение книг (читают), больше интересуются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о начинают обучаться в ущерб игре, духовно-нравственному воспитанию и личност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рны по уровню умственного и познаватель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активны, открыты, стремятся отставать своё мнение, но и враждеб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617400"/>
            <a:ext cx="8302680" cy="795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  <a:ea typeface="Calibri"/>
              </a:rPr>
              <a:t>Ведущие виды деятельности, заложенные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природ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8200" y="2125800"/>
            <a:ext cx="78501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школьное детство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ребенок-слушатель, исследователь внешних признаков объектов, 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95280" y="5013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– 9 классы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щение, социализ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95280" y="350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7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2"/>
                </a:solidFill>
                <a:latin typeface="Arial"/>
              </a:rPr>
              <a:t>Начальная школа + 5, 6 кл. – </a:t>
            </a:r>
            <a:r>
              <a:rPr b="1" lang="ru-RU" sz="2200" spc="-1" strike="noStrike">
                <a:solidFill>
                  <a:srgbClr val="000072"/>
                </a:solidFill>
                <a:latin typeface="Arial"/>
              </a:rPr>
              <a:t>учебная деяте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2"/>
                </a:solidFill>
                <a:latin typeface="Arial"/>
              </a:rPr>
              <a:t>(ребенок-деятель, исследователь внутренних связей объектов, 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95280" y="573408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- 11 классы 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бная деятельность, самоо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6477120" y="3429000"/>
            <a:ext cx="2514600" cy="144792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Эмоции и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(псих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"/>
          <p:cNvSpPr/>
          <p:nvPr/>
        </p:nvSpPr>
        <p:spPr>
          <a:xfrm>
            <a:off x="3886200" y="2666880"/>
            <a:ext cx="2438280" cy="121932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Интелл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914400" y="3276720"/>
            <a:ext cx="3124080" cy="1447560"/>
          </a:xfrm>
          <a:prstGeom prst="ellipse">
            <a:avLst/>
          </a:prstGeom>
          <a:solidFill>
            <a:srgbClr val="fdf9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Физическое 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(сомат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Monotype Corsiva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6212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Стороны  человеческой личности</a:t>
            </a:r>
            <a:br>
              <a:rPr sz="2600"/>
            </a:b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 (что развивает педагог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581280" y="3505320"/>
            <a:ext cx="2971800" cy="1752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BD06529_"/>
          <p:cNvPicPr/>
          <p:nvPr/>
        </p:nvPicPr>
        <p:blipFill>
          <a:blip r:embed="rId1"/>
          <a:stretch/>
        </p:blipFill>
        <p:spPr>
          <a:xfrm>
            <a:off x="685800" y="4495680"/>
            <a:ext cx="1676520" cy="132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E02719_"/>
          <p:cNvPicPr/>
          <p:nvPr/>
        </p:nvPicPr>
        <p:blipFill>
          <a:blip r:embed="rId2"/>
          <a:stretch/>
        </p:blipFill>
        <p:spPr>
          <a:xfrm>
            <a:off x="7086600" y="1981080"/>
            <a:ext cx="1600200" cy="1549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EN00349_"/>
          <p:cNvPicPr/>
          <p:nvPr/>
        </p:nvPicPr>
        <p:blipFill>
          <a:blip r:embed="rId3"/>
          <a:stretch/>
        </p:blipFill>
        <p:spPr>
          <a:xfrm>
            <a:off x="7086600" y="4876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E01981_"/>
          <p:cNvPicPr/>
          <p:nvPr/>
        </p:nvPicPr>
        <p:blipFill>
          <a:blip r:embed="rId4"/>
          <a:stretch/>
        </p:blipFill>
        <p:spPr>
          <a:xfrm>
            <a:off x="304920" y="2514600"/>
            <a:ext cx="140328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BS00554_"/>
          <p:cNvPicPr/>
          <p:nvPr/>
        </p:nvPicPr>
        <p:blipFill>
          <a:blip r:embed="rId5"/>
          <a:stretch/>
        </p:blipFill>
        <p:spPr>
          <a:xfrm>
            <a:off x="3429000" y="1965240"/>
            <a:ext cx="1066680" cy="93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PE02043_"/>
          <p:cNvPicPr/>
          <p:nvPr/>
        </p:nvPicPr>
        <p:blipFill>
          <a:blip r:embed="rId6"/>
          <a:stretch/>
        </p:blipFill>
        <p:spPr>
          <a:xfrm>
            <a:off x="5232240" y="3657600"/>
            <a:ext cx="93996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PE01561_"/>
          <p:cNvPicPr/>
          <p:nvPr/>
        </p:nvPicPr>
        <p:blipFill>
          <a:blip r:embed="rId7"/>
          <a:stretch/>
        </p:blipFill>
        <p:spPr>
          <a:xfrm>
            <a:off x="4724280" y="1600200"/>
            <a:ext cx="1835280" cy="1217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35812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982800" y="617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581280" y="5756400"/>
            <a:ext cx="2565360" cy="825480"/>
          </a:xfrm>
          <a:prstGeom prst="rect">
            <a:avLst/>
          </a:prstGeom>
          <a:solidFill>
            <a:srgbClr val="bdfde5"/>
          </a:solidFill>
          <a:ln w="9360">
            <a:solidFill>
              <a:srgbClr val="0c1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оциальный опыт,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4944960" y="5245200"/>
            <a:ext cx="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0360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 </a:t>
            </a:r>
            <a:br>
              <a:rPr sz="2600"/>
            </a:b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12-ти лет (+,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9640" y="1557360"/>
            <a:ext cx="8425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Компоненты интеллекта 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наивысшая активность до 10 л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постоянная природная способность к всесторон-нему познанию окружающего мира через 5 органов чув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непроизвольное (дошкольник), переход к произвольному (с 5,5 – 6 ле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умение перевести слово в образ, создание фантазий; пространственные предст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9-10 л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ч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 цель и условие развития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88520" y="602136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Задача педагогов – максимальное развитие всех интеллект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компонентов – основы успешного обучения 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569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9052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эмоции, чув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основа нравственности –закладывается до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увства и эмоции – важнейшая  сторона личности, неразвитость которой с возрастом ведет к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нижению интеллектуальных способност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Это характер, личностная симпатия или антипатия, успеш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 мозг подавать не подкрепляемую положительными чувствами (эмоциями) информацию, то в коре его формируются центры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й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й информации. (И.П.Павлов).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А это значит, что знания, не подкрепленные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телесным опытом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чувственным впечатлением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1f"/>
                </a:solidFill>
                <a:uFillTx/>
                <a:latin typeface="Arial"/>
              </a:rPr>
              <a:t>не</a:t>
            </a:r>
            <a:r>
              <a:rPr b="1" lang="ru-RU" sz="1600" spc="-1" strike="noStrike" u="sng">
                <a:solidFill>
                  <a:srgbClr val="a50021"/>
                </a:solidFill>
                <a:uFillTx/>
                <a:latin typeface="Arial"/>
              </a:rPr>
              <a:t> усваиваются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 </a:t>
            </a:r>
            <a:r>
              <a:rPr b="1" lang="ru-RU" sz="2000" spc="-1" strike="noStrike">
                <a:solidFill>
                  <a:srgbClr val="00001f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1f"/>
                </a:solidFill>
                <a:latin typeface="Arial"/>
              </a:rPr>
              <a:t>логические операции (наблюдение, сравнение, класссификация, обобщение…), умение ду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Comic Sans MS"/>
              </a:rPr>
              <a:t>Интеллектуальное развитие детей</a:t>
            </a:r>
            <a:r>
              <a:rPr b="1" lang="ru-RU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7d"/>
                </a:solidFill>
                <a:latin typeface="Comic Sans MS"/>
              </a:rPr>
              <a:t>(от 0 до 12-ти лет (+, -)</a:t>
            </a:r>
            <a:br>
              <a:rPr sz="2000"/>
            </a:b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 Компоненты интелл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03640" y="587700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Задача педагогов – максимальное развитие всех интеллект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Arial"/>
              </a:rPr>
              <a:t>компонентов – основы успешного обучения и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41:46Z</dcterms:created>
  <dc:creator>User</dc:creator>
  <dc:description/>
  <dc:language>en-US</dc:language>
  <cp:lastModifiedBy>user</cp:lastModifiedBy>
  <dcterms:modified xsi:type="dcterms:W3CDTF">2017-12-08T08:18:43Z</dcterms:modified>
  <cp:revision>252</cp:revision>
  <dc:subject/>
  <dc:title>Начальная ступень образования: основные направления модернизации  Е.А.Лутцева, канд.пед.наук доцент АПКиППРО</dc:title>
</cp:coreProperties>
</file>