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gif" ContentType="image/gif"/>
  <Override PartName="/ppt/media/image5.wmf" ContentType="image/x-wmf"/>
  <Override PartName="/ppt/media/image6.png" ContentType="image/png"/>
  <Override PartName="/ppt/media/image3.gif" ContentType="image/gi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36A0-2911-4A91-A078-F5399F43B71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2E8D-9373-4F62-B1DF-ECA8BE94668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827C-59B3-44A3-8B6F-76DEB7FF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CB69-2134-4A51-9FDD-89DA0436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7389-2474-4E80-85AE-64D6047F2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D01-C9E6-4591-8DB9-5BBE8607F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79A6-C839-4AC0-80F9-EE1803E7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4B9B-6220-46E6-9967-2773A8B0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300A3-8365-4B4D-94B9-A4E0587A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B8A3-B947-4D9D-84BD-C61E8456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9656-40C1-4B8C-956D-8EA5AFF9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25EA-C5F1-4D56-90EE-811B3BCA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12270-382C-4A0C-8EBC-C1446A1D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AEE9-C009-43A3-A742-590EA3F3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900D-AF3B-44B0-855E-45F9ECF9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58772-6DC1-401D-BEAB-42A6CC37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0495D-7220-4FC0-A255-B74B1762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D2899-EB13-4A84-B212-941D8F4C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402E-FF58-4FD1-8BEB-9CB3FABF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EC8E1-E4E7-4EDC-8F42-35EDB8FB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38FEE-E298-4881-95EA-25009E51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C3EC-8260-4E9E-A1CC-E92C78D9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D463F-A38D-4F40-902E-759140D18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8861A-E888-4984-8751-585E7893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405-8185-422E-BC53-80A9D793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BD3E5-D78A-4531-9DB2-6FC52A3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CF9E0-7753-4905-9606-223A52A9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593B7-805B-4E2C-9C18-8076A9D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9E17-01EF-4056-84EB-CA9FE5B6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31CE4-1D02-45D7-B5E4-D9A77608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65CEB-93AB-465D-A134-363BAB731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B757-2E10-4291-B393-3E2696BA9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060B-292C-43FD-A84E-AB470CCE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64B0-EA5B-437B-8649-4C6E2CA0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6D91-A81D-4323-85EF-A07C7206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49B7-9DB5-44F9-9B44-631F5314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5F8-87AE-4D6F-934F-793E58EA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480B-E9A3-4899-9420-B1B4C68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C289F-4D59-4B8D-9ABF-0FF9AE47D4D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000000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112946"/>
                </a:gs>
                <a:gs pos="100000">
                  <a:srgbClr val="1f497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1f497d"/>
                </a:gs>
                <a:gs pos="50000">
                  <a:srgbClr val="000000"/>
                </a:gs>
                <a:gs pos="100000">
                  <a:srgbClr val="1f49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B6BF-8540-45AD-8B78-86FE2C2A435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3839-034D-498B-90D9-684BB3B07DF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214200"/>
            <a:ext cx="8229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астер-класс 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икитиной Ларисы Викторовн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чителя начальных классов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АОУ СОШ № 47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г.Калининград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2012-2013 учебный год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полните таблицу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57200" y="1600200"/>
          <a:ext cx="8229600" cy="293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звание животн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нешний ви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Презентаци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3" name="Picture 8" descr="MCj03981570000[1]"/>
          <p:cNvPicPr/>
          <p:nvPr/>
        </p:nvPicPr>
        <p:blipFill>
          <a:blip r:embed="rId1"/>
          <a:stretch/>
        </p:blipFill>
        <p:spPr>
          <a:xfrm>
            <a:off x="3000240" y="1857240"/>
            <a:ext cx="351324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ефлексия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ем занимались на уроке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больше всего понравилось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было самым сложным? Почем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Что нового узнали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зобразите свое настроение смайликом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86" name="Picture 2" descr="http://gimslob.narod.ru/_nw/1/87480612.gif"/>
          <p:cNvPicPr/>
          <p:nvPr/>
        </p:nvPicPr>
        <p:blipFill>
          <a:blip r:embed="rId1"/>
          <a:stretch/>
        </p:blipFill>
        <p:spPr>
          <a:xfrm>
            <a:off x="4143240" y="4486320"/>
            <a:ext cx="378144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: Формирование самостоятельности мышления и развитие коммуникативных навыков у первоклассников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 примере уроков по предметам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Обучение грамоте»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«Окружающий мир»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Цели презен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ознакомить участников с методами интерактивной работ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Дать образец заданий для работы в групп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Окружающий мир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Тема урока : Какие бывают животн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емые методы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зговой штурм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ласте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абота в группа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нсерт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атегориальный обзор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3560" indent="-493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57" name="Picture 27" descr=""/>
          <p:cNvPicPr/>
          <p:nvPr/>
        </p:nvPicPr>
        <p:blipFill>
          <a:blip r:embed="rId1"/>
          <a:stretch/>
        </p:blipFill>
        <p:spPr>
          <a:xfrm>
            <a:off x="7315200" y="4857840"/>
            <a:ext cx="182880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Задание № 1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ведение мозгового шторма по теме «Животные»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оставление кластер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60" name="Picture 2" descr="MMj01725700000[1]"/>
          <p:cNvPicPr/>
          <p:nvPr/>
        </p:nvPicPr>
        <p:blipFill>
          <a:blip r:embed="rId1"/>
          <a:stretch/>
        </p:blipFill>
        <p:spPr>
          <a:xfrm>
            <a:off x="4071960" y="4286160"/>
            <a:ext cx="2014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Шерсть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4 ног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хищни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Мозговой штурм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ластер «Животные»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Cloud"/>
          <p:cNvSpPr/>
          <p:nvPr/>
        </p:nvSpPr>
        <p:spPr>
          <a:xfrm>
            <a:off x="2928960" y="2643120"/>
            <a:ext cx="3571920" cy="20941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Животные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4" name="Прямая со стрелкой 7"/>
          <p:cNvCxnSpPr/>
          <p:nvPr/>
        </p:nvCxnSpPr>
        <p:spPr>
          <a:xfrm>
            <a:off x="6143760" y="4214520"/>
            <a:ext cx="1072080" cy="14364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5" name="Прямая со стрелкой 9"/>
          <p:cNvCxnSpPr/>
          <p:nvPr/>
        </p:nvCxnSpPr>
        <p:spPr>
          <a:xfrm flipH="1" flipV="1">
            <a:off x="1499760" y="2571120"/>
            <a:ext cx="1643760" cy="50076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6" name="Прямая со стрелкой 13"/>
          <p:cNvCxnSpPr/>
          <p:nvPr/>
        </p:nvCxnSpPr>
        <p:spPr>
          <a:xfrm flipH="1">
            <a:off x="2928240" y="4571640"/>
            <a:ext cx="429480" cy="42948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7" name="Прямая со стрелкой 10"/>
          <p:cNvCxnSpPr/>
          <p:nvPr/>
        </p:nvCxnSpPr>
        <p:spPr>
          <a:xfrm flipH="1" flipV="1">
            <a:off x="4500000" y="1856520"/>
            <a:ext cx="214920" cy="71532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8" name="Прямая со стрелкой 11"/>
          <p:cNvCxnSpPr/>
          <p:nvPr/>
        </p:nvCxnSpPr>
        <p:spPr>
          <a:xfrm>
            <a:off x="5643720" y="4857480"/>
            <a:ext cx="429120" cy="57204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69" name="Прямая со стрелкой 12"/>
          <p:cNvCxnSpPr/>
          <p:nvPr/>
        </p:nvCxnSpPr>
        <p:spPr>
          <a:xfrm flipH="1" flipV="1">
            <a:off x="1785960" y="3714480"/>
            <a:ext cx="643320" cy="216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  <p:cxnSp>
        <p:nvCxnSpPr>
          <p:cNvPr id="170" name="Прямая со стрелкой 14"/>
          <p:cNvCxnSpPr/>
          <p:nvPr/>
        </p:nvCxnSpPr>
        <p:spPr>
          <a:xfrm flipV="1">
            <a:off x="6428880" y="2285640"/>
            <a:ext cx="358200" cy="357840"/>
          </a:xfrm>
          <a:prstGeom prst="straightConnector1">
            <a:avLst/>
          </a:prstGeom>
          <a:ln w="9360">
            <a:solidFill>
              <a:srgbClr val="005de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бота в в группах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ние №2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Прочитайте в учебнике информацию о животных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Отметьте  значком        то, что ранее вам было неизвестно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Прямая соединительная линия 4"/>
          <p:cNvSpPr/>
          <p:nvPr/>
        </p:nvSpPr>
        <p:spPr>
          <a:xfrm>
            <a:off x="4071960" y="3429000"/>
            <a:ext cx="285840" cy="357120"/>
          </a:xfrm>
          <a:prstGeom prst="line">
            <a:avLst/>
          </a:prstGeom>
          <a:ln w="9360">
            <a:solidFill>
              <a:srgbClr val="005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Прямая соединительная линия 6"/>
          <p:cNvSpPr/>
          <p:nvPr/>
        </p:nvSpPr>
        <p:spPr>
          <a:xfrm flipV="1">
            <a:off x="4357080" y="3429000"/>
            <a:ext cx="214200" cy="357120"/>
          </a:xfrm>
          <a:prstGeom prst="line">
            <a:avLst/>
          </a:prstGeom>
          <a:ln w="9360">
            <a:solidFill>
              <a:srgbClr val="005d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5" name="Picture 8" descr="MCj03981330000[1]"/>
          <p:cNvPicPr/>
          <p:nvPr/>
        </p:nvPicPr>
        <p:blipFill>
          <a:blip r:embed="rId1"/>
          <a:stretch/>
        </p:blipFill>
        <p:spPr>
          <a:xfrm>
            <a:off x="5715000" y="4071960"/>
            <a:ext cx="2209680" cy="22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8229600" cy="98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бота в группе</a:t>
            </a:r>
            <a:br>
              <a:rPr sz="4400"/>
            </a:b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Задание № 3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Используя имеющиеся и полученные знания заполните таблицу. Укажите все, что вам известно о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Зверя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екомы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Рыбах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Насекомых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Работа в группах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Укажите все известные вам признаки, характерные для данного вида животных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1 группа – звер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2 группа- насекомые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3 группа – рыбы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4 группа -птицы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3T05:29:19Z</dcterms:created>
  <dc:creator>admin</dc:creator>
  <dc:description/>
  <dc:language>en-US</dc:language>
  <cp:lastModifiedBy>Лариса Викторовна</cp:lastModifiedBy>
  <dcterms:modified xsi:type="dcterms:W3CDTF">2017-12-10T14:50:53Z</dcterms:modified>
  <cp:revision>60</cp:revision>
  <dc:subject/>
  <dc:title>Правописание безударных падежных окончаний имён существительных единственного числа</dc:title>
</cp:coreProperties>
</file>