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gif" ContentType="image/gif"/>
  <Override PartName="/ppt/media/image5.wmf" ContentType="image/x-wmf"/>
  <Override PartName="/ppt/media/image6.png" ContentType="image/png"/>
  <Override PartName="/ppt/media/image3.gif" ContentType="image/gi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D77F4-9653-4C66-A6E0-0A857202BE3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EF538-1C76-4512-AA0D-3B174CBE932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D098-169C-46F5-A6CD-F788BB5F4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B024-1CEA-44DE-BA38-3738F3977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8470-E861-4B14-960A-FBB4BE033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6A90-6C8E-472E-9E1D-2743616E5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8D98C-BE8A-46CB-9526-67A251EE4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C9718-8046-41E4-8006-F987B9420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31EF0-D43A-49C7-847B-CE44A667B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9A61E-FAB4-47D4-9F64-21C8CA06B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5861D-B813-49E1-93B7-4820E41EE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FFCAB-AFD6-4E73-BE58-3AB34C053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A1EE7-35A0-4135-BECF-F1FBE119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DEAB-D600-42F7-AE68-F19678D24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1CA8D-6C8B-4EFF-9B9E-1A316715F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6ADEE-170E-4430-951D-C447A567B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452A6-85D3-4D34-88AC-6D52D6EDE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41257-FFE9-42DA-9F72-F26952063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D85D8-C7D2-41B8-9574-E76A33C18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69477-8494-4452-9298-85683E3A7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9DC38-7946-4AB2-A84F-8E5F756FD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BAE0A-64E6-4205-8B5A-6CD502F5D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9E6EE-F690-4E47-83F5-C47419AD2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88647-56FF-444A-8C5B-7D99B57D4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FAAF-60E9-4F40-A779-11092E67F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309B3-14EB-4B77-9FC4-0E53C15F8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8435D-77F6-435D-B0B8-11AAC5B2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6E92F-CE2F-442F-BC07-26FF5B9D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5C5F0-92CD-4174-95CF-97AEEF170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E9A2D-0A98-4D1A-8B88-4BAE668D3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671BC-1E96-45A7-B4CE-B5AD014F1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17B0B-F8FF-42C2-A87C-843B24704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D3C5-D709-4631-B327-C258C74E3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AC54-0EBD-4A8D-9D5A-5B989E6CA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39E4-6476-44D5-B51C-265CB38CB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32AB-5FD6-4407-976A-F1130AEE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2DAE-06E3-480E-8653-102E4D95E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7800-F9C3-48C1-B61A-4AC13694D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86AF9-B9C6-4061-A372-823F588AE5E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2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1f497d"/>
                </a:gs>
                <a:gs pos="50000">
                  <a:srgbClr val="000000"/>
                </a:gs>
                <a:gs pos="100000">
                  <a:srgbClr val="1f49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c0504d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1f497d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1f497d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1f497d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c0504d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c0504d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c0504d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c0504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112946"/>
                </a:gs>
                <a:gs pos="100000">
                  <a:srgbClr val="1f497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1f497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c0504d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1f497d"/>
                </a:gs>
                <a:gs pos="50000">
                  <a:srgbClr val="000000"/>
                </a:gs>
                <a:gs pos="100000">
                  <a:srgbClr val="1f49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c0504d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6799B-7850-4980-8D24-EE380790F96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4E077-4A19-469E-B5B7-B1FE2324221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21420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Мастер-класс 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Никитиной Ларисы Викторовн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учителя начальных классов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МАОУ СОШ № 47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г.Калининград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2012-2013 учебный год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Заполните таблицу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57200" y="1600200"/>
          <a:ext cx="8229600" cy="29304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звание животно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нешний ви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Презентаци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3" name="Picture 8" descr="MCj03981570000[1]"/>
          <p:cNvPicPr/>
          <p:nvPr/>
        </p:nvPicPr>
        <p:blipFill>
          <a:blip r:embed="rId1"/>
          <a:stretch/>
        </p:blipFill>
        <p:spPr>
          <a:xfrm>
            <a:off x="3000240" y="1857240"/>
            <a:ext cx="351324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Рефлексия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2876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Чем занимались на уроке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Что больше всего понравилось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Что было самым сложным? Почему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Что нового узнали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Изобразите свое настроение смайликом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6" name="Picture 2" descr="http://gimslob.narod.ru/_nw/1/87480612.gif"/>
          <p:cNvPicPr/>
          <p:nvPr/>
        </p:nvPicPr>
        <p:blipFill>
          <a:blip r:embed="rId1"/>
          <a:stretch/>
        </p:blipFill>
        <p:spPr>
          <a:xfrm>
            <a:off x="4143240" y="4486320"/>
            <a:ext cx="3781440" cy="21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271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ма: Формирование самостоятельности мышления и развитие коммуникативных навыков у первоклассников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На примере уроков по предметам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«Обучение грамоте»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«Окружающий мир»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Цели презентаци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ознакомить участников с методами интерактивной работ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Дать образец заданий для работы в группе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Окружающий мир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5712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Тема урока : Какие бывают животные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Используемые методы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Мозговой штурм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Кластер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Работа в группах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Инсерт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Категориальный обзор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7" name="Picture 27" descr=""/>
          <p:cNvPicPr/>
          <p:nvPr/>
        </p:nvPicPr>
        <p:blipFill>
          <a:blip r:embed="rId1"/>
          <a:stretch/>
        </p:blipFill>
        <p:spPr>
          <a:xfrm>
            <a:off x="7315200" y="4857840"/>
            <a:ext cx="18288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Задание № 1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роведение мозгового шторма по теме «Животные»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Составление кластер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0" name="Picture 2" descr="MMj01725700000[1]"/>
          <p:cNvPicPr/>
          <p:nvPr/>
        </p:nvPicPr>
        <p:blipFill>
          <a:blip r:embed="rId1"/>
          <a:stretch/>
        </p:blipFill>
        <p:spPr>
          <a:xfrm>
            <a:off x="4071960" y="4286160"/>
            <a:ext cx="201456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2000" fill="hold"/>
                                        <p:tgtEl>
                                          <p:spTgt spid="1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4287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Шерсть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                       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4 ноги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           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      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хищники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Мозговой штурм</a:t>
            </a:r>
            <a:br>
              <a:rPr sz="4400"/>
            </a:b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Кластер «Животные»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Cloud"/>
          <p:cNvSpPr/>
          <p:nvPr/>
        </p:nvSpPr>
        <p:spPr>
          <a:xfrm>
            <a:off x="2928960" y="2643120"/>
            <a:ext cx="3571920" cy="2094120"/>
          </a:xfrm>
          <a:prstGeom prst="pi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Животные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4" name="Прямая со стрелкой 7"/>
          <p:cNvCxnSpPr/>
          <p:nvPr/>
        </p:nvCxnSpPr>
        <p:spPr>
          <a:xfrm>
            <a:off x="6143760" y="4214520"/>
            <a:ext cx="1072080" cy="143640"/>
          </a:xfrm>
          <a:prstGeom prst="straightConnector1">
            <a:avLst/>
          </a:prstGeom>
          <a:ln w="9360">
            <a:solidFill>
              <a:srgbClr val="005def"/>
            </a:solidFill>
            <a:miter/>
            <a:tailEnd len="med" type="arrow" w="med"/>
          </a:ln>
        </p:spPr>
      </p:cxnSp>
      <p:cxnSp>
        <p:nvCxnSpPr>
          <p:cNvPr id="165" name="Прямая со стрелкой 9"/>
          <p:cNvCxnSpPr/>
          <p:nvPr/>
        </p:nvCxnSpPr>
        <p:spPr>
          <a:xfrm flipH="1" flipV="1">
            <a:off x="1499760" y="2571120"/>
            <a:ext cx="1643760" cy="500760"/>
          </a:xfrm>
          <a:prstGeom prst="straightConnector1">
            <a:avLst/>
          </a:prstGeom>
          <a:ln w="9360">
            <a:solidFill>
              <a:srgbClr val="005def"/>
            </a:solidFill>
            <a:miter/>
            <a:tailEnd len="med" type="arrow" w="med"/>
          </a:ln>
        </p:spPr>
      </p:cxnSp>
      <p:cxnSp>
        <p:nvCxnSpPr>
          <p:cNvPr id="166" name="Прямая со стрелкой 13"/>
          <p:cNvCxnSpPr/>
          <p:nvPr/>
        </p:nvCxnSpPr>
        <p:spPr>
          <a:xfrm flipH="1">
            <a:off x="2928240" y="4571640"/>
            <a:ext cx="429480" cy="429480"/>
          </a:xfrm>
          <a:prstGeom prst="straightConnector1">
            <a:avLst/>
          </a:prstGeom>
          <a:ln w="9360">
            <a:solidFill>
              <a:srgbClr val="005def"/>
            </a:solidFill>
            <a:miter/>
            <a:tailEnd len="med" type="arrow" w="med"/>
          </a:ln>
        </p:spPr>
      </p:cxnSp>
      <p:cxnSp>
        <p:nvCxnSpPr>
          <p:cNvPr id="167" name="Прямая со стрелкой 10"/>
          <p:cNvCxnSpPr/>
          <p:nvPr/>
        </p:nvCxnSpPr>
        <p:spPr>
          <a:xfrm flipH="1" flipV="1">
            <a:off x="4500000" y="1856520"/>
            <a:ext cx="214920" cy="715320"/>
          </a:xfrm>
          <a:prstGeom prst="straightConnector1">
            <a:avLst/>
          </a:prstGeom>
          <a:ln w="9360">
            <a:solidFill>
              <a:srgbClr val="005def"/>
            </a:solidFill>
            <a:miter/>
            <a:tailEnd len="med" type="arrow" w="med"/>
          </a:ln>
        </p:spPr>
      </p:cxnSp>
      <p:cxnSp>
        <p:nvCxnSpPr>
          <p:cNvPr id="168" name="Прямая со стрелкой 11"/>
          <p:cNvCxnSpPr/>
          <p:nvPr/>
        </p:nvCxnSpPr>
        <p:spPr>
          <a:xfrm>
            <a:off x="5643720" y="4857480"/>
            <a:ext cx="429120" cy="572040"/>
          </a:xfrm>
          <a:prstGeom prst="straightConnector1">
            <a:avLst/>
          </a:prstGeom>
          <a:ln w="9360">
            <a:solidFill>
              <a:srgbClr val="005def"/>
            </a:solidFill>
            <a:miter/>
            <a:tailEnd len="med" type="arrow" w="med"/>
          </a:ln>
        </p:spPr>
      </p:cxnSp>
      <p:cxnSp>
        <p:nvCxnSpPr>
          <p:cNvPr id="169" name="Прямая со стрелкой 12"/>
          <p:cNvCxnSpPr/>
          <p:nvPr/>
        </p:nvCxnSpPr>
        <p:spPr>
          <a:xfrm flipH="1" flipV="1">
            <a:off x="1785960" y="3714480"/>
            <a:ext cx="643320" cy="2160"/>
          </a:xfrm>
          <a:prstGeom prst="straightConnector1">
            <a:avLst/>
          </a:prstGeom>
          <a:ln w="9360">
            <a:solidFill>
              <a:srgbClr val="005def"/>
            </a:solidFill>
            <a:miter/>
            <a:tailEnd len="med" type="arrow" w="med"/>
          </a:ln>
        </p:spPr>
      </p:cxnSp>
      <p:cxnSp>
        <p:nvCxnSpPr>
          <p:cNvPr id="170" name="Прямая со стрелкой 14"/>
          <p:cNvCxnSpPr/>
          <p:nvPr/>
        </p:nvCxnSpPr>
        <p:spPr>
          <a:xfrm flipV="1">
            <a:off x="6428880" y="2285640"/>
            <a:ext cx="358200" cy="357840"/>
          </a:xfrm>
          <a:prstGeom prst="straightConnector1">
            <a:avLst/>
          </a:prstGeom>
          <a:ln w="9360">
            <a:solidFill>
              <a:srgbClr val="005de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Работа в в группах</a:t>
            </a:r>
            <a:br>
              <a:rPr sz="4400"/>
            </a:b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Задание №2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5712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рочитайте в учебнике информацию о животных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тметьте  значком        то, что ранее вам было неизвестно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Прямая соединительная линия 4"/>
          <p:cNvSpPr/>
          <p:nvPr/>
        </p:nvSpPr>
        <p:spPr>
          <a:xfrm>
            <a:off x="4071960" y="3429000"/>
            <a:ext cx="285840" cy="357120"/>
          </a:xfrm>
          <a:prstGeom prst="line">
            <a:avLst/>
          </a:prstGeom>
          <a:ln w="9360">
            <a:solidFill>
              <a:srgbClr val="005d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Прямая соединительная линия 6"/>
          <p:cNvSpPr/>
          <p:nvPr/>
        </p:nvSpPr>
        <p:spPr>
          <a:xfrm flipV="1">
            <a:off x="4357080" y="3429000"/>
            <a:ext cx="214200" cy="357120"/>
          </a:xfrm>
          <a:prstGeom prst="line">
            <a:avLst/>
          </a:prstGeom>
          <a:ln w="9360">
            <a:solidFill>
              <a:srgbClr val="005d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Picture 8" descr="MCj03981330000[1]"/>
          <p:cNvPicPr/>
          <p:nvPr/>
        </p:nvPicPr>
        <p:blipFill>
          <a:blip r:embed="rId1"/>
          <a:stretch/>
        </p:blipFill>
        <p:spPr>
          <a:xfrm>
            <a:off x="5715000" y="4071960"/>
            <a:ext cx="2209680" cy="22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Работа в группе</a:t>
            </a:r>
            <a:br>
              <a:rPr sz="4400"/>
            </a:b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Задание № 3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Используя имеющиеся и полученные знания заполните таблицу. Укажите все, что вам известно о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Зверях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Насекомых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Рыбах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Насекомых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Работа в группах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Укажите все известные вам признаки, характерные для данного вида животных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1 группа – звери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2 группа- насекомые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3 группа – рыбы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4 группа -птиц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3T05:29:19Z</dcterms:created>
  <dc:creator>admin</dc:creator>
  <dc:description/>
  <dc:language>en-US</dc:language>
  <cp:lastModifiedBy>Лариса Викторовна</cp:lastModifiedBy>
  <dcterms:modified xsi:type="dcterms:W3CDTF">2017-12-10T14:50:53Z</dcterms:modified>
  <cp:revision>60</cp:revision>
  <dc:subject/>
  <dc:title>Правописание безударных падежных окончаний имён существительных единственного числа</dc:title>
</cp:coreProperties>
</file>