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30C8D-167C-42EC-981E-964578C14A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F45D0-BF99-4006-B1BE-33D25694E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4BB24-582D-434A-A23A-99DC7DB825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6A23A-8AD3-46DA-B058-9A81994A61A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8E0EB9-357D-4E09-B1EC-8DE3F853033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0516C-70AB-4BFA-BB91-8D8AC0CC2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9E00EA-5137-4105-89FB-74BBB7BDCF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D2CDB-2561-46FE-8F52-75BF40E06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ACAD-0C64-4E4A-9064-A7B7896859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12C0-D604-4922-B7FC-732C0A3E137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DA60D-84A0-4847-80A0-051E72F1A6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7C314-6A8C-45B8-A84C-D7D1B32998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1106BE-F4AC-4C60-A768-B6EFA40AA9F4}" type="slidenum">
              <a:rPr b="0" lang="ru-RU" sz="18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299880" y="-228600"/>
            <a:ext cx="974376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533520" y="4419720"/>
            <a:ext cx="62481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Выполнила:  Карелина И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учитель-логопед МАДОУ №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г. Аси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228600" y="68580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ИСПОЛЬЗОВАНИЕ МНЕМОТЕХНИКИ В ЛОГОПЕДИЧЕСКОЙ РАБОТ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-355680" y="-1872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324000" y="260280"/>
            <a:ext cx="5705280" cy="4302360"/>
            <a:chOff x="324000" y="260280"/>
            <a:chExt cx="5705280" cy="4302360"/>
          </a:xfrm>
        </p:grpSpPr>
        <p:pic>
          <p:nvPicPr>
            <p:cNvPr id="72" name="Picture 5" descr=""/>
            <p:cNvPicPr/>
            <p:nvPr/>
          </p:nvPicPr>
          <p:blipFill>
            <a:blip r:embed="rId2"/>
            <a:stretch/>
          </p:blipFill>
          <p:spPr>
            <a:xfrm>
              <a:off x="324000" y="260280"/>
              <a:ext cx="5705280" cy="430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6"/>
            <p:cNvSpPr/>
            <p:nvPr/>
          </p:nvSpPr>
          <p:spPr>
            <a:xfrm>
              <a:off x="324000" y="260280"/>
              <a:ext cx="5705280" cy="43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3708360" y="2895480"/>
            <a:ext cx="52563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-144360" y="-187200"/>
            <a:ext cx="9734400" cy="7315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1828800" y="533520"/>
            <a:ext cx="1981080" cy="1500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2362320" cy="1860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4"/>
          <a:stretch/>
        </p:blipFill>
        <p:spPr>
          <a:xfrm>
            <a:off x="5759280" y="344520"/>
            <a:ext cx="2303640" cy="1600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5"/>
          <a:stretch/>
        </p:blipFill>
        <p:spPr>
          <a:xfrm>
            <a:off x="6019920" y="4964040"/>
            <a:ext cx="2412720" cy="1893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6"/>
          <a:stretch/>
        </p:blipFill>
        <p:spPr>
          <a:xfrm>
            <a:off x="1944720" y="4952880"/>
            <a:ext cx="2160720" cy="1562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7"/>
          <a:stretch/>
        </p:blipFill>
        <p:spPr>
          <a:xfrm>
            <a:off x="4608360" y="2376360"/>
            <a:ext cx="244800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-285840" y="-2286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Рассказ о насекомых  по мнемодорож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0" y="1905120"/>
            <a:ext cx="9142560" cy="2984400"/>
            <a:chOff x="0" y="1905120"/>
            <a:chExt cx="9142560" cy="2984400"/>
          </a:xfrm>
        </p:grpSpPr>
        <p:pic>
          <p:nvPicPr>
            <p:cNvPr id="87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1905120"/>
              <a:ext cx="9142560" cy="29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5"/>
            <p:cNvSpPr/>
            <p:nvPr/>
          </p:nvSpPr>
          <p:spPr>
            <a:xfrm>
              <a:off x="0" y="1905120"/>
              <a:ext cx="9142560" cy="29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-285840" y="-2286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Мнемотаблица к стихотворени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77468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72504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228600" y="1066680"/>
            <a:ext cx="9296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-4680" y="-42840"/>
            <a:ext cx="9725040" cy="731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66600" y="-42840"/>
            <a:ext cx="972504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457200" y="998640"/>
            <a:ext cx="822960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у детей увеличивается круг знаний об окружающем мире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появляется желание пересказывать тексты, придумывать интересные истории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появляется интерес к заучиванию стихов и потешек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словарный запас выходит на более высокий уровень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дети преодолевают робость, застенчивость, учатся свободно держаться перед аудитори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159000" y="1455840"/>
            <a:ext cx="2960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Результа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725040" cy="73152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228600" y="1066680"/>
            <a:ext cx="9296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«Даже мгновенно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озарени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может стать той первой искрой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из которой рано или поздно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згорится плам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творческого поиска»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. Шатал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-100080" y="0"/>
            <a:ext cx="92440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0" y="2362320"/>
            <a:ext cx="8686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-285840" y="-2286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блемы речи детей дошкольного возрас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0" y="762120"/>
            <a:ext cx="9372600" cy="57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дносложная, состоящая лишь из простых предложений речь. Неспособность грамматически правильно построить предлож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Бедность речи. Недостаточный словарный зап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потребление нелитературных слов и выраж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Бедная диалогическая речь: неспособность грамотно и доступно сформулировать вопрос, построить краткий или развёрнутый отв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еспособность построить монолог: например, сюжетный или описательный рассказ на предложенную тему, пересказ текста своими сло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тсутствие логического обоснования своих утверждений и выв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тсутствие навыков культуры речи: неумение использовать интонации, регулировать громкость голоса и темп речи и т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лохая дик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0" y="1143000"/>
            <a:ext cx="91440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Ребёнок должен научиться выделять самое главное в повествовании, последовательно излагать основные действия и события.</a:t>
            </a:r>
            <a:r>
              <a:rPr b="0" i="1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-290520" y="-228600"/>
            <a:ext cx="97250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0" y="914400"/>
            <a:ext cx="89154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Мнемотехника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- это  система методов и приемов, обеспечивающих эффективное запоминание, сохранение и воспроизведение информации, и, конечно, развитие реч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-295200" y="-228600"/>
            <a:ext cx="973440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304920" y="380880"/>
            <a:ext cx="88390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Цель обучения мнемотехнике  </a:t>
            </a:r>
            <a:r>
              <a:rPr b="0" i="1" lang="ru-RU" sz="4400" spc="-1" strike="noStrike">
                <a:solidFill>
                  <a:srgbClr val="7030a0"/>
                </a:solidFill>
                <a:latin typeface="Arial"/>
              </a:rPr>
              <a:t>-  развитие памяти, мышления, воображения, внимания, а именно психических процессов, так как они тесно связаны с полноценным развитием реч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-295200" y="-228600"/>
            <a:ext cx="973440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0" y="2286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уть мнемосхем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заключается в следующем: на каждое слово или маленькое словосочетание придумывается картинка (изображение); таким образом, весь текст зарисовывается схематично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Глядя на эти схемы – рисунки ребёнок легко воспроизводит текстовую информаци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-149400" y="-71280"/>
            <a:ext cx="972504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990720" y="69840"/>
            <a:ext cx="815328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Одним из методов активизации творческого мышления ребенка является символическая аналогия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7200" y="1905120"/>
            <a:ext cx="822960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Символическая аналогия  включает в себя обобщенный, абстрактный словесный или графический образ объ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ическая аналогия может бы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- графическ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- словес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-285840" y="-2286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0" y="16020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иды мнемообозначений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7030a0"/>
                </a:solidFill>
                <a:latin typeface="Arial"/>
              </a:rPr>
              <a:t>мнемоквадраты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7030a0"/>
                </a:solidFill>
                <a:latin typeface="Arial"/>
              </a:rPr>
              <a:t>мнемодорожки: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7030a0"/>
                </a:solidFill>
                <a:latin typeface="Arial"/>
              </a:rPr>
              <a:t>мнемотаблиц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-355680" y="-1872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Group 4"/>
          <p:cNvGrpSpPr/>
          <p:nvPr/>
        </p:nvGrpSpPr>
        <p:grpSpPr>
          <a:xfrm>
            <a:off x="142920" y="216000"/>
            <a:ext cx="2374920" cy="2873160"/>
            <a:chOff x="142920" y="216000"/>
            <a:chExt cx="2374920" cy="2873160"/>
          </a:xfrm>
        </p:grpSpPr>
        <p:pic>
          <p:nvPicPr>
            <p:cNvPr id="64" name="Picture 5" descr=""/>
            <p:cNvPicPr/>
            <p:nvPr/>
          </p:nvPicPr>
          <p:blipFill>
            <a:blip r:embed="rId2"/>
            <a:stretch/>
          </p:blipFill>
          <p:spPr>
            <a:xfrm>
              <a:off x="142920" y="216000"/>
              <a:ext cx="2374920" cy="28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6"/>
            <p:cNvSpPr/>
            <p:nvPr/>
          </p:nvSpPr>
          <p:spPr>
            <a:xfrm>
              <a:off x="142920" y="216000"/>
              <a:ext cx="2374920" cy="28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3059280" y="1008000"/>
            <a:ext cx="576072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4"/>
          <a:stretch/>
        </p:blipFill>
        <p:spPr>
          <a:xfrm>
            <a:off x="2376360" y="3429000"/>
            <a:ext cx="5904000" cy="325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7-04-17T15:35:25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