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2F55B-D5B9-4E28-B4C2-345E007B42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F5067-3465-42C0-B98E-30B2DDE6E1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6EB75-61FD-4EA3-9E75-830E0D35FE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7E10-65BA-44AE-9FCE-DFEBF5C3C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290E-C54A-4A27-9968-F552AFC86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3B38-7699-4117-95F7-56BD3E1CB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F9FD-170B-4623-BE4B-6A5B2BE14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4F72-3E2F-4DB4-AC97-F8198D2CB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A5FB-0801-42DD-BDF0-E302A73C6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A511-5AF3-464C-A329-4DFB78949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CE5C-E3CD-4432-8D9B-85CD28CC7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56C9-458C-46FD-BC0A-5D66A32A9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F587-E450-45B4-8140-3DB14AF96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EF5E-09EA-406F-BE34-99C6979AA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B8A8-955B-40DF-B8E4-7445175F2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C7879-0477-4FDE-86C1-04C1AFBE83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1 фон (26)"/>
          <p:cNvPicPr/>
          <p:nvPr/>
        </p:nvPicPr>
        <p:blipFill>
          <a:blip r:embed="rId1"/>
          <a:stretch/>
        </p:blipFill>
        <p:spPr>
          <a:xfrm>
            <a:off x="324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2"/>
          <p:cNvSpPr/>
          <p:nvPr/>
        </p:nvSpPr>
        <p:spPr>
          <a:xfrm>
            <a:off x="1116000" y="1773360"/>
            <a:ext cx="6697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  </a:t>
            </a:r>
            <a:r>
              <a:rPr b="1" i="1" lang="ru-RU" sz="2800" spc="-1" strike="noStrike">
                <a:solidFill>
                  <a:srgbClr val="000066"/>
                </a:solidFill>
                <a:latin typeface="Arial"/>
                <a:ea typeface="Arial"/>
              </a:rPr>
              <a:t>ФОРМИРОВАНИЕ  ГРАМОТНОГО  ПИСЬМА  У  МЛАДШИХ  ШКОЛЬ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Arial"/>
                <a:ea typeface="Arial"/>
              </a:rPr>
              <a:t>(НЕТРАДИЦИОННЫЙ ПОДХОД  К  ТРАДИЦИОННЫМ ВИДАМ  ДЕЯТЕЛЬНОСТ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3831120" y="5265720"/>
            <a:ext cx="385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Calibri"/>
              </a:rPr>
              <a:t>Учитель-логопед 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 ТО «Северное»</a:t>
            </a:r>
            <a:r>
              <a:rPr b="1" i="1" lang="ru-RU" sz="1800" spc="-1" strike="noStrike">
                <a:solidFill>
                  <a:srgbClr val="000066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Calibri"/>
              </a:rPr>
              <a:t>Сергеева Галина Никола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1" descr="1 фон (26)"/>
          <p:cNvPicPr/>
          <p:nvPr/>
        </p:nvPicPr>
        <p:blipFill>
          <a:blip r:embed="rId1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Box 1"/>
          <p:cNvSpPr/>
          <p:nvPr/>
        </p:nvSpPr>
        <p:spPr>
          <a:xfrm>
            <a:off x="1979640" y="260280"/>
            <a:ext cx="60469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Arial"/>
              </a:rPr>
              <a:t>Работа над ошибк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( НЕТРАДИЦИОННЫЙ  ПОДХОД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Фотографии ко 2-ой презентации 003"/>
          <p:cNvPicPr/>
          <p:nvPr/>
        </p:nvPicPr>
        <p:blipFill>
          <a:blip r:embed="rId2"/>
          <a:stretch/>
        </p:blipFill>
        <p:spPr>
          <a:xfrm>
            <a:off x="2050920" y="1484280"/>
            <a:ext cx="5616720" cy="4881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Фотографии ко 2-ой презентации 003"/>
          <p:cNvPicPr/>
          <p:nvPr/>
        </p:nvPicPr>
        <p:blipFill>
          <a:blip r:embed="rId3"/>
          <a:stretch/>
        </p:blipFill>
        <p:spPr>
          <a:xfrm>
            <a:off x="1979640" y="1557360"/>
            <a:ext cx="5616720" cy="48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Рисунок 1" descr="1 фон (26)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TextBox 1"/>
          <p:cNvSpPr/>
          <p:nvPr/>
        </p:nvSpPr>
        <p:spPr>
          <a:xfrm>
            <a:off x="1692360" y="260280"/>
            <a:ext cx="604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Arial Narrow"/>
              </a:rPr>
              <a:t>Работа над ошибк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Arial Narrow"/>
              </a:rPr>
              <a:t>на  занятии ( контроль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"/>
          <p:cNvSpPr/>
          <p:nvPr/>
        </p:nvSpPr>
        <p:spPr>
          <a:xfrm>
            <a:off x="1332000" y="1341360"/>
            <a:ext cx="6405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Систематическая работа н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ошибками,  отличающаяся от традиционно принятой, существенно повышает уровень грамотности обучающих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Фотографии ко 2-ой презентации 046"/>
          <p:cNvPicPr/>
          <p:nvPr/>
        </p:nvPicPr>
        <p:blipFill>
          <a:blip r:embed="rId2"/>
          <a:stretch/>
        </p:blipFill>
        <p:spPr>
          <a:xfrm>
            <a:off x="1258920" y="4076640"/>
            <a:ext cx="648180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1" descr="1 фон (26)"/>
          <p:cNvPicPr/>
          <p:nvPr/>
        </p:nvPicPr>
        <p:blipFill>
          <a:blip r:embed="rId1"/>
          <a:stretch/>
        </p:blipFill>
        <p:spPr>
          <a:xfrm>
            <a:off x="0" y="-531720"/>
            <a:ext cx="9144000" cy="7389720"/>
          </a:xfrm>
          <a:prstGeom prst="rect">
            <a:avLst/>
          </a:prstGeom>
          <a:ln w="0">
            <a:noFill/>
          </a:ln>
        </p:spPr>
      </p:pic>
      <p:sp>
        <p:nvSpPr>
          <p:cNvPr id="82" name="TextBox 1"/>
          <p:cNvSpPr/>
          <p:nvPr/>
        </p:nvSpPr>
        <p:spPr>
          <a:xfrm>
            <a:off x="2195640" y="404640"/>
            <a:ext cx="57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Словарный диктант – один из  сложнейших  видов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"/>
          <p:cNvSpPr/>
          <p:nvPr/>
        </p:nvSpPr>
        <p:spPr>
          <a:xfrm flipV="1">
            <a:off x="1403280" y="1915920"/>
            <a:ext cx="6405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971640" y="1484280"/>
            <a:ext cx="6769080" cy="67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«Словарные слова учим вместе!»-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таков девиз для ребен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                 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и его родител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Успех  гарантирован, если     словарные слова ребенок будет  заучивать вместе со взрослым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1" descr="1 фон (26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Box 1"/>
          <p:cNvSpPr/>
          <p:nvPr/>
        </p:nvSpPr>
        <p:spPr>
          <a:xfrm>
            <a:off x="1763640" y="476280"/>
            <a:ext cx="61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 Narrow"/>
              </a:rPr>
              <a:t>Условия успеха</a:t>
            </a:r>
            <a:r>
              <a:rPr b="1" lang="ru-RU" sz="3600" spc="-1" strike="noStrike">
                <a:solidFill>
                  <a:srgbClr val="ff0000"/>
                </a:solidFill>
                <a:latin typeface="Arial Narro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"/>
          <p:cNvSpPr/>
          <p:nvPr/>
        </p:nvSpPr>
        <p:spPr>
          <a:xfrm>
            <a:off x="1403280" y="1557360"/>
            <a:ext cx="6840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Заучивать словарные слова следует по определенному алгорит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Обязательное условие  -  одновременное проговаривание  не должно превышать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5 – 7 словарных сл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Чтение написанного  по буквам:  «Читай так, как написано у тебя 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Задача взрослого  -  приучить ребенка                             к  самостоятельному нахождению и исправлению ошиб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1" descr="1 фон (26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xtBox 1"/>
          <p:cNvSpPr/>
          <p:nvPr/>
        </p:nvSpPr>
        <p:spPr>
          <a:xfrm>
            <a:off x="1763640" y="620640"/>
            <a:ext cx="61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 Narrow"/>
              </a:rPr>
              <a:t>Графическая запись слов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"/>
          <p:cNvSpPr/>
          <p:nvPr/>
        </p:nvSpPr>
        <p:spPr>
          <a:xfrm>
            <a:off x="1332000" y="2205000"/>
            <a:ext cx="64054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_ _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_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_                      к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_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л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_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гр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_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м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        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гр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н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м                         к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л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гр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м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            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_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_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_ _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_                       п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_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р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_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ш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_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т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            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в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_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л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_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й б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_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л                       _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_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_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ю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            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в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л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йб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л                       п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р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ш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ю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1" descr="1 фон (26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Box 1"/>
          <p:cNvSpPr/>
          <p:nvPr/>
        </p:nvSpPr>
        <p:spPr>
          <a:xfrm>
            <a:off x="2050920" y="620640"/>
            <a:ext cx="61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 Narrow"/>
              </a:rPr>
              <a:t>Группировка слов по заданной графической запис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"/>
          <p:cNvSpPr/>
          <p:nvPr/>
        </p:nvSpPr>
        <p:spPr>
          <a:xfrm>
            <a:off x="971640" y="2060640"/>
            <a:ext cx="7777080" cy="44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иа   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(малина, машина, картин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ио   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(помидор, коридор, горизон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о     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(народ, завод, пальто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о     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(мороз, морковь, город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1" descr="1 фон (26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Box 1"/>
          <p:cNvSpPr/>
          <p:nvPr/>
        </p:nvSpPr>
        <p:spPr>
          <a:xfrm>
            <a:off x="1763640" y="476280"/>
            <a:ext cx="619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Словарные слова по тем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"/>
          <p:cNvSpPr/>
          <p:nvPr/>
        </p:nvSpPr>
        <p:spPr>
          <a:xfrm>
            <a:off x="1258920" y="1413000"/>
            <a:ext cx="6405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Школа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алфавит   альбом  девочка   дежурный  директор задача  карандаш  класс мальчик орфограмма от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пенал  портфель  ребята рисовать русский язык тетрадь ученик учитель учительн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Род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Москва народ родина Россия русски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товари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ир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ветер иней мороз облако овраг по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1" descr="1 фон (26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TextBox 1"/>
          <p:cNvSpPr/>
          <p:nvPr/>
        </p:nvSpPr>
        <p:spPr>
          <a:xfrm>
            <a:off x="1763640" y="549360"/>
            <a:ext cx="61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 Narrow"/>
              </a:rPr>
              <a:t>Физкультминут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"/>
          <p:cNvSpPr/>
          <p:nvPr/>
        </p:nvSpPr>
        <p:spPr>
          <a:xfrm>
            <a:off x="1692360" y="1628640"/>
            <a:ext cx="640872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з-роз-роз – на улице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мо-ро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Ёза-ёза-ёза – вся в снегу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бе-рё-з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ка-ока-ока – села на ветку 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со-ро-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ей-бей-бей – подлетел к ней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во-ро-б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ин-зин-зин – пойдем мы в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ма-га-зин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             Бан-бан-бан – купим там мы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ба-ра-бан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Аш-аш- аш – нужен нам и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ка-ран-даш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л-ал-ал – положим  мы его в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пе-н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Рисунок 1" descr="1 фон (26)"/>
          <p:cNvPicPr/>
          <p:nvPr/>
        </p:nvPicPr>
        <p:blipFill>
          <a:blip r:embed="rId1"/>
          <a:stretch/>
        </p:blipFill>
        <p:spPr>
          <a:xfrm>
            <a:off x="0" y="0"/>
            <a:ext cx="10152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TextBox 1"/>
          <p:cNvSpPr/>
          <p:nvPr/>
        </p:nvSpPr>
        <p:spPr>
          <a:xfrm>
            <a:off x="2411280" y="620640"/>
            <a:ext cx="605016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«Когда ошибки станут редким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         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они сильно подорожаю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1645"/>
                </a:solidFill>
                <a:latin typeface="Arial"/>
              </a:rPr>
              <a:t>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                            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Станислав  Ежи Л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684360" y="2421000"/>
            <a:ext cx="7848360" cy="36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i="1" lang="ru-RU" sz="3600" spc="-1" strike="noStrike">
                <a:solidFill>
                  <a:srgbClr val="000066"/>
                </a:solidFill>
                <a:latin typeface="Arial"/>
              </a:rPr>
              <a:t>Цель</a:t>
            </a:r>
            <a:r>
              <a:rPr b="1" i="1" lang="ru-RU" sz="1800" spc="-1" strike="noStrike">
                <a:solidFill>
                  <a:srgbClr val="000066"/>
                </a:solidFill>
                <a:latin typeface="Arial"/>
              </a:rPr>
              <a:t> – </a:t>
            </a:r>
            <a:r>
              <a:rPr b="1" i="1" lang="ru-RU" sz="3200" spc="-1" strike="noStrike">
                <a:solidFill>
                  <a:srgbClr val="000066"/>
                </a:solidFill>
                <a:latin typeface="Arial"/>
              </a:rPr>
              <a:t>научить ребен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Arial"/>
              </a:rPr>
              <a:t>не бездумно воспроизводить слова, а приучить его к осознанному отношению к выполнению задания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1" descr="1 фон (26)"/>
          <p:cNvPicPr/>
          <p:nvPr/>
        </p:nvPicPr>
        <p:blipFill>
          <a:blip r:embed="rId1"/>
          <a:stretch/>
        </p:blipFill>
        <p:spPr>
          <a:xfrm>
            <a:off x="0" y="0"/>
            <a:ext cx="885348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Box 1"/>
          <p:cNvSpPr/>
          <p:nvPr/>
        </p:nvSpPr>
        <p:spPr>
          <a:xfrm>
            <a:off x="1336680" y="1916280"/>
            <a:ext cx="64054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00000"/>
                </a:solidFill>
                <a:latin typeface="Arial Narrow"/>
              </a:rPr>
              <a:t>Спасибо за внимание!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00000"/>
                </a:solidFill>
                <a:latin typeface="Arial Narrow"/>
              </a:rPr>
              <a:t>Успехов в работ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1" descr="1 фон (26)"/>
          <p:cNvPicPr/>
          <p:nvPr/>
        </p:nvPicPr>
        <p:blipFill>
          <a:blip r:embed="rId1"/>
          <a:stretch/>
        </p:blipFill>
        <p:spPr>
          <a:xfrm>
            <a:off x="324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Box 3"/>
          <p:cNvSpPr/>
          <p:nvPr/>
        </p:nvSpPr>
        <p:spPr>
          <a:xfrm>
            <a:off x="1042920" y="1341360"/>
            <a:ext cx="705816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 Narrow"/>
                <a:ea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Arial Narrow"/>
                <a:ea typeface="Arial"/>
              </a:rPr>
              <a:t>«</a:t>
            </a: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Я люблю лишь воробьёв, не люблю я голубьё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Нет, так не выходит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Не люблю я голубей, а люблю я вороб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Трудно-то как, а ?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                                                                                       </a:t>
            </a:r>
            <a:r>
              <a:rPr b="1" i="1" lang="ru-RU" sz="2400" spc="-1" strike="noStrike">
                <a:solidFill>
                  <a:srgbClr val="000066"/>
                </a:solidFill>
                <a:latin typeface="Arial"/>
              </a:rPr>
              <a:t>Г. Кружков ( поэ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1" descr="1 фон (26)"/>
          <p:cNvPicPr/>
          <p:nvPr/>
        </p:nvPicPr>
        <p:blipFill>
          <a:blip r:embed="rId1"/>
          <a:stretch/>
        </p:blipFill>
        <p:spPr>
          <a:xfrm>
            <a:off x="324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Box 4"/>
          <p:cNvSpPr/>
          <p:nvPr/>
        </p:nvSpPr>
        <p:spPr>
          <a:xfrm>
            <a:off x="324000" y="1125360"/>
            <a:ext cx="763272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Arial Narrow"/>
              </a:rPr>
              <a:t>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 Narrow"/>
              </a:rPr>
              <a:t>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«Грамотное письмо - не просто движение пишущей руки, а особая речевая деятель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Чем развитее ребенок, чем богаче его словарь и синтаксис, чем правильнее его произношени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тем легче дается ему правописание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Н.С. Рождестве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" descr="1 фон (26)"/>
          <p:cNvPicPr/>
          <p:nvPr/>
        </p:nvPicPr>
        <p:blipFill>
          <a:blip r:embed="rId1"/>
          <a:stretch/>
        </p:blipFill>
        <p:spPr>
          <a:xfrm>
            <a:off x="-252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Box 1"/>
          <p:cNvSpPr/>
          <p:nvPr/>
        </p:nvSpPr>
        <p:spPr>
          <a:xfrm>
            <a:off x="1763640" y="836640"/>
            <a:ext cx="61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 Narrow"/>
              </a:rPr>
              <a:t>Приоритетные виды  работ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"/>
          <p:cNvSpPr/>
          <p:nvPr/>
        </p:nvSpPr>
        <p:spPr>
          <a:xfrm>
            <a:off x="1403280" y="2205000"/>
            <a:ext cx="6405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Работа  над ошибк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2. Усвоение  словарных сл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1" descr="1 фон (26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Box 1"/>
          <p:cNvSpPr/>
          <p:nvPr/>
        </p:nvSpPr>
        <p:spPr>
          <a:xfrm>
            <a:off x="1763640" y="260280"/>
            <a:ext cx="6191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 Narrow"/>
              </a:rPr>
              <a:t>ИНСТРУКЦ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 Narrow"/>
              </a:rPr>
              <a:t>ПО  РАБОТЕ НАД ОШИБК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 Narrow"/>
              </a:rPr>
              <a:t>( традиционная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"/>
          <p:cNvSpPr/>
          <p:nvPr/>
        </p:nvSpPr>
        <p:spPr>
          <a:xfrm>
            <a:off x="1403280" y="2276640"/>
            <a:ext cx="64054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Выпиши слово, в котором допущена  ошиб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2. Найди и выдели орфограм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3. Подбери 2-3 примера слов на это же прави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1" descr="1 фон (26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Box 1"/>
          <p:cNvSpPr/>
          <p:nvPr/>
        </p:nvSpPr>
        <p:spPr>
          <a:xfrm>
            <a:off x="1763640" y="476280"/>
            <a:ext cx="61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 Narrow"/>
              </a:rPr>
              <a:t>«Память  руки</a:t>
            </a: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»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"/>
          <p:cNvSpPr/>
          <p:nvPr/>
        </p:nvSpPr>
        <p:spPr>
          <a:xfrm>
            <a:off x="1403280" y="1268280"/>
            <a:ext cx="640548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«Сен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Я</a:t>
            </a: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чка,  Зин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i="1" lang="ru-RU" sz="2800" spc="-1" strike="noStrike">
                <a:solidFill>
                  <a:srgbClr val="000066"/>
                </a:solidFill>
                <a:latin typeface="Arial"/>
              </a:rPr>
              <a:t>чка»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Наблюдение за детьми в течение многих  лет показывает, что, если ребенок допустил ошибку в слове, то, как правило, ( за очень редким исключением) он будет допускать ее и в дальнейшем, даже при том условии, что он ее «проработал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( по традиционной методик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1" descr="1 фон (26)"/>
          <p:cNvPicPr/>
          <p:nvPr/>
        </p:nvPicPr>
        <p:blipFill>
          <a:blip r:embed="rId1"/>
          <a:stretch/>
        </p:blipFill>
        <p:spPr>
          <a:xfrm>
            <a:off x="0" y="-4586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Box 1"/>
          <p:cNvSpPr/>
          <p:nvPr/>
        </p:nvSpPr>
        <p:spPr>
          <a:xfrm>
            <a:off x="1763640" y="1197000"/>
            <a:ext cx="61912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 Narrow"/>
              </a:rPr>
              <a:t>«Стойкие  ошибки» </a:t>
            </a:r>
            <a:r>
              <a:rPr b="1" lang="ru-RU" sz="4400" spc="-1" strike="noStrike">
                <a:solidFill>
                  <a:srgbClr val="002060"/>
                </a:solidFill>
                <a:latin typeface="Arial Narrow"/>
              </a:rPr>
              <a:t>– один из отличительных  признаков дизорфографи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1" descr="1 фон (26)"/>
          <p:cNvPicPr/>
          <p:nvPr/>
        </p:nvPicPr>
        <p:blipFill>
          <a:blip r:embed="rId1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Box 1"/>
          <p:cNvSpPr/>
          <p:nvPr/>
        </p:nvSpPr>
        <p:spPr>
          <a:xfrm>
            <a:off x="1979640" y="260280"/>
            <a:ext cx="60469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2060"/>
                </a:solidFill>
                <a:latin typeface="Arial"/>
              </a:rPr>
              <a:t>Работа над ошибк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</a:rPr>
              <a:t>( НЕТРАДИЦИОННЫЙ  ПОДХОД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Фотографии ко 2-ой презентации 003"/>
          <p:cNvPicPr/>
          <p:nvPr/>
        </p:nvPicPr>
        <p:blipFill>
          <a:blip r:embed="rId2"/>
          <a:stretch/>
        </p:blipFill>
        <p:spPr>
          <a:xfrm>
            <a:off x="2050920" y="1484280"/>
            <a:ext cx="5616720" cy="4881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Фотографии ко 2-ой презентации 003"/>
          <p:cNvPicPr/>
          <p:nvPr/>
        </p:nvPicPr>
        <p:blipFill>
          <a:blip r:embed="rId3"/>
          <a:stretch/>
        </p:blipFill>
        <p:spPr>
          <a:xfrm>
            <a:off x="1979640" y="1557360"/>
            <a:ext cx="5616720" cy="48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1" descr="1 фон (26)"/>
          <p:cNvPicPr/>
          <p:nvPr/>
        </p:nvPicPr>
        <p:blipFill>
          <a:blip r:embed="rId1"/>
          <a:stretch/>
        </p:blipFill>
        <p:spPr>
          <a:xfrm>
            <a:off x="324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2124000" y="765000"/>
            <a:ext cx="62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 Narrow"/>
              </a:rPr>
              <a:t>Алгоритм действ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4"/>
          <p:cNvSpPr/>
          <p:nvPr/>
        </p:nvSpPr>
        <p:spPr>
          <a:xfrm>
            <a:off x="1042920" y="1700280"/>
            <a:ext cx="698508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 Запиши  слово  аккуратно , крупными буквами синей ручкой, неправильно написанную букву ( ошибку) выдели зеленым стержнем больше по разме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 Прочитай  слово четко, громко, орфографически, выделяя голосом опасное место, протягивая глас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3.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Повтори его так же четко по слогам 5-10 раз, закрыв глаза,  голосом выделяя неправильно написанную букву (ребенку предлагается в это время зрительно  представлять  записанное  слово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 Narrow"/>
              </a:rPr>
              <a:t>    </a:t>
            </a: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4.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 Запиши  слова по памяти  (через 1-5 часов), если забыл  какие-то слова, попроси взрослых продиктовать  их теб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.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Рядом со словом, в котором  опять  допустил  ошибку,  поставь  красной ручкой  восклицательный знак («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!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1T14:14:02Z</dcterms:created>
  <dc:creator>Рома</dc:creator>
  <dc:description/>
  <dc:language>en-US</dc:language>
  <cp:lastModifiedBy>User</cp:lastModifiedBy>
  <dcterms:modified xsi:type="dcterms:W3CDTF">2017-12-10T19:23:30Z</dcterms:modified>
  <cp:revision>59</cp:revision>
  <dc:subject/>
  <dc:title>Слайд 1</dc:title>
</cp:coreProperties>
</file>