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9B6-97F0-4838-9B80-CCDDA015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592-E5DC-4135-AA41-78EBA385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293-E303-4DA3-BA86-C28CFD79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408-965B-4FB2-8DA5-D4A96C37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EEE-C767-418F-A959-C0BB369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353-261B-4F38-9419-3702296D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B0C-1E51-4661-BD3F-EC1E60B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5ED-63FF-47F6-861C-2CF24EC3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0F1-D1B9-4E79-9B85-76B0D243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CD0-35D4-4870-86F5-11A60E90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8D6-245D-4E8F-B515-75755FD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B15-E2E2-47C6-9B3B-C0A5C70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3445-42A1-4D5C-B477-F138A6002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13 декабря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Виктория\Desktop\_гнездо_Миндли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Щ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2"/>
          <p:cNvSpPr/>
          <p:nvPr/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Г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Р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Щ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Е</a:t>
            </a:r>
            <a:br>
              <a:rPr sz="6600"/>
            </a:b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Ч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 flipH="1">
            <a:off x="57132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9"/>
          <p:cNvSpPr/>
          <p:nvPr/>
        </p:nvSpPr>
        <p:spPr>
          <a:xfrm flipH="1">
            <a:off x="1571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0"/>
          <p:cNvSpPr/>
          <p:nvPr/>
        </p:nvSpPr>
        <p:spPr>
          <a:xfrm flipH="1">
            <a:off x="2714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H="1">
            <a:off x="385740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H="1">
            <a:off x="4643280" y="2214720"/>
            <a:ext cx="50040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"/>
          <p:cNvSpPr/>
          <p:nvPr/>
        </p:nvSpPr>
        <p:spPr>
          <a:xfrm flipH="1">
            <a:off x="571464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4"/>
          <p:cNvSpPr/>
          <p:nvPr/>
        </p:nvSpPr>
        <p:spPr>
          <a:xfrm flipH="1">
            <a:off x="700056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"/>
          <p:cNvSpPr/>
          <p:nvPr/>
        </p:nvSpPr>
        <p:spPr>
          <a:xfrm flipH="1">
            <a:off x="8000640" y="2214720"/>
            <a:ext cx="500040" cy="128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 flipH="1">
            <a:off x="2714400" y="314316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7"/>
          <p:cNvSpPr/>
          <p:nvPr/>
        </p:nvSpPr>
        <p:spPr>
          <a:xfrm flipH="1">
            <a:off x="3714480" y="321480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8"/>
          <p:cNvSpPr/>
          <p:nvPr/>
        </p:nvSpPr>
        <p:spPr>
          <a:xfrm flipH="1">
            <a:off x="4714560" y="314316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9"/>
          <p:cNvSpPr/>
          <p:nvPr/>
        </p:nvSpPr>
        <p:spPr>
          <a:xfrm flipH="1">
            <a:off x="5857560" y="3214800"/>
            <a:ext cx="500040" cy="12859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2"/>
          <p:cNvSpPr/>
          <p:nvPr/>
        </p:nvSpPr>
        <p:spPr>
          <a:xfrm>
            <a:off x="0" y="1714680"/>
            <a:ext cx="9144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ГОВОРЯЩИЕ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ЯИЧ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Пе-ре-го-ва-ри-ва-ют-ся - переговариваются</a:t>
            </a:r>
            <a:br>
              <a:rPr sz="7200"/>
            </a:br>
            <a:br>
              <a:rPr sz="4000"/>
            </a:b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нуться -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ворохнулос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Когти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когтить -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скогти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Картинки по запросу вылупившийся цыпленок мультяшная"/>
          <p:cNvPicPr/>
          <p:nvPr/>
        </p:nvPicPr>
        <p:blipFill>
          <a:blip r:embed="rId2"/>
          <a:stretch/>
        </p:blipFill>
        <p:spPr>
          <a:xfrm>
            <a:off x="1285920" y="214200"/>
            <a:ext cx="6429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вал 2"/>
          <p:cNvSpPr/>
          <p:nvPr/>
        </p:nvSpPr>
        <p:spPr>
          <a:xfrm>
            <a:off x="428760" y="8571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2071800" y="85716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3714840" y="85716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5357880" y="85716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428760" y="271476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071800" y="27147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/>
          <p:cNvSpPr/>
          <p:nvPr/>
        </p:nvSpPr>
        <p:spPr>
          <a:xfrm>
            <a:off x="3714840" y="271476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9"/>
          <p:cNvSpPr/>
          <p:nvPr/>
        </p:nvSpPr>
        <p:spPr>
          <a:xfrm>
            <a:off x="5357880" y="27147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7000920" y="857160"/>
            <a:ext cx="1285920" cy="1500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7072200" y="271476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428760" y="457200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2071800" y="4572000"/>
            <a:ext cx="1285920" cy="1500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3643200" y="457200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5357880" y="4572000"/>
            <a:ext cx="1285920" cy="1500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7072200" y="4572000"/>
            <a:ext cx="1285920" cy="1500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Домашнее задание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Выразительное чтение рассказ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6868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а-са-са – в лесу бегает лиса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о-со-со – у Вовы колесо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Ос-ос-ос – на поляне много ос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Су-су-су – было холодно в лесу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Усь-усь-усь – на лугу пасется гусь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s://img.labirint.ru/images/comments_pic/1402/1_b1f2ae3a320bc8ad0edb7280ff321c91_1389435086.jpg"/>
          <p:cNvPicPr/>
          <p:nvPr/>
        </p:nvPicPr>
        <p:blipFill>
          <a:blip r:embed="rId2"/>
          <a:stretch/>
        </p:blipFill>
        <p:spPr>
          <a:xfrm>
            <a:off x="1571760" y="285840"/>
            <a:ext cx="6072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Картинки по запросу фон презентация тетрадь в лин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C:\Users\Виктория\Desktop\images.jpg"/>
          <p:cNvPicPr/>
          <p:nvPr/>
        </p:nvPicPr>
        <p:blipFill>
          <a:blip r:embed="rId2"/>
          <a:stretch/>
        </p:blipFill>
        <p:spPr>
          <a:xfrm>
            <a:off x="714240" y="1714680"/>
            <a:ext cx="2592360" cy="27860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C:\Users\Виктория\Desktop\Без названия.jpg"/>
          <p:cNvPicPr/>
          <p:nvPr/>
        </p:nvPicPr>
        <p:blipFill>
          <a:blip r:embed="rId3"/>
          <a:stretch/>
        </p:blipFill>
        <p:spPr>
          <a:xfrm>
            <a:off x="4929120" y="500040"/>
            <a:ext cx="3286080" cy="327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C:\Users\Виктория\Desktop\images.jpg"/>
          <p:cNvPicPr/>
          <p:nvPr/>
        </p:nvPicPr>
        <p:blipFill>
          <a:blip r:embed="rId4"/>
          <a:stretch/>
        </p:blipFill>
        <p:spPr>
          <a:xfrm>
            <a:off x="3714840" y="3786120"/>
            <a:ext cx="3225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http://funzoo.ru/uploads/posts/2010-11/1289750450_fox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Виктория\Desktop\8645481_1a504e0fb3c646453d85279f7cf6b6f5_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Виктория\Desktop\Без назван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Виктория\Desktop\Без названия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05:11:45Z</dcterms:created>
  <dc:creator>Виктория</dc:creator>
  <dc:description/>
  <dc:language>en-US</dc:language>
  <cp:lastModifiedBy>WWW</cp:lastModifiedBy>
  <dcterms:modified xsi:type="dcterms:W3CDTF">2017-12-11T09:31:54Z</dcterms:modified>
  <cp:revision>15</cp:revision>
  <dc:subject/>
  <dc:title>13 декабря. Классная работа.</dc:title>
</cp:coreProperties>
</file>