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6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4.jpeg" ContentType="image/jpeg"/>
  <Override PartName="/ppt/media/image19.jpeg" ContentType="image/jpeg"/>
  <Override PartName="/ppt/media/image10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7402-92A6-4F73-81F6-2A629F9D3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B1B8-A819-4FE1-B53E-1CA830F21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9A58-AFF1-4EDF-AC12-B7534CB3B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7030-0B00-4FF1-85CD-5F1F3AA53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08CA-763C-4177-BAC2-3BF538248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C0E5-E836-4AA3-8698-542783FDA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2231-31DC-46F3-A0DF-B1B54C55B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112A-3EBD-4D5A-877E-7AD984221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8A78-20BB-461F-A2DA-965AB9AC0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FC81-531E-4F80-AE43-22B4A53E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F7B7-D283-488F-8F3A-835AE709C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FE74-93D2-4363-9193-8718F6BEA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0C332-B53C-4E2F-A748-EB4BF7C5B7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Наши выводы"/>
          <p:cNvPicPr/>
          <p:nvPr/>
        </p:nvPicPr>
        <p:blipFill>
          <a:blip r:embed="rId1"/>
          <a:stretch/>
        </p:blipFill>
        <p:spPr>
          <a:xfrm>
            <a:off x="-17640" y="0"/>
            <a:ext cx="9312480" cy="6983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54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ФИЗИКА 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В ПРИРОД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2"/>
          <p:cNvSpPr/>
          <p:nvPr/>
        </p:nvSpPr>
        <p:spPr>
          <a:xfrm>
            <a:off x="403200" y="393372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Физика-наука о природе, а в ней столько интересног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https://ds02.infourok.ru/uploads/ex/0a41/0004c530-30e901d8/hello_html_m70aef414.jpg"/>
          <p:cNvPicPr/>
          <p:nvPr/>
        </p:nvPicPr>
        <p:blipFill>
          <a:blip r:embed="rId1"/>
          <a:stretch/>
        </p:blipFill>
        <p:spPr>
          <a:xfrm>
            <a:off x="324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РАСКИ ПРИРОДЫ- РЕЗУЛЬТАТ ОПТИЧЕСКИХ ЯВЛЕ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Закат"/>
          <p:cNvPicPr/>
          <p:nvPr/>
        </p:nvPicPr>
        <p:blipFill>
          <a:blip r:embed="rId1"/>
          <a:stretch/>
        </p:blipFill>
        <p:spPr>
          <a:xfrm>
            <a:off x="1187280" y="1484280"/>
            <a:ext cx="3849840" cy="2529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Зима"/>
          <p:cNvPicPr/>
          <p:nvPr/>
        </p:nvPicPr>
        <p:blipFill>
          <a:blip r:embed="rId2"/>
          <a:stretch/>
        </p:blipFill>
        <p:spPr>
          <a:xfrm>
            <a:off x="5653080" y="1413000"/>
            <a:ext cx="3490920" cy="26175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041078"/>
          <p:cNvPicPr/>
          <p:nvPr/>
        </p:nvPicPr>
        <p:blipFill>
          <a:blip r:embed="rId3"/>
          <a:stretch/>
        </p:blipFill>
        <p:spPr>
          <a:xfrm>
            <a:off x="0" y="4289400"/>
            <a:ext cx="3884760" cy="2568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прир"/>
          <p:cNvPicPr/>
          <p:nvPr/>
        </p:nvPicPr>
        <p:blipFill>
          <a:blip r:embed="rId4"/>
          <a:stretch/>
        </p:blipFill>
        <p:spPr>
          <a:xfrm>
            <a:off x="4284720" y="4437000"/>
            <a:ext cx="363528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ираж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http://infoniac.ru/upload/medialibrary/7cd/7cd327336d9d8bec227d19d9f0597b47.jpg"/>
          <p:cNvPicPr/>
          <p:nvPr/>
        </p:nvPicPr>
        <p:blipFill>
          <a:blip r:embed="rId1"/>
          <a:stretch/>
        </p:blipFill>
        <p:spPr>
          <a:xfrm>
            <a:off x="-17640" y="1782720"/>
            <a:ext cx="4038840" cy="28116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http://paranormal-news.ru/553/33/article-2008161-0CBBA4A200000578-357_634x316.jpg"/>
          <p:cNvPicPr/>
          <p:nvPr/>
        </p:nvPicPr>
        <p:blipFill>
          <a:blip r:embed="rId2"/>
          <a:stretch/>
        </p:blipFill>
        <p:spPr>
          <a:xfrm>
            <a:off x="4325760" y="1778040"/>
            <a:ext cx="4335480" cy="216072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1"/>
          <p:cNvSpPr/>
          <p:nvPr/>
        </p:nvSpPr>
        <p:spPr>
          <a:xfrm>
            <a:off x="426960" y="4653000"/>
            <a:ext cx="8064720" cy="15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2222"/>
                </a:solidFill>
                <a:latin typeface="Arial"/>
                <a:ea typeface="Calibri"/>
              </a:rPr>
              <a:t>Мира́ж</a:t>
            </a:r>
            <a:r>
              <a:rPr b="0" lang="ru-RU" sz="1800" spc="-1" strike="noStrike">
                <a:solidFill>
                  <a:srgbClr val="222222"/>
                </a:solidFill>
                <a:latin typeface="Arial"/>
                <a:ea typeface="Calibri"/>
              </a:rPr>
              <a:t>  —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оптическое</a:t>
            </a:r>
            <a:r>
              <a:rPr b="0" lang="ru-RU" sz="1800" spc="-1" strike="noStrike">
                <a:solidFill>
                  <a:srgbClr val="222222"/>
                </a:solidFill>
                <a:latin typeface="Arial"/>
                <a:ea typeface="Calibri"/>
              </a:rPr>
              <a:t> явление в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атмосфере: преломление</a:t>
            </a:r>
            <a:r>
              <a:rPr b="0" lang="ru-RU" sz="1800" spc="-1" strike="noStrike">
                <a:solidFill>
                  <a:srgbClr val="222222"/>
                </a:solidFill>
                <a:latin typeface="Arial"/>
                <a:ea typeface="Calibri"/>
              </a:rPr>
              <a:t> потоков света на границе между резко различными по плотности и температуре слоями воздуха. Для наблюдателя такое явление заключается в том, что вместе с реально видимым отдалённым объектом (или участком неба) также видно и его отражение в атмосфе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ВУКОВЫЕ ЯВ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0" y="16002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ир полон звуков. Поют птицы и работает радио, шумит трава и лает собака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ы слышим только малую часть из всех звуков (ухо человека воспринимает звуки частотой от16 до 20000Герц).Инфразвук и ультразвук мы не слышим. Чего не скажешь о других.    Дельфин способен воспринимать очень слабые эхо-сигналы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1" descr="153"/>
          <p:cNvPicPr/>
          <p:nvPr/>
        </p:nvPicPr>
        <p:blipFill>
          <a:blip r:embed="rId1"/>
          <a:stretch/>
        </p:blipFill>
        <p:spPr>
          <a:xfrm>
            <a:off x="214200" y="1428840"/>
            <a:ext cx="444996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агнитное пол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гнитное поле  влияет на всё живое. Оно может задерживать развитие живых организмов, замедлять рост клеток, изменять состав кров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менение магнитного поля влияет на метеочувствительных  люд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{F3BD3DEF-A0E8-4DB9-8705-BF2A94D6227D}"/>
          <p:cNvPicPr/>
          <p:nvPr/>
        </p:nvPicPr>
        <p:blipFill>
          <a:blip r:embed="rId1"/>
          <a:stretch/>
        </p:blipFill>
        <p:spPr>
          <a:xfrm>
            <a:off x="395280" y="1881360"/>
            <a:ext cx="4429080" cy="47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1" descr="ураган"/>
          <p:cNvPicPr/>
          <p:nvPr/>
        </p:nvPicPr>
        <p:blipFill>
          <a:blip r:embed="rId1"/>
          <a:stretch/>
        </p:blipFill>
        <p:spPr>
          <a:xfrm>
            <a:off x="41400" y="1270080"/>
            <a:ext cx="3162240" cy="2421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ХАНИЧЕСКИЕ ЯВ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1" descr=""/>
          <p:cNvPicPr/>
          <p:nvPr/>
        </p:nvPicPr>
        <p:blipFill>
          <a:blip r:embed="rId2"/>
          <a:stretch/>
        </p:blipFill>
        <p:spPr>
          <a:xfrm>
            <a:off x="5002200" y="4135320"/>
            <a:ext cx="4141800" cy="272268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2" descr=""/>
          <p:cNvPicPr/>
          <p:nvPr/>
        </p:nvPicPr>
        <p:blipFill>
          <a:blip r:embed="rId3"/>
          <a:stretch/>
        </p:blipFill>
        <p:spPr>
          <a:xfrm>
            <a:off x="57240" y="3691080"/>
            <a:ext cx="2419200" cy="334944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3" descr=""/>
          <p:cNvPicPr/>
          <p:nvPr/>
        </p:nvPicPr>
        <p:blipFill>
          <a:blip r:embed="rId4"/>
          <a:stretch/>
        </p:blipFill>
        <p:spPr>
          <a:xfrm>
            <a:off x="2492280" y="5045040"/>
            <a:ext cx="2495520" cy="176220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4" descr=""/>
          <p:cNvPicPr/>
          <p:nvPr/>
        </p:nvPicPr>
        <p:blipFill>
          <a:blip r:embed="rId5"/>
          <a:stretch/>
        </p:blipFill>
        <p:spPr>
          <a:xfrm>
            <a:off x="3164040" y="3344760"/>
            <a:ext cx="1523880" cy="1581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4648320" y="130824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КОРОСТИ ДВИЖЕНИЯ В ЖИВОТНОМ МИРЕ, КМ/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кула- 40                   Лосось-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ч-рыба-80              Тунец-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йский жук-11          муха-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чела-25                    стрекоза-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епард-112                 жираф-5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енгуру-48                  лев-6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ось-47                       грач-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рона-25-32             воробей-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репаха-0,5             улитка-0,005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пловые яв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ё, что происходит в природе, так или иначе связано с теплотой. Меняется температура окружающей среды, каждое тело имеет свою температуру. Солнце отдаёт своё тепло нашей планете. Тают сосульки и образуется туман. Всё это тепловые яв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art_2_1_012"/>
          <p:cNvPicPr/>
          <p:nvPr/>
        </p:nvPicPr>
        <p:blipFill>
          <a:blip r:embed="rId1"/>
          <a:stretch/>
        </p:blipFill>
        <p:spPr>
          <a:xfrm>
            <a:off x="5238720" y="162072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003-03-19"/>
          <p:cNvPicPr/>
          <p:nvPr/>
        </p:nvPicPr>
        <p:blipFill>
          <a:blip r:embed="rId2"/>
          <a:stretch/>
        </p:blipFill>
        <p:spPr>
          <a:xfrm>
            <a:off x="4284720" y="3938760"/>
            <a:ext cx="400032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1"/>
          <p:cNvSpPr/>
          <p:nvPr/>
        </p:nvSpPr>
        <p:spPr>
          <a:xfrm>
            <a:off x="2286000" y="2759040"/>
            <a:ext cx="45720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"/>
          <p:cNvSpPr/>
          <p:nvPr/>
        </p:nvSpPr>
        <p:spPr>
          <a:xfrm>
            <a:off x="2286000" y="2759040"/>
            <a:ext cx="45720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3" descr=""/>
          <p:cNvPicPr/>
          <p:nvPr/>
        </p:nvPicPr>
        <p:blipFill>
          <a:blip r:embed="rId1"/>
          <a:stretch/>
        </p:blipFill>
        <p:spPr>
          <a:xfrm>
            <a:off x="0" y="-66600"/>
            <a:ext cx="9240840" cy="69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лектрические яв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24960" y="49989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http://www.top-sovet.ru/sites/default/files/chto-delat-esli-volosy-elektrizuiutsya.png"/>
          <p:cNvPicPr/>
          <p:nvPr/>
        </p:nvPicPr>
        <p:blipFill>
          <a:blip r:embed="rId1"/>
          <a:stretch/>
        </p:blipFill>
        <p:spPr>
          <a:xfrm>
            <a:off x="326880" y="1835280"/>
            <a:ext cx="3827520" cy="2601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http://mypresentation.ru/documents/be8f5d12cc0e4c60f8cf06c2c1f0a63d/img3.jpg"/>
          <p:cNvPicPr/>
          <p:nvPr/>
        </p:nvPicPr>
        <p:blipFill>
          <a:blip r:embed="rId2"/>
          <a:stretch/>
        </p:blipFill>
        <p:spPr>
          <a:xfrm>
            <a:off x="4465800" y="3103560"/>
            <a:ext cx="44035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12840" y="45943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https://arhivurokov.ru/multiurok/e/1/4/e14bb6cb4d2b5b41b440da804d2861a7a00ee44c/img11.jpg"/>
          <p:cNvPicPr/>
          <p:nvPr/>
        </p:nvPicPr>
        <p:blipFill>
          <a:blip r:embed="rId1"/>
          <a:stretch/>
        </p:blipFill>
        <p:spPr>
          <a:xfrm>
            <a:off x="0" y="0"/>
            <a:ext cx="917424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http://images.myshared.ru/5/359466/slide_19.jpg"/>
          <p:cNvPicPr/>
          <p:nvPr/>
        </p:nvPicPr>
        <p:blipFill>
          <a:blip r:embed="rId1"/>
          <a:stretch/>
        </p:blipFill>
        <p:spPr>
          <a:xfrm>
            <a:off x="-27000" y="0"/>
            <a:ext cx="913752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Урок интересный, и я все понял Урок интересный, но не все было понятн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3"/>
          <p:cNvSpPr/>
          <p:nvPr/>
        </p:nvSpPr>
        <p:spPr>
          <a:xfrm>
            <a:off x="3419640" y="465300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оса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— мелкие капли влаги, оседающие на растениях, почве при наступлении утренней или вечерней прохла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1680" y="4901760"/>
            <a:ext cx="403848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https://fs01.infourok.ru/images/doc/86/102921/img8.jpg"/>
          <p:cNvPicPr/>
          <p:nvPr/>
        </p:nvPicPr>
        <p:blipFill>
          <a:blip r:embed="rId1"/>
          <a:stretch/>
        </p:blipFill>
        <p:spPr>
          <a:xfrm>
            <a:off x="-41400" y="0"/>
            <a:ext cx="918540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6T11:12:47Z</dcterms:created>
  <dc:creator>Филипченкова</dc:creator>
  <dc:description/>
  <dc:language>en-US</dc:language>
  <cp:lastModifiedBy>FirstPC</cp:lastModifiedBy>
  <dcterms:modified xsi:type="dcterms:W3CDTF">2017-12-11T01:05:38Z</dcterms:modified>
  <cp:revision>97</cp:revision>
  <dc:subject/>
  <dc:title>Физика в живой природе</dc:title>
</cp:coreProperties>
</file>