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8DB-5D88-4FB9-816A-1374F920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4A2-69A4-4229-81B5-FBE90536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373-2F77-4256-B852-CF4C39A1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E71-8531-4853-9009-6A2F21A5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767-810F-4698-983F-6ECAC8A1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558-EC05-4E80-874D-0A6DA7EC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971-B01F-4734-8557-26B5CEFD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071-832D-4F90-96DE-F20C0E30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1E8-939F-4E98-9F7F-9F2AFA61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CBF-7829-4FCD-AE05-44C2B414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C4A-E14F-431B-B721-601CB5A7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89B-3819-46F7-8080-AB6158B3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1C21-B3D0-4429-9782-DC5860615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Наши выводы"/>
          <p:cNvPicPr/>
          <p:nvPr/>
        </p:nvPicPr>
        <p:blipFill>
          <a:blip r:embed="rId1"/>
          <a:stretch/>
        </p:blipFill>
        <p:spPr>
          <a:xfrm>
            <a:off x="-17640" y="0"/>
            <a:ext cx="9312480" cy="69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ИКА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03200" y="3933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изика-наука о природе, а в ней столько интересно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ds02.infourok.ru/uploads/ex/0a41/0004c530-30e901d8/hello_html_m70aef414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КИ ПРИРОДЫ- РЕЗУЛЬТАТ ОПТИЧЕСКИХ ЯВ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Закат"/>
          <p:cNvPicPr/>
          <p:nvPr/>
        </p:nvPicPr>
        <p:blipFill>
          <a:blip r:embed="rId1"/>
          <a:stretch/>
        </p:blipFill>
        <p:spPr>
          <a:xfrm>
            <a:off x="1187280" y="1484280"/>
            <a:ext cx="3849840" cy="25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Зима"/>
          <p:cNvPicPr/>
          <p:nvPr/>
        </p:nvPicPr>
        <p:blipFill>
          <a:blip r:embed="rId2"/>
          <a:stretch/>
        </p:blipFill>
        <p:spPr>
          <a:xfrm>
            <a:off x="5653080" y="1413000"/>
            <a:ext cx="3490920" cy="261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041078"/>
          <p:cNvPicPr/>
          <p:nvPr/>
        </p:nvPicPr>
        <p:blipFill>
          <a:blip r:embed="rId3"/>
          <a:stretch/>
        </p:blipFill>
        <p:spPr>
          <a:xfrm>
            <a:off x="0" y="4289400"/>
            <a:ext cx="3884760" cy="256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прир"/>
          <p:cNvPicPr/>
          <p:nvPr/>
        </p:nvPicPr>
        <p:blipFill>
          <a:blip r:embed="rId4"/>
          <a:stretch/>
        </p:blipFill>
        <p:spPr>
          <a:xfrm>
            <a:off x="4284720" y="4437000"/>
            <a:ext cx="3635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а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infoniac.ru/upload/medialibrary/7cd/7cd327336d9d8bec227d19d9f0597b47.jpg"/>
          <p:cNvPicPr/>
          <p:nvPr/>
        </p:nvPicPr>
        <p:blipFill>
          <a:blip r:embed="rId1"/>
          <a:stretch/>
        </p:blipFill>
        <p:spPr>
          <a:xfrm>
            <a:off x="-17640" y="1782720"/>
            <a:ext cx="4038840" cy="2811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paranormal-news.ru/553/33/article-2008161-0CBBA4A200000578-357_634x316.jpg"/>
          <p:cNvPicPr/>
          <p:nvPr/>
        </p:nvPicPr>
        <p:blipFill>
          <a:blip r:embed="rId2"/>
          <a:stretch/>
        </p:blipFill>
        <p:spPr>
          <a:xfrm>
            <a:off x="4325760" y="1778040"/>
            <a:ext cx="4335480" cy="21607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426960" y="4653000"/>
            <a:ext cx="8064720" cy="15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Мира́ж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  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птическое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 явление в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тмосфере: преломление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 потоков света на границе между резко различными по плотности и температуре слоями воздуха. Для наблюдателя такое явление заключается в том, что вместе с реально видимым отдалённым объектом (или участком неба) также видно и его отражение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ОВ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ир полон звуков. Поют птицы и работает радио, шумит трава и лает собака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слышим только малую часть из всех звуков (ухо человека воспринимает звуки частотой от16 до 20000Герц).Инфразвук и ультразвук мы не слышим. Чего не скажешь о других.    Дельфин способен воспринимать очень слабые эхо-сигнал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153"/>
          <p:cNvPicPr/>
          <p:nvPr/>
        </p:nvPicPr>
        <p:blipFill>
          <a:blip r:embed="rId1"/>
          <a:stretch/>
        </p:blipFill>
        <p:spPr>
          <a:xfrm>
            <a:off x="214200" y="1428840"/>
            <a:ext cx="44499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гнитное пол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гнитное поле  влияет на всё живое. Оно может задерживать развитие живых организмов, замедлять рост клеток, изменять соста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магнитного поля влияет на метеочувствительных 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{F3BD3DEF-A0E8-4DB9-8705-BF2A94D6227D}"/>
          <p:cNvPicPr/>
          <p:nvPr/>
        </p:nvPicPr>
        <p:blipFill>
          <a:blip r:embed="rId1"/>
          <a:stretch/>
        </p:blipFill>
        <p:spPr>
          <a:xfrm>
            <a:off x="395280" y="1881360"/>
            <a:ext cx="44290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ураган"/>
          <p:cNvPicPr/>
          <p:nvPr/>
        </p:nvPicPr>
        <p:blipFill>
          <a:blip r:embed="rId1"/>
          <a:stretch/>
        </p:blipFill>
        <p:spPr>
          <a:xfrm>
            <a:off x="41400" y="127008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5002200" y="4135320"/>
            <a:ext cx="4141800" cy="27226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3"/>
          <a:stretch/>
        </p:blipFill>
        <p:spPr>
          <a:xfrm>
            <a:off x="57240" y="3691080"/>
            <a:ext cx="2419200" cy="3349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4"/>
          <a:stretch/>
        </p:blipFill>
        <p:spPr>
          <a:xfrm>
            <a:off x="2492280" y="5045040"/>
            <a:ext cx="2495520" cy="1762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5"/>
          <a:stretch/>
        </p:blipFill>
        <p:spPr>
          <a:xfrm>
            <a:off x="3164040" y="3344760"/>
            <a:ext cx="1523880" cy="15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48320" y="130824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СТИ ДВИЖЕНИЯ В ЖИВОТНОМ МИРЕ, КМ/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ула- 40                   Лосось-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ч-рыба-80              Тунец-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йский жук-11          муха-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чела-25                    стрекоза-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пард-112                 жираф-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енгуру-48                  лев-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сь-47                       грач-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рона-25-32             воробей-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паха-0,5             улитка-0,005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плов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, что происходит в природе, так или иначе связано с теплотой. Меняется температура окружающей среды, каждое тело имеет свою температуру. Солнце отдаёт своё тепло нашей планете. Тают сосульки и образуется туман. Всё это тепловые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art_2_1_012"/>
          <p:cNvPicPr/>
          <p:nvPr/>
        </p:nvPicPr>
        <p:blipFill>
          <a:blip r:embed="rId1"/>
          <a:stretch/>
        </p:blipFill>
        <p:spPr>
          <a:xfrm>
            <a:off x="5238720" y="1620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003-03-19"/>
          <p:cNvPicPr/>
          <p:nvPr/>
        </p:nvPicPr>
        <p:blipFill>
          <a:blip r:embed="rId2"/>
          <a:stretch/>
        </p:blipFill>
        <p:spPr>
          <a:xfrm>
            <a:off x="4284720" y="3938760"/>
            <a:ext cx="40003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286000" y="2759040"/>
            <a:ext cx="4572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2286000" y="2759040"/>
            <a:ext cx="4572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-66600"/>
            <a:ext cx="924084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4960" y="4998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top-sovet.ru/sites/default/files/chto-delat-esli-volosy-elektrizuiutsya.png"/>
          <p:cNvPicPr/>
          <p:nvPr/>
        </p:nvPicPr>
        <p:blipFill>
          <a:blip r:embed="rId1"/>
          <a:stretch/>
        </p:blipFill>
        <p:spPr>
          <a:xfrm>
            <a:off x="326880" y="1835280"/>
            <a:ext cx="3827520" cy="260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mypresentation.ru/documents/be8f5d12cc0e4c60f8cf06c2c1f0a63d/img3.jpg"/>
          <p:cNvPicPr/>
          <p:nvPr/>
        </p:nvPicPr>
        <p:blipFill>
          <a:blip r:embed="rId2"/>
          <a:stretch/>
        </p:blipFill>
        <p:spPr>
          <a:xfrm>
            <a:off x="4465800" y="3103560"/>
            <a:ext cx="44035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2840" y="4594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arhivurokov.ru/multiurok/e/1/4/e14bb6cb4d2b5b41b440da804d2861a7a00ee44c/img11.jpg"/>
          <p:cNvPicPr/>
          <p:nvPr/>
        </p:nvPicPr>
        <p:blipFill>
          <a:blip r:embed="rId1"/>
          <a:stretch/>
        </p:blipFill>
        <p:spPr>
          <a:xfrm>
            <a:off x="0" y="0"/>
            <a:ext cx="91742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images.myshared.ru/5/359466/slide_19.jpg"/>
          <p:cNvPicPr/>
          <p:nvPr/>
        </p:nvPicPr>
        <p:blipFill>
          <a:blip r:embed="rId1"/>
          <a:stretch/>
        </p:blipFill>
        <p:spPr>
          <a:xfrm>
            <a:off x="-27000" y="0"/>
            <a:ext cx="91375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Урок интересный, и я все понял Урок интересный, но не все было поня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419640" y="465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а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мелкие капли влаги, оседающие на растениях, почве при наступлении утренней или вечерней прохл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4901760"/>
            <a:ext cx="403848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s://fs01.infourok.ru/images/doc/86/102921/img8.jp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12:47Z</dcterms:created>
  <dc:creator>Филипченкова</dc:creator>
  <dc:description/>
  <dc:language>en-US</dc:language>
  <cp:lastModifiedBy>FirstPC</cp:lastModifiedBy>
  <dcterms:modified xsi:type="dcterms:W3CDTF">2017-12-11T01:05:38Z</dcterms:modified>
  <cp:revision>97</cp:revision>
  <dc:subject/>
  <dc:title>Физика в живой природе</dc:title>
</cp:coreProperties>
</file>