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9BE9-8332-4E13-848A-DCF30B6C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C23-C808-412F-B19F-2A6AFA7E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E14-8CFD-4CB8-AADD-350F7D27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094-CE0D-45E3-9B24-15FFF455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3037C-27D7-495E-B8DF-9B3AC7D7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40016-A5E5-43D8-857E-107E2E04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E3D61-ED89-42AD-A364-AC4ADBC4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66045-B9AC-4324-B112-CBBB2186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F5C1D-39D9-4652-86C1-39AFFA99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15FED-A01B-4F4D-9DAF-4E0E13AC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FBF4C-C5E9-4913-BA4C-63EBE8B6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3A04-D5CF-485F-8475-6D3AEF06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523FB-DB5F-433B-B7A2-B2F4FC99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7E161-CABB-4870-A457-83424316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B3DBA-5CE3-4A8C-93B4-5E1D3FE9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746BD-17EB-485F-937C-02C1840F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A51B7-8B6E-4D52-82E8-FD16166D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DBCB9-905F-4B99-8A54-99FB7E11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A2746-01AE-4815-A818-09DA9603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2062C-F0F7-4D66-B333-3029A8CF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C3B53-3416-42A4-9CA8-85C85BCE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0BFB3-CFB1-42D9-ADCB-DCFADCA0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40B-E78B-42A5-809A-DF81F4C4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61BD-F3BC-4FD7-AE0E-7CBB9C89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58A3-48C5-434E-ADD3-A574173F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93536-848B-4173-B40F-B902C7DA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41FA-DA0D-47C3-9F97-3063AD09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5B3B5-E743-42DA-85FB-397E92C9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CB29E-EFEC-41DC-8342-7B81171B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87359-C345-4B91-8536-12B48BA6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0A1350-6BC5-417D-A64B-B82DB091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C8CD9B-4904-40E6-8EF4-EFBDCEFC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CE3348-EEA6-4282-BD65-D2FC8325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F9A-729C-45FC-B50C-9A1BCCFC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5BE047-622D-4B99-B042-73E149B5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EF6699-8E51-4CAF-A744-E39D3F22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C9DAB0-AC5C-430D-BE1E-081B48C1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BE66C3-36BC-4860-9AE6-D61E6876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CCC629-0DBB-4920-B95F-E1676843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865399-12F0-4D8F-AF05-CA006A57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D10821-7EB5-4C98-BF76-EBD8B386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2F6574-B534-40C0-8254-4E4FBD95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1C0214-949A-460A-84BB-00069EAE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A51-5DA2-434B-85CF-4F16F8CB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DC7-5D08-4DCB-80CC-4AB5C715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5CF-7248-4185-A95D-9C013B77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8BE1-E954-446B-A3F4-0E4C941C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5B2-B6D7-4A83-9A0C-9EC9B000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B580-3425-467C-9DA0-90360DAEB50E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7D3F-F3BD-4939-8302-55139E4D9E6F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FBB7-217B-4C47-AB8C-A3B657B9CEDE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6431-BA0A-4AD9-9C09-828AE9EC4421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6"/>
          <p:cNvSpPr txBox="1"/>
          <p:nvPr/>
        </p:nvSpPr>
        <p:spPr>
          <a:xfrm>
            <a:off x="755640" y="1413000"/>
            <a:ext cx="763272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онвенция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правах ребен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369400" y="5661000"/>
            <a:ext cx="27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ренко М.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1333440" y="62064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47040" y="1870200"/>
            <a:ext cx="864252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Ребёнок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 должен разлучаться со своими родителями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за исключением случаев, когда такое разлучение необходи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в наилучших интересах ребен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7577"/>
                </a:solidFill>
                <a:latin typeface="Arial"/>
              </a:rPr>
              <a:t>Такое определение может оказаться, например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7577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d7577"/>
                </a:solidFill>
                <a:latin typeface="Arial"/>
              </a:rPr>
              <a:t>когда родители жестоко обращаются с ребенк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7577"/>
                </a:solidFill>
                <a:latin typeface="Arial"/>
              </a:rPr>
              <a:t>или не заботятся о не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7577"/>
                </a:solidFill>
                <a:latin typeface="Arial"/>
              </a:rPr>
              <a:t>или когда родители проживают раздель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7577"/>
                </a:solidFill>
                <a:latin typeface="Arial"/>
              </a:rPr>
              <a:t>и необходимо принять решение относительно мес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7577"/>
                </a:solidFill>
                <a:latin typeface="Arial"/>
              </a:rPr>
              <a:t>проживания ребен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Уважается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аво ребенка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который разлучается с одним или обоими родителя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ддерживать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 на регулярной основе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личные отнош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 прямые контакты с обоими родителями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, за исключением случа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когда это противоречит 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наилучшим интересам ребенка.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-532440" y="1197000"/>
            <a:ext cx="580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Разлучение с родител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i"/>
          <p:cNvPicPr/>
          <p:nvPr/>
        </p:nvPicPr>
        <p:blipFill>
          <a:blip r:embed="rId1"/>
          <a:stretch/>
        </p:blipFill>
        <p:spPr>
          <a:xfrm>
            <a:off x="468360" y="4221000"/>
            <a:ext cx="1873080" cy="1249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i"/>
          <p:cNvPicPr/>
          <p:nvPr/>
        </p:nvPicPr>
        <p:blipFill>
          <a:blip r:embed="rId2"/>
          <a:stretch/>
        </p:blipFill>
        <p:spPr>
          <a:xfrm>
            <a:off x="6300720" y="620640"/>
            <a:ext cx="1584360" cy="12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1261080" y="62064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471600" y="2852640"/>
            <a:ext cx="8494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Ребёнок, в соответствии со своим возрастом и зрелостью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имеет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раво свободно выражать свои взгляды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по всем затрагивающим его вопрос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С этой целью он может быть заслуш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на любом судебном или административном засед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99800" y="1268280"/>
            <a:ext cx="38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Взгляды ребё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i"/>
          <p:cNvPicPr/>
          <p:nvPr/>
        </p:nvPicPr>
        <p:blipFill>
          <a:blip r:embed="rId1"/>
          <a:stretch/>
        </p:blipFill>
        <p:spPr>
          <a:xfrm>
            <a:off x="5364000" y="907920"/>
            <a:ext cx="2160720" cy="1803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i"/>
          <p:cNvPicPr/>
          <p:nvPr/>
        </p:nvPicPr>
        <p:blipFill>
          <a:blip r:embed="rId2"/>
          <a:stretch/>
        </p:blipFill>
        <p:spPr>
          <a:xfrm>
            <a:off x="1187280" y="5151600"/>
            <a:ext cx="2016360" cy="11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1189080" y="69228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79280" y="2565360"/>
            <a:ext cx="871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ебенок имеет право свободно выражать свое мне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скать, получать и передавать информ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 идеи любого 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Если только это </a:t>
            </a:r>
            <a:r>
              <a:rPr b="1" lang="ru-RU" sz="2400" spc="-1" strike="noStrike">
                <a:solidFill>
                  <a:srgbClr val="544e4f"/>
                </a:solidFill>
                <a:latin typeface="Arial"/>
              </a:rPr>
              <a:t>не вредит другим людям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не уважая их права и репутаци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4e4f"/>
                </a:solidFill>
                <a:latin typeface="Arial"/>
              </a:rPr>
              <a:t>не нарушает государственную безопас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4e4f"/>
                </a:solidFill>
                <a:latin typeface="Arial"/>
              </a:rPr>
              <a:t>и общественный порядок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-784440" y="1268280"/>
            <a:ext cx="63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вобода выражения м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7" descr="i"/>
          <p:cNvPicPr/>
          <p:nvPr/>
        </p:nvPicPr>
        <p:blipFill>
          <a:blip r:embed="rId1"/>
          <a:stretch/>
        </p:blipFill>
        <p:spPr>
          <a:xfrm>
            <a:off x="0" y="3429000"/>
            <a:ext cx="1138320" cy="1181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i"/>
          <p:cNvPicPr/>
          <p:nvPr/>
        </p:nvPicPr>
        <p:blipFill>
          <a:blip r:embed="rId2"/>
          <a:stretch/>
        </p:blipFill>
        <p:spPr>
          <a:xfrm>
            <a:off x="6156360" y="692280"/>
            <a:ext cx="1557360" cy="2057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i"/>
          <p:cNvPicPr/>
          <p:nvPr/>
        </p:nvPicPr>
        <p:blipFill>
          <a:blip r:embed="rId3"/>
          <a:stretch/>
        </p:blipFill>
        <p:spPr>
          <a:xfrm>
            <a:off x="6588000" y="5334120"/>
            <a:ext cx="1729080" cy="101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111780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-27720" y="2060640"/>
            <a:ext cx="912384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Уважается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ребен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а свободу мысли, совести и религии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Уважаются права и обязанности родителей, законных опекун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руководить ребенком в осуществлении его права методо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согласующимся с развивающимися способностями ребен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Свобода исповедовать свою религию или вер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может подвергаться только таким </a:t>
            </a:r>
            <a:r>
              <a:rPr b="1" lang="ru-RU" sz="2000" spc="-1" strike="noStrike" u="sng">
                <a:solidFill>
                  <a:srgbClr val="544e4f"/>
                </a:solidFill>
                <a:uFillTx/>
                <a:latin typeface="Arial"/>
              </a:rPr>
              <a:t>ограничениям</a:t>
            </a: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которые необходимы </a:t>
            </a:r>
            <a:r>
              <a:rPr b="1" lang="ru-RU" sz="2000" spc="-1" strike="noStrike" u="sng">
                <a:solidFill>
                  <a:srgbClr val="544e4f"/>
                </a:solidFill>
                <a:uFillTx/>
                <a:latin typeface="Arial"/>
              </a:rPr>
              <a:t>для охра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44e4f"/>
                </a:solidFill>
                <a:uFillTx/>
                <a:latin typeface="Arial"/>
              </a:rPr>
              <a:t>государственной безопасности, общественного поряд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44e4f"/>
                </a:solidFill>
                <a:uFillTx/>
                <a:latin typeface="Arial"/>
              </a:rPr>
              <a:t>нравственности и здоровья насел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44e4f"/>
                </a:solidFill>
                <a:uFillTx/>
                <a:latin typeface="Arial"/>
              </a:rPr>
              <a:t>или защиты основных прав и свобод других лиц</a:t>
            </a: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-1021320" y="119700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вобода мысли, совести и рели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7" descr="i"/>
          <p:cNvPicPr/>
          <p:nvPr/>
        </p:nvPicPr>
        <p:blipFill>
          <a:blip r:embed="rId1"/>
          <a:stretch/>
        </p:blipFill>
        <p:spPr>
          <a:xfrm>
            <a:off x="6948360" y="650880"/>
            <a:ext cx="172728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118908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-344160" y="3068640"/>
            <a:ext cx="98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Дети имеют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встречаться и объединяться в группы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если только это не вредит другим людя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и не нарушает общественную безопасность и поряд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-111240" y="1268280"/>
            <a:ext cx="47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вобода Ассоци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7" descr="i"/>
          <p:cNvPicPr/>
          <p:nvPr/>
        </p:nvPicPr>
        <p:blipFill>
          <a:blip r:embed="rId1"/>
          <a:stretch/>
        </p:blipFill>
        <p:spPr>
          <a:xfrm>
            <a:off x="5148360" y="1125360"/>
            <a:ext cx="2519280" cy="1675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i"/>
          <p:cNvPicPr/>
          <p:nvPr/>
        </p:nvPicPr>
        <p:blipFill>
          <a:blip r:embed="rId2"/>
          <a:stretch/>
        </p:blipFill>
        <p:spPr>
          <a:xfrm>
            <a:off x="1547640" y="4437000"/>
            <a:ext cx="1274760" cy="1827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i"/>
          <p:cNvPicPr/>
          <p:nvPr/>
        </p:nvPicPr>
        <p:blipFill>
          <a:blip r:embed="rId3"/>
          <a:stretch/>
        </p:blipFill>
        <p:spPr>
          <a:xfrm>
            <a:off x="5076720" y="4448160"/>
            <a:ext cx="2448000" cy="15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829440" y="62064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-84960" y="2781360"/>
            <a:ext cx="9385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Каждый ребёнок имеет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раво на личную жиз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Никто не имеет права вредить его репутаци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а также входить в его д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и читать его письма без разреш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Ребёнок имеет право на защит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от незаконного посягательст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на его честь и репут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-835200" y="1197000"/>
            <a:ext cx="713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Защита права на личную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7" descr="i"/>
          <p:cNvPicPr/>
          <p:nvPr/>
        </p:nvPicPr>
        <p:blipFill>
          <a:blip r:embed="rId1"/>
          <a:stretch/>
        </p:blipFill>
        <p:spPr>
          <a:xfrm>
            <a:off x="6443640" y="549360"/>
            <a:ext cx="1644840" cy="2305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i"/>
          <p:cNvPicPr/>
          <p:nvPr/>
        </p:nvPicPr>
        <p:blipFill>
          <a:blip r:embed="rId2"/>
          <a:stretch/>
        </p:blipFill>
        <p:spPr>
          <a:xfrm>
            <a:off x="324000" y="4941720"/>
            <a:ext cx="133956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1189800" y="62064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11240" y="3139920"/>
            <a:ext cx="8723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Признаётся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ребенка к доступу информ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 материалам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из различных национа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и международных источник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особенно к таким информации и материала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которые направлены на содействие социальном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духовному и моральному благополучи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а также здоровому физическому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психическому развитию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-1028160" y="1197000"/>
            <a:ext cx="89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оступ к соответствующей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i"/>
          <p:cNvPicPr/>
          <p:nvPr/>
        </p:nvPicPr>
        <p:blipFill>
          <a:blip r:embed="rId1"/>
          <a:stretch/>
        </p:blipFill>
        <p:spPr>
          <a:xfrm>
            <a:off x="3203640" y="1743120"/>
            <a:ext cx="1800000" cy="144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i"/>
          <p:cNvPicPr/>
          <p:nvPr/>
        </p:nvPicPr>
        <p:blipFill>
          <a:blip r:embed="rId2"/>
          <a:stretch/>
        </p:blipFill>
        <p:spPr>
          <a:xfrm>
            <a:off x="7596360" y="5157720"/>
            <a:ext cx="143172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901800" y="69228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-90720" y="2924280"/>
            <a:ext cx="881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Родители несут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авную ответственность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за воспитание и развитие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Наилучшие интересы ребенка являются предме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их основной забо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-348480" y="1341360"/>
            <a:ext cx="62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Ответственность род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8" descr="i"/>
          <p:cNvPicPr/>
          <p:nvPr/>
        </p:nvPicPr>
        <p:blipFill>
          <a:blip r:embed="rId1"/>
          <a:stretch/>
        </p:blipFill>
        <p:spPr>
          <a:xfrm>
            <a:off x="826920" y="4944960"/>
            <a:ext cx="1441440" cy="13622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i"/>
          <p:cNvPicPr/>
          <p:nvPr/>
        </p:nvPicPr>
        <p:blipFill>
          <a:blip r:embed="rId2"/>
          <a:stretch/>
        </p:blipFill>
        <p:spPr>
          <a:xfrm>
            <a:off x="5724360" y="1052640"/>
            <a:ext cx="1928880" cy="142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111780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351720" y="3357720"/>
            <a:ext cx="97776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Ребёнок имеет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раво на защиту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от всех форм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физическ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или психологического насилия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, оскорбления или злоупотреблени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отсутствия заботы или небрежного обращения, грубого обращ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или эксплуатации, включая сексуальное злоупотреблен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со стороны родителей, законных опекунов или любого другого лиц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-428400" y="1197000"/>
            <a:ext cx="55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Защита от злоупотребл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и небрежного отно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7" descr="i"/>
          <p:cNvPicPr/>
          <p:nvPr/>
        </p:nvPicPr>
        <p:blipFill>
          <a:blip r:embed="rId1"/>
          <a:stretch/>
        </p:blipFill>
        <p:spPr>
          <a:xfrm>
            <a:off x="5580000" y="912960"/>
            <a:ext cx="2160720" cy="186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342144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2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-345960" y="2205000"/>
            <a:ext cx="1009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Каждый ребёно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неполноценный в умственном или физическом отношен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меет право на особую заботу и достойную жиз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Государство должно предоставить такому ребён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возможность учиться, лечить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готовиться к трудовой деятельност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отдыхать, быть максимально самостоятельны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т.е.жить полноценной жизн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2549520" y="112536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ети - инвал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7" descr="i"/>
          <p:cNvPicPr/>
          <p:nvPr/>
        </p:nvPicPr>
        <p:blipFill>
          <a:blip r:embed="rId1"/>
          <a:stretch/>
        </p:blipFill>
        <p:spPr>
          <a:xfrm>
            <a:off x="539640" y="1197000"/>
            <a:ext cx="2232000" cy="1390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i"/>
          <p:cNvPicPr/>
          <p:nvPr/>
        </p:nvPicPr>
        <p:blipFill>
          <a:blip r:embed="rId2"/>
          <a:stretch/>
        </p:blipFill>
        <p:spPr>
          <a:xfrm>
            <a:off x="6659640" y="1125360"/>
            <a:ext cx="1944720" cy="1452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i"/>
          <p:cNvPicPr/>
          <p:nvPr/>
        </p:nvPicPr>
        <p:blipFill>
          <a:blip r:embed="rId3"/>
          <a:stretch/>
        </p:blipFill>
        <p:spPr>
          <a:xfrm>
            <a:off x="3635280" y="5516640"/>
            <a:ext cx="1657440" cy="12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0"/>
                            </p:stCondLst>
                            <p:childTnLst>
                              <p:par>
                                <p:cTn id="5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67040" y="836640"/>
            <a:ext cx="87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онвенц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это международный юридический докумен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признающий все права человека в отношении детей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т 0 до 18 лет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Конвенция принята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20 ноября 1989 года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-12240" y="4797360"/>
            <a:ext cx="898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На территории нашей страны Конвенция о правах ребенка вступ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в законную силу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15 сентября 1990 года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6" descr="i"/>
          <p:cNvPicPr/>
          <p:nvPr/>
        </p:nvPicPr>
        <p:blipFill>
          <a:blip r:embed="rId1"/>
          <a:stretch/>
        </p:blipFill>
        <p:spPr>
          <a:xfrm>
            <a:off x="3862440" y="2133720"/>
            <a:ext cx="1560600" cy="237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i"/>
          <p:cNvPicPr/>
          <p:nvPr/>
        </p:nvPicPr>
        <p:blipFill>
          <a:blip r:embed="rId2"/>
          <a:stretch/>
        </p:blipFill>
        <p:spPr>
          <a:xfrm>
            <a:off x="7164360" y="5229360"/>
            <a:ext cx="17985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90180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2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-128160" y="2708280"/>
            <a:ext cx="960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Каждый ребёнок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имеет прав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на охрану своего здоровья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на получение медицинской помощ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чистой питьевой воды и полноценного пит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-893880" y="1197000"/>
            <a:ext cx="65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Здоровье и здравоохра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7" descr="i"/>
          <p:cNvPicPr/>
          <p:nvPr/>
        </p:nvPicPr>
        <p:blipFill>
          <a:blip r:embed="rId1"/>
          <a:stretch/>
        </p:blipFill>
        <p:spPr>
          <a:xfrm>
            <a:off x="5651640" y="1197000"/>
            <a:ext cx="1655640" cy="1365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i"/>
          <p:cNvPicPr/>
          <p:nvPr/>
        </p:nvPicPr>
        <p:blipFill>
          <a:blip r:embed="rId2"/>
          <a:stretch/>
        </p:blipFill>
        <p:spPr>
          <a:xfrm>
            <a:off x="900000" y="4581360"/>
            <a:ext cx="1465200" cy="1852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i"/>
          <p:cNvPicPr/>
          <p:nvPr/>
        </p:nvPicPr>
        <p:blipFill>
          <a:blip r:embed="rId3"/>
          <a:stretch/>
        </p:blipFill>
        <p:spPr>
          <a:xfrm>
            <a:off x="5076720" y="4653000"/>
            <a:ext cx="1629000" cy="1682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i"/>
          <p:cNvPicPr/>
          <p:nvPr/>
        </p:nvPicPr>
        <p:blipFill>
          <a:blip r:embed="rId4"/>
          <a:stretch/>
        </p:blipFill>
        <p:spPr>
          <a:xfrm>
            <a:off x="179280" y="1989000"/>
            <a:ext cx="1778040" cy="13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111780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2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11600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1043640" y="2852640"/>
            <a:ext cx="67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Государство должно регулярно провер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условия жизни ребён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находящегося на попеч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-1253880" y="1197000"/>
            <a:ext cx="85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ериодическая оценка при попеч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8" descr="i"/>
          <p:cNvPicPr/>
          <p:nvPr/>
        </p:nvPicPr>
        <p:blipFill>
          <a:blip r:embed="rId1"/>
          <a:stretch/>
        </p:blipFill>
        <p:spPr>
          <a:xfrm>
            <a:off x="6588000" y="1052640"/>
            <a:ext cx="1944720" cy="1490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i"/>
          <p:cNvPicPr/>
          <p:nvPr/>
        </p:nvPicPr>
        <p:blipFill>
          <a:blip r:embed="rId2"/>
          <a:stretch/>
        </p:blipFill>
        <p:spPr>
          <a:xfrm>
            <a:off x="1332000" y="4365720"/>
            <a:ext cx="2016000" cy="152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82872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2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207000" y="3068640"/>
            <a:ext cx="857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Каждый ребёнок имеет пра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пользоваться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оциальными благами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в том числе и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оциальным страхованием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-689760" y="1197000"/>
            <a:ext cx="56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оциальное обеспе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7" descr="i"/>
          <p:cNvPicPr/>
          <p:nvPr/>
        </p:nvPicPr>
        <p:blipFill>
          <a:blip r:embed="rId1"/>
          <a:stretch/>
        </p:blipFill>
        <p:spPr>
          <a:xfrm>
            <a:off x="1476360" y="4869000"/>
            <a:ext cx="1584360" cy="109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i"/>
          <p:cNvPicPr/>
          <p:nvPr/>
        </p:nvPicPr>
        <p:blipFill>
          <a:blip r:embed="rId2"/>
          <a:stretch/>
        </p:blipFill>
        <p:spPr>
          <a:xfrm>
            <a:off x="4859280" y="1260360"/>
            <a:ext cx="1873440" cy="1311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i"/>
          <p:cNvPicPr/>
          <p:nvPr/>
        </p:nvPicPr>
        <p:blipFill>
          <a:blip r:embed="rId3"/>
          <a:stretch/>
        </p:blipFill>
        <p:spPr>
          <a:xfrm>
            <a:off x="5651640" y="4724280"/>
            <a:ext cx="1657080" cy="12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000"/>
                            </p:stCondLst>
                            <p:childTnLst>
                              <p:par>
                                <p:cTn id="5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000"/>
                            </p:stCondLst>
                            <p:childTnLst>
                              <p:par>
                                <p:cTn id="6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613800" y="62064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-373320" y="1197000"/>
            <a:ext cx="420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Уровень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609480" y="3429000"/>
            <a:ext cx="794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Каждый ребёнок имеет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на уровень жизни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необходимый для его физического, умственног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духовного и нравственного разви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8" descr="i"/>
          <p:cNvPicPr/>
          <p:nvPr/>
        </p:nvPicPr>
        <p:blipFill>
          <a:blip r:embed="rId1"/>
          <a:stretch/>
        </p:blipFill>
        <p:spPr>
          <a:xfrm>
            <a:off x="971640" y="2276640"/>
            <a:ext cx="1728720" cy="11570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"/>
          <p:cNvPicPr/>
          <p:nvPr/>
        </p:nvPicPr>
        <p:blipFill>
          <a:blip r:embed="rId2"/>
          <a:stretch/>
        </p:blipFill>
        <p:spPr>
          <a:xfrm>
            <a:off x="5435640" y="4869000"/>
            <a:ext cx="2158920" cy="1454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" descr="i"/>
          <p:cNvPicPr/>
          <p:nvPr/>
        </p:nvPicPr>
        <p:blipFill>
          <a:blip r:embed="rId3"/>
          <a:stretch/>
        </p:blipFill>
        <p:spPr>
          <a:xfrm>
            <a:off x="5076720" y="1197000"/>
            <a:ext cx="1871640" cy="1403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1" descr="i"/>
          <p:cNvPicPr/>
          <p:nvPr/>
        </p:nvPicPr>
        <p:blipFill>
          <a:blip r:embed="rId4"/>
          <a:stretch/>
        </p:blipFill>
        <p:spPr>
          <a:xfrm>
            <a:off x="1547640" y="4797360"/>
            <a:ext cx="2016360" cy="15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6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0"/>
                            </p:stCondLst>
                            <p:childTnLst>
                              <p:par>
                                <p:cTn id="6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"/>
          <p:cNvSpPr/>
          <p:nvPr/>
        </p:nvSpPr>
        <p:spPr>
          <a:xfrm>
            <a:off x="82872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2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-354960" y="2060640"/>
            <a:ext cx="982044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Каждый ребёнок имеет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на образ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И с целью осуществления этого прав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a)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вводит бесплатное и обязательное начальное образо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b) среднее и высшее образование – доступно для всех дете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d)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беспечивается доступность информации и материа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в области образования и профессиональной подготовки;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e) принимаются меры по содействию регулярному посещению шко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-214200" y="1197000"/>
            <a:ext cx="38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Образ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8" descr="i"/>
          <p:cNvPicPr/>
          <p:nvPr/>
        </p:nvPicPr>
        <p:blipFill>
          <a:blip r:embed="rId1"/>
          <a:stretch/>
        </p:blipFill>
        <p:spPr>
          <a:xfrm>
            <a:off x="971640" y="5157720"/>
            <a:ext cx="1871640" cy="1403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i"/>
          <p:cNvPicPr/>
          <p:nvPr/>
        </p:nvPicPr>
        <p:blipFill>
          <a:blip r:embed="rId2"/>
          <a:stretch/>
        </p:blipFill>
        <p:spPr>
          <a:xfrm>
            <a:off x="6012000" y="5157720"/>
            <a:ext cx="1800000" cy="1349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i"/>
          <p:cNvPicPr/>
          <p:nvPr/>
        </p:nvPicPr>
        <p:blipFill>
          <a:blip r:embed="rId3"/>
          <a:stretch/>
        </p:blipFill>
        <p:spPr>
          <a:xfrm>
            <a:off x="5508720" y="765000"/>
            <a:ext cx="1800000" cy="13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4000"/>
                            </p:stCondLst>
                            <p:childTnLst>
                              <p:par>
                                <p:cTn id="6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0"/>
                            </p:stCondLst>
                            <p:childTnLst>
                              <p:par>
                                <p:cTn id="6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4"/>
          <p:cNvSpPr/>
          <p:nvPr/>
        </p:nvSpPr>
        <p:spPr>
          <a:xfrm>
            <a:off x="126072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3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22920" y="3213000"/>
            <a:ext cx="832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Каждый ребёнок имеет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на отдых и досуг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участвовать в играх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и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азвлекательных мероприятиях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соответствующих его возраст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вободно участвовать в культурной жиз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 заниматься искусством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-1080000" y="1197000"/>
            <a:ext cx="811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Отдых, досуг и культурная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7" descr="i"/>
          <p:cNvPicPr/>
          <p:nvPr/>
        </p:nvPicPr>
        <p:blipFill>
          <a:blip r:embed="rId1"/>
          <a:stretch/>
        </p:blipFill>
        <p:spPr>
          <a:xfrm>
            <a:off x="6588000" y="917640"/>
            <a:ext cx="1729080" cy="1612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i"/>
          <p:cNvPicPr/>
          <p:nvPr/>
        </p:nvPicPr>
        <p:blipFill>
          <a:blip r:embed="rId2"/>
          <a:stretch/>
        </p:blipFill>
        <p:spPr>
          <a:xfrm>
            <a:off x="2484360" y="1773360"/>
            <a:ext cx="1268640" cy="1441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i"/>
          <p:cNvPicPr/>
          <p:nvPr/>
        </p:nvPicPr>
        <p:blipFill>
          <a:blip r:embed="rId3"/>
          <a:stretch/>
        </p:blipFill>
        <p:spPr>
          <a:xfrm>
            <a:off x="324000" y="5084640"/>
            <a:ext cx="1193760" cy="15876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i"/>
          <p:cNvPicPr/>
          <p:nvPr/>
        </p:nvPicPr>
        <p:blipFill>
          <a:blip r:embed="rId4"/>
          <a:stretch/>
        </p:blipFill>
        <p:spPr>
          <a:xfrm>
            <a:off x="7740720" y="5013360"/>
            <a:ext cx="1069920" cy="157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68616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3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-30240" y="2781360"/>
            <a:ext cx="9284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Каждый ребёнок имеет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раво  на защиту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от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экономической эксплуатации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и от выполнения любой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аботы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которая может представлять опасность для его здоровь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или служить препятствием в получении им образова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либо наносить ущерб его здоровью, физическому, умственном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духовному, моральному и социальному развит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-221760" y="1197000"/>
            <a:ext cx="37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етский тру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7" descr="i"/>
          <p:cNvPicPr/>
          <p:nvPr/>
        </p:nvPicPr>
        <p:blipFill>
          <a:blip r:embed="rId1"/>
          <a:stretch/>
        </p:blipFill>
        <p:spPr>
          <a:xfrm>
            <a:off x="3708360" y="981000"/>
            <a:ext cx="2160720" cy="1397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i"/>
          <p:cNvPicPr/>
          <p:nvPr/>
        </p:nvPicPr>
        <p:blipFill>
          <a:blip r:embed="rId2"/>
          <a:stretch/>
        </p:blipFill>
        <p:spPr>
          <a:xfrm>
            <a:off x="755640" y="5013360"/>
            <a:ext cx="1944720" cy="1409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9" descr="i"/>
          <p:cNvPicPr/>
          <p:nvPr/>
        </p:nvPicPr>
        <p:blipFill>
          <a:blip r:embed="rId3"/>
          <a:stretch/>
        </p:blipFill>
        <p:spPr>
          <a:xfrm>
            <a:off x="6084720" y="501336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000"/>
                            </p:stCondLst>
                            <p:childTnLst>
                              <p:par>
                                <p:cTn id="7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4000"/>
                            </p:stCondLst>
                            <p:childTnLst>
                              <p:par>
                                <p:cTn id="7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0"/>
                            </p:stCondLst>
                            <p:childTnLst>
                              <p:par>
                                <p:cTn id="7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4"/>
          <p:cNvSpPr/>
          <p:nvPr/>
        </p:nvSpPr>
        <p:spPr>
          <a:xfrm>
            <a:off x="3350520" y="62064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828360" y="3068640"/>
            <a:ext cx="777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Ребёнок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меет право на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защиту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от незаконного потре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наркотических средств и психотропных вещест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защиту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от использовани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в противозаконном производст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таких веществ и торговле и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-1160640" y="1197000"/>
            <a:ext cx="1172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езаконное употребление наркотических сред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7" descr="i"/>
          <p:cNvPicPr/>
          <p:nvPr/>
        </p:nvPicPr>
        <p:blipFill>
          <a:blip r:embed="rId1"/>
          <a:stretch/>
        </p:blipFill>
        <p:spPr>
          <a:xfrm>
            <a:off x="826920" y="2060640"/>
            <a:ext cx="1575000" cy="1307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i"/>
          <p:cNvPicPr/>
          <p:nvPr/>
        </p:nvPicPr>
        <p:blipFill>
          <a:blip r:embed="rId2"/>
          <a:stretch/>
        </p:blipFill>
        <p:spPr>
          <a:xfrm>
            <a:off x="7020000" y="5445000"/>
            <a:ext cx="115236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3000"/>
                            </p:stCondLst>
                            <p:childTnLst>
                              <p:par>
                                <p:cTn id="7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1118160" y="62064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36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537120" y="2852640"/>
            <a:ext cx="83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Государство должно защищать ребё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от любых действи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которые могут нанести ему вред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6" descr="i"/>
          <p:cNvPicPr/>
          <p:nvPr/>
        </p:nvPicPr>
        <p:blipFill>
          <a:blip r:embed="rId1"/>
          <a:stretch/>
        </p:blipFill>
        <p:spPr>
          <a:xfrm>
            <a:off x="6300720" y="1052640"/>
            <a:ext cx="1117800" cy="13460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i"/>
          <p:cNvPicPr/>
          <p:nvPr/>
        </p:nvPicPr>
        <p:blipFill>
          <a:blip r:embed="rId2"/>
          <a:stretch/>
        </p:blipFill>
        <p:spPr>
          <a:xfrm>
            <a:off x="3203640" y="4941720"/>
            <a:ext cx="2087640" cy="155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7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188720" y="69228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55640" y="2997360"/>
            <a:ext cx="76150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Ребёнком</a:t>
            </a: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является каждый челове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до 18 ле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-627480" y="1197000"/>
            <a:ext cx="61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Определение ребен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0" descr="i"/>
          <p:cNvPicPr/>
          <p:nvPr/>
        </p:nvPicPr>
        <p:blipFill>
          <a:blip r:embed="rId1"/>
          <a:stretch/>
        </p:blipFill>
        <p:spPr>
          <a:xfrm>
            <a:off x="826920" y="2060640"/>
            <a:ext cx="2089440" cy="1941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i"/>
          <p:cNvPicPr/>
          <p:nvPr/>
        </p:nvPicPr>
        <p:blipFill>
          <a:blip r:embed="rId2"/>
          <a:stretch/>
        </p:blipFill>
        <p:spPr>
          <a:xfrm>
            <a:off x="6084720" y="4697280"/>
            <a:ext cx="2303640" cy="17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1549080" y="69228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-205920" y="3187800"/>
            <a:ext cx="93830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Каждый ребенок, независимо от расы, цвета кожи, пола, язы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религии, достатка и социального происхождени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обладает всеми правам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предусмотренными данной Конвенц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Никто не должен подвергаться дискримин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-866880" y="1268280"/>
            <a:ext cx="855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Предотвращение дискримин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7" descr="i"/>
          <p:cNvPicPr/>
          <p:nvPr/>
        </p:nvPicPr>
        <p:blipFill>
          <a:blip r:embed="rId1"/>
          <a:stretch/>
        </p:blipFill>
        <p:spPr>
          <a:xfrm>
            <a:off x="5580000" y="1916280"/>
            <a:ext cx="1639800" cy="1230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i"/>
          <p:cNvPicPr/>
          <p:nvPr/>
        </p:nvPicPr>
        <p:blipFill>
          <a:blip r:embed="rId2"/>
          <a:stretch/>
        </p:blipFill>
        <p:spPr>
          <a:xfrm>
            <a:off x="3419640" y="5589720"/>
            <a:ext cx="1703160" cy="11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2197800" y="69228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97560" y="3452760"/>
            <a:ext cx="92365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Во всех действиях в отношении де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первоочередное внимание уделя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наилучшему обеспечению интересов ребен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-1603800" y="1268280"/>
            <a:ext cx="10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Наилучшее обеспечение интересов ребё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7" descr="i"/>
          <p:cNvPicPr/>
          <p:nvPr/>
        </p:nvPicPr>
        <p:blipFill>
          <a:blip r:embed="rId1"/>
          <a:stretch/>
        </p:blipFill>
        <p:spPr>
          <a:xfrm>
            <a:off x="5508720" y="1844640"/>
            <a:ext cx="1871640" cy="1598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i"/>
          <p:cNvPicPr/>
          <p:nvPr/>
        </p:nvPicPr>
        <p:blipFill>
          <a:blip r:embed="rId2"/>
          <a:stretch/>
        </p:blipFill>
        <p:spPr>
          <a:xfrm>
            <a:off x="2700360" y="4941720"/>
            <a:ext cx="2016000" cy="13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1333440" y="69228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720" y="3522600"/>
            <a:ext cx="917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Государство должно уважа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рава, обязанности и ответственность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родителей  при воспитании ребён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с учётом его развит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-1686240" y="1341360"/>
            <a:ext cx="119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Воспитание в семье и развитие способностей ребё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7" descr="i"/>
          <p:cNvPicPr/>
          <p:nvPr/>
        </p:nvPicPr>
        <p:blipFill>
          <a:blip r:embed="rId1"/>
          <a:stretch/>
        </p:blipFill>
        <p:spPr>
          <a:xfrm>
            <a:off x="6227640" y="5373720"/>
            <a:ext cx="2016360" cy="1187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i"/>
          <p:cNvPicPr/>
          <p:nvPr/>
        </p:nvPicPr>
        <p:blipFill>
          <a:blip r:embed="rId2"/>
          <a:stretch/>
        </p:blipFill>
        <p:spPr>
          <a:xfrm>
            <a:off x="3203640" y="1898640"/>
            <a:ext cx="1728720" cy="15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621440" y="69228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25160" y="3738600"/>
            <a:ext cx="7790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Каждый ребенок имеет неотъемлем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раво на жиз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18840" y="1268280"/>
            <a:ext cx="361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аво на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7" descr="i"/>
          <p:cNvPicPr/>
          <p:nvPr/>
        </p:nvPicPr>
        <p:blipFill>
          <a:blip r:embed="rId1"/>
          <a:stretch/>
        </p:blipFill>
        <p:spPr>
          <a:xfrm>
            <a:off x="4500720" y="1844640"/>
            <a:ext cx="1873080" cy="1444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i"/>
          <p:cNvPicPr/>
          <p:nvPr/>
        </p:nvPicPr>
        <p:blipFill>
          <a:blip r:embed="rId2"/>
          <a:stretch/>
        </p:blipFill>
        <p:spPr>
          <a:xfrm>
            <a:off x="826920" y="4657680"/>
            <a:ext cx="2305080" cy="17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1189440" y="69228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-406440" y="3068640"/>
            <a:ext cx="1004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Ребенок регистрируется сразу же после рож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и с момента рождения имеет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на имя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и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а приобретение гражданства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, а такж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знать своих родителей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рассчитывать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а их заботу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45720" y="1341360"/>
            <a:ext cx="438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мя и граждан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7" descr="i"/>
          <p:cNvPicPr/>
          <p:nvPr/>
        </p:nvPicPr>
        <p:blipFill>
          <a:blip r:embed="rId1"/>
          <a:stretch/>
        </p:blipFill>
        <p:spPr>
          <a:xfrm>
            <a:off x="4643280" y="1260360"/>
            <a:ext cx="2016360" cy="1741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i"/>
          <p:cNvPicPr/>
          <p:nvPr/>
        </p:nvPicPr>
        <p:blipFill>
          <a:blip r:embed="rId2"/>
          <a:stretch/>
        </p:blipFill>
        <p:spPr>
          <a:xfrm>
            <a:off x="3059280" y="4869000"/>
            <a:ext cx="2304720" cy="152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1404720" y="62064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-126720" y="3500280"/>
            <a:ext cx="960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Уважается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раво ребенка на сохранение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своей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индивидуальности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, включая гражданств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имя и семейные связи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не допуская противозаконного вмешатель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700920" y="1197000"/>
            <a:ext cx="70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охранение индивидуа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7" descr="i"/>
          <p:cNvPicPr/>
          <p:nvPr/>
        </p:nvPicPr>
        <p:blipFill>
          <a:blip r:embed="rId1"/>
          <a:stretch/>
        </p:blipFill>
        <p:spPr>
          <a:xfrm>
            <a:off x="6180120" y="1197000"/>
            <a:ext cx="177804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07:14:04Z</dcterms:created>
  <dc:creator>Чулковы / Пау</dc:creator>
  <dc:description/>
  <dc:language>en-US</dc:language>
  <cp:lastModifiedBy>Марина</cp:lastModifiedBy>
  <dcterms:modified xsi:type="dcterms:W3CDTF">2017-12-11T17:08:08Z</dcterms:modified>
  <cp:revision>360</cp:revision>
  <dc:subject/>
  <dc:title>Слайд 1</dc:title>
</cp:coreProperties>
</file>