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9AB-9FDD-43A7-B6B4-9EDEB0A1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3C4-CD0F-437B-AF41-1186B4D4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0C0-2745-48F9-A77B-5C353D4E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CDD-FF20-4DAF-96EB-B4E47E40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23DDD-E0D5-4C0C-9163-68708EFD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F6DE-C6E6-4AC8-9AEB-550A81A2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E4545-A93D-42D1-9E73-75E8823B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DDDB-0DFB-4640-8685-EAFD03F9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A8FA8-5ED5-45CB-93A3-0FDE47C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E6558-088D-4928-9CD8-7CEEFA6B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A7850-026A-435A-9C56-39231E9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097-68D1-4C26-89CD-8852A3DF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16B3-0E5F-467F-A996-AADA5D75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E8ED4-2188-4DB0-8853-5E7C50EC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2829F-1FA8-4CD1-BA29-E59FEA2C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B46BB-6BB9-491D-8DF7-4C9E39C5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05A27-7E11-4B1D-B17A-3688CBAF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E9AC-61DA-4BF5-9D52-20D2579C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AB19B-42A1-4B24-8AFD-B6DA540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CC2D-E1FE-470D-9267-39716CB1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7E2E-AF77-42B5-91A3-79111531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C4A4F-89E6-4DF7-BB37-EBD250D9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F7D-3564-4555-ACEE-8BA7F11E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A7F0-413B-4CA3-B2F5-970792FA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2B61-8ABC-4308-BBAA-3B6C943C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3B29C-79CD-4DEB-A5DA-C041BB37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95C3-514A-4906-BDDF-AC5B7174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5276-8783-4244-8B46-12FC95E5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3F7B3-8561-4FA1-8967-CC0E4F44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9036B-AE03-44E7-B22B-CA32DD01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75DE56-B49F-4899-8D4A-D1349C93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ADCF2-39EC-40D7-9DE5-BC6366E9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7405D-347E-4960-8A0A-317727E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7F1-B59C-40C5-AB67-8DBF191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B10AAA-26ED-488F-B0A9-5699685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77E0C-F61D-4757-8440-199E3E48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DDB18-1A62-440C-9EE9-030AC50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B9F2F9-1538-45CA-BF7F-30F8A84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19E11-0C85-47DC-B60F-8A514A50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6D422-2508-478F-8CA6-71F7C16F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A98E5-4A57-4A18-A857-6093373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80CA6B-8E4D-4D24-94F4-869E3383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78C5D-18A7-44F0-8C61-98339FAD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EDAF-F2A1-444D-85F1-194D3CA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DA86-60D8-4234-BD39-96BDEBE6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551-F417-4DA1-AB40-7632E52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CBA-8EFE-465B-8893-B2DFAE59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392-9B34-49BF-9BEC-B99F7AF6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21A6-74B4-4554-B7FA-72F5EB3AEA0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51EE-3363-4496-85ED-6BEE1C323513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47C-BF2E-4E64-B6D5-6F16354EA4B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BC2-D475-4864-A012-E742E3C5182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6"/>
          <p:cNvSpPr txBox="1"/>
          <p:nvPr/>
        </p:nvSpPr>
        <p:spPr>
          <a:xfrm>
            <a:off x="755640" y="1413000"/>
            <a:ext cx="7632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Конвенция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правах ребен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369400" y="566100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ренко М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1333440" y="6206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347040" y="1870200"/>
            <a:ext cx="864252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Ребёнок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должен разлучаться со своими родителями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за исключением случаев, когда такое разлучение необходи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в наилучших интересах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Такое определение может оказаться, наприм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когда родители жестоко обращаются с ребенк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ли не заботятся о не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ли когда родители проживают раздель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и необходимо принять решение относительно ме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d7577"/>
                </a:solidFill>
                <a:latin typeface="Arial"/>
              </a:rPr>
              <a:t>проживания ребен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аво ребенк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который разлучается с одним или обоими родителя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ддерживать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на регулярной основе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чные отнош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 прямые контакты с обоими родителями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, за исключением случ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когда это противоречит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илучшим интересам ребенка.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-532440" y="1197000"/>
            <a:ext cx="580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Разлучение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i"/>
          <p:cNvPicPr/>
          <p:nvPr/>
        </p:nvPicPr>
        <p:blipFill>
          <a:blip r:embed="rId1"/>
          <a:stretch/>
        </p:blipFill>
        <p:spPr>
          <a:xfrm>
            <a:off x="468360" y="4221000"/>
            <a:ext cx="1873080" cy="124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i"/>
          <p:cNvPicPr/>
          <p:nvPr/>
        </p:nvPicPr>
        <p:blipFill>
          <a:blip r:embed="rId2"/>
          <a:stretch/>
        </p:blipFill>
        <p:spPr>
          <a:xfrm>
            <a:off x="6300720" y="620640"/>
            <a:ext cx="158436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261080" y="620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71600" y="2852640"/>
            <a:ext cx="849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бёнок, в соответствии со своим возрастом и зрелостью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свободно выражать свои взгляды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о всем затрагивающим его вопрос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 этой целью он может быть заслуш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 любом судебном или административном засед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99800" y="1268280"/>
            <a:ext cx="385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згляды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i"/>
          <p:cNvPicPr/>
          <p:nvPr/>
        </p:nvPicPr>
        <p:blipFill>
          <a:blip r:embed="rId1"/>
          <a:stretch/>
        </p:blipFill>
        <p:spPr>
          <a:xfrm>
            <a:off x="5364000" y="907920"/>
            <a:ext cx="2160720" cy="1803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i"/>
          <p:cNvPicPr/>
          <p:nvPr/>
        </p:nvPicPr>
        <p:blipFill>
          <a:blip r:embed="rId2"/>
          <a:stretch/>
        </p:blipFill>
        <p:spPr>
          <a:xfrm>
            <a:off x="1187280" y="5151600"/>
            <a:ext cx="201636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189080" y="692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79280" y="2565360"/>
            <a:ext cx="871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ебенок имеет право свободно выражать свое мн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скать, получать и передавать информа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идеи любого 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Если только это </a:t>
            </a: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не вредит другим людя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 уважая их права и репутац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не нарушает государственную безопаснос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4e4f"/>
                </a:solidFill>
                <a:latin typeface="Arial"/>
              </a:rPr>
              <a:t>и общественный порядок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-784440" y="1268280"/>
            <a:ext cx="63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выражения м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i"/>
          <p:cNvPicPr/>
          <p:nvPr/>
        </p:nvPicPr>
        <p:blipFill>
          <a:blip r:embed="rId1"/>
          <a:stretch/>
        </p:blipFill>
        <p:spPr>
          <a:xfrm>
            <a:off x="0" y="3429000"/>
            <a:ext cx="1138320" cy="1181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i"/>
          <p:cNvPicPr/>
          <p:nvPr/>
        </p:nvPicPr>
        <p:blipFill>
          <a:blip r:embed="rId2"/>
          <a:stretch/>
        </p:blipFill>
        <p:spPr>
          <a:xfrm>
            <a:off x="6156360" y="692280"/>
            <a:ext cx="1557360" cy="2057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i"/>
          <p:cNvPicPr/>
          <p:nvPr/>
        </p:nvPicPr>
        <p:blipFill>
          <a:blip r:embed="rId3"/>
          <a:stretch/>
        </p:blipFill>
        <p:spPr>
          <a:xfrm>
            <a:off x="6588000" y="5334120"/>
            <a:ext cx="1729080" cy="101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-27720" y="2060640"/>
            <a:ext cx="912384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ен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свободу мысли, совести и религии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Уважаются права и обязанности родителей, законных опекун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уководить ребенком в осуществлении его права методо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огласующимся с развивающимися способностями ребе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Свобода исповедовать свою религию или вер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может подвергаться только таким </a:t>
            </a: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ограничениям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которые необходимы </a:t>
            </a: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для охра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государственной безопасности, общественного поряд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нравственности и здоровья насе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44e4f"/>
                </a:solidFill>
                <a:uFillTx/>
                <a:latin typeface="Arial"/>
              </a:rPr>
              <a:t>или защиты основных прав и свобод других лиц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-1021320" y="119700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мысли, совести и рели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i"/>
          <p:cNvPicPr/>
          <p:nvPr/>
        </p:nvPicPr>
        <p:blipFill>
          <a:blip r:embed="rId1"/>
          <a:stretch/>
        </p:blipFill>
        <p:spPr>
          <a:xfrm>
            <a:off x="6948360" y="650880"/>
            <a:ext cx="172728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18908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-344160" y="3068640"/>
            <a:ext cx="98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ети имею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встречаться и объединяться в группы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если только это не вредит другим людя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не нарушает общественную безопасность и поряд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-111240" y="1268280"/>
            <a:ext cx="47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вобода Ассоци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i"/>
          <p:cNvPicPr/>
          <p:nvPr/>
        </p:nvPicPr>
        <p:blipFill>
          <a:blip r:embed="rId1"/>
          <a:stretch/>
        </p:blipFill>
        <p:spPr>
          <a:xfrm>
            <a:off x="5148360" y="1125360"/>
            <a:ext cx="2519280" cy="1675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i"/>
          <p:cNvPicPr/>
          <p:nvPr/>
        </p:nvPicPr>
        <p:blipFill>
          <a:blip r:embed="rId2"/>
          <a:stretch/>
        </p:blipFill>
        <p:spPr>
          <a:xfrm>
            <a:off x="1547640" y="4437000"/>
            <a:ext cx="1274760" cy="1827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i"/>
          <p:cNvPicPr/>
          <p:nvPr/>
        </p:nvPicPr>
        <p:blipFill>
          <a:blip r:embed="rId3"/>
          <a:stretch/>
        </p:blipFill>
        <p:spPr>
          <a:xfrm>
            <a:off x="5076720" y="4448160"/>
            <a:ext cx="244800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944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-84960" y="2781360"/>
            <a:ext cx="938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аво на личную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икто не имеет права вредить его репутац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а также входить в его д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и читать его письма без разреш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Ребёнок имеет право на защит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от незаконного посягательст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 его честь и репут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-835200" y="1197000"/>
            <a:ext cx="713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ащита права на личную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i"/>
          <p:cNvPicPr/>
          <p:nvPr/>
        </p:nvPicPr>
        <p:blipFill>
          <a:blip r:embed="rId1"/>
          <a:stretch/>
        </p:blipFill>
        <p:spPr>
          <a:xfrm>
            <a:off x="6443640" y="549360"/>
            <a:ext cx="1644840" cy="2305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i"/>
          <p:cNvPicPr/>
          <p:nvPr/>
        </p:nvPicPr>
        <p:blipFill>
          <a:blip r:embed="rId2"/>
          <a:stretch/>
        </p:blipFill>
        <p:spPr>
          <a:xfrm>
            <a:off x="324000" y="4941720"/>
            <a:ext cx="13395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18980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11240" y="3139920"/>
            <a:ext cx="872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ризнаётся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ребенка к доступу информ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материала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из различных национа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международных источник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особенно к таким информации и материала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оторые направлены на содействие социальном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уховному и моральному благополучию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а также здоровому физическому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сихическому развитию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-1028160" y="1197000"/>
            <a:ext cx="89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оступ к соответствующе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i"/>
          <p:cNvPicPr/>
          <p:nvPr/>
        </p:nvPicPr>
        <p:blipFill>
          <a:blip r:embed="rId1"/>
          <a:stretch/>
        </p:blipFill>
        <p:spPr>
          <a:xfrm>
            <a:off x="3203640" y="1743120"/>
            <a:ext cx="1800000" cy="144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i"/>
          <p:cNvPicPr/>
          <p:nvPr/>
        </p:nvPicPr>
        <p:blipFill>
          <a:blip r:embed="rId2"/>
          <a:stretch/>
        </p:blipFill>
        <p:spPr>
          <a:xfrm>
            <a:off x="7596360" y="5157720"/>
            <a:ext cx="143172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01800" y="69228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-90720" y="2924280"/>
            <a:ext cx="881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одители несу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вную ответственность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за воспитание и развитие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илучшие интересы ребенка являются предме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х основной забот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-348480" y="134136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ветственность род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i"/>
          <p:cNvPicPr/>
          <p:nvPr/>
        </p:nvPicPr>
        <p:blipFill>
          <a:blip r:embed="rId1"/>
          <a:stretch/>
        </p:blipFill>
        <p:spPr>
          <a:xfrm>
            <a:off x="826920" y="4944960"/>
            <a:ext cx="1441440" cy="13622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i"/>
          <p:cNvPicPr/>
          <p:nvPr/>
        </p:nvPicPr>
        <p:blipFill>
          <a:blip r:embed="rId2"/>
          <a:stretch/>
        </p:blipFill>
        <p:spPr>
          <a:xfrm>
            <a:off x="5724360" y="1052640"/>
            <a:ext cx="1928880" cy="14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351720" y="3357720"/>
            <a:ext cx="97776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бёнок 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на защиту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от всех форм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физи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или психологического насилия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, оскорбления или злоупотребл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тсутствия заботы или небрежного обращения, грубого обращ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ли эксплуатации, включая сексуальное злоупотребле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со стороны родителей, законных опекунов или любого другого ли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-428400" y="1197000"/>
            <a:ext cx="55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Защита от злоупотреб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и небрежного отнош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i"/>
          <p:cNvPicPr/>
          <p:nvPr/>
        </p:nvPicPr>
        <p:blipFill>
          <a:blip r:embed="rId1"/>
          <a:stretch/>
        </p:blipFill>
        <p:spPr>
          <a:xfrm>
            <a:off x="5580000" y="912960"/>
            <a:ext cx="2160720" cy="186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342144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-345960" y="2205000"/>
            <a:ext cx="1009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полноценный в умственном или физическом отноше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меет право на особую заботу и достойную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сударство должно предоставить такому ребён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озможность учиться, лечи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товиться к трудовой деятельност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отдыхать, быть максимально самостоятельны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т.е.жить полноценной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2549520" y="112536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ти - инвал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7" descr="i"/>
          <p:cNvPicPr/>
          <p:nvPr/>
        </p:nvPicPr>
        <p:blipFill>
          <a:blip r:embed="rId1"/>
          <a:stretch/>
        </p:blipFill>
        <p:spPr>
          <a:xfrm>
            <a:off x="539640" y="1197000"/>
            <a:ext cx="223200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i"/>
          <p:cNvPicPr/>
          <p:nvPr/>
        </p:nvPicPr>
        <p:blipFill>
          <a:blip r:embed="rId2"/>
          <a:stretch/>
        </p:blipFill>
        <p:spPr>
          <a:xfrm>
            <a:off x="6659640" y="1125360"/>
            <a:ext cx="1944720" cy="1452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i"/>
          <p:cNvPicPr/>
          <p:nvPr/>
        </p:nvPicPr>
        <p:blipFill>
          <a:blip r:embed="rId3"/>
          <a:stretch/>
        </p:blipFill>
        <p:spPr>
          <a:xfrm>
            <a:off x="3635280" y="5516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67040" y="836640"/>
            <a:ext cx="87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онвенц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это международный юридический докумен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ризнающий все права человека в отношении детей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т 0 до 18 лет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онвенция принят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20 ноября 1989 года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-12240" y="4797360"/>
            <a:ext cx="898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На территории нашей страны Конвенция о правах ребенка вступ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в законную силу</a:t>
            </a:r>
            <a:r>
              <a:rPr b="1" lang="ru-RU" sz="1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15 сентября 1990 года</a:t>
            </a: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6" descr="i"/>
          <p:cNvPicPr/>
          <p:nvPr/>
        </p:nvPicPr>
        <p:blipFill>
          <a:blip r:embed="rId1"/>
          <a:stretch/>
        </p:blipFill>
        <p:spPr>
          <a:xfrm>
            <a:off x="3862440" y="2133720"/>
            <a:ext cx="156060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i"/>
          <p:cNvPicPr/>
          <p:nvPr/>
        </p:nvPicPr>
        <p:blipFill>
          <a:blip r:embed="rId2"/>
          <a:stretch/>
        </p:blipFill>
        <p:spPr>
          <a:xfrm>
            <a:off x="7164360" y="5229360"/>
            <a:ext cx="17985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901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-128160" y="2708280"/>
            <a:ext cx="96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меет прав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а охрану своего здоровья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 получение медицинской помощ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чистой питьевой воды и полноценного п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-893880" y="1197000"/>
            <a:ext cx="65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Здоровье и здравоохра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7" descr="i"/>
          <p:cNvPicPr/>
          <p:nvPr/>
        </p:nvPicPr>
        <p:blipFill>
          <a:blip r:embed="rId1"/>
          <a:stretch/>
        </p:blipFill>
        <p:spPr>
          <a:xfrm>
            <a:off x="5651640" y="1197000"/>
            <a:ext cx="1655640" cy="1365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i"/>
          <p:cNvPicPr/>
          <p:nvPr/>
        </p:nvPicPr>
        <p:blipFill>
          <a:blip r:embed="rId2"/>
          <a:stretch/>
        </p:blipFill>
        <p:spPr>
          <a:xfrm>
            <a:off x="900000" y="4581360"/>
            <a:ext cx="1465200" cy="1852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i"/>
          <p:cNvPicPr/>
          <p:nvPr/>
        </p:nvPicPr>
        <p:blipFill>
          <a:blip r:embed="rId3"/>
          <a:stretch/>
        </p:blipFill>
        <p:spPr>
          <a:xfrm>
            <a:off x="5076720" y="4653000"/>
            <a:ext cx="1629000" cy="1682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i"/>
          <p:cNvPicPr/>
          <p:nvPr/>
        </p:nvPicPr>
        <p:blipFill>
          <a:blip r:embed="rId4"/>
          <a:stretch/>
        </p:blipFill>
        <p:spPr>
          <a:xfrm>
            <a:off x="179280" y="1989000"/>
            <a:ext cx="177804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111780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1600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1043640" y="28526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Государство должно регулярно провер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условия жизни ребён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ходящегося на попеч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-1253880" y="1197000"/>
            <a:ext cx="85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ериодическая оценка при попеч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8" descr="i"/>
          <p:cNvPicPr/>
          <p:nvPr/>
        </p:nvPicPr>
        <p:blipFill>
          <a:blip r:embed="rId1"/>
          <a:stretch/>
        </p:blipFill>
        <p:spPr>
          <a:xfrm>
            <a:off x="6588000" y="1052640"/>
            <a:ext cx="1944720" cy="1490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i"/>
          <p:cNvPicPr/>
          <p:nvPr/>
        </p:nvPicPr>
        <p:blipFill>
          <a:blip r:embed="rId2"/>
          <a:stretch/>
        </p:blipFill>
        <p:spPr>
          <a:xfrm>
            <a:off x="1332000" y="4365720"/>
            <a:ext cx="2016000" cy="15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828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07000" y="3068640"/>
            <a:ext cx="8574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ёнок имеет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пользоваться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оциальными благами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в том числе и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оциальным страхованием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-689760" y="1197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циальное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7" descr="i"/>
          <p:cNvPicPr/>
          <p:nvPr/>
        </p:nvPicPr>
        <p:blipFill>
          <a:blip r:embed="rId1"/>
          <a:stretch/>
        </p:blipFill>
        <p:spPr>
          <a:xfrm>
            <a:off x="1476360" y="4869000"/>
            <a:ext cx="1584360" cy="109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i"/>
          <p:cNvPicPr/>
          <p:nvPr/>
        </p:nvPicPr>
        <p:blipFill>
          <a:blip r:embed="rId2"/>
          <a:stretch/>
        </p:blipFill>
        <p:spPr>
          <a:xfrm>
            <a:off x="4859280" y="1260360"/>
            <a:ext cx="1873440" cy="1311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i"/>
          <p:cNvPicPr/>
          <p:nvPr/>
        </p:nvPicPr>
        <p:blipFill>
          <a:blip r:embed="rId3"/>
          <a:stretch/>
        </p:blipFill>
        <p:spPr>
          <a:xfrm>
            <a:off x="5651640" y="4724280"/>
            <a:ext cx="1657080" cy="12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380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-373320" y="1197000"/>
            <a:ext cx="42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Уровень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609480" y="3429000"/>
            <a:ext cx="79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уровень жизни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еобходимый для его физического, умственног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духовного и нравственного развит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i"/>
          <p:cNvPicPr/>
          <p:nvPr/>
        </p:nvPicPr>
        <p:blipFill>
          <a:blip r:embed="rId1"/>
          <a:stretch/>
        </p:blipFill>
        <p:spPr>
          <a:xfrm>
            <a:off x="971640" y="2276640"/>
            <a:ext cx="1728720" cy="11570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"/>
          <p:cNvPicPr/>
          <p:nvPr/>
        </p:nvPicPr>
        <p:blipFill>
          <a:blip r:embed="rId2"/>
          <a:stretch/>
        </p:blipFill>
        <p:spPr>
          <a:xfrm>
            <a:off x="5435640" y="4869000"/>
            <a:ext cx="2158920" cy="14540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i"/>
          <p:cNvPicPr/>
          <p:nvPr/>
        </p:nvPicPr>
        <p:blipFill>
          <a:blip r:embed="rId3"/>
          <a:stretch/>
        </p:blipFill>
        <p:spPr>
          <a:xfrm>
            <a:off x="5076720" y="119700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1" descr="i"/>
          <p:cNvPicPr/>
          <p:nvPr/>
        </p:nvPicPr>
        <p:blipFill>
          <a:blip r:embed="rId4"/>
          <a:stretch/>
        </p:blipFill>
        <p:spPr>
          <a:xfrm>
            <a:off x="1547640" y="4797360"/>
            <a:ext cx="201636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3000"/>
                            </p:stCondLst>
                            <p:childTnLst>
                              <p:par>
                                <p:cTn id="6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"/>
          <p:cNvSpPr/>
          <p:nvPr/>
        </p:nvSpPr>
        <p:spPr>
          <a:xfrm>
            <a:off x="828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-354960" y="2060640"/>
            <a:ext cx="982044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образ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И с целью осуществления этого прав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a)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водит бесплатное и обязательное начальное образова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b) среднее и высшее образование – доступно для всех дет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d)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беспечивается доступность информации и материал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 области образования и профессиональной подготовки;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e) принимаются меры по содействию регулярному посещению шко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-214200" y="119700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браз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i"/>
          <p:cNvPicPr/>
          <p:nvPr/>
        </p:nvPicPr>
        <p:blipFill>
          <a:blip r:embed="rId1"/>
          <a:stretch/>
        </p:blipFill>
        <p:spPr>
          <a:xfrm>
            <a:off x="971640" y="5157720"/>
            <a:ext cx="1871640" cy="1403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i"/>
          <p:cNvPicPr/>
          <p:nvPr/>
        </p:nvPicPr>
        <p:blipFill>
          <a:blip r:embed="rId2"/>
          <a:stretch/>
        </p:blipFill>
        <p:spPr>
          <a:xfrm>
            <a:off x="6012000" y="515772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i"/>
          <p:cNvPicPr/>
          <p:nvPr/>
        </p:nvPicPr>
        <p:blipFill>
          <a:blip r:embed="rId3"/>
          <a:stretch/>
        </p:blipFill>
        <p:spPr>
          <a:xfrm>
            <a:off x="5508720" y="765000"/>
            <a:ext cx="18000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126072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22920" y="3213000"/>
            <a:ext cx="832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Каждый ребёнок имеет 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отдых и досуг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участвовать в играх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развлекательных мероприятиях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соответствующих его возраст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вободно участвовать в культурной жиз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 заниматься искусством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-1080000" y="1197000"/>
            <a:ext cx="811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Отдых, досуг и культурна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7" descr="i"/>
          <p:cNvPicPr/>
          <p:nvPr/>
        </p:nvPicPr>
        <p:blipFill>
          <a:blip r:embed="rId1"/>
          <a:stretch/>
        </p:blipFill>
        <p:spPr>
          <a:xfrm>
            <a:off x="6588000" y="917640"/>
            <a:ext cx="1729080" cy="1612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"/>
          <p:cNvPicPr/>
          <p:nvPr/>
        </p:nvPicPr>
        <p:blipFill>
          <a:blip r:embed="rId2"/>
          <a:stretch/>
        </p:blipFill>
        <p:spPr>
          <a:xfrm>
            <a:off x="2484360" y="1773360"/>
            <a:ext cx="1268640" cy="144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"/>
          <p:cNvPicPr/>
          <p:nvPr/>
        </p:nvPicPr>
        <p:blipFill>
          <a:blip r:embed="rId3"/>
          <a:stretch/>
        </p:blipFill>
        <p:spPr>
          <a:xfrm>
            <a:off x="324000" y="5084640"/>
            <a:ext cx="1193760" cy="1587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i"/>
          <p:cNvPicPr/>
          <p:nvPr/>
        </p:nvPicPr>
        <p:blipFill>
          <a:blip r:embed="rId4"/>
          <a:stretch/>
        </p:blipFill>
        <p:spPr>
          <a:xfrm>
            <a:off x="7740720" y="5013360"/>
            <a:ext cx="1069920" cy="15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686160" y="6206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-30240" y="2781360"/>
            <a:ext cx="9284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аждый ребёнок имее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аво  на защиту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т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экономической эксплуатации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и от выполнения любой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работы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которая может представлять опасность для его здоровь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или служить препятствием в получении им образова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либо наносить ущерб его здоровью, физическому, умственном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544e4f"/>
                </a:solidFill>
                <a:latin typeface="Arial"/>
              </a:rPr>
              <a:t>духовному, моральному и социальному развит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-221760" y="1197000"/>
            <a:ext cx="37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Детский тру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7" descr="i"/>
          <p:cNvPicPr/>
          <p:nvPr/>
        </p:nvPicPr>
        <p:blipFill>
          <a:blip r:embed="rId1"/>
          <a:stretch/>
        </p:blipFill>
        <p:spPr>
          <a:xfrm>
            <a:off x="3708360" y="981000"/>
            <a:ext cx="2160720" cy="1397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8" descr="i"/>
          <p:cNvPicPr/>
          <p:nvPr/>
        </p:nvPicPr>
        <p:blipFill>
          <a:blip r:embed="rId2"/>
          <a:stretch/>
        </p:blipFill>
        <p:spPr>
          <a:xfrm>
            <a:off x="755640" y="5013360"/>
            <a:ext cx="1944720" cy="1409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i"/>
          <p:cNvPicPr/>
          <p:nvPr/>
        </p:nvPicPr>
        <p:blipFill>
          <a:blip r:embed="rId3"/>
          <a:stretch/>
        </p:blipFill>
        <p:spPr>
          <a:xfrm>
            <a:off x="6084720" y="5013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000"/>
                            </p:stCondLst>
                            <p:childTnLst>
                              <p:par>
                                <p:cTn id="7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4000"/>
                            </p:stCondLst>
                            <p:childTnLst>
                              <p:par>
                                <p:cTn id="7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0"/>
                            </p:stCondLst>
                            <p:childTnLst>
                              <p:par>
                                <p:cTn id="7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3350520" y="62064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828360" y="3068640"/>
            <a:ext cx="777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ёнок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меет право на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щи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от незаконного потре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наркотических средств и психотропных вещест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защи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от использо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 противозаконном производст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таких веществ и торговле и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-1160640" y="1197000"/>
            <a:ext cx="117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езаконное употребление наркотических сред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7" descr="i"/>
          <p:cNvPicPr/>
          <p:nvPr/>
        </p:nvPicPr>
        <p:blipFill>
          <a:blip r:embed="rId1"/>
          <a:stretch/>
        </p:blipFill>
        <p:spPr>
          <a:xfrm>
            <a:off x="826920" y="2060640"/>
            <a:ext cx="1575000" cy="1307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i"/>
          <p:cNvPicPr/>
          <p:nvPr/>
        </p:nvPicPr>
        <p:blipFill>
          <a:blip r:embed="rId2"/>
          <a:stretch/>
        </p:blipFill>
        <p:spPr>
          <a:xfrm>
            <a:off x="7020000" y="5445000"/>
            <a:ext cx="115236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1118160" y="62064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37120" y="2852640"/>
            <a:ext cx="831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Государство должно защищать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от любых действи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которые могут нанести ему вред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i"/>
          <p:cNvPicPr/>
          <p:nvPr/>
        </p:nvPicPr>
        <p:blipFill>
          <a:blip r:embed="rId1"/>
          <a:stretch/>
        </p:blipFill>
        <p:spPr>
          <a:xfrm>
            <a:off x="6300720" y="1052640"/>
            <a:ext cx="1117800" cy="13460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i"/>
          <p:cNvPicPr/>
          <p:nvPr/>
        </p:nvPicPr>
        <p:blipFill>
          <a:blip r:embed="rId2"/>
          <a:stretch/>
        </p:blipFill>
        <p:spPr>
          <a:xfrm>
            <a:off x="3203640" y="4941720"/>
            <a:ext cx="2087640" cy="15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3000"/>
                            </p:stCondLst>
                            <p:childTnLst>
                              <p:par>
                                <p:cTn id="7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18872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1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55640" y="2997360"/>
            <a:ext cx="7615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Ребёнком</a:t>
            </a: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44d26"/>
                </a:solidFill>
                <a:latin typeface="Arial"/>
              </a:rPr>
              <a:t>является каждый чел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до 18 л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-627480" y="1197000"/>
            <a:ext cx="61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Определение ребе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" descr="i"/>
          <p:cNvPicPr/>
          <p:nvPr/>
        </p:nvPicPr>
        <p:blipFill>
          <a:blip r:embed="rId1"/>
          <a:stretch/>
        </p:blipFill>
        <p:spPr>
          <a:xfrm>
            <a:off x="826920" y="2060640"/>
            <a:ext cx="2089440" cy="1941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"/>
          <p:cNvPicPr/>
          <p:nvPr/>
        </p:nvPicPr>
        <p:blipFill>
          <a:blip r:embed="rId2"/>
          <a:stretch/>
        </p:blipFill>
        <p:spPr>
          <a:xfrm>
            <a:off x="6084720" y="4697280"/>
            <a:ext cx="230364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54908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205920" y="3187800"/>
            <a:ext cx="93830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Каждый ребенок, независимо от расы, цвета кожи, пола, язы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религии, достатка и социального происхождени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обладает всеми прав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44d26"/>
                </a:solidFill>
                <a:latin typeface="Arial"/>
              </a:rPr>
              <a:t>предусмотренными данной Конвенц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икто не должен подвергаться дискримин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-866880" y="1268280"/>
            <a:ext cx="855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Предотвращение дискримин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i"/>
          <p:cNvPicPr/>
          <p:nvPr/>
        </p:nvPicPr>
        <p:blipFill>
          <a:blip r:embed="rId1"/>
          <a:stretch/>
        </p:blipFill>
        <p:spPr>
          <a:xfrm>
            <a:off x="5580000" y="1916280"/>
            <a:ext cx="1639800" cy="1230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i"/>
          <p:cNvPicPr/>
          <p:nvPr/>
        </p:nvPicPr>
        <p:blipFill>
          <a:blip r:embed="rId2"/>
          <a:stretch/>
        </p:blipFill>
        <p:spPr>
          <a:xfrm>
            <a:off x="3419640" y="5589720"/>
            <a:ext cx="170316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219780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97560" y="3452760"/>
            <a:ext cx="92365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Во всех действиях в отношении де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первоочередное внимание уделя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аилучшему обеспечению интересов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-1603800" y="1268280"/>
            <a:ext cx="10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Наилучшее обеспечение интересов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7" descr="i"/>
          <p:cNvPicPr/>
          <p:nvPr/>
        </p:nvPicPr>
        <p:blipFill>
          <a:blip r:embed="rId1"/>
          <a:stretch/>
        </p:blipFill>
        <p:spPr>
          <a:xfrm>
            <a:off x="5508720" y="1844640"/>
            <a:ext cx="1871640" cy="1598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i"/>
          <p:cNvPicPr/>
          <p:nvPr/>
        </p:nvPicPr>
        <p:blipFill>
          <a:blip r:embed="rId2"/>
          <a:stretch/>
        </p:blipFill>
        <p:spPr>
          <a:xfrm>
            <a:off x="2700360" y="4941720"/>
            <a:ext cx="2016000" cy="13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1333440" y="69228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20" y="3522600"/>
            <a:ext cx="917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Государство должно уваж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права, обязанности и ответственность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родителей  при воспитании ребё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с учётом е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-1686240" y="1341360"/>
            <a:ext cx="11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оспитание в семье и развитие способностей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i"/>
          <p:cNvPicPr/>
          <p:nvPr/>
        </p:nvPicPr>
        <p:blipFill>
          <a:blip r:embed="rId1"/>
          <a:stretch/>
        </p:blipFill>
        <p:spPr>
          <a:xfrm>
            <a:off x="6227640" y="5373720"/>
            <a:ext cx="2016360" cy="1187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i"/>
          <p:cNvPicPr/>
          <p:nvPr/>
        </p:nvPicPr>
        <p:blipFill>
          <a:blip r:embed="rId2"/>
          <a:stretch/>
        </p:blipFill>
        <p:spPr>
          <a:xfrm>
            <a:off x="3203640" y="1898640"/>
            <a:ext cx="1728720" cy="15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62144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25160" y="3738600"/>
            <a:ext cx="7790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Каждый ребенок имеет неотъемлем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аво на жиз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18840" y="1268280"/>
            <a:ext cx="361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Право на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7" descr="i"/>
          <p:cNvPicPr/>
          <p:nvPr/>
        </p:nvPicPr>
        <p:blipFill>
          <a:blip r:embed="rId1"/>
          <a:stretch/>
        </p:blipFill>
        <p:spPr>
          <a:xfrm>
            <a:off x="4500720" y="1844640"/>
            <a:ext cx="1873080" cy="1444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i"/>
          <p:cNvPicPr/>
          <p:nvPr/>
        </p:nvPicPr>
        <p:blipFill>
          <a:blip r:embed="rId2"/>
          <a:stretch/>
        </p:blipFill>
        <p:spPr>
          <a:xfrm>
            <a:off x="826920" y="4657680"/>
            <a:ext cx="230508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1189440" y="692280"/>
            <a:ext cx="17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-406440" y="3068640"/>
            <a:ext cx="1004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ебенок регистрируется сразу же после рож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с момента рождения имеет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на имя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приобретение гражданства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, а такж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аво знать своих родителей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рассчитывать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на их заботу</a:t>
            </a:r>
            <a:r>
              <a:rPr b="1" lang="ru-RU" sz="2400" spc="-1" strike="noStrike">
                <a:solidFill>
                  <a:srgbClr val="444d2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45720" y="1341360"/>
            <a:ext cx="438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мя и граждан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i"/>
          <p:cNvPicPr/>
          <p:nvPr/>
        </p:nvPicPr>
        <p:blipFill>
          <a:blip r:embed="rId1"/>
          <a:stretch/>
        </p:blipFill>
        <p:spPr>
          <a:xfrm>
            <a:off x="4643280" y="1260360"/>
            <a:ext cx="2016360" cy="174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i"/>
          <p:cNvPicPr/>
          <p:nvPr/>
        </p:nvPicPr>
        <p:blipFill>
          <a:blip r:embed="rId2"/>
          <a:stretch/>
        </p:blipFill>
        <p:spPr>
          <a:xfrm>
            <a:off x="3059280" y="4869000"/>
            <a:ext cx="2304720" cy="152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404720" y="62064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44d26"/>
                </a:solidFill>
                <a:latin typeface="Arial"/>
              </a:rPr>
              <a:t>Статья 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-126720" y="3500280"/>
            <a:ext cx="960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Уважается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право ребенка на сохранение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своей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индивидуальности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, включая гражданств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имя и семейные связи,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4d26"/>
                </a:solidFill>
                <a:latin typeface="Arial"/>
              </a:rPr>
              <a:t>не допуская противозаконного вмешатель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-700920" y="1197000"/>
            <a:ext cx="70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охранение индивидуа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7" descr="i"/>
          <p:cNvPicPr/>
          <p:nvPr/>
        </p:nvPicPr>
        <p:blipFill>
          <a:blip r:embed="rId1"/>
          <a:stretch/>
        </p:blipFill>
        <p:spPr>
          <a:xfrm>
            <a:off x="6180120" y="1197000"/>
            <a:ext cx="17780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07:14:04Z</dcterms:created>
  <dc:creator>Чулковы / Пау</dc:creator>
  <dc:description/>
  <dc:language>en-US</dc:language>
  <cp:lastModifiedBy>Марина</cp:lastModifiedBy>
  <dcterms:modified xsi:type="dcterms:W3CDTF">2017-12-11T17:08:08Z</dcterms:modified>
  <cp:revision>360</cp:revision>
  <dc:subject/>
  <dc:title>Слайд 1</dc:title>
</cp:coreProperties>
</file>