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3B6-A756-434C-9942-939E7D5A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257E-F091-42F0-8002-26064E95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0FC-7B4A-452B-A1B0-7453547E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7FB-391A-4542-9CBC-BC3F4857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47C81-BE84-4E44-AFB2-06FC10D9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7D97C-1B2C-47C1-A337-F0FBE5D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B16E6-2F28-4E94-A336-DC6C8FCD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B7F47-A444-41FA-844C-6E6AE711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B056-D653-4831-A440-5AEB10A0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17A47-79A6-475D-ABFC-F25644F4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65243-0B2C-499B-B14D-B818B8E0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E6A-5FDB-4B37-ADA0-CD977C25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018FF-2EC3-45D8-BAAB-DDC16B0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0E9D6-E92F-40B1-ABA8-2E31379B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A0950-8DA3-47E1-8335-04F38E21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826AD-0A3C-467C-BCFA-B4F36787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A9BBB-F0B4-4B46-99B1-4D77787E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B746-F039-48A3-8FF8-A78714F4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93EB-42B4-467C-9116-61BE79C2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1058-55ED-468B-B6D4-637F5759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BADA-B7CB-46D8-AB88-B1C548B3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71CB-8087-4663-ACA6-AA76B7B2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50F-CA79-4EAC-A3F2-D537824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9FD3-D393-416F-9575-6FCF7627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EEFA-3E69-48AF-A964-B17254FB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8F10-7D60-4DEB-AA5D-0F63894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734B-C3CD-4F10-8824-05C7350E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37CF-8E5B-4839-AB23-BFB675C2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286D-2526-475D-920D-A4923860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8A0A-335A-43CB-8120-9149AB29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31EDA-6EB9-4EE8-B0BD-40E4A47D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59E96-470B-47AC-99F1-DE5ED2C2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B0E1A-2B19-4A49-A856-C1F44DA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ECE-8BFA-4564-8F6C-5FCB36B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BBACBC-2313-4063-B2C6-4D50E852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7207D1-08FF-4CC8-A3A5-21BDCBCF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B826E-76CD-4629-BDF2-B15269D8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311E5-8AB1-4964-B110-602A146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4A14A-BFBA-4EEE-9658-021BAB35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7B7DD-5307-4F7C-9EE2-DE402F1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DCDCB-D08A-43E2-A1CD-72E24B2E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FDA644-AE76-4D57-ABD4-0CD7B4D7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D15B7-67CF-4213-8BEE-96582669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F53-8EBF-43FD-B428-FB2D763F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F79-DE18-4E75-8C36-F6CFC552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3B7-08B8-4F51-9022-63D9777E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BFA-A6A1-43C8-8661-9842F366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409A-7765-400E-8A3B-1F56AFC6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D507-C86B-4588-9933-B8160042F22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3BA4-3379-46BC-A5E4-AAA57CB2083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EB1-959C-4314-8360-ACC059864E5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46BF-88C5-4C93-93B6-2D021C3A911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10920" y="3644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Свобода предпринимательства (право на предпринимательскую и иную не запрещенную законом экономическую деятельность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частную собств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Трудовые права (право на труд и свободу труда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охрану семьи, материнства, отцовства и детст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социальное обеспечени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жилище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охрану здоровья и медицинскую помощ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справедливое взимание налогов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раво на восьмичасовой рабочий день, на справедливые условия труда, равную оплату за труд равной ценности и т.д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2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8712000" cy="12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Содержимое 1" descr=""/>
          <p:cNvPicPr/>
          <p:nvPr/>
        </p:nvPicPr>
        <p:blipFill>
          <a:blip r:embed="rId1"/>
          <a:stretch/>
        </p:blipFill>
        <p:spPr>
          <a:xfrm>
            <a:off x="536400" y="1335240"/>
            <a:ext cx="8242560" cy="4797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а чело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права, образующие основу правового статуса лич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 международном публичном праве известнейший документ, их закрепляющий — Всеобщая декларация прав человека ОО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первые понятие «права человека» встречается во французской «Декларации прав человека и гражданина», принятой в 1789 год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0 декабря 1948 года резолюцией 217 А (III) Генеральной Ассамблеей ООН была принята и провозглашена «Всеобщая декларация прав человек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чиная с 1950 года, ежегодно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 10-го декабр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мечается как международный День прав челове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Являются правами каждого, и хотя часто именуются гражданскими, не связаны напрямую с принадлежностью к гражданству государства, не вытекают из него. Считаются прирождёнными и неотъемлемыми для каждого человека независимо от его гражданства, пола, возраста, расы, этнической или религиозной принадлежности. Необходимы для охраны жизни, достоинства и свободы человека. К личным правам обычно относят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Содержимое 5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литические права и свободы отличаются от личных, социальных, экономических и других прав, тем, что как правило, тесно связаны с принадлежностью к гражданству данного государ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1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  <p:pic>
        <p:nvPicPr>
          <p:cNvPr id="183" name="Содержимое 5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58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ультурные права обеспечивают духовное развитие лич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2" descr=""/>
          <p:cNvPicPr/>
          <p:nvPr/>
        </p:nvPicPr>
        <p:blipFill>
          <a:blip r:embed="rId1"/>
          <a:stretch/>
        </p:blipFill>
        <p:spPr>
          <a:xfrm>
            <a:off x="450720" y="-201600"/>
            <a:ext cx="8242560" cy="157968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7" descr=""/>
          <p:cNvPicPr/>
          <p:nvPr/>
        </p:nvPicPr>
        <p:blipFill>
          <a:blip r:embed="rId2"/>
          <a:stretch/>
        </p:blipFill>
        <p:spPr>
          <a:xfrm>
            <a:off x="450720" y="1517760"/>
            <a:ext cx="8242560" cy="480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5:44:38Z</dcterms:created>
  <dc:creator>Алексей</dc:creator>
  <dc:description/>
  <dc:language>en-US</dc:language>
  <cp:lastModifiedBy>Марина</cp:lastModifiedBy>
  <dcterms:modified xsi:type="dcterms:W3CDTF">2017-10-23T08:29:38Z</dcterms:modified>
  <cp:revision>21</cp:revision>
  <dc:subject/>
  <dc:title>Слайд 1</dc:title>
</cp:coreProperties>
</file>