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72F-0D88-4C1D-9776-30BD6415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3CB-1309-460E-A917-47AB8E37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017-A1DC-4CF5-BDD7-47B4B8F8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77E-1A4F-4FF9-8666-2545F0DF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7393-2246-4BC7-B1A6-B94E02F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B5D25-2877-42E6-883A-E8397D3F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B52FA-B8DC-4F70-8BD7-212FAB9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A9EB-C73B-498B-BA40-132262BF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B3A96-52ED-4B86-8776-FC9EFB42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EB09-C500-4FB3-B323-6CD455C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F3E9B-8537-41E9-B6D1-96EE445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3F8-60C1-482C-92AF-EC151670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4D14-9103-4C40-B290-2B91EC1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1F68-8DCD-407B-B628-0ED8F63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15B12-DB04-41B2-91B5-BA1E111F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E6819-BA61-40BF-8413-8A1BD6E1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4753-7CC8-428A-89A8-CA419A4A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6696-1206-42CC-BF38-24EC4877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B359-5EB2-42CB-A361-FDFAE1DC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C5B7-6353-4DEB-9CB3-362C3BEE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6377-0B96-45D2-8DA9-8262F49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B494-9377-4E77-8237-9888BCB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2BC-F939-45C6-8342-1D4C46B1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D6B9-222E-4DF4-A42C-079EE393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B5CF-12D7-460C-8437-E85AF8B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E0E8-F3B8-4468-BC07-E6C33CB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6268-88FE-4D04-9693-751BD1E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7766-9560-4518-A64A-D7BB94D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57E1-20E1-4801-8720-A7E912C8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9E7A-FC1E-4569-A238-64F935CC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F08F5-D473-4DFD-ACF2-13355B3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27525-3664-4264-A137-287126A4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0DE1E-198C-4BFF-A542-27CCDAA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B32-050D-4A89-802E-AAD7192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53E8F-40D5-4DCA-9BC1-492B2F5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91C61-821D-4A3B-B640-D051B43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91F31-14D5-418F-A1B4-CA6BD8A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80C24-32B8-48CF-9541-B656F95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ECD457-5367-4B31-B492-C37A338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BDB06-55CF-4C4B-9C7B-A9750D7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2E945-4049-4E42-9854-F98662C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1CFB5-031C-43CB-B644-0D2A65A2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9AF47-B014-4034-AED8-039BBAE3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B1C-3FBA-430D-8FD8-528531AE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1B0-629C-435A-A3CF-8DC3FC9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A9B-C377-4A97-BCCA-2E55C29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037-F20A-4975-BF1D-B4B15A7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FEC-418B-4F2D-BD0A-348B916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B427-1296-427D-B560-91BECDD950E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4BF-9311-480F-81F0-D396E79141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54BD-E530-418C-8CAE-673BDC7EFCE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5D0D-1A55-470F-8BED-F30AB3A85FE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10920" y="3644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вобода предпринимательства (право на предпринимательскую и иную не запрещенную законом экономическую деятельность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частную собств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рудовые права (право на труд и свободу труд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семьи, материнства, отцовства и детст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оциальное обеспечени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жилищ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здоровья и медицинскую помощ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праведливое взимание налог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восьмичасовой рабочий день, на справедливые условия труда, равную оплату за труд равной ценности и т.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71200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1" descr=""/>
          <p:cNvPicPr/>
          <p:nvPr/>
        </p:nvPicPr>
        <p:blipFill>
          <a:blip r:embed="rId1"/>
          <a:stretch/>
        </p:blipFill>
        <p:spPr>
          <a:xfrm>
            <a:off x="536400" y="1335240"/>
            <a:ext cx="8242560" cy="4797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а чело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права, образующие основу правового статуса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 международном публичном праве известнейший документ, их закрепляющий — Всеобщая декларация прав человека ОО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первые понятие «права человека» встречается во французской «Декларации прав человека и гражданина», принятой в 1789 го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0 декабря 1948 года резолюцией 217 А (III) Генеральной Ассамблеей ООН была принята и провозглашена «Всеобщая декларация прав человек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чиная с 1950 года, ежегодн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10-го декабр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мечается как международный День прав чело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правами каждого, и хотя часто именуются гражданскими, не связаны напрямую с принадлежностью к гражданству государства, не вытекают из него. Считаются прирождёнными и неотъемлемыми для каждого человека независимо от его гражданства, пола, возраста, расы, этнической или религиозной принадлежности. Необходимы для охраны жизни, достоинства и свободы человека. К личным правам обычно относят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итические права и свободы отличаются от личных, социальных, экономических и других прав, тем, что как правило, тесно связаны с принадлежностью к гражданству данного государ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5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ультурные права обеспечивают духовное развитие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7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80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44:38Z</dcterms:created>
  <dc:creator>Алексей</dc:creator>
  <dc:description/>
  <dc:language>en-US</dc:language>
  <cp:lastModifiedBy>Марина</cp:lastModifiedBy>
  <dcterms:modified xsi:type="dcterms:W3CDTF">2017-10-23T08:29:38Z</dcterms:modified>
  <cp:revision>21</cp:revision>
  <dc:subject/>
  <dc:title>Слайд 1</dc:title>
</cp:coreProperties>
</file>