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1FF-F2FD-4D41-A57C-DF6ED633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CAE-CC6E-4AC8-9E46-DDBC969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08D-E153-4CB6-BD18-AE142A53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1A1-584E-49ED-9E24-69E0EBF4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2C31A-FD13-49BD-857C-6D9DCE6E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B944B-0798-4FC6-B908-C18ED47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D52A3-5AEE-4754-BD45-064959C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E26C0-4D3A-4889-9F4A-15B6F021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613AF-EC9D-41B5-A225-1FA6DF27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3BAA-CFCF-4A20-8404-CB99AC0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B292F-641F-4C07-9F10-799BF39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C4F-159C-4814-94E0-D802FD3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F982-EB39-416C-8BB9-D0064C5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C13D-C438-4937-88CA-06A92999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112CA-1060-44CD-8302-40BAAAB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51FE-E6AF-4D0E-9C07-B42F3205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F0703-CE43-471A-BDC1-61FEAE47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1526-984F-4180-97E1-93552E8E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017B-6721-4A75-9DDD-42D2FB0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FF11-E489-4AB1-A296-201F3AE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F97D-D24E-40A4-83E8-1F08162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BCF7-0E0F-412D-9868-1260D7B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E49-68B7-4E1A-BDB4-E201372B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98FA-200E-48FC-BE1E-D270ADE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2305-7BE7-401A-A740-8D606CD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7710-0EA6-4521-A72B-232137C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CBF9-01FF-4E91-A9F4-C350A3C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D0A6-B7BA-48E4-8352-72F8C50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3490-05CC-4ACD-8A23-20BDAE7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F796-A4A1-4A6A-A61C-55650FB4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F4D6F-8318-43CB-A394-FC1BBD23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9846D-7FB3-4F26-BA7E-474255B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3A11D-D51A-4206-BBAC-58C6D7B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AD9-0AB9-4B8F-A555-E311830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123D3-9DEE-429E-AF29-01A7B0F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F0DBE-66CB-4817-B052-F1ECB00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28DE6-6AE3-4F19-9484-441D386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EAD2B-DD9B-4513-8C97-85C9E65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7CF1C-AB1E-4E7C-B3EA-F3350C38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52CA6-DA68-43DF-A1F8-76BD057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8D195-66D9-44FA-99F2-F419CC1C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1C0F4-95E1-4C48-A15E-15C6BC3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20535-FBFD-49AD-AEB8-7D08EDD6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DC9-EC41-4E93-8E65-193F6442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426-0C36-45E8-BC33-4E13C0C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911-93E0-4B58-A125-51FFD3E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E0A-55A0-4031-9FBA-9138218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37F-53D1-4B5A-BFB3-58EB395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6B3-D53C-416A-9D86-DFA5F2F5009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83F-B1D2-42DA-9F88-3A3769023CF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25A8-47D4-4F65-B365-773C826DD5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FB6F-C881-428C-8BCB-7554583EDAC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10920" y="3644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вобода предпринимательства (право на предпринимательскую и иную не запрещенную законом экономическую деятельность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частную собств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рудовые права (право на труд и свободу труд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семьи, материнства, отцовства и детст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оциальное обеспечени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жилищ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здоровья и медицинскую помощ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праведливое взимание налог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восьмичасовой рабочий день, на справедливые условия труда, равную оплату за труд равной ценности и т.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71200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1" descr=""/>
          <p:cNvPicPr/>
          <p:nvPr/>
        </p:nvPicPr>
        <p:blipFill>
          <a:blip r:embed="rId1"/>
          <a:stretch/>
        </p:blipFill>
        <p:spPr>
          <a:xfrm>
            <a:off x="536400" y="1335240"/>
            <a:ext cx="8242560" cy="4797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а чело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права, образующие основу правового статуса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 международном публичном праве известнейший документ, их закрепляющий — Всеобщая декларация прав человека ОО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первые понятие «права человека» встречается во французской «Декларации прав человека и гражданина», принятой в 1789 го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0 декабря 1948 года резолюцией 217 А (III) Генеральной Ассамблеей ООН была принята и провозглашена «Всеобщая декларация прав человек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чиная с 1950 года, ежегодн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10-го декабр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мечается как международный День прав чело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правами каждого, и хотя часто именуются гражданскими, не связаны напрямую с принадлежностью к гражданству государства, не вытекают из него. Считаются прирождёнными и неотъемлемыми для каждого человека независимо от его гражданства, пола, возраста, расы, этнической или религиозной принадлежности. Необходимы для охраны жизни, достоинства и свободы человека. К личным правам обычно относят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итические права и свободы отличаются от личных, социальных, экономических и других прав, тем, что как правило, тесно связаны с принадлежностью к гражданству данного государ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5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ультурные права обеспечивают духовное развитие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7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80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44:38Z</dcterms:created>
  <dc:creator>Алексей</dc:creator>
  <dc:description/>
  <dc:language>en-US</dc:language>
  <cp:lastModifiedBy>Марина</cp:lastModifiedBy>
  <dcterms:modified xsi:type="dcterms:W3CDTF">2017-10-23T08:29:38Z</dcterms:modified>
  <cp:revision>21</cp:revision>
  <dc:subject/>
  <dc:title>Слайд 1</dc:title>
</cp:coreProperties>
</file>