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2B64-A910-4ABB-9CBC-75A2F6C8D01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31FD87-F24B-4A1B-9CA6-976A25C99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8DDC9-6A5F-46E2-8FBF-D118E361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182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2624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098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4182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82624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70F19E-ED26-4CFE-A9AD-E4E1A78A36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12C970-5A5F-4AE6-A1C1-C098B874474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37C85B-170F-4C23-848E-8A118004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3A9438-3E9C-43BF-99A5-DC95589CE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F3AB9F-0198-4B67-9A43-CFE3F82A9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E9E9E0-AD6B-4219-876A-FB1436340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29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4A3BCA-9583-478F-8381-9B774D716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DA9CF-C5D4-444D-B782-D49A3B123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60057-F176-496C-BA5D-2DCD1C7A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EEFA5D-A2C6-44CD-962A-2BB4F589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80C9A1-30BB-441A-A8E2-8167A3F82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BB978-6B64-4ADE-B553-2B3CAB5EE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1F0A2C-621B-40E8-A1DA-BCA2D364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182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2624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0098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182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2624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E8049-7881-4BF1-BD6D-CA59C1DF97A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DC5D5-C03E-44EA-A878-B3375EC19D5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22E46-5588-41CC-930A-ECC8AF942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27FD-7190-4866-AF0A-FA66E3EE8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4D99-7C31-4C7A-86D4-63468F8D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3898-DE55-4661-8018-9AA08C440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58EB29-ACCC-4AD9-B056-B5994DF6A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29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036F-0A05-4452-B382-D9B44DC44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3297-ECE1-4AA6-B161-B37EFE540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B659-5C30-41F4-81E2-A2C50B685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89DCB-CC48-4588-9718-FE650BE8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5A4BF-7304-4823-85B5-2E9B88F7E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81D97-F7F3-4220-9B4B-7ECEF2C95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4182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2624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098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4182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2624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2165C-7399-4111-AB03-C8EE37000D7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B44BE-5C54-4E5E-9AA6-1FE92BD063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C47AD-575A-4790-8502-CA738D87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CE18A2-B9E6-4807-9614-2EDDCF04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4DB4D-2535-4537-8666-F72651C21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05E08B-FA69-481C-9D23-5724862F9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406EED6-3C27-44F4-8DBD-0FE2485A7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29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E381E1-CB83-456B-B446-D7AC71830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734DAA-E122-42FE-B0A6-A8FACBE9D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28F3C9-114A-4A21-8227-93CFCEFF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E1D20A-B84E-4679-87DE-8A755E7F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CE5F32-F854-48B2-A06A-943B749D2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7FBA915-29AD-4B6B-8050-88EFC90A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182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2624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0098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4182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82624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F8F33B-4831-40B2-B495-A0AB10D4C2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4F4564-8DCE-4CC4-A39A-EA615EBD4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29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B91E6-E4E7-4B0F-836B-1E552086E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421CF-4FFC-4D62-94E5-BD067287A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8636D8-2F4F-47FA-9811-DF4AF64F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50F60-6E1C-4A4F-83A7-27DFDBEEB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558120" y="-161640"/>
            <a:ext cx="2790000" cy="7235640"/>
            <a:chOff x="6558120" y="-161640"/>
            <a:chExt cx="2790000" cy="7235640"/>
          </a:xfrm>
        </p:grpSpPr>
        <p:grpSp>
          <p:nvGrpSpPr>
            <p:cNvPr id="1" name=""/>
            <p:cNvGrpSpPr/>
            <p:nvPr/>
          </p:nvGrpSpPr>
          <p:grpSpPr>
            <a:xfrm>
              <a:off x="6639120" y="-161640"/>
              <a:ext cx="2709000" cy="7235640"/>
              <a:chOff x="6639120" y="-161640"/>
              <a:chExt cx="2709000" cy="72356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639120" y="-83520"/>
                <a:ext cx="2631960" cy="7157520"/>
                <a:chOff x="6639120" y="-83520"/>
                <a:chExt cx="2631960" cy="7157520"/>
              </a:xfrm>
            </p:grpSpPr>
            <p:sp>
              <p:nvSpPr>
                <p:cNvPr id="3" name=""/>
                <p:cNvSpPr/>
                <p:nvPr/>
              </p:nvSpPr>
              <p:spPr>
                <a:xfrm rot="900000">
                  <a:off x="6988680" y="-2880"/>
                  <a:ext cx="710640" cy="682200"/>
                </a:xfrm>
                <a:custGeom>
                  <a:avLst/>
                  <a:gdLst/>
                  <a:ahLst/>
                  <a:rect l="l" t="t" r="r" b="b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 rot="19980000">
                  <a:off x="7630200" y="2391120"/>
                  <a:ext cx="963000" cy="975960"/>
                </a:xfrm>
                <a:custGeom>
                  <a:avLst/>
                  <a:gdLst/>
                  <a:ahLst/>
                  <a:rect l="l" t="t" r="r" b="b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 rot="18840000">
                  <a:off x="8392320" y="907200"/>
                  <a:ext cx="690480" cy="81540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 rot="21120000">
                  <a:off x="7245000" y="4222080"/>
                  <a:ext cx="1064880" cy="1066320"/>
                </a:xfrm>
                <a:custGeom>
                  <a:avLst/>
                  <a:gdLst/>
                  <a:ahLst/>
                  <a:rect l="l" t="t" r="r" b="b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rot="1080000">
                  <a:off x="7521120" y="5500440"/>
                  <a:ext cx="1385280" cy="1393200"/>
                </a:xfrm>
                <a:custGeom>
                  <a:avLst/>
                  <a:gdLst/>
                  <a:ahLst/>
                  <a:rect l="l" t="t" r="r" b="b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 rot="18840000">
                  <a:off x="6827040" y="1897920"/>
                  <a:ext cx="690840" cy="81576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" name=""/>
              <p:cNvGrpSpPr/>
              <p:nvPr/>
            </p:nvGrpSpPr>
            <p:grpSpPr>
              <a:xfrm>
                <a:off x="7283160" y="-161640"/>
                <a:ext cx="2064960" cy="5695920"/>
                <a:chOff x="7283160" y="-161640"/>
                <a:chExt cx="2064960" cy="5695920"/>
              </a:xfrm>
            </p:grpSpPr>
            <p:sp>
              <p:nvSpPr>
                <p:cNvPr id="10" name=""/>
                <p:cNvSpPr/>
                <p:nvPr/>
              </p:nvSpPr>
              <p:spPr>
                <a:xfrm rot="20580000">
                  <a:off x="7702560" y="4272120"/>
                  <a:ext cx="1168560" cy="1115280"/>
                </a:xfrm>
                <a:custGeom>
                  <a:avLst/>
                  <a:gdLst/>
                  <a:ahLst/>
                  <a:rect l="l" t="t" r="r" b="b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 rot="19320000">
                  <a:off x="7484040" y="1035720"/>
                  <a:ext cx="1056240" cy="1017360"/>
                </a:xfrm>
                <a:custGeom>
                  <a:avLst/>
                  <a:gdLst/>
                  <a:ahLst/>
                  <a:rect l="l" t="t" r="r" b="b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 rot="19920000">
                  <a:off x="8292240" y="0"/>
                  <a:ext cx="904680" cy="8697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rot="1140000">
                  <a:off x="8268480" y="3329640"/>
                  <a:ext cx="608760" cy="58392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rot="21000000">
                  <a:off x="8749800" y="799200"/>
                  <a:ext cx="474480" cy="45648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"/>
              <p:cNvGrpSpPr/>
              <p:nvPr/>
            </p:nvGrpSpPr>
            <p:grpSpPr>
              <a:xfrm>
                <a:off x="7324560" y="-56520"/>
                <a:ext cx="1860840" cy="6298920"/>
                <a:chOff x="7324560" y="-56520"/>
                <a:chExt cx="1860840" cy="6298920"/>
              </a:xfrm>
            </p:grpSpPr>
            <p:sp>
              <p:nvSpPr>
                <p:cNvPr id="16" name=""/>
                <p:cNvSpPr/>
                <p:nvPr/>
              </p:nvSpPr>
              <p:spPr>
                <a:xfrm rot="480000">
                  <a:off x="7941240" y="4954680"/>
                  <a:ext cx="1164960" cy="121212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 rot="20400000">
                  <a:off x="7444440" y="56880"/>
                  <a:ext cx="815040" cy="84672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rot="20940000">
                  <a:off x="7791120" y="3834000"/>
                  <a:ext cx="721800" cy="74664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rot="900000">
                  <a:off x="7970400" y="1745280"/>
                  <a:ext cx="865080" cy="89064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" name=""/>
            <p:cNvSpPr/>
            <p:nvPr/>
          </p:nvSpPr>
          <p:spPr>
            <a:xfrm>
              <a:off x="8267760" y="2855880"/>
              <a:ext cx="863640" cy="1170000"/>
            </a:xfrm>
            <a:custGeom>
              <a:avLst/>
              <a:gdLst/>
              <a:ahLst/>
              <a:rect l="l" t="t" r="r" b="b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58120" y="5996160"/>
              <a:ext cx="1287360" cy="865080"/>
            </a:xfrm>
            <a:custGeom>
              <a:avLst/>
              <a:gdLst/>
              <a:ahLst/>
              <a:rect l="l" t="t" r="r" b="b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1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26280" y="6307200"/>
              <a:ext cx="974880" cy="54936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800" y="3306240"/>
            <a:ext cx="71150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12.12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sldNum" idx="2"/>
          </p:nvPr>
        </p:nvSpPr>
        <p:spPr>
          <a:xfrm>
            <a:off x="573120" y="5951520"/>
            <a:ext cx="606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8BD3A73-DB56-4CBC-8AB6-1CE5A12E0771}" type="slidenum"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6558120" y="-161640"/>
            <a:ext cx="2790000" cy="7235640"/>
            <a:chOff x="6558120" y="-161640"/>
            <a:chExt cx="2790000" cy="7235640"/>
          </a:xfrm>
        </p:grpSpPr>
        <p:grpSp>
          <p:nvGrpSpPr>
            <p:cNvPr id="65" name=""/>
            <p:cNvGrpSpPr/>
            <p:nvPr/>
          </p:nvGrpSpPr>
          <p:grpSpPr>
            <a:xfrm>
              <a:off x="6639120" y="-161640"/>
              <a:ext cx="2709000" cy="7235640"/>
              <a:chOff x="6639120" y="-161640"/>
              <a:chExt cx="2709000" cy="723564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6639120" y="-83520"/>
                <a:ext cx="2631960" cy="7157520"/>
                <a:chOff x="6639120" y="-83520"/>
                <a:chExt cx="2631960" cy="7157520"/>
              </a:xfrm>
            </p:grpSpPr>
            <p:sp>
              <p:nvSpPr>
                <p:cNvPr id="67" name=""/>
                <p:cNvSpPr/>
                <p:nvPr/>
              </p:nvSpPr>
              <p:spPr>
                <a:xfrm rot="900000">
                  <a:off x="6988680" y="-2880"/>
                  <a:ext cx="710640" cy="682200"/>
                </a:xfrm>
                <a:custGeom>
                  <a:avLst/>
                  <a:gdLst/>
                  <a:ahLst/>
                  <a:rect l="l" t="t" r="r" b="b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9980000">
                  <a:off x="7630200" y="2391120"/>
                  <a:ext cx="963000" cy="975960"/>
                </a:xfrm>
                <a:custGeom>
                  <a:avLst/>
                  <a:gdLst/>
                  <a:ahLst/>
                  <a:rect l="l" t="t" r="r" b="b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rot="18840000">
                  <a:off x="8392320" y="907200"/>
                  <a:ext cx="690480" cy="81540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21120000">
                  <a:off x="7245000" y="4222080"/>
                  <a:ext cx="1064880" cy="1066320"/>
                </a:xfrm>
                <a:custGeom>
                  <a:avLst/>
                  <a:gdLst/>
                  <a:ahLst/>
                  <a:rect l="l" t="t" r="r" b="b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1080000">
                  <a:off x="7521120" y="5500440"/>
                  <a:ext cx="1385280" cy="1393200"/>
                </a:xfrm>
                <a:custGeom>
                  <a:avLst/>
                  <a:gdLst/>
                  <a:ahLst/>
                  <a:rect l="l" t="t" r="r" b="b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rot="18840000">
                  <a:off x="6827040" y="1897920"/>
                  <a:ext cx="690840" cy="81576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7283160" y="-161640"/>
                <a:ext cx="2064960" cy="5695920"/>
                <a:chOff x="7283160" y="-161640"/>
                <a:chExt cx="2064960" cy="5695920"/>
              </a:xfrm>
            </p:grpSpPr>
            <p:sp>
              <p:nvSpPr>
                <p:cNvPr id="74" name=""/>
                <p:cNvSpPr/>
                <p:nvPr/>
              </p:nvSpPr>
              <p:spPr>
                <a:xfrm rot="20580000">
                  <a:off x="7702560" y="4272120"/>
                  <a:ext cx="1168560" cy="1115280"/>
                </a:xfrm>
                <a:custGeom>
                  <a:avLst/>
                  <a:gdLst/>
                  <a:ahLst/>
                  <a:rect l="l" t="t" r="r" b="b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rot="19320000">
                  <a:off x="7484040" y="1035720"/>
                  <a:ext cx="1056240" cy="1017360"/>
                </a:xfrm>
                <a:custGeom>
                  <a:avLst/>
                  <a:gdLst/>
                  <a:ahLst/>
                  <a:rect l="l" t="t" r="r" b="b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19920000">
                  <a:off x="8292240" y="0"/>
                  <a:ext cx="904680" cy="8697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1140000">
                  <a:off x="8268480" y="3329640"/>
                  <a:ext cx="608760" cy="58392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21000000">
                  <a:off x="8749800" y="799200"/>
                  <a:ext cx="474480" cy="45648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7324560" y="-56520"/>
                <a:ext cx="1860840" cy="6298920"/>
                <a:chOff x="7324560" y="-56520"/>
                <a:chExt cx="1860840" cy="6298920"/>
              </a:xfrm>
            </p:grpSpPr>
            <p:sp>
              <p:nvSpPr>
                <p:cNvPr id="80" name=""/>
                <p:cNvSpPr/>
                <p:nvPr/>
              </p:nvSpPr>
              <p:spPr>
                <a:xfrm rot="480000">
                  <a:off x="7941240" y="4954680"/>
                  <a:ext cx="1164960" cy="121212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rot="20400000">
                  <a:off x="7444440" y="56880"/>
                  <a:ext cx="815040" cy="84672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20940000">
                  <a:off x="7791120" y="3834000"/>
                  <a:ext cx="721800" cy="74664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900000">
                  <a:off x="7970400" y="1745280"/>
                  <a:ext cx="865080" cy="89064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" name=""/>
            <p:cNvSpPr/>
            <p:nvPr/>
          </p:nvSpPr>
          <p:spPr>
            <a:xfrm>
              <a:off x="8267760" y="2855880"/>
              <a:ext cx="863640" cy="1170000"/>
            </a:xfrm>
            <a:custGeom>
              <a:avLst/>
              <a:gdLst/>
              <a:ahLst/>
              <a:rect l="l" t="t" r="r" b="b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58120" y="5996160"/>
              <a:ext cx="1287360" cy="865080"/>
            </a:xfrm>
            <a:custGeom>
              <a:avLst/>
              <a:gdLst/>
              <a:ahLst/>
              <a:rect l="l" t="t" r="r" b="b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1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26280" y="6307200"/>
              <a:ext cx="974880" cy="54936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3"/>
          </p:nvPr>
        </p:nvSpPr>
        <p:spPr>
          <a:xfrm>
            <a:off x="6436800" y="595152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12.12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573120" y="5951520"/>
            <a:ext cx="606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93126F8-9F8D-4ABB-9D7B-9317D4A20D33}" type="slidenum"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6558120" y="-161640"/>
            <a:ext cx="2790000" cy="7235640"/>
            <a:chOff x="6558120" y="-161640"/>
            <a:chExt cx="2790000" cy="7235640"/>
          </a:xfrm>
        </p:grpSpPr>
        <p:grpSp>
          <p:nvGrpSpPr>
            <p:cNvPr id="129" name=""/>
            <p:cNvGrpSpPr/>
            <p:nvPr/>
          </p:nvGrpSpPr>
          <p:grpSpPr>
            <a:xfrm>
              <a:off x="6639120" y="-161640"/>
              <a:ext cx="2709000" cy="7235640"/>
              <a:chOff x="6639120" y="-161640"/>
              <a:chExt cx="2709000" cy="72356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6639120" y="-83520"/>
                <a:ext cx="2631960" cy="7157520"/>
                <a:chOff x="6639120" y="-83520"/>
                <a:chExt cx="2631960" cy="7157520"/>
              </a:xfrm>
            </p:grpSpPr>
            <p:sp>
              <p:nvSpPr>
                <p:cNvPr id="131" name=""/>
                <p:cNvSpPr/>
                <p:nvPr/>
              </p:nvSpPr>
              <p:spPr>
                <a:xfrm rot="900000">
                  <a:off x="6988680" y="-2880"/>
                  <a:ext cx="710640" cy="682200"/>
                </a:xfrm>
                <a:custGeom>
                  <a:avLst/>
                  <a:gdLst/>
                  <a:ahLst/>
                  <a:rect l="l" t="t" r="r" b="b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9980000">
                  <a:off x="7630200" y="2391120"/>
                  <a:ext cx="963000" cy="975960"/>
                </a:xfrm>
                <a:custGeom>
                  <a:avLst/>
                  <a:gdLst/>
                  <a:ahLst/>
                  <a:rect l="l" t="t" r="r" b="b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840000">
                  <a:off x="8392320" y="907200"/>
                  <a:ext cx="690480" cy="81540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1120000">
                  <a:off x="7245000" y="4222080"/>
                  <a:ext cx="1064880" cy="1066320"/>
                </a:xfrm>
                <a:custGeom>
                  <a:avLst/>
                  <a:gdLst/>
                  <a:ahLst/>
                  <a:rect l="l" t="t" r="r" b="b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080000">
                  <a:off x="7521120" y="5500440"/>
                  <a:ext cx="1385280" cy="1393200"/>
                </a:xfrm>
                <a:custGeom>
                  <a:avLst/>
                  <a:gdLst/>
                  <a:ahLst/>
                  <a:rect l="l" t="t" r="r" b="b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8840000">
                  <a:off x="6827040" y="1897920"/>
                  <a:ext cx="690840" cy="81576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7283160" y="-161640"/>
                <a:ext cx="2064960" cy="5695920"/>
                <a:chOff x="7283160" y="-161640"/>
                <a:chExt cx="2064960" cy="5695920"/>
              </a:xfrm>
            </p:grpSpPr>
            <p:sp>
              <p:nvSpPr>
                <p:cNvPr id="138" name=""/>
                <p:cNvSpPr/>
                <p:nvPr/>
              </p:nvSpPr>
              <p:spPr>
                <a:xfrm rot="20580000">
                  <a:off x="7702560" y="4272120"/>
                  <a:ext cx="1168560" cy="1115280"/>
                </a:xfrm>
                <a:custGeom>
                  <a:avLst/>
                  <a:gdLst/>
                  <a:ahLst/>
                  <a:rect l="l" t="t" r="r" b="b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9320000">
                  <a:off x="7484040" y="1035720"/>
                  <a:ext cx="1056240" cy="1017360"/>
                </a:xfrm>
                <a:custGeom>
                  <a:avLst/>
                  <a:gdLst/>
                  <a:ahLst/>
                  <a:rect l="l" t="t" r="r" b="b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9920000">
                  <a:off x="8292240" y="0"/>
                  <a:ext cx="904680" cy="8697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140000">
                  <a:off x="8268480" y="3329640"/>
                  <a:ext cx="608760" cy="58392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21000000">
                  <a:off x="8749800" y="799200"/>
                  <a:ext cx="474480" cy="45648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324560" y="-56520"/>
                <a:ext cx="1860840" cy="6298920"/>
                <a:chOff x="7324560" y="-56520"/>
                <a:chExt cx="1860840" cy="6298920"/>
              </a:xfrm>
            </p:grpSpPr>
            <p:sp>
              <p:nvSpPr>
                <p:cNvPr id="144" name=""/>
                <p:cNvSpPr/>
                <p:nvPr/>
              </p:nvSpPr>
              <p:spPr>
                <a:xfrm rot="480000">
                  <a:off x="7941240" y="4954680"/>
                  <a:ext cx="1164960" cy="121212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20400000">
                  <a:off x="7444440" y="56880"/>
                  <a:ext cx="815040" cy="84672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20940000">
                  <a:off x="7791120" y="3834000"/>
                  <a:ext cx="721800" cy="74664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900000">
                  <a:off x="7970400" y="1745280"/>
                  <a:ext cx="865080" cy="89064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8267760" y="2855880"/>
              <a:ext cx="863640" cy="1170000"/>
            </a:xfrm>
            <a:custGeom>
              <a:avLst/>
              <a:gdLst/>
              <a:ahLst/>
              <a:rect l="l" t="t" r="r" b="b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58120" y="5996160"/>
              <a:ext cx="1287360" cy="865080"/>
            </a:xfrm>
            <a:custGeom>
              <a:avLst/>
              <a:gdLst/>
              <a:ahLst/>
              <a:rect l="l" t="t" r="r" b="b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1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26280" y="6307200"/>
              <a:ext cx="974880" cy="54936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1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009440" y="1809360"/>
            <a:ext cx="34686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948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5"/>
          </p:nvPr>
        </p:nvSpPr>
        <p:spPr>
          <a:xfrm>
            <a:off x="6436800" y="595152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12.12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6"/>
          </p:nvPr>
        </p:nvSpPr>
        <p:spPr>
          <a:xfrm>
            <a:off x="573120" y="5951520"/>
            <a:ext cx="606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7E20DDF-029B-4965-97D0-3A655A9BE504}" type="slidenum"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558120" y="-161640"/>
            <a:ext cx="2790000" cy="7235640"/>
            <a:chOff x="6558120" y="-161640"/>
            <a:chExt cx="2790000" cy="7235640"/>
          </a:xfrm>
        </p:grpSpPr>
        <p:grpSp>
          <p:nvGrpSpPr>
            <p:cNvPr id="193" name=""/>
            <p:cNvGrpSpPr/>
            <p:nvPr/>
          </p:nvGrpSpPr>
          <p:grpSpPr>
            <a:xfrm>
              <a:off x="6639120" y="-161640"/>
              <a:ext cx="2709000" cy="7235640"/>
              <a:chOff x="6639120" y="-161640"/>
              <a:chExt cx="2709000" cy="72356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6639120" y="-83520"/>
                <a:ext cx="2631960" cy="7157520"/>
                <a:chOff x="6639120" y="-83520"/>
                <a:chExt cx="2631960" cy="7157520"/>
              </a:xfrm>
            </p:grpSpPr>
            <p:sp>
              <p:nvSpPr>
                <p:cNvPr id="195" name=""/>
                <p:cNvSpPr/>
                <p:nvPr/>
              </p:nvSpPr>
              <p:spPr>
                <a:xfrm rot="900000">
                  <a:off x="6988680" y="-2880"/>
                  <a:ext cx="710640" cy="682200"/>
                </a:xfrm>
                <a:custGeom>
                  <a:avLst/>
                  <a:gdLst/>
                  <a:ahLst/>
                  <a:rect l="l" t="t" r="r" b="b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9980000">
                  <a:off x="7630200" y="2391120"/>
                  <a:ext cx="963000" cy="975960"/>
                </a:xfrm>
                <a:custGeom>
                  <a:avLst/>
                  <a:gdLst/>
                  <a:ahLst/>
                  <a:rect l="l" t="t" r="r" b="b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8840000">
                  <a:off x="8392320" y="907200"/>
                  <a:ext cx="690480" cy="81540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1120000">
                  <a:off x="7245000" y="4222080"/>
                  <a:ext cx="1064880" cy="1066320"/>
                </a:xfrm>
                <a:custGeom>
                  <a:avLst/>
                  <a:gdLst/>
                  <a:ahLst/>
                  <a:rect l="l" t="t" r="r" b="b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1080000">
                  <a:off x="7521120" y="5500440"/>
                  <a:ext cx="1385280" cy="1393200"/>
                </a:xfrm>
                <a:custGeom>
                  <a:avLst/>
                  <a:gdLst/>
                  <a:ahLst/>
                  <a:rect l="l" t="t" r="r" b="b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18840000">
                  <a:off x="6827040" y="1897920"/>
                  <a:ext cx="690840" cy="81576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7283160" y="-161640"/>
                <a:ext cx="2064960" cy="5695920"/>
                <a:chOff x="7283160" y="-161640"/>
                <a:chExt cx="2064960" cy="5695920"/>
              </a:xfrm>
            </p:grpSpPr>
            <p:sp>
              <p:nvSpPr>
                <p:cNvPr id="202" name=""/>
                <p:cNvSpPr/>
                <p:nvPr/>
              </p:nvSpPr>
              <p:spPr>
                <a:xfrm rot="20580000">
                  <a:off x="7702560" y="4272120"/>
                  <a:ext cx="1168560" cy="1115280"/>
                </a:xfrm>
                <a:custGeom>
                  <a:avLst/>
                  <a:gdLst/>
                  <a:ahLst/>
                  <a:rect l="l" t="t" r="r" b="b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9320000">
                  <a:off x="7484040" y="1035720"/>
                  <a:ext cx="1056240" cy="1017360"/>
                </a:xfrm>
                <a:custGeom>
                  <a:avLst/>
                  <a:gdLst/>
                  <a:ahLst/>
                  <a:rect l="l" t="t" r="r" b="b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9920000">
                  <a:off x="8292240" y="0"/>
                  <a:ext cx="904680" cy="8697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1140000">
                  <a:off x="8268480" y="3329640"/>
                  <a:ext cx="608760" cy="58392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21000000">
                  <a:off x="8749800" y="799200"/>
                  <a:ext cx="474480" cy="45648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324560" y="-56520"/>
                <a:ext cx="1860840" cy="6298920"/>
                <a:chOff x="7324560" y="-56520"/>
                <a:chExt cx="1860840" cy="6298920"/>
              </a:xfrm>
            </p:grpSpPr>
            <p:sp>
              <p:nvSpPr>
                <p:cNvPr id="208" name=""/>
                <p:cNvSpPr/>
                <p:nvPr/>
              </p:nvSpPr>
              <p:spPr>
                <a:xfrm rot="480000">
                  <a:off x="7941240" y="4954680"/>
                  <a:ext cx="1164960" cy="121212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20400000">
                  <a:off x="7444440" y="56880"/>
                  <a:ext cx="815040" cy="84672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20940000">
                  <a:off x="7791120" y="3834000"/>
                  <a:ext cx="721800" cy="74664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900000">
                  <a:off x="7970400" y="1745280"/>
                  <a:ext cx="865080" cy="89064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8267760" y="2855880"/>
              <a:ext cx="863640" cy="1170000"/>
            </a:xfrm>
            <a:custGeom>
              <a:avLst/>
              <a:gdLst/>
              <a:ahLst/>
              <a:rect l="l" t="t" r="r" b="b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58120" y="5996160"/>
              <a:ext cx="1287360" cy="865080"/>
            </a:xfrm>
            <a:custGeom>
              <a:avLst/>
              <a:gdLst/>
              <a:ahLst/>
              <a:rect l="l" t="t" r="r" b="b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1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126280" y="6307200"/>
              <a:ext cx="974880" cy="54936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347840" y="1812960"/>
            <a:ext cx="31305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6000"/>
          </a:bodyPr>
          <a:p>
            <a:pPr marL="5472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12.12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573120" y="5951520"/>
            <a:ext cx="606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983A69-CFF1-4354-81D2-61D1A29A6BE3}" type="slidenum"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1628640"/>
            <a:ext cx="71164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Times New Roman"/>
              </a:rPr>
              <a:t>Презентация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09800" y="3357720"/>
            <a:ext cx="7116480" cy="22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</a:rPr>
              <a:t>Украшаем ёлк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ифференциация звуков [с] и [ш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662360" y="2273400"/>
            <a:ext cx="3470400" cy="3122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009800" y="2100240"/>
            <a:ext cx="347184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009800" y="2209680"/>
            <a:ext cx="3471840" cy="32511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662360" y="2100240"/>
            <a:ext cx="347040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какая ёлочка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330200" y="1806480"/>
            <a:ext cx="6485040" cy="4052880"/>
          </a:xfrm>
          <a:prstGeom prst="rect">
            <a:avLst/>
          </a:prstGeom>
          <a:ln w="9360">
            <a:solidFill>
              <a:srgbClr val="00b050"/>
            </a:solidFill>
            <a:round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рась елочку новогодними игрушкам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70240" y="1806480"/>
            <a:ext cx="2602080" cy="4052880"/>
          </a:xfrm>
          <a:prstGeom prst="rect">
            <a:avLst/>
          </a:prstGeom>
          <a:ln w="9360">
            <a:solidFill>
              <a:srgbClr val="00b050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09800" y="2379600"/>
            <a:ext cx="3471840" cy="2913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62360" y="2841480"/>
            <a:ext cx="347040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47840" y="1812960"/>
            <a:ext cx="31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2200" y="1812960"/>
            <a:ext cx="31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662360" y="2967120"/>
            <a:ext cx="3471840" cy="23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09800" y="2392200"/>
            <a:ext cx="3471840" cy="2887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662360" y="2100240"/>
            <a:ext cx="347040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009800" y="2220840"/>
            <a:ext cx="3471840" cy="32292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662360" y="2100240"/>
            <a:ext cx="347040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009800" y="2452680"/>
            <a:ext cx="3471840" cy="2766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662360" y="2100240"/>
            <a:ext cx="347040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09800" y="2533680"/>
            <a:ext cx="3471840" cy="2603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046840" y="1809720"/>
            <a:ext cx="270000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09800" y="2100240"/>
            <a:ext cx="3471840" cy="34718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962600" y="1809720"/>
            <a:ext cx="2871720" cy="405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