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1578-B0B7-45E8-94DF-F4BEDC1E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276-0F9E-4653-B895-EB52F862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32D-A660-4DB5-A733-AD0792A0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57B-8E25-44F7-8841-45A1BE28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4D50-B235-4D37-9BD1-BDC3C65E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08D-511F-48A8-B460-64DB4CCD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33B4-2F5C-4F79-A467-D6DF9CC3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3596-D777-4599-BF4F-D3C951CB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A3E0-818D-4A8E-917E-0AECAA5B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7621-FA91-4462-899F-B0D2400D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709-9245-49B2-BEEC-A728B4A0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16E9-4E5E-4B17-98B4-521FFE96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89CE-6624-4FFB-9601-F5BF11E10F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Схема 6" descr=""/>
          <p:cNvPicPr/>
          <p:nvPr/>
        </p:nvPicPr>
        <p:blipFill>
          <a:blip r:embed="rId2"/>
          <a:stretch/>
        </p:blipFill>
        <p:spPr>
          <a:xfrm>
            <a:off x="139680" y="1073160"/>
            <a:ext cx="4749840" cy="4711680"/>
          </a:xfrm>
          <a:prstGeom prst="rect">
            <a:avLst/>
          </a:prstGeom>
          <a:ln w="0">
            <a:noFill/>
          </a:ln>
        </p:spPr>
      </p:pic>
      <p:pic>
        <p:nvPicPr>
          <p:cNvPr id="47" name="Схема 7" descr=""/>
          <p:cNvPicPr/>
          <p:nvPr/>
        </p:nvPicPr>
        <p:blipFill>
          <a:blip r:embed="rId3"/>
          <a:stretch/>
        </p:blipFill>
        <p:spPr>
          <a:xfrm>
            <a:off x="4327560" y="1000080"/>
            <a:ext cx="4584600" cy="493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D:\Общие документы\КАРТИНКИ\АНИМИРОВАННЫЕ КАРТИНКИ\1 (42).gif"/>
          <p:cNvPicPr/>
          <p:nvPr/>
        </p:nvPicPr>
        <p:blipFill>
          <a:blip r:embed="rId4"/>
          <a:stretch/>
        </p:blipFill>
        <p:spPr>
          <a:xfrm>
            <a:off x="5429160" y="5226120"/>
            <a:ext cx="3167280" cy="110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8:17:44Z</dcterms:created>
  <dc:creator>User</dc:creator>
  <dc:description/>
  <dc:language>en-US</dc:language>
  <cp:lastModifiedBy>Оксана Галушина</cp:lastModifiedBy>
  <dcterms:modified xsi:type="dcterms:W3CDTF">2017-12-11T20:01:52Z</dcterms:modified>
  <cp:revision>21</cp:revision>
  <dc:subject/>
  <dc:title>Слайд 1</dc:title>
</cp:coreProperties>
</file>