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478B7-9913-481C-9F96-77981436196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B730F-8D8F-4839-8275-3778C87CAA87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D82F2-6D71-4A15-BFED-B39C2403D31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9E6A4-8E1E-4FB1-879B-56EF1E76AD1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3CACB-1093-43B3-97B8-222E423D7D5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9337-60CF-4796-A5D4-00EA1AC5EF2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26ACF-5B4A-4155-A728-95ABD78099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CA547-AF72-4CEF-B4CA-6728A96036B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DE09-E2A0-4363-A11F-A64C69824761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611B5-864F-4D12-A9D8-059A2646E1DC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C16B0-0EE6-4D4B-8E67-DAF3E2C0E54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E9FD-F14A-4B0D-BA8D-629299119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F85-4105-4F95-968E-0A81A0573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CC27-4AB7-4E3D-B446-E5AB1FA30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1D4-8E92-45C6-90AB-A732C515D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9EBC3-39DE-4A09-976E-FA8E990C1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4CD66-DBF8-494B-B0AC-945F60DF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BD35-2CD4-47AC-B171-A3F94CE2F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05EA-127D-4F28-8939-D08B630AF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29646-4696-4FC0-AB26-DEF6C8FF7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74294-A2B9-4F39-A6E4-861F98471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5F6-4100-4EFF-9AAB-727D815C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F133-FF65-4B44-BE5D-EFCEDC89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34E9A-9769-4698-BDE9-B0489F05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245BA-4489-4921-8B11-A6632FDA6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03D19-F6B8-47A4-994C-E7C1EE07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EBDDD-8877-4AF2-A722-92D49061E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15756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4680" y="144792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900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15756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124680" y="3942000"/>
            <a:ext cx="282564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B905B-794C-45B4-884A-61D258D01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0850A-3460-445F-8A83-271CA7340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3E9B-0167-47FC-8557-A05846E6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CC45-8A34-4579-8D08-1C14DF90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182520" y="122040"/>
            <a:ext cx="880272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FE9A-A4FE-4BBC-BB32-7FCD7B7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31D9-8013-4F0F-B8BB-36F2F68FF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86840" y="394200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03B1-B1ED-4551-BF63-AE90A5DB2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86840" y="1447920"/>
            <a:ext cx="428220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90080" y="3942000"/>
            <a:ext cx="8775720" cy="2277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6786F-42A4-4B27-8735-57A85191C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901800" y="3378240"/>
            <a:ext cx="5359320" cy="2425680"/>
          </a:xfrm>
          <a:custGeom>
            <a:avLst/>
            <a:gdLst/>
            <a:ahLst/>
            <a:rect l="l" t="t" r="r" b="b"/>
            <a:pathLst>
              <a:path w="3376" h="1528">
                <a:moveTo>
                  <a:pt x="0" y="1525"/>
                </a:moveTo>
                <a:lnTo>
                  <a:pt x="79" y="1498"/>
                </a:lnTo>
                <a:lnTo>
                  <a:pt x="753" y="1223"/>
                </a:lnTo>
                <a:lnTo>
                  <a:pt x="1048" y="1054"/>
                </a:lnTo>
                <a:lnTo>
                  <a:pt x="1122" y="1007"/>
                </a:lnTo>
                <a:lnTo>
                  <a:pt x="1164" y="974"/>
                </a:lnTo>
                <a:lnTo>
                  <a:pt x="1164" y="918"/>
                </a:lnTo>
                <a:lnTo>
                  <a:pt x="1637" y="734"/>
                </a:lnTo>
                <a:lnTo>
                  <a:pt x="1715" y="731"/>
                </a:lnTo>
                <a:lnTo>
                  <a:pt x="1787" y="725"/>
                </a:lnTo>
                <a:lnTo>
                  <a:pt x="1901" y="707"/>
                </a:lnTo>
                <a:lnTo>
                  <a:pt x="2015" y="678"/>
                </a:lnTo>
                <a:lnTo>
                  <a:pt x="2162" y="620"/>
                </a:lnTo>
                <a:lnTo>
                  <a:pt x="2069" y="578"/>
                </a:lnTo>
                <a:lnTo>
                  <a:pt x="2195" y="605"/>
                </a:lnTo>
                <a:lnTo>
                  <a:pt x="2276" y="578"/>
                </a:lnTo>
                <a:lnTo>
                  <a:pt x="2186" y="533"/>
                </a:lnTo>
                <a:lnTo>
                  <a:pt x="2309" y="560"/>
                </a:lnTo>
                <a:lnTo>
                  <a:pt x="2399" y="521"/>
                </a:lnTo>
                <a:lnTo>
                  <a:pt x="2315" y="470"/>
                </a:lnTo>
                <a:lnTo>
                  <a:pt x="2453" y="494"/>
                </a:lnTo>
                <a:lnTo>
                  <a:pt x="2619" y="430"/>
                </a:lnTo>
                <a:lnTo>
                  <a:pt x="2888" y="302"/>
                </a:lnTo>
                <a:lnTo>
                  <a:pt x="3099" y="182"/>
                </a:lnTo>
                <a:lnTo>
                  <a:pt x="3376" y="0"/>
                </a:lnTo>
                <a:lnTo>
                  <a:pt x="3016" y="144"/>
                </a:lnTo>
                <a:lnTo>
                  <a:pt x="2801" y="230"/>
                </a:lnTo>
                <a:lnTo>
                  <a:pt x="2619" y="302"/>
                </a:lnTo>
                <a:lnTo>
                  <a:pt x="2386" y="398"/>
                </a:lnTo>
                <a:lnTo>
                  <a:pt x="2146" y="478"/>
                </a:lnTo>
                <a:lnTo>
                  <a:pt x="1792" y="624"/>
                </a:lnTo>
                <a:lnTo>
                  <a:pt x="1601" y="710"/>
                </a:lnTo>
                <a:lnTo>
                  <a:pt x="1135" y="886"/>
                </a:lnTo>
                <a:lnTo>
                  <a:pt x="1098" y="871"/>
                </a:lnTo>
                <a:lnTo>
                  <a:pt x="993" y="871"/>
                </a:lnTo>
                <a:lnTo>
                  <a:pt x="450" y="1039"/>
                </a:lnTo>
                <a:lnTo>
                  <a:pt x="8" y="1214"/>
                </a:lnTo>
                <a:lnTo>
                  <a:pt x="27" y="1240"/>
                </a:lnTo>
                <a:lnTo>
                  <a:pt x="35" y="1237"/>
                </a:lnTo>
                <a:lnTo>
                  <a:pt x="10" y="1528"/>
                </a:lnTo>
                <a:lnTo>
                  <a:pt x="0" y="1525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297000" y="3022560"/>
            <a:ext cx="976320" cy="2828880"/>
            <a:chOff x="297000" y="3022560"/>
            <a:chExt cx="976320" cy="2828880"/>
          </a:xfrm>
        </p:grpSpPr>
        <p:grpSp>
          <p:nvGrpSpPr>
            <p:cNvPr id="2" name="Group 4"/>
            <p:cNvGrpSpPr/>
            <p:nvPr/>
          </p:nvGrpSpPr>
          <p:grpSpPr>
            <a:xfrm>
              <a:off x="297000" y="5091120"/>
              <a:ext cx="695160" cy="760320"/>
              <a:chOff x="297000" y="5091120"/>
              <a:chExt cx="695160" cy="760320"/>
            </a:xfrm>
          </p:grpSpPr>
          <p:sp>
            <p:nvSpPr>
              <p:cNvPr id="3" name="Oval 5"/>
              <p:cNvSpPr/>
              <p:nvPr/>
            </p:nvSpPr>
            <p:spPr>
              <a:xfrm>
                <a:off x="297000" y="5626080"/>
                <a:ext cx="690480" cy="225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298440" y="5610240"/>
                <a:ext cx="693720" cy="2239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50000">
                    <a:srgbClr val="323232"/>
                  </a:gs>
                  <a:gs pos="100000">
                    <a:srgbClr val="00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436680" y="5091120"/>
                <a:ext cx="423720" cy="133200"/>
              </a:xfrm>
              <a:prstGeom prst="ellipse">
                <a:avLst/>
              </a:pr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439560" y="5091120"/>
                <a:ext cx="414360" cy="11124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AutoShape 9"/>
              <p:cNvSpPr/>
              <p:nvPr/>
            </p:nvSpPr>
            <p:spPr>
              <a:xfrm flipV="1">
                <a:off x="297000" y="5163480"/>
                <a:ext cx="695160" cy="183960"/>
              </a:xfrm>
              <a:custGeom>
                <a:avLst/>
                <a:gdLst>
                  <a:gd name="textAreaLeft" fmla="*/ 144360 w 695160"/>
                  <a:gd name="textAreaRight" fmla="*/ 550800 w 695160"/>
                  <a:gd name="textAreaTop" fmla="*/ 37800 h 183960"/>
                  <a:gd name="textAreaBottom" fmla="*/ 146160 h 183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297000" y="5370480"/>
                <a:ext cx="691920" cy="370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297000" y="5284800"/>
                <a:ext cx="691920" cy="144360"/>
              </a:xfrm>
              <a:prstGeom prst="ellips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343080" y="5210280"/>
                <a:ext cx="179280" cy="623880"/>
              </a:xfrm>
              <a:custGeom>
                <a:avLst/>
                <a:gdLst/>
                <a:ahLst/>
                <a:rect l="l" t="t" r="r" b="b"/>
                <a:pathLst>
                  <a:path w="113" h="393">
                    <a:moveTo>
                      <a:pt x="68" y="0"/>
                    </a:moveTo>
                    <a:lnTo>
                      <a:pt x="0" y="110"/>
                    </a:lnTo>
                    <a:lnTo>
                      <a:pt x="3" y="361"/>
                    </a:lnTo>
                    <a:lnTo>
                      <a:pt x="36" y="379"/>
                    </a:lnTo>
                    <a:lnTo>
                      <a:pt x="63" y="385"/>
                    </a:lnTo>
                    <a:lnTo>
                      <a:pt x="92" y="392"/>
                    </a:lnTo>
                    <a:lnTo>
                      <a:pt x="90" y="136"/>
                    </a:lnTo>
                    <a:lnTo>
                      <a:pt x="112" y="10"/>
                    </a:lnTo>
                    <a:lnTo>
                      <a:pt x="102" y="10"/>
                    </a:lnTo>
                    <a:lnTo>
                      <a:pt x="81" y="6"/>
                    </a:lnTo>
                    <a:lnTo>
                      <a:pt x="68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71600" y="5113440"/>
                <a:ext cx="352440" cy="7128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304920" y="5289480"/>
                <a:ext cx="663480" cy="13644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368280" y="5211720"/>
                <a:ext cx="106560" cy="585720"/>
              </a:xfrm>
              <a:custGeom>
                <a:avLst/>
                <a:gdLst/>
                <a:ahLst/>
                <a:rect l="l" t="t" r="r" b="b"/>
                <a:pathLst>
                  <a:path w="67" h="369">
                    <a:moveTo>
                      <a:pt x="0" y="133"/>
                    </a:moveTo>
                    <a:lnTo>
                      <a:pt x="0" y="357"/>
                    </a:lnTo>
                    <a:lnTo>
                      <a:pt x="20" y="368"/>
                    </a:lnTo>
                    <a:lnTo>
                      <a:pt x="20" y="141"/>
                    </a:lnTo>
                    <a:lnTo>
                      <a:pt x="20" y="125"/>
                    </a:lnTo>
                    <a:lnTo>
                      <a:pt x="29" y="111"/>
                    </a:lnTo>
                    <a:lnTo>
                      <a:pt x="66" y="4"/>
                    </a:lnTo>
                    <a:lnTo>
                      <a:pt x="59" y="0"/>
                    </a:lnTo>
                    <a:lnTo>
                      <a:pt x="8" y="113"/>
                    </a:lnTo>
                    <a:lnTo>
                      <a:pt x="0" y="133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826920" y="5199120"/>
                <a:ext cx="157320" cy="576360"/>
              </a:xfrm>
              <a:custGeom>
                <a:avLst/>
                <a:gdLst/>
                <a:ahLst/>
                <a:rect l="l" t="t" r="r" b="b"/>
                <a:pathLst>
                  <a:path w="99" h="363">
                    <a:moveTo>
                      <a:pt x="98" y="102"/>
                    </a:moveTo>
                    <a:lnTo>
                      <a:pt x="98" y="348"/>
                    </a:lnTo>
                    <a:lnTo>
                      <a:pt x="81" y="362"/>
                    </a:lnTo>
                    <a:lnTo>
                      <a:pt x="81" y="106"/>
                    </a:lnTo>
                    <a:lnTo>
                      <a:pt x="0" y="4"/>
                    </a:lnTo>
                    <a:lnTo>
                      <a:pt x="7" y="0"/>
                    </a:lnTo>
                    <a:lnTo>
                      <a:pt x="98" y="102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Freeform 17"/>
              <p:cNvSpPr/>
              <p:nvPr/>
            </p:nvSpPr>
            <p:spPr>
              <a:xfrm>
                <a:off x="700200" y="510372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Freeform 18"/>
              <p:cNvSpPr/>
              <p:nvPr/>
            </p:nvSpPr>
            <p:spPr>
              <a:xfrm>
                <a:off x="781200" y="5281560"/>
                <a:ext cx="117360" cy="36720"/>
              </a:xfrm>
              <a:custGeom>
                <a:avLst/>
                <a:gdLst/>
                <a:ahLst/>
                <a:rect l="l" t="t" r="r" b="b"/>
                <a:pathLst>
                  <a:path w="74" h="23">
                    <a:moveTo>
                      <a:pt x="0" y="0"/>
                    </a:moveTo>
                    <a:lnTo>
                      <a:pt x="34" y="4"/>
                    </a:lnTo>
                    <a:lnTo>
                      <a:pt x="56" y="10"/>
                    </a:lnTo>
                    <a:lnTo>
                      <a:pt x="73" y="16"/>
                    </a:lnTo>
                    <a:lnTo>
                      <a:pt x="67" y="22"/>
                    </a:lnTo>
                    <a:lnTo>
                      <a:pt x="51" y="14"/>
                    </a:lnTo>
                    <a:lnTo>
                      <a:pt x="27" y="8"/>
                    </a:lnTo>
                    <a:lnTo>
                      <a:pt x="3" y="8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53960" y="5159520"/>
                <a:ext cx="115920" cy="36360"/>
              </a:xfrm>
              <a:custGeom>
                <a:avLst/>
                <a:gdLst/>
                <a:ahLst/>
                <a:rect l="l" t="t" r="r" b="b"/>
                <a:pathLst>
                  <a:path w="73" h="23">
                    <a:moveTo>
                      <a:pt x="72" y="22"/>
                    </a:moveTo>
                    <a:lnTo>
                      <a:pt x="37" y="18"/>
                    </a:lnTo>
                    <a:lnTo>
                      <a:pt x="16" y="12"/>
                    </a:lnTo>
                    <a:lnTo>
                      <a:pt x="0" y="6"/>
                    </a:lnTo>
                    <a:lnTo>
                      <a:pt x="5" y="0"/>
                    </a:lnTo>
                    <a:lnTo>
                      <a:pt x="21" y="8"/>
                    </a:lnTo>
                    <a:lnTo>
                      <a:pt x="45" y="14"/>
                    </a:lnTo>
                    <a:lnTo>
                      <a:pt x="68" y="14"/>
                    </a:lnTo>
                    <a:lnTo>
                      <a:pt x="72" y="22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536400" y="5213520"/>
                <a:ext cx="128880" cy="187200"/>
              </a:xfrm>
              <a:custGeom>
                <a:avLst/>
                <a:gdLst/>
                <a:ahLst/>
                <a:rect l="l" t="t" r="r" b="b"/>
                <a:pathLst>
                  <a:path w="81" h="118">
                    <a:moveTo>
                      <a:pt x="40" y="0"/>
                    </a:moveTo>
                    <a:lnTo>
                      <a:pt x="80" y="4"/>
                    </a:lnTo>
                    <a:lnTo>
                      <a:pt x="65" y="40"/>
                    </a:lnTo>
                    <a:lnTo>
                      <a:pt x="58" y="62"/>
                    </a:lnTo>
                    <a:lnTo>
                      <a:pt x="47" y="82"/>
                    </a:lnTo>
                    <a:lnTo>
                      <a:pt x="40" y="105"/>
                    </a:lnTo>
                    <a:lnTo>
                      <a:pt x="37" y="117"/>
                    </a:lnTo>
                    <a:lnTo>
                      <a:pt x="16" y="114"/>
                    </a:lnTo>
                    <a:lnTo>
                      <a:pt x="0" y="108"/>
                    </a:lnTo>
                    <a:lnTo>
                      <a:pt x="7" y="84"/>
                    </a:lnTo>
                    <a:lnTo>
                      <a:pt x="25" y="60"/>
                    </a:lnTo>
                    <a:lnTo>
                      <a:pt x="29" y="40"/>
                    </a:lnTo>
                    <a:lnTo>
                      <a:pt x="36" y="20"/>
                    </a:lnTo>
                    <a:lnTo>
                      <a:pt x="40" y="0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3232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7840" y="5183280"/>
                <a:ext cx="414000" cy="55440"/>
              </a:xfrm>
              <a:custGeom>
                <a:avLst/>
                <a:gdLst/>
                <a:ahLst/>
                <a:rect l="l" t="t" r="r" b="b"/>
                <a:pathLst>
                  <a:path w="261" h="35">
                    <a:moveTo>
                      <a:pt x="0" y="0"/>
                    </a:moveTo>
                    <a:lnTo>
                      <a:pt x="25" y="10"/>
                    </a:lnTo>
                    <a:lnTo>
                      <a:pt x="66" y="18"/>
                    </a:lnTo>
                    <a:lnTo>
                      <a:pt x="122" y="19"/>
                    </a:lnTo>
                    <a:lnTo>
                      <a:pt x="177" y="19"/>
                    </a:lnTo>
                    <a:lnTo>
                      <a:pt x="218" y="12"/>
                    </a:lnTo>
                    <a:lnTo>
                      <a:pt x="240" y="6"/>
                    </a:lnTo>
                    <a:lnTo>
                      <a:pt x="248" y="0"/>
                    </a:lnTo>
                    <a:lnTo>
                      <a:pt x="260" y="15"/>
                    </a:lnTo>
                    <a:lnTo>
                      <a:pt x="221" y="28"/>
                    </a:lnTo>
                    <a:lnTo>
                      <a:pt x="164" y="34"/>
                    </a:lnTo>
                    <a:lnTo>
                      <a:pt x="98" y="33"/>
                    </a:lnTo>
                    <a:lnTo>
                      <a:pt x="39" y="24"/>
                    </a:lnTo>
                    <a:lnTo>
                      <a:pt x="5" y="9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0" name="Freeform 22"/>
            <p:cNvSpPr/>
            <p:nvPr/>
          </p:nvSpPr>
          <p:spPr>
            <a:xfrm>
              <a:off x="601560" y="3022560"/>
              <a:ext cx="671760" cy="2168640"/>
            </a:xfrm>
            <a:custGeom>
              <a:avLst/>
              <a:gdLst/>
              <a:ahLst/>
              <a:rect l="l" t="t" r="r" b="b"/>
              <a:pathLst>
                <a:path w="423" h="1366">
                  <a:moveTo>
                    <a:pt x="356" y="64"/>
                  </a:moveTo>
                  <a:lnTo>
                    <a:pt x="326" y="163"/>
                  </a:lnTo>
                  <a:lnTo>
                    <a:pt x="292" y="293"/>
                  </a:lnTo>
                  <a:lnTo>
                    <a:pt x="258" y="417"/>
                  </a:lnTo>
                  <a:lnTo>
                    <a:pt x="219" y="585"/>
                  </a:lnTo>
                  <a:lnTo>
                    <a:pt x="168" y="775"/>
                  </a:lnTo>
                  <a:lnTo>
                    <a:pt x="126" y="952"/>
                  </a:lnTo>
                  <a:lnTo>
                    <a:pt x="89" y="1085"/>
                  </a:lnTo>
                  <a:lnTo>
                    <a:pt x="0" y="1362"/>
                  </a:lnTo>
                  <a:lnTo>
                    <a:pt x="29" y="1365"/>
                  </a:lnTo>
                  <a:lnTo>
                    <a:pt x="132" y="1061"/>
                  </a:lnTo>
                  <a:lnTo>
                    <a:pt x="223" y="957"/>
                  </a:lnTo>
                  <a:lnTo>
                    <a:pt x="271" y="866"/>
                  </a:lnTo>
                  <a:lnTo>
                    <a:pt x="308" y="798"/>
                  </a:lnTo>
                  <a:lnTo>
                    <a:pt x="214" y="790"/>
                  </a:lnTo>
                  <a:lnTo>
                    <a:pt x="311" y="782"/>
                  </a:lnTo>
                  <a:lnTo>
                    <a:pt x="325" y="751"/>
                  </a:lnTo>
                  <a:lnTo>
                    <a:pt x="231" y="742"/>
                  </a:lnTo>
                  <a:lnTo>
                    <a:pt x="329" y="738"/>
                  </a:lnTo>
                  <a:lnTo>
                    <a:pt x="344" y="690"/>
                  </a:lnTo>
                  <a:lnTo>
                    <a:pt x="240" y="690"/>
                  </a:lnTo>
                  <a:lnTo>
                    <a:pt x="351" y="664"/>
                  </a:lnTo>
                  <a:lnTo>
                    <a:pt x="387" y="486"/>
                  </a:lnTo>
                  <a:lnTo>
                    <a:pt x="411" y="322"/>
                  </a:lnTo>
                  <a:lnTo>
                    <a:pt x="422" y="197"/>
                  </a:lnTo>
                  <a:lnTo>
                    <a:pt x="422" y="119"/>
                  </a:lnTo>
                  <a:lnTo>
                    <a:pt x="408" y="68"/>
                  </a:lnTo>
                  <a:lnTo>
                    <a:pt x="381" y="0"/>
                  </a:lnTo>
                  <a:lnTo>
                    <a:pt x="356" y="64"/>
                  </a:lnTo>
                </a:path>
              </a:pathLst>
            </a:custGeom>
            <a:gradFill rotWithShape="0">
              <a:gsLst>
                <a:gs pos="0">
                  <a:srgbClr val="323232"/>
                </a:gs>
                <a:gs pos="100000">
                  <a:srgbClr val="8d19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" name="Freeform 23"/>
          <p:cNvSpPr/>
          <p:nvPr/>
        </p:nvSpPr>
        <p:spPr>
          <a:xfrm>
            <a:off x="600120" y="3164040"/>
            <a:ext cx="560520" cy="2022480"/>
          </a:xfrm>
          <a:custGeom>
            <a:avLst/>
            <a:gdLst/>
            <a:ahLst/>
            <a:rect l="l" t="t" r="r" b="b"/>
            <a:pathLst>
              <a:path w="353" h="1274">
                <a:moveTo>
                  <a:pt x="0" y="1272"/>
                </a:moveTo>
                <a:lnTo>
                  <a:pt x="352" y="0"/>
                </a:lnTo>
                <a:lnTo>
                  <a:pt x="26" y="1273"/>
                </a:lnTo>
                <a:lnTo>
                  <a:pt x="0" y="1272"/>
                </a:lnTo>
              </a:path>
            </a:pathLst>
          </a:custGeom>
          <a:gradFill rotWithShape="0">
            <a:gsLst>
              <a:gs pos="0">
                <a:srgbClr val="323232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dt" idx="1"/>
          </p:nvPr>
        </p:nvSpPr>
        <p:spPr>
          <a:xfrm>
            <a:off x="169920" y="6273720"/>
            <a:ext cx="2496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ftr" idx="2"/>
          </p:nvPr>
        </p:nvSpPr>
        <p:spPr>
          <a:xfrm>
            <a:off x="2817720" y="6286680"/>
            <a:ext cx="3578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sldNum" idx="3"/>
          </p:nvPr>
        </p:nvSpPr>
        <p:spPr>
          <a:xfrm>
            <a:off x="6511680" y="6286680"/>
            <a:ext cx="2462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23232"/>
            </a:gs>
            <a:gs pos="100000">
              <a:srgbClr val="66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Freeform 2"/>
          <p:cNvSpPr/>
          <p:nvPr/>
        </p:nvSpPr>
        <p:spPr>
          <a:xfrm>
            <a:off x="1663560" y="3327480"/>
            <a:ext cx="7480440" cy="3087720"/>
          </a:xfrm>
          <a:custGeom>
            <a:avLst/>
            <a:gdLst/>
            <a:ahLst/>
            <a:rect l="l" t="t" r="r" b="b"/>
            <a:pathLst>
              <a:path w="4712" h="1945">
                <a:moveTo>
                  <a:pt x="104" y="1944"/>
                </a:moveTo>
                <a:lnTo>
                  <a:pt x="144" y="1912"/>
                </a:lnTo>
                <a:lnTo>
                  <a:pt x="1320" y="1568"/>
                </a:lnTo>
                <a:lnTo>
                  <a:pt x="2000" y="1264"/>
                </a:lnTo>
                <a:lnTo>
                  <a:pt x="2104" y="1208"/>
                </a:lnTo>
                <a:lnTo>
                  <a:pt x="2312" y="1056"/>
                </a:lnTo>
                <a:lnTo>
                  <a:pt x="2416" y="936"/>
                </a:lnTo>
                <a:lnTo>
                  <a:pt x="2464" y="824"/>
                </a:lnTo>
                <a:lnTo>
                  <a:pt x="3376" y="504"/>
                </a:lnTo>
                <a:lnTo>
                  <a:pt x="3648" y="496"/>
                </a:lnTo>
                <a:lnTo>
                  <a:pt x="4160" y="400"/>
                </a:lnTo>
                <a:lnTo>
                  <a:pt x="4416" y="304"/>
                </a:lnTo>
                <a:lnTo>
                  <a:pt x="4472" y="296"/>
                </a:lnTo>
                <a:lnTo>
                  <a:pt x="4711" y="224"/>
                </a:lnTo>
                <a:lnTo>
                  <a:pt x="4711" y="0"/>
                </a:lnTo>
                <a:lnTo>
                  <a:pt x="2440" y="768"/>
                </a:lnTo>
                <a:lnTo>
                  <a:pt x="2232" y="760"/>
                </a:lnTo>
                <a:lnTo>
                  <a:pt x="1784" y="808"/>
                </a:lnTo>
                <a:lnTo>
                  <a:pt x="1600" y="848"/>
                </a:lnTo>
                <a:lnTo>
                  <a:pt x="760" y="1056"/>
                </a:lnTo>
                <a:lnTo>
                  <a:pt x="0" y="1288"/>
                </a:lnTo>
                <a:lnTo>
                  <a:pt x="104" y="1384"/>
                </a:lnTo>
                <a:lnTo>
                  <a:pt x="104" y="1944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" name="Group 3"/>
          <p:cNvGrpSpPr/>
          <p:nvPr/>
        </p:nvGrpSpPr>
        <p:grpSpPr>
          <a:xfrm>
            <a:off x="123840" y="165240"/>
            <a:ext cx="2471760" cy="6400800"/>
            <a:chOff x="123840" y="165240"/>
            <a:chExt cx="2471760" cy="6400800"/>
          </a:xfrm>
        </p:grpSpPr>
        <p:grpSp>
          <p:nvGrpSpPr>
            <p:cNvPr id="65" name="Group 4"/>
            <p:cNvGrpSpPr/>
            <p:nvPr/>
          </p:nvGrpSpPr>
          <p:grpSpPr>
            <a:xfrm>
              <a:off x="123840" y="4903920"/>
              <a:ext cx="1741320" cy="1662120"/>
              <a:chOff x="123840" y="4903920"/>
              <a:chExt cx="1741320" cy="1662120"/>
            </a:xfrm>
          </p:grpSpPr>
          <p:sp>
            <p:nvSpPr>
              <p:cNvPr id="66" name="Rectangle 5"/>
              <p:cNvSpPr/>
              <p:nvPr/>
            </p:nvSpPr>
            <p:spPr>
              <a:xfrm>
                <a:off x="130320" y="5518080"/>
                <a:ext cx="1722240" cy="814320"/>
              </a:xfrm>
              <a:prstGeom prst="rect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Oval 6"/>
              <p:cNvSpPr/>
              <p:nvPr/>
            </p:nvSpPr>
            <p:spPr>
              <a:xfrm>
                <a:off x="138240" y="6073920"/>
                <a:ext cx="1720800" cy="49212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Oval 7"/>
              <p:cNvSpPr/>
              <p:nvPr/>
            </p:nvSpPr>
            <p:spPr>
              <a:xfrm>
                <a:off x="142920" y="5318280"/>
                <a:ext cx="1722240" cy="331560"/>
              </a:xfrm>
              <a:prstGeom prst="ellipse">
                <a:avLst/>
              </a:pr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AutoShape 8"/>
              <p:cNvSpPr/>
              <p:nvPr/>
            </p:nvSpPr>
            <p:spPr>
              <a:xfrm flipV="1">
                <a:off x="123840" y="5064840"/>
                <a:ext cx="1728720" cy="405000"/>
              </a:xfrm>
              <a:custGeom>
                <a:avLst/>
                <a:gdLst>
                  <a:gd name="textAreaLeft" fmla="*/ 360360 w 1728720"/>
                  <a:gd name="textAreaRight" fmla="*/ 1368360 w 1728720"/>
                  <a:gd name="textAreaTop" fmla="*/ 84240 h 405000"/>
                  <a:gd name="textAreaBottom" fmla="*/ 320760 h 405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5399" y="21600"/>
                    </a:lnTo>
                    <a:lnTo>
                      <a:pt x="16201" y="21600"/>
                    </a:lnTo>
                    <a:lnTo>
                      <a:pt x="2160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Freeform 9"/>
              <p:cNvSpPr/>
              <p:nvPr/>
            </p:nvSpPr>
            <p:spPr>
              <a:xfrm>
                <a:off x="266760" y="5113440"/>
                <a:ext cx="446040" cy="1369800"/>
              </a:xfrm>
              <a:custGeom>
                <a:avLst/>
                <a:gdLst/>
                <a:ahLst/>
                <a:rect l="l" t="t" r="r" b="b"/>
                <a:pathLst>
                  <a:path w="281" h="863">
                    <a:moveTo>
                      <a:pt x="171" y="0"/>
                    </a:moveTo>
                    <a:lnTo>
                      <a:pt x="0" y="241"/>
                    </a:lnTo>
                    <a:lnTo>
                      <a:pt x="0" y="818"/>
                    </a:lnTo>
                    <a:lnTo>
                      <a:pt x="90" y="844"/>
                    </a:lnTo>
                    <a:lnTo>
                      <a:pt x="153" y="853"/>
                    </a:lnTo>
                    <a:lnTo>
                      <a:pt x="230" y="862"/>
                    </a:lnTo>
                    <a:lnTo>
                      <a:pt x="230" y="294"/>
                    </a:lnTo>
                    <a:lnTo>
                      <a:pt x="280" y="21"/>
                    </a:lnTo>
                    <a:lnTo>
                      <a:pt x="256" y="21"/>
                    </a:lnTo>
                    <a:lnTo>
                      <a:pt x="204" y="13"/>
                    </a:lnTo>
                    <a:lnTo>
                      <a:pt x="171" y="0"/>
                    </a:lnTo>
                  </a:path>
                </a:pathLst>
              </a:custGeom>
              <a:gradFill rotWithShape="0">
                <a:gsLst>
                  <a:gs pos="0">
                    <a:srgbClr val="590000"/>
                  </a:gs>
                  <a:gs pos="50000">
                    <a:srgbClr val="323232"/>
                  </a:gs>
                  <a:gs pos="100000">
                    <a:srgbClr val="59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Oval 10"/>
              <p:cNvSpPr/>
              <p:nvPr/>
            </p:nvSpPr>
            <p:spPr>
              <a:xfrm>
                <a:off x="168120" y="5318280"/>
                <a:ext cx="1648080" cy="29988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Freeform 11"/>
              <p:cNvSpPr/>
              <p:nvPr/>
            </p:nvSpPr>
            <p:spPr>
              <a:xfrm>
                <a:off x="353880" y="5176800"/>
                <a:ext cx="209520" cy="1271520"/>
              </a:xfrm>
              <a:custGeom>
                <a:avLst/>
                <a:gdLst/>
                <a:ahLst/>
                <a:rect l="l" t="t" r="r" b="b"/>
                <a:pathLst>
                  <a:path w="132" h="801">
                    <a:moveTo>
                      <a:pt x="0" y="254"/>
                    </a:moveTo>
                    <a:lnTo>
                      <a:pt x="0" y="795"/>
                    </a:lnTo>
                    <a:lnTo>
                      <a:pt x="40" y="800"/>
                    </a:lnTo>
                    <a:lnTo>
                      <a:pt x="40" y="263"/>
                    </a:lnTo>
                    <a:lnTo>
                      <a:pt x="131" y="8"/>
                    </a:lnTo>
                    <a:lnTo>
                      <a:pt x="114" y="0"/>
                    </a:lnTo>
                    <a:lnTo>
                      <a:pt x="0" y="254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Freeform 12"/>
              <p:cNvSpPr/>
              <p:nvPr/>
            </p:nvSpPr>
            <p:spPr>
              <a:xfrm>
                <a:off x="1450800" y="5141880"/>
                <a:ext cx="389160" cy="1265400"/>
              </a:xfrm>
              <a:custGeom>
                <a:avLst/>
                <a:gdLst/>
                <a:ahLst/>
                <a:rect l="l" t="t" r="r" b="b"/>
                <a:pathLst>
                  <a:path w="245" h="797">
                    <a:moveTo>
                      <a:pt x="244" y="224"/>
                    </a:moveTo>
                    <a:lnTo>
                      <a:pt x="244" y="765"/>
                    </a:lnTo>
                    <a:lnTo>
                      <a:pt x="203" y="796"/>
                    </a:lnTo>
                    <a:lnTo>
                      <a:pt x="203" y="233"/>
                    </a:lnTo>
                    <a:lnTo>
                      <a:pt x="0" y="8"/>
                    </a:lnTo>
                    <a:lnTo>
                      <a:pt x="18" y="0"/>
                    </a:lnTo>
                    <a:lnTo>
                      <a:pt x="244" y="224"/>
                    </a:lnTo>
                  </a:path>
                </a:pathLst>
              </a:custGeom>
              <a:solidFill>
                <a:srgbClr val="3232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74" name="Group 13"/>
              <p:cNvGrpSpPr/>
              <p:nvPr/>
            </p:nvGrpSpPr>
            <p:grpSpPr>
              <a:xfrm>
                <a:off x="466560" y="4903920"/>
                <a:ext cx="1055880" cy="293400"/>
                <a:chOff x="466560" y="4903920"/>
                <a:chExt cx="1055880" cy="293400"/>
              </a:xfrm>
            </p:grpSpPr>
            <p:sp>
              <p:nvSpPr>
                <p:cNvPr id="75" name="Oval 14"/>
                <p:cNvSpPr/>
                <p:nvPr/>
              </p:nvSpPr>
              <p:spPr>
                <a:xfrm>
                  <a:off x="466560" y="4903920"/>
                  <a:ext cx="1055880" cy="2934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5"/>
                <p:cNvSpPr/>
                <p:nvPr/>
              </p:nvSpPr>
              <p:spPr>
                <a:xfrm>
                  <a:off x="474840" y="4903920"/>
                  <a:ext cx="1031760" cy="244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6"/>
                <p:cNvSpPr/>
                <p:nvPr/>
              </p:nvSpPr>
              <p:spPr>
                <a:xfrm>
                  <a:off x="563400" y="4938840"/>
                  <a:ext cx="879480" cy="156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90000"/>
                    </a:gs>
                    <a:gs pos="50000">
                      <a:srgbClr val="323232"/>
                    </a:gs>
                    <a:gs pos="100000">
                      <a:srgbClr val="590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78" name="Freeform 17"/>
              <p:cNvSpPr/>
              <p:nvPr/>
            </p:nvSpPr>
            <p:spPr>
              <a:xfrm>
                <a:off x="195120" y="5499000"/>
                <a:ext cx="511200" cy="120600"/>
              </a:xfrm>
              <a:custGeom>
                <a:avLst/>
                <a:gdLst/>
                <a:ahLst/>
                <a:rect l="l" t="t" r="r" b="b"/>
                <a:pathLst>
                  <a:path w="322" h="76">
                    <a:moveTo>
                      <a:pt x="0" y="0"/>
                    </a:moveTo>
                    <a:lnTo>
                      <a:pt x="49" y="30"/>
                    </a:lnTo>
                    <a:lnTo>
                      <a:pt x="85" y="44"/>
                    </a:lnTo>
                    <a:lnTo>
                      <a:pt x="153" y="61"/>
                    </a:lnTo>
                    <a:lnTo>
                      <a:pt x="212" y="70"/>
                    </a:lnTo>
                    <a:lnTo>
                      <a:pt x="275" y="75"/>
                    </a:lnTo>
                    <a:lnTo>
                      <a:pt x="321" y="70"/>
                    </a:lnTo>
                    <a:lnTo>
                      <a:pt x="248" y="61"/>
                    </a:lnTo>
                    <a:lnTo>
                      <a:pt x="171" y="44"/>
                    </a:lnTo>
                    <a:lnTo>
                      <a:pt x="94" y="22"/>
                    </a:lnTo>
                    <a:lnTo>
                      <a:pt x="31" y="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Freeform 18"/>
              <p:cNvSpPr/>
              <p:nvPr/>
            </p:nvSpPr>
            <p:spPr>
              <a:xfrm>
                <a:off x="1135080" y="4906800"/>
                <a:ext cx="287280" cy="7812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Freeform 19"/>
              <p:cNvSpPr/>
              <p:nvPr/>
            </p:nvSpPr>
            <p:spPr>
              <a:xfrm>
                <a:off x="1336680" y="530532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0" y="0"/>
                    </a:moveTo>
                    <a:lnTo>
                      <a:pt x="85" y="8"/>
                    </a:lnTo>
                    <a:lnTo>
                      <a:pt x="139" y="21"/>
                    </a:lnTo>
                    <a:lnTo>
                      <a:pt x="180" y="34"/>
                    </a:lnTo>
                    <a:lnTo>
                      <a:pt x="166" y="48"/>
                    </a:lnTo>
                    <a:lnTo>
                      <a:pt x="126" y="30"/>
                    </a:lnTo>
                    <a:lnTo>
                      <a:pt x="67" y="17"/>
                    </a:lnTo>
                    <a:lnTo>
                      <a:pt x="9" y="17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Freeform 20"/>
              <p:cNvSpPr/>
              <p:nvPr/>
            </p:nvSpPr>
            <p:spPr>
              <a:xfrm>
                <a:off x="511200" y="5040360"/>
                <a:ext cx="287280" cy="77760"/>
              </a:xfrm>
              <a:custGeom>
                <a:avLst/>
                <a:gdLst/>
                <a:ahLst/>
                <a:rect l="l" t="t" r="r" b="b"/>
                <a:pathLst>
                  <a:path w="181" h="49">
                    <a:moveTo>
                      <a:pt x="180" y="48"/>
                    </a:moveTo>
                    <a:lnTo>
                      <a:pt x="94" y="39"/>
                    </a:lnTo>
                    <a:lnTo>
                      <a:pt x="40" y="26"/>
                    </a:lnTo>
                    <a:lnTo>
                      <a:pt x="0" y="13"/>
                    </a:lnTo>
                    <a:lnTo>
                      <a:pt x="13" y="0"/>
                    </a:lnTo>
                    <a:lnTo>
                      <a:pt x="54" y="17"/>
                    </a:lnTo>
                    <a:lnTo>
                      <a:pt x="112" y="30"/>
                    </a:lnTo>
                    <a:lnTo>
                      <a:pt x="171" y="30"/>
                    </a:lnTo>
                    <a:lnTo>
                      <a:pt x="180" y="48"/>
                    </a:lnTo>
                  </a:path>
                </a:pathLst>
              </a:custGeom>
              <a:gradFill rotWithShape="0">
                <a:gsLst>
                  <a:gs pos="0">
                    <a:srgbClr val="323232"/>
                  </a:gs>
                  <a:gs pos="50000">
                    <a:srgbClr val="ffffff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Freeform 21"/>
              <p:cNvSpPr/>
              <p:nvPr/>
            </p:nvSpPr>
            <p:spPr>
              <a:xfrm>
                <a:off x="819000" y="5197320"/>
                <a:ext cx="317520" cy="365400"/>
              </a:xfrm>
              <a:custGeom>
                <a:avLst/>
                <a:gdLst/>
                <a:ahLst/>
                <a:rect l="l" t="t" r="r" b="b"/>
                <a:pathLst>
                  <a:path w="200" h="230">
                    <a:moveTo>
                      <a:pt x="104" y="4"/>
                    </a:moveTo>
                    <a:lnTo>
                      <a:pt x="199" y="0"/>
                    </a:lnTo>
                    <a:lnTo>
                      <a:pt x="162" y="79"/>
                    </a:lnTo>
                    <a:lnTo>
                      <a:pt x="144" y="127"/>
                    </a:lnTo>
                    <a:lnTo>
                      <a:pt x="117" y="171"/>
                    </a:lnTo>
                    <a:lnTo>
                      <a:pt x="104" y="229"/>
                    </a:lnTo>
                    <a:lnTo>
                      <a:pt x="0" y="229"/>
                    </a:lnTo>
                    <a:lnTo>
                      <a:pt x="18" y="176"/>
                    </a:lnTo>
                    <a:lnTo>
                      <a:pt x="63" y="123"/>
                    </a:lnTo>
                    <a:lnTo>
                      <a:pt x="72" y="79"/>
                    </a:lnTo>
                    <a:lnTo>
                      <a:pt x="90" y="35"/>
                    </a:lnTo>
                    <a:lnTo>
                      <a:pt x="104" y="4"/>
                    </a:lnTo>
                  </a:path>
                </a:pathLst>
              </a:custGeom>
              <a:gradFill rotWithShape="0">
                <a:gsLst>
                  <a:gs pos="0">
                    <a:srgbClr val="b36666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83" name="Group 22"/>
            <p:cNvGrpSpPr/>
            <p:nvPr/>
          </p:nvGrpSpPr>
          <p:grpSpPr>
            <a:xfrm>
              <a:off x="1000080" y="165240"/>
              <a:ext cx="1595520" cy="4890960"/>
              <a:chOff x="1000080" y="165240"/>
              <a:chExt cx="1595520" cy="4890960"/>
            </a:xfrm>
          </p:grpSpPr>
          <p:sp>
            <p:nvSpPr>
              <p:cNvPr id="84" name="Freeform 23"/>
              <p:cNvSpPr/>
              <p:nvPr/>
            </p:nvSpPr>
            <p:spPr>
              <a:xfrm>
                <a:off x="1386000" y="165240"/>
                <a:ext cx="1209600" cy="3676680"/>
              </a:xfrm>
              <a:custGeom>
                <a:avLst/>
                <a:gdLst/>
                <a:ahLst/>
                <a:rect l="l" t="t" r="r" b="b"/>
                <a:pathLst>
                  <a:path w="762" h="2316">
                    <a:moveTo>
                      <a:pt x="598" y="140"/>
                    </a:moveTo>
                    <a:lnTo>
                      <a:pt x="523" y="358"/>
                    </a:lnTo>
                    <a:lnTo>
                      <a:pt x="440" y="644"/>
                    </a:lnTo>
                    <a:lnTo>
                      <a:pt x="354" y="916"/>
                    </a:lnTo>
                    <a:lnTo>
                      <a:pt x="257" y="1286"/>
                    </a:lnTo>
                    <a:lnTo>
                      <a:pt x="130" y="1703"/>
                    </a:lnTo>
                    <a:lnTo>
                      <a:pt x="51" y="2079"/>
                    </a:lnTo>
                    <a:lnTo>
                      <a:pt x="15" y="2224"/>
                    </a:lnTo>
                    <a:lnTo>
                      <a:pt x="0" y="2315"/>
                    </a:lnTo>
                    <a:lnTo>
                      <a:pt x="63" y="2264"/>
                    </a:lnTo>
                    <a:lnTo>
                      <a:pt x="268" y="2103"/>
                    </a:lnTo>
                    <a:lnTo>
                      <a:pt x="124" y="2084"/>
                    </a:lnTo>
                    <a:lnTo>
                      <a:pt x="286" y="2088"/>
                    </a:lnTo>
                    <a:lnTo>
                      <a:pt x="313" y="2040"/>
                    </a:lnTo>
                    <a:lnTo>
                      <a:pt x="135" y="2042"/>
                    </a:lnTo>
                    <a:lnTo>
                      <a:pt x="322" y="2022"/>
                    </a:lnTo>
                    <a:lnTo>
                      <a:pt x="372" y="1941"/>
                    </a:lnTo>
                    <a:lnTo>
                      <a:pt x="162" y="1945"/>
                    </a:lnTo>
                    <a:lnTo>
                      <a:pt x="379" y="1923"/>
                    </a:lnTo>
                    <a:lnTo>
                      <a:pt x="426" y="1837"/>
                    </a:lnTo>
                    <a:lnTo>
                      <a:pt x="480" y="1712"/>
                    </a:lnTo>
                    <a:lnTo>
                      <a:pt x="526" y="1569"/>
                    </a:lnTo>
                    <a:lnTo>
                      <a:pt x="246" y="1587"/>
                    </a:lnTo>
                    <a:lnTo>
                      <a:pt x="530" y="1545"/>
                    </a:lnTo>
                    <a:lnTo>
                      <a:pt x="546" y="1497"/>
                    </a:lnTo>
                    <a:lnTo>
                      <a:pt x="284" y="1530"/>
                    </a:lnTo>
                    <a:lnTo>
                      <a:pt x="557" y="1475"/>
                    </a:lnTo>
                    <a:lnTo>
                      <a:pt x="602" y="1308"/>
                    </a:lnTo>
                    <a:lnTo>
                      <a:pt x="372" y="1358"/>
                    </a:lnTo>
                    <a:lnTo>
                      <a:pt x="611" y="1277"/>
                    </a:lnTo>
                    <a:lnTo>
                      <a:pt x="636" y="1204"/>
                    </a:lnTo>
                    <a:lnTo>
                      <a:pt x="381" y="1283"/>
                    </a:lnTo>
                    <a:lnTo>
                      <a:pt x="639" y="1182"/>
                    </a:lnTo>
                    <a:lnTo>
                      <a:pt x="654" y="1127"/>
                    </a:lnTo>
                    <a:lnTo>
                      <a:pt x="695" y="958"/>
                    </a:lnTo>
                    <a:lnTo>
                      <a:pt x="503" y="1042"/>
                    </a:lnTo>
                    <a:lnTo>
                      <a:pt x="700" y="923"/>
                    </a:lnTo>
                    <a:lnTo>
                      <a:pt x="758" y="679"/>
                    </a:lnTo>
                    <a:lnTo>
                      <a:pt x="541" y="743"/>
                    </a:lnTo>
                    <a:lnTo>
                      <a:pt x="758" y="655"/>
                    </a:lnTo>
                    <a:lnTo>
                      <a:pt x="758" y="479"/>
                    </a:lnTo>
                    <a:lnTo>
                      <a:pt x="575" y="560"/>
                    </a:lnTo>
                    <a:lnTo>
                      <a:pt x="761" y="433"/>
                    </a:lnTo>
                    <a:lnTo>
                      <a:pt x="761" y="261"/>
                    </a:lnTo>
                    <a:lnTo>
                      <a:pt x="727" y="149"/>
                    </a:lnTo>
                    <a:lnTo>
                      <a:pt x="661" y="0"/>
                    </a:lnTo>
                    <a:lnTo>
                      <a:pt x="598" y="140"/>
                    </a:lnTo>
                  </a:path>
                </a:pathLst>
              </a:custGeom>
              <a:gradFill rotWithShape="0">
                <a:gsLst>
                  <a:gs pos="0">
                    <a:srgbClr val="a64c4c"/>
                  </a:gs>
                  <a:gs pos="100000">
                    <a:srgbClr val="32323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Freeform 24"/>
              <p:cNvSpPr/>
              <p:nvPr/>
            </p:nvSpPr>
            <p:spPr>
              <a:xfrm>
                <a:off x="1000080" y="181080"/>
                <a:ext cx="1452600" cy="4875120"/>
              </a:xfrm>
              <a:custGeom>
                <a:avLst/>
                <a:gdLst/>
                <a:ahLst/>
                <a:rect l="l" t="t" r="r" b="b"/>
                <a:pathLst>
                  <a:path w="915" h="3071">
                    <a:moveTo>
                      <a:pt x="0" y="3070"/>
                    </a:moveTo>
                    <a:lnTo>
                      <a:pt x="372" y="1696"/>
                    </a:lnTo>
                    <a:lnTo>
                      <a:pt x="432" y="1458"/>
                    </a:lnTo>
                    <a:lnTo>
                      <a:pt x="484" y="1276"/>
                    </a:lnTo>
                    <a:lnTo>
                      <a:pt x="570" y="982"/>
                    </a:lnTo>
                    <a:lnTo>
                      <a:pt x="670" y="658"/>
                    </a:lnTo>
                    <a:lnTo>
                      <a:pt x="782" y="316"/>
                    </a:lnTo>
                    <a:lnTo>
                      <a:pt x="844" y="144"/>
                    </a:lnTo>
                    <a:lnTo>
                      <a:pt x="888" y="42"/>
                    </a:lnTo>
                    <a:lnTo>
                      <a:pt x="914" y="0"/>
                    </a:lnTo>
                    <a:lnTo>
                      <a:pt x="866" y="116"/>
                    </a:lnTo>
                    <a:lnTo>
                      <a:pt x="806" y="296"/>
                    </a:lnTo>
                    <a:lnTo>
                      <a:pt x="520" y="1230"/>
                    </a:lnTo>
                    <a:lnTo>
                      <a:pt x="442" y="1518"/>
                    </a:lnTo>
                    <a:lnTo>
                      <a:pt x="378" y="1774"/>
                    </a:lnTo>
                    <a:lnTo>
                      <a:pt x="314" y="2028"/>
                    </a:lnTo>
                    <a:lnTo>
                      <a:pt x="266" y="2238"/>
                    </a:lnTo>
                    <a:lnTo>
                      <a:pt x="258" y="2294"/>
                    </a:lnTo>
                    <a:lnTo>
                      <a:pt x="186" y="2558"/>
                    </a:lnTo>
                    <a:lnTo>
                      <a:pt x="50" y="3070"/>
                    </a:lnTo>
                    <a:lnTo>
                      <a:pt x="0" y="3070"/>
                    </a:lnTo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100000">
                    <a:srgbClr val="323232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4"/>
          </p:nvPr>
        </p:nvSpPr>
        <p:spPr>
          <a:xfrm>
            <a:off x="228600" y="6261120"/>
            <a:ext cx="2527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5"/>
          </p:nvPr>
        </p:nvSpPr>
        <p:spPr>
          <a:xfrm>
            <a:off x="2925720" y="6272280"/>
            <a:ext cx="345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443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90080" y="4357440"/>
            <a:ext cx="8775720" cy="18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читель русского языка и литератур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Чуткина Наталия Еевгеньев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2520" y="856800"/>
            <a:ext cx="8802720" cy="235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А.С.Пушкин «Евгений Онегин»</a:t>
            </a: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(вводный урок)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9 класс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Литературная полемика вокруг романа.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211640" y="1989000"/>
            <a:ext cx="4680000" cy="41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« Евгений Онегин» –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энциклопедия русской жиз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2" name="Picture 9" descr="Белинский Виссарион Григорьевич"/>
          <p:cNvPicPr/>
          <p:nvPr/>
        </p:nvPicPr>
        <p:blipFill>
          <a:blip r:embed="rId1"/>
          <a:stretch/>
        </p:blipFill>
        <p:spPr>
          <a:xfrm>
            <a:off x="1763640" y="1413000"/>
            <a:ext cx="2232000" cy="280800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10"/>
          <p:cNvSpPr/>
          <p:nvPr/>
        </p:nvSpPr>
        <p:spPr>
          <a:xfrm>
            <a:off x="5724360" y="486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190080" y="259920"/>
            <a:ext cx="8775720" cy="6193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страдающий эгоист», которого душат «бездеятельность и пошлость жизн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.Г.Белински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умная ненужность», герой времени, которого постоянно находишь возле себя или в самом себ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ерце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В Онегине есть сходство с Обломовым, оба – порождение помещичье – крепостнического стро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Добролюбо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негин – «Митрофанушка Простаков новой формации»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исарев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Выводы: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Полемика связана с образом Евгения Онегин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Блиц - опрос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524800" cy="506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Где, по словам Пушкина, родился  Онеги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уда мусье водил гулять юного Онеги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го экономиста читал Онегин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На каком языке было написано письмо Татьяны Онегину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ое время года больше всего любила Татьяна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Как звали отца Ольги и Татьяны Лариных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ткуда в деревню прибыл  Ленский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исать свое представление об Онегине (1 р.), Ленском (2 р.), Татьяне (3 р.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9" descr="Пушкин Александр Сергеевич"/>
          <p:cNvPicPr/>
          <p:nvPr/>
        </p:nvPicPr>
        <p:blipFill>
          <a:blip r:embed="rId1"/>
          <a:stretch/>
        </p:blipFill>
        <p:spPr>
          <a:xfrm>
            <a:off x="2000160" y="1000080"/>
            <a:ext cx="5457960" cy="558972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82520" y="122400"/>
            <a:ext cx="8802720" cy="87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«Это моё лучшее творение» 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122040"/>
            <a:ext cx="5905440" cy="17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ded1"/>
                </a:solidFill>
                <a:latin typeface="Times New Roman"/>
              </a:rPr>
              <a:t>С «Евгения Онегина» начинается история русского </a:t>
            </a:r>
            <a:r>
              <a:rPr b="0" i="1" lang="ru-RU" sz="3600" spc="-1" strike="noStrike">
                <a:solidFill>
                  <a:srgbClr val="e3ded1"/>
                </a:solidFill>
                <a:latin typeface="Times New Roman"/>
              </a:rPr>
              <a:t>реалистического</a:t>
            </a:r>
            <a:r>
              <a:rPr b="0" lang="ru-RU" sz="3600" spc="-1" strike="noStrike">
                <a:solidFill>
                  <a:srgbClr val="e3ded1"/>
                </a:solidFill>
                <a:latin typeface="Times New Roman"/>
              </a:rPr>
              <a:t> романа</a:t>
            </a:r>
            <a:endParaRPr b="0" lang="en-US" sz="3600" spc="-1" strike="noStrike">
              <a:solidFill>
                <a:srgbClr val="e3ded1"/>
              </a:solidFill>
              <a:latin typeface="Times New Roman"/>
            </a:endParaRPr>
          </a:p>
        </p:txBody>
      </p:sp>
      <p:pic>
        <p:nvPicPr>
          <p:cNvPr id="139" name="Picture 6" descr=" "/>
          <p:cNvPicPr/>
          <p:nvPr/>
        </p:nvPicPr>
        <p:blipFill>
          <a:blip r:embed="rId1"/>
          <a:stretch/>
        </p:blipFill>
        <p:spPr>
          <a:xfrm>
            <a:off x="3132000" y="1989000"/>
            <a:ext cx="30402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120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   </a:t>
            </a: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Реализм  (от позднелатинского</a:t>
            </a:r>
            <a:r>
              <a:rPr b="0" lang="en-US" sz="4000" spc="-1" strike="noStrike">
                <a:solidFill>
                  <a:srgbClr val="e3ded1"/>
                </a:solidFill>
                <a:latin typeface="Times New Roman"/>
              </a:rPr>
              <a:t> realis – </a:t>
            </a: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вещественный)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547640" y="2349000"/>
            <a:ext cx="7274160" cy="34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Художественный метод в искусстве и литературе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Литературное направление, утвердившееся в русской литературе в начале 19 столети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300880" cy="575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Ф. Энгельс: «… реализм предполагает, помимо правдивости деталей, правдивое воспроизведение типичных характеров  в типичных обстоятельствах».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«Не роман, а роман в стихах»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pic>
        <p:nvPicPr>
          <p:cNvPr id="144" name="Picture 4" descr="oblozka"/>
          <p:cNvPicPr/>
          <p:nvPr/>
        </p:nvPicPr>
        <p:blipFill>
          <a:blip r:embed="rId1"/>
          <a:stretch/>
        </p:blipFill>
        <p:spPr>
          <a:xfrm>
            <a:off x="3308400" y="1778040"/>
            <a:ext cx="25398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Работа над романом заняла </a:t>
            </a:r>
            <a:br>
              <a:rPr sz="4000"/>
            </a:br>
            <a:r>
              <a:rPr b="0" lang="ru-RU" sz="4000" spc="-1" strike="noStrike">
                <a:solidFill>
                  <a:srgbClr val="e3ded1"/>
                </a:solidFill>
                <a:latin typeface="Times New Roman"/>
              </a:rPr>
              <a:t>7лет, 4 месяца, 17 дней.</a:t>
            </a:r>
            <a:endParaRPr b="0" lang="en-US" sz="40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080" y="1447920"/>
            <a:ext cx="8775720" cy="477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Хандра (Кишинёв, Одесса) – 1823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эт (Одесса) – 1824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арышня (Одесса, Михайловское) – 1824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еревня (Михайловское) – 1825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менины (Михайловское) – 1825-1826 год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единок (Михайловское) – 1826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сква (Михайловское, П/Б) – 1827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транствие (Москва, Болдино) – 1829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Большой свет (Болдино) – 1830 го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47280" y="404280"/>
            <a:ext cx="6696360" cy="525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e3ded1"/>
                </a:solidFill>
                <a:latin typeface="Times New Roman"/>
              </a:rPr>
              <a:t>???    </a:t>
            </a:r>
            <a:br>
              <a:rPr sz="7200"/>
            </a:b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Какие периоды творческого развития Пушкина охватывает работа над романом?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82520" y="122040"/>
            <a:ext cx="880272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3ded1"/>
                </a:solidFill>
                <a:latin typeface="Times New Roman"/>
              </a:rPr>
              <a:t>Публикация:</a:t>
            </a:r>
            <a:endParaRPr b="0" lang="en-US" sz="4400" spc="-1" strike="noStrike">
              <a:solidFill>
                <a:srgbClr val="e3ded1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484360" y="1447920"/>
            <a:ext cx="5616720" cy="4502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1 глава – 1825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2 глава – 1826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3 глава – 1827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4, 5 главы – начало 1828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6 глава – март  1828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7 глава – март 1830 год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8 глава – 1832 го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19T18:02:02Z</dcterms:created>
  <dc:creator>comp</dc:creator>
  <dc:description/>
  <cp:keywords/>
  <dc:language>en-US</dc:language>
  <cp:lastModifiedBy>HOME</cp:lastModifiedBy>
  <dcterms:modified xsi:type="dcterms:W3CDTF">2017-12-11T17:49:55Z</dcterms:modified>
  <cp:revision>16</cp:revision>
  <dc:subject/>
  <dc:title>Роман А.С. Пушкина «Евгений Онегин»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90591049</vt:lpwstr>
  </property>
</Properties>
</file>