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D83-86AD-42E5-B566-880A66BA9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14A-4247-414A-93C1-668DC080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AB4-145D-466E-A89C-C00FA5A9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CB89-DC02-4C78-98A6-05431AD4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BD1A-2B6F-46C0-833D-EC3F65F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2F99-A07C-45DC-A170-753F5328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868-B166-4637-97A0-5B50FBDE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8D4-DC74-4B82-9873-FD279579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F89-A146-43E9-972C-6DDCB28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9EE-EC2B-4F66-A0EB-60EE7CA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C5B-E45E-4DC4-8CA1-C5D0D3C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9F5-3F27-4A9D-BA10-BF6F4DA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515D-D609-43DA-A32C-F9EBA91ACA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1125360"/>
            <a:ext cx="820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 на уроках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26920" y="5229360"/>
            <a:ext cx="5616360" cy="24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755640" y="33465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«Чтобы сделать ребенка умным и рассудительным, сделайте его крепким и здоровым»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Ж. Ж. Русс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девочка с книгой"/>
          <p:cNvPicPr/>
          <p:nvPr/>
        </p:nvPicPr>
        <p:blipFill>
          <a:blip r:embed="rId1"/>
          <a:stretch/>
        </p:blipFill>
        <p:spPr>
          <a:xfrm>
            <a:off x="0" y="5086440"/>
            <a:ext cx="1825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50560" y="189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алеко не всем учащимся легко дается математика, поэтому необходимо проводить работу по профилактике стре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, как на местах так и у доски, где ведомый, более «слабый» ученик чувствует поддержку товарищ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оценке выполненной работы необходимо учитывать не только полученный результат, но и степень усердия учени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рганизация урока математики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Составные части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ая (1-3 минуты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бы создать благоприятный настрой необходимо сказать несколько приятных слов класс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успокоить перевозбужденный класс можно провести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«выдох»: «Надувание воздушного шарика», «Сдувать пушинку с ладон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«разбудить» вялый класс провести упражнения на «вдох»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Нюхать что – то приятное» и т. 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ребята приходят уставшие, после предыдущих уроков, провести гимнастику для снятия усталости: поднимите плечи, разверните и отпустите их. Сделайте так несколько раз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бы взбодриться сделаем следующие упражнени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) Сложите ладони перед грудью, быстро-быстро потрите друг о дружку, это упражнение способствует поднятию энергии и работы всех внутренних органов, так как на ладонях находится много биологически активных зон и точе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Раздвиньте указательный и средний пальцы на обеих руках, просуньте между ними уши и с силой растирайте кожу. Этот массаж улучшит зрение и активизиру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ту головного мозг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(30-35 минут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ходя из динамики работоспособности на уроке, нужно выбра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авильное время для физ. пауз и провести упраж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Заключительная (2 - 3 минуты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ение итогов, объяснение домашнего задания, ответы на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 надо завершить спокой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ащиеся должны иметь возможность задать учителю вопросы, учитель комментирует задание, учитель и учащиеся прощаютс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тивирование учащихся на уроках (минутка здоровь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мнастика ума (занимательные задачи о здоровь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часть урока (включает 4-7 видов деятельности, физкультминутки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машнее задание (дифференцированное, с комментарием учител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доброжелательной обстановк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жительный эмоциональный наст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гая дозировка учебной нагрузк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мена (4-7) видов деятельно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урока с учетом работоспособности учащих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людение гигиенических требований (свежий воздух, оптимальный тепловой режим, хорошая освещенность, чисто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е технолог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агоприятный эмоциональный настро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ение физкультминуток и динамических пауз на урок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тистрессовым моментом на уроке является стимулирование учащихся к использованию различных способов решения, без боязни ошибиться, получить неправильный отв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ие результаты дает работа в парах, в группах как на местах, так и у доски, более “слабый” ученик чувствует поддержк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онце урока нужно обсудить не только то, что усвоено нового, но выяснить, что понравилось на уроке, какие вопросы хотелось бы повторить, задания какого типа выполнит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ешняя мотивация: оценка, похвала, поддержка, соревновательный мето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но следить за осанкой во время уро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изко наклонять голов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прягать и поднимать плеч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на поджатой под себя ноге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деть, скрестив ног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Е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ремя работы – локти должны лежать на столе, а спина быть прям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Упражнения для гл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19700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Вертикальные движения глаз вверх-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Горизонтальное вправо-в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Вращение глазами по часовой стрелке и проти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Закрыть глаза и представить по очереди цвета радуги как можно отчетливе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На доске до начала урока начертить какую-либо кривую (спираль, окружность, ломаную);предлагается глазами «нарисовать» эти фигуры несколько раз в одном, а затем в другом направлен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1042920" y="5013360"/>
            <a:ext cx="33433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Обман  зрения - оптические иллюз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5904000" cy="41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79280" y="1844640"/>
            <a:ext cx="87854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определению Всемирной организации здравоохранения, здоровье – это состояние полного физического, психического и социального благополучия, а не только отсутствие болезней или физических дефектов. Здоровьесберегающие технологии можно рассматривать как одну из самых перспективных образовательных систем 21 века, и как совокупность приемов, форм и методов организации обучения школьников, без ущерба для их здоровья, и как качественную характеристику любой педагогической технологии по критерию ее воздействия на здоровье учащихся и педагог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3635280" y="44280"/>
            <a:ext cx="194652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Параллельны ли горизонтальные линии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ассирование биологически активных точ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ысячи биологически активных точек на ухе известно в настоящее время, поэтому, массируя их, можно апосредовательно воздействовать на весь организм. Нужно стараться так помассировать ушные раковины, чтобы уши «горели». Упражнение можно выполнять в такой последовательно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Потягивание за мочки сверху вни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Потягивание ушной раковины ввер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Потягивание ушной раковины к наруж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Круговые движения ушной раковины по часовой стрелке и проти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 гимнас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крестные движе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азвивает память, активизирует оба полушария мозга). Поднимая согнутую в колене правую ногу,  коснитесь ею левого локтя и наоборот. Упражнение делается сначала медленно, затем темп убыстряе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вадрат – треуголь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активизирует полушария). Левой рукой в воздухе рисовать квадрат, а правой треугольник и наоборо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928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зговая гимнастика (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продолжение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8280"/>
            <a:ext cx="89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о-нос  (активизирует полушария). Обеими руками дотронуться: левой до носа, правой  до левого уха, хлопнуть в ладоши, затем дотронуться левой до правого уха, правой – до носа. Делать упражнение, убыстряя тем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чание головой (улучшает мыслительную деятельность, чтение). Дышите глубоко, расслабьте плечи и уроните голову вперед. Позвольте голове медленно качаться из стороны в сторону, пока при помощи дыхания уходит напряжение, подбородок вычерчивает слегка изогнутую линию на груди по мере расслабления ше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, связанные со здоровом образом жиз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уроках можно использовать задачи, содержащие сведения о здоровом образе жизни. Они призваны заинтересовать учащихся вопросами устройства тела человека, а учитель по ходу выполнения заданий может помогать систематизации зна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мотрим примеры  задач, которые непосредственно связаны с понятиями “знание своего тела”, “гигиена тела”, “правильное питание”, “здоровый образ жизни”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зопасное поведение на дорогах”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-33480"/>
            <a:ext cx="8158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764640"/>
            <a:ext cx="8856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оясничном, крестцовом и копчиковом отделах позвоночника позвонков поровну. В грудном отделе их на семь больше, чем в поясничном, а в шейном отделе – на пять меньше, чем в грудном. Сколько позвонков в каждом отделе позвоночника, если всего их 32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из чисел на 0,3 больше другого. 60% большего числа на 0,03 больше, чем 70% меньшего числа. Найдите эти числа и узнайте, какова суточная потребность организма в витаминах В1 и В2 в миллиграмм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на 42 меньше, чем другое. Если первое число увеличить в 4,5 раза, а ко второму прибавить 28, то их сумма будет равна 180. Найдите эти числа, и вы узнаете, сколько лет полноценной жизни забирает табак у курильщиков и сколько лет в среднем живут в России мужчи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дно число в два раза больше другого. Если большее из этих чисел умножить на два, а меньшее умножить на четыре, то их сумма будет равна 48. Найдите эти числа. Меньшее из них покажет вам, сколько минут жизни забирает одна сигар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Рассмотрите диаграмму и ответьте на 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10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4470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Математические физкультминут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3640" y="764640"/>
            <a:ext cx="813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изучении правильных и неправильных дробей учитель предлагает во время физкультминутки следующее упражн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и встают, руки вытянуты вперед; задание: если учитель назовет правильную дробь, ученики поднимают руки вверх, можно при этом подняться на носки, потянуться; если неправильную – руки опускают вниз с наклоном и расслаблени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 10-11 классе полезно предлагать учащимся представлять стереометрические модели, мысленно поворачивая их, рассматривая со всех сторон. Стараться представить модель как можно более четко, удерживать ее перед мысленным взором в течение нескольких мин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1890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чень важно развить воображение учеников. С этой целью выполняется следующее упражнение. После введения нового материала, хорового прочтения нового термина ученикам предлагается закрыть глаза и представить, что нос вырос, как у Буратино, обмакнуть его, как в сказке, в чернила и написать как можно красивее носом в воздухе этот новый термин, это можно сделать только мысленно или с движением головы; зафиксировать перед глазами записанное слово, запомнить ег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58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ногие ребята легко отвлекаются. С целью концентрации внимания устный счет в 5-6 классах можно проводить с закрытыми глазами. Особенно это хорошо удается при решении цепочки примеров. Учитель читает последовательно каждый пример, ребята решают его и готовность выполнять следующий показывают поднятием руки. В конце задания (через 5-6 примеров) ребята открывают глаза, сверяют ответы. Работа проводится в быстром темпе, вызывает интерес ребя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игры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«Я самый внимательны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лагается ряд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5, 76, 38, 567,100, 55, 35, 86, 25, 50, 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 указкой показывает числа попорядку и предлагает выполнить действ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Хлопните в ладоши, если число делится  на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Топайте ногами, если число кратно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Крутите головой, если число  делится на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ему вы одновременно хлопали, топали и крутили голов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560" y="259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Цель здоровьесберегающих  технологий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еспечить школьнику возможность сохранения здоровья за период обучения в школ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формировать у него необходимые знания, умения и навыки по здоровому образу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ить использовать полученные знания в повседневной жиз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Физкультминутка в форме стихотво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стро встали, улыбну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ше-выше потянули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у-ка, плечи распрямит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нимите, опуст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раво, влево поверните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к ладонями косните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и, встали. Сели , вста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 месте побежа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686800" cy="2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Посмотри на "пушистиков".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У них разные настроения.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ыбери "пушистика", у которого такое же настроение, как у теб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76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Моё настроение похоже н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лнышко с тучкой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дождик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учку с молн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Солнце 3"/>
          <p:cNvSpPr/>
          <p:nvPr/>
        </p:nvSpPr>
        <p:spPr>
          <a:xfrm>
            <a:off x="3222720" y="156852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Солнце 4"/>
          <p:cNvSpPr/>
          <p:nvPr/>
        </p:nvSpPr>
        <p:spPr>
          <a:xfrm>
            <a:off x="4788000" y="2211480"/>
            <a:ext cx="714240" cy="6429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Выноска-облако 5"/>
          <p:cNvSpPr/>
          <p:nvPr/>
        </p:nvSpPr>
        <p:spPr>
          <a:xfrm>
            <a:off x="5521320" y="2319480"/>
            <a:ext cx="1000080" cy="42840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Выноска-облако 6"/>
          <p:cNvSpPr/>
          <p:nvPr/>
        </p:nvSpPr>
        <p:spPr>
          <a:xfrm>
            <a:off x="3079800" y="2968560"/>
            <a:ext cx="1000080" cy="428760"/>
          </a:xfrm>
          <a:prstGeom prst="cloudCallout">
            <a:avLst>
              <a:gd name="adj1" fmla="val -4208"/>
              <a:gd name="adj2" fmla="val 39226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Выноска-облако 7"/>
          <p:cNvSpPr/>
          <p:nvPr/>
        </p:nvSpPr>
        <p:spPr>
          <a:xfrm>
            <a:off x="4551480" y="4024440"/>
            <a:ext cx="1000080" cy="42840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носка-облако 8"/>
          <p:cNvSpPr/>
          <p:nvPr/>
        </p:nvSpPr>
        <p:spPr>
          <a:xfrm>
            <a:off x="4441680" y="5214960"/>
            <a:ext cx="1000440" cy="428760"/>
          </a:xfrm>
          <a:prstGeom prst="cloudCallout">
            <a:avLst>
              <a:gd name="adj1" fmla="val -25819"/>
              <a:gd name="adj2" fmla="val 143953"/>
            </a:avLst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901800" y="353880"/>
            <a:ext cx="755964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олныщко"/>
          <p:cNvPicPr/>
          <p:nvPr/>
        </p:nvPicPr>
        <p:blipFill>
          <a:blip r:embed="rId2"/>
          <a:stretch/>
        </p:blipFill>
        <p:spPr>
          <a:xfrm rot="604200">
            <a:off x="1439640" y="2814120"/>
            <a:ext cx="4636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Ребенка можно назвать здоровым, если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8569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изическом плане – здоровье позволяет ему справляться с учебной нагрузкой, ребёнок умеет преодолевать устал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циальном плане – он коммуникабелен, общителен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моциональном плане – ребёнок уравновешен, способен удивляться и восхищ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интеллектуальном плане – учащийся проявляет хорошие умственные способности, наблюдательность, воображение, самообучаемость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равственном плане – он признаёт основные общечеловеческие цен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адачи, стоящие перед учи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892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ник способен сосредоточиться лишь на том, что ему интересно, нравится, поэтому задача учителя – помочь ученику преодолеть усталость, уныние, неудовлетворенность. Ведь часто мы слышим от своих учеников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Мне тогда все понятно, когда интересно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, ребенку должно быть интересно на уроке. Неудовлетворенность, не облагороженная разумом, может привести к агрессивности, мнительности, тревожности. Учитель должен постоянно заботиться о сохранении психического здоровья детей в норме, повышать устойчивость нервной системы учащихся в преодолении трудностей. Необходимо постоянно заботиться о том, чтобы привести в согласие притязания ученика и его возможн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</a:rPr>
              <a:t>Здоровьесберегающий урок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такой урок, на котором соблюдается соответствие содержания, объема учебного материала, методов и форм учебной деятельности возрастным, индивидуальным возможностям  и способностям учащих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Урок – это основа учебного процес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341000"/>
            <a:ext cx="8785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 сответствии со здоровьесберегающими технологиями к организации урока предъявляются следующие требовани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Плотность урока. Должна быть от 60% до 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Наличие эмоциональных разряд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 Шутки, улыбки, стихи, музыка должны бы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-3 раза за урок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Виды учебной деятельности долж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доваться 4-7 раз за урок и 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олжаться более 10 минут кажд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259920"/>
            <a:ext cx="885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На уроке должно быть 2 физ. паузы по 1 минуте из трёх лёгких упражнений с 3-4 повторам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. паузы должны быть обоснованным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писали – для глаз и пальц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если слушали - для снятия напряжения, смены поз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Поза учащихся и её черед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Наличие в содержательной части урока, вопросов, связанных со здоровьем и здоровым образом жизн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Гигиенические условия в кабинете 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ремя урока (температура, свеже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духа, освещённость и др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9280" y="54936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.Темп окончания урока. На заключительную ча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ка необходимо оставлять времени, достаточного для того, чтобы дети успели записать, понять домашнее задание и задать вопрос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допустимо затягивать урок на перемен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. Место и длительность применения ТСО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льзя, чтобы дети все 40 минут смотрели кино или на экра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тистика: при несоблюдении гигиени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 при использовании ТСО, здоров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худшается в 2,5 раз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vetlana Sapunova</cp:lastModifiedBy>
  <dcterms:modified xsi:type="dcterms:W3CDTF">2017-12-11T17:13:53Z</dcterms:modified>
  <cp:revision>68</cp:revision>
  <dc:subject/>
  <dc:title>Слайд 1</dc:title>
</cp:coreProperties>
</file>