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342-F1B8-43B8-8B4E-41CC4725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70A-68D7-480F-B3E8-CF5BA6F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31B-E376-4148-8196-AC649699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1EE-8CB9-401D-802F-3EF394E7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13A-F4F5-4D88-ADF3-3655975A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3AC-C058-4C15-8519-5E50572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CA1-6A49-4961-86A6-6C08A880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781-7950-4A10-8144-941B8E29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BEC-C268-413D-9027-B513E0C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602-43D5-4443-A5F2-4076BFE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9B2-7E96-4E09-9DD7-A30D097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40D-89ED-44EE-8361-C2AADB0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69F6-8C0A-40A8-B2D5-4AD3142454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26920" y="5229360"/>
            <a:ext cx="5616360" cy="24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755640" y="33465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Чтобы сделать ребенка умным и рассудительным, сделайте его крепким и здоровым»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Ж. Ж. Рус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девочка с книгой"/>
          <p:cNvPicPr/>
          <p:nvPr/>
        </p:nvPicPr>
        <p:blipFill>
          <a:blip r:embed="rId1"/>
          <a:stretch/>
        </p:blipFill>
        <p:spPr>
          <a:xfrm>
            <a:off x="0" y="5086440"/>
            <a:ext cx="1825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560" y="189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леко не всем учащимся легко дается математика, поэтому необходимо проводить работу по профилактике стр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е результаты дает работа в парах, в группах, как на местах так и у доски, где ведомый, более «слабый» ученик чувствует поддержку товарищ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ценке выполненной работы необходимо учитывать не только полученный результат, но и степень усердия уче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рганизация урока математик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оставные части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ая (1-3 минуты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бы создать благоприятный настрой необходимо сказать несколько приятных слов класс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успокоить перевозбужденный класс можно провести упражн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«выдох»: «Надувание воздушного шарика», «Сдувать пушинку с ладон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«разбудить» вялый класс провести упражнения на «вдох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юхать что – то приятное» и т. 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ребята приходят уставшие, после предыдущих уроков, провести гимнастику для снятия усталости: поднимите плечи, разверните и отпустите их. Сделайте так несколько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взбодриться сделаем следующие упражн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Сложите ладони перед грудью, быстро-быстро потрите друг о дружку, это упражнение способствует поднятию энергии и работы всех внутренних органов, так как на ладонях находится много биологически активных зон и точ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Раздвиньте указательный и средний пальцы на обеих руках, просуньте между ними уши и с силой растирайте кожу. Этот массаж улучшит зрение и активизиру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у головного моз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(30-35 мину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ходя из динамики работоспособности на уроке, нужно вы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ьное время для физ. пауз и провести упраж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Заключительная (2 - 3 минуты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, объяснение домашнего задания, ответы на вопрос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надо завершить спокой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еся должны иметь возможность задать учителю вопросы, учитель комментирует задание, учитель и учащиеся прощаю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тивирование учащихся на уроках (минутка здоровь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мнастика ума (занимательные задачи о здоровь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часть урока (включает 4-7 видов деятельности, физкультминутк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машнее задание (дифференцированное, с комментарием учител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доброжелательной обстанов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тельный эмоциональный наст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на (4-7) видов деятельн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людение гигиенических требований (свежий воздух, оптимальный тепловой режим, хорошая освещенность, чисто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приятный эмоциональный настр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ение физкультминуток и динамических пауз на уро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ие результаты дает работа в парах, в группах как на местах, так и у доски, более “слабый” ученик чувствует поддерж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онце урока нужно обсудить не только то, что усвоено нового, но выяснить, что понравилось на уроке, какие вопросы хотелось бы повторить, задания какого типа выпол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няя мотивация: оценка, похвала, поддержка, соревновательный мет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но следить за осанкой во время у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ЛЕДУЕ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зко наклонять голов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ягать и поднимать плеч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деть, на поджатой под себя ног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деть, скрестив ног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Е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работы – локти должны лежать на столе, а спина быть прям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Вертикальные движения глаз вверх-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Горизонтальное вправо-в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Вращение глазами по часовой стрелке и про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Закрыть глаза и представить по очереди цвета радуги как можно отчетлив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 доске до начала урока начертить какую-либо кривую (спираль, окружность, ломаную);предлагается глазами «нарисовать» эти фигуры несколько раз в одном, а затем в другом направл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1042920" y="5013360"/>
            <a:ext cx="33433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бман  зрения - оптические иллюз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9040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844640"/>
            <a:ext cx="87854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определению Всемирной организации здравоохранения, здоровье – это состояние полного физического, психического и социального благополучия, а не только отсутствие болезней или физических дефектов. Здоровьесберегающие технологии можно рассматривать как одну из самых перспективных образовательных систем 21 века, и как совокупность приемов, форм и методов организации обучения школьников, без ущерба для их здоровья, и как качественную характеристику любой педагогической технологии по критерию ее воздействия на здоровье учащихся и педаго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44280"/>
            <a:ext cx="194652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араллельны ли горизонтальные линии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ассирование биологически активных то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ысячи биологически активных точек на ухе известно в настоящее время, поэтому, массируя их, можно апосредовательно воздействовать на весь организм. Нужно стараться так помассировать ушные раковины, чтобы уши «горели». Упражнение можно выполнять в тако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отягивание за мочки сверху вни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Потягивание ушной раковины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тягивание ушной раковины к нару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Круговые движения ушной раковины по часовой стрелке и прот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зговая  гимна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крестные движе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азвивает память, активизирует оба полушария мозга). Поднимая согнутую в колене правую ногу,  коснитесь ею левого локтя и наоборот. Упражнение делается сначала медленно, затем темп убыстря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вадрат – тре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активизирует полушария). Левой рукой в воздухе рисовать квадрат, а правой треугольник и наоборо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зговая гимнастика (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продолжение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828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о-нос  (активизирует полушария). Обеими руками дотронуться: левой до носа, правой  до левого уха, хлопнуть в ладоши, затем дотронуться левой до правого уха, правой – до носа. Делать упражнение, убыстряя тем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чание головой (улучшает мыслительную деятельность, чтение). Дышите глубоко, расслабьте плечи и уроните голову вперед. Позвольте голове медленно качаться из стороны в сторону, пока при помощи дыхания уходит напряжение, подбородок вычерчивает слегка изогнутую линию на груди по мере расслабления ше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дачи, связанные со здоровом образом жиз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уроках можно использовать задачи, содержащие сведения о здоровом образе жизни. Они призваны заинтересовать учащихся вопросами устройства тела человека, а учитель по ходу выполнения заданий может помогать систематизации зн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мотрим примеры  задач, которые непосредственно связаны с понятиями “знание своего тела”, “гигиена тела”, “правильное питание”, “здоровый образ жизни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опасное поведение на дорогах”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3480"/>
            <a:ext cx="8158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76464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оясничном, крестцовом и копчиковом отделах позвоночника позвонков поровну. В грудном отделе их на семь больше, чем в поясничном, а в шейном отделе – на пять меньше, чем в грудном. Сколько позвонков в каждом отделе позвоночника, если всего их 32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из чисел на 0,3 больше другого. 60% большего числа на 0,03 больше, чем 70% меньшего числа. Найдите эти числа и узнайте, какова суточная потребность организма в витаминах В1 и В2 в миллиграмм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число на 42 меньше, чем другое. Если первое число увеличить в 4,5 раза, а ко второму прибавить 28, то их сумма будет равна 180. Найдите эти числа, и вы узнаете, сколько лет полноценной жизни забирает табак у курильщиков и сколько лет в среднем живут в России мужчи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число в два раза больше другого. Если большее из этих чисел умножить на два, а меньшее умножить на четыре, то их сумма будет равна 48. Найдите эти числа. Меньшее из них покажет вам, сколько минут жизни забирает одна сигар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Рассмотрите диаграмму и ответьте на 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10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Математические физкультмину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3640" y="764640"/>
            <a:ext cx="813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изучении правильных и неправильных дробей учитель предлагает во время физкультминутки следующее упражн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и встают, руки вытянуты вперед; задание: если учитель назовет правильную дробь, ученики поднимают руки вверх, можно при этом подняться на носки, потянуться; если неправильную – руки опускают вниз с наклоном и расслаблен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10-11 классе полезно предлагать учащимся представлять стереометрические модели, мысленно поворачивая их, рассматривая со всех сторон. Стараться представить модель как можно более четко, удерживать ее перед мысленным взором в течение нескольких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189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35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чень важно развить воображение учеников. С этой целью выполняется следующее упражнение. После введения нового материала, хорового прочтения нового термина ученикам предлагается закрыть глаза и представить, что нос вырос, как у Буратино, обмакнуть его, как в сказке, в чернила и написать как можно красивее носом в воздухе этот новый термин, это можно сделать только мысленно или с движением головы; зафиксировать перед глазами записанное слово, запомнить е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ногие ребята легко отвлекаются. С целью концентрации внимания устный счет в 5-6 классах можно проводить с закрытыми глазами. Особенно это хорошо удается при решении цепочки примеров. Учитель читает последовательно каждый пример, ребята решают его и готовность выполнять следующий показывают поднятием руки. В конце задания (через 5-6 примеров) ребята открывают глаза, сверяют ответы. Работа проводится в быстром темпе, вызывает интерес ребя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Физкультминутка в форме игры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«Я самый внимательны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лагается ряд чис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, 76, 38, 567,100, 55, 35, 86, 25, 50,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указкой показывает числа попорядку и предлагает выполнить дейст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Хлопните в ладоши, если число делится  на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Топайте ногами, если число кратно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Крутите головой, если число  делится на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вы одновременно хлопали, топали и крутили голов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Цель здоровьесберегающих  технологий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ить школьнику возможность сохранения здоровья за период обучения в шко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ировать у него необходимые знания, умения и навыки по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ить использовать полученные знания в повседневной жиз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Физкультминутка в форме стихотво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стро встали, улыбну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ше-выше потяну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-ка, плечи распрямит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нимите, опуст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раво, влево поверните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 ладонями косните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и, встали. Сели , вс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 месте побеж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686800" cy="2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смотри на "пушистиков".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У них разные настроения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бери "пушистика", у которого такое же настроение, как у теб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76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ё настроение похоже н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с тучкой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с дождик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с молн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Солнце 3"/>
          <p:cNvSpPr/>
          <p:nvPr/>
        </p:nvSpPr>
        <p:spPr>
          <a:xfrm>
            <a:off x="3222720" y="1568520"/>
            <a:ext cx="714240" cy="64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олнце 4"/>
          <p:cNvSpPr/>
          <p:nvPr/>
        </p:nvSpPr>
        <p:spPr>
          <a:xfrm>
            <a:off x="4788000" y="2211480"/>
            <a:ext cx="714240" cy="64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Выноска-облако 5"/>
          <p:cNvSpPr/>
          <p:nvPr/>
        </p:nvSpPr>
        <p:spPr>
          <a:xfrm>
            <a:off x="5521320" y="2319480"/>
            <a:ext cx="1000080" cy="428400"/>
          </a:xfrm>
          <a:prstGeom prst="cloudCallout">
            <a:avLst>
              <a:gd name="adj1" fmla="val -4208"/>
              <a:gd name="adj2" fmla="val 39226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Выноска-облако 6"/>
          <p:cNvSpPr/>
          <p:nvPr/>
        </p:nvSpPr>
        <p:spPr>
          <a:xfrm>
            <a:off x="3079800" y="2968560"/>
            <a:ext cx="1000080" cy="428760"/>
          </a:xfrm>
          <a:prstGeom prst="cloudCallout">
            <a:avLst>
              <a:gd name="adj1" fmla="val -4208"/>
              <a:gd name="adj2" fmla="val 39226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Выноска-облако 7"/>
          <p:cNvSpPr/>
          <p:nvPr/>
        </p:nvSpPr>
        <p:spPr>
          <a:xfrm>
            <a:off x="4551480" y="4024440"/>
            <a:ext cx="1000080" cy="428400"/>
          </a:xfrm>
          <a:prstGeom prst="cloudCallout">
            <a:avLst>
              <a:gd name="adj1" fmla="val -25819"/>
              <a:gd name="adj2" fmla="val 143953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Выноска-облако 8"/>
          <p:cNvSpPr/>
          <p:nvPr/>
        </p:nvSpPr>
        <p:spPr>
          <a:xfrm>
            <a:off x="4441680" y="5214960"/>
            <a:ext cx="1000440" cy="428760"/>
          </a:xfrm>
          <a:prstGeom prst="cloudCallout">
            <a:avLst>
              <a:gd name="adj1" fmla="val -25819"/>
              <a:gd name="adj2" fmla="val 143953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901800" y="353880"/>
            <a:ext cx="755964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ыщко"/>
          <p:cNvPicPr/>
          <p:nvPr/>
        </p:nvPicPr>
        <p:blipFill>
          <a:blip r:embed="rId2"/>
          <a:stretch/>
        </p:blipFill>
        <p:spPr>
          <a:xfrm rot="604200">
            <a:off x="1439640" y="2814120"/>
            <a:ext cx="463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Ребенка можно назвать здоровым, если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изическом плане – здоровье позволяет ему справляться с учебной нагрузкой, ребёнок умеет преодолевать устал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циальном плане – он коммуникабелен, общителен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моциональном плане – ребёнок уравновешен, способен удивляться и восхищ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интеллектуальном плане – учащийся проявляет хорошие умственные способности, наблюдательность, воображение, самообучаем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равственном плане – он признаёт основные общечеловеческие ц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дачи, стоящие перед учи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 способен сосредоточиться лишь на том, что ему интересно, нравится, поэтому задача учителя – помочь ученику преодолеть усталость, уныние, неудовлетворенность. Ведь часто мы слышим от своих ученик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не тогда все понятно, когда интересно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ребенку должно быть интересно на уроке. Неудовлетворенность, не облагороженная разумом, может привести к агрессивности, мнительности, тревожности. Учитель должен постоянно заботиться о сохранении психического здоровья детей в норме, повышать устойчивость нервной системы учащихся в преодолении трудностей. Необходимо постоянно заботиться о том, чтобы привести в согласие притязания ученика и его возмо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й урок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акой урок, на котором соблюдается соответствие содержания, объема учебного материала, методов и форм учебной деятельности возрастным, индивидуальным возможностям  и способностям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Урок – это основа учебного процес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34100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сответствии со здоровьесберегающими технологиями к организации урока предъявляются следующие требова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лотность урока. Должна быть от 60% до 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Наличие эмоциональных разряд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Шутки, улыбки, стихи, музыка должны бы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-3 раза за уро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иды учебной деятельности долж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доваться 4-7 раз за урок и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аться более 10 минут кажд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25992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а уроке должно быть 2 физ. паузы по 1 минуте из трёх лёгких упражнений с 3-4 повтор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. паузы должны быть обоснованны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если писали – для глаз и пальц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если слушали - для снятия напряжения, смены по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Поза учащихся и её черед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Наличие в содержательной части урока, вопросов, связанных со здоровьем и здоровым образом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Гигиенические условия в кабинете 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мя урока (температура, свеже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ха, освещённость и др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549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Темп окончания урока. На заключительную ча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а необходимо оставлять времени, достаточного для того, чтобы дети успели записать, понять домашнее задание и задать вопрос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допустимо затягивать урок на переме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Место и длительность применения ТС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льзя, чтобы дети все 40 минут смотрели кино или на экра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истика: при несоблюдении гигиени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 при использовании ТСО, 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удшается в 2,5 ра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vetlana Sapunova</cp:lastModifiedBy>
  <dcterms:modified xsi:type="dcterms:W3CDTF">2017-12-11T17:13:53Z</dcterms:modified>
  <cp:revision>68</cp:revision>
  <dc:subject/>
  <dc:title>Слайд 1</dc:title>
</cp:coreProperties>
</file>