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FB47-76B5-4893-9EC7-228866003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FFCE-2431-40AC-A17A-4BC8A05B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B740-BEAE-45A3-A666-702C6CA31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4C2C-5543-44DC-9BA5-22C492671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FB7A-AFDC-4AF9-ADB0-DAD45033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0BF3-FA35-47D4-8E0F-31AF4FF7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5379-FEB9-4B7D-8924-9FE6B5DC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4495-C411-4D6C-A4FE-D7D06771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0938-6593-41FA-BE6F-60EC3994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D1E0-6346-4098-BC2A-2912FF94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F962-0BCF-4F01-8F52-CF850E55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8C3D-82C6-44FF-9240-68589070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233C-55D9-400C-9CE5-78C56B000F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1125360"/>
            <a:ext cx="8209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Times New Roman"/>
              </a:rPr>
              <a:t>Здоровьесберегающие технологии на уроках МАТЕМАТИ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26920" y="5229360"/>
            <a:ext cx="5616360" cy="24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Прямоугольник 1"/>
          <p:cNvSpPr/>
          <p:nvPr/>
        </p:nvSpPr>
        <p:spPr>
          <a:xfrm>
            <a:off x="755640" y="3346560"/>
            <a:ext cx="75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«Чтобы сделать ребенка умным и рассудительным, сделайте его крепким и здоровым»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Ж. Ж. Русс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4" descr="девочка с книгой"/>
          <p:cNvPicPr/>
          <p:nvPr/>
        </p:nvPicPr>
        <p:blipFill>
          <a:blip r:embed="rId1"/>
          <a:stretch/>
        </p:blipFill>
        <p:spPr>
          <a:xfrm>
            <a:off x="0" y="5086440"/>
            <a:ext cx="18255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50560" y="1890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алеко не всем учащимся легко дается математика, поэтому необходимо проводить работу по профилактике стресс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орошие результаты дает работа в парах, в группах, как на местах так и у доски, где ведомый, более «слабый» ученик чувствует поддержку товарищ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нтистрессовым моментом на уроке является стимулирование учащихся к использованию различных способов решения, без боязни ошибиться, получить неправильный отве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оценке выполненной работы необходимо учитывать не только полученный результат, но и степень усердия учени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Организация урока математики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Составные части урока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готовительная (1-3 минуты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 бы создать благоприятный настрой необходимо сказать несколько приятных слов класс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бы успокоить перевозбужденный класс можно провести упражнения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«выдох»: «Надувание воздушного шарика», «Сдувать пушинку с ладони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бы «разбудить» вялый класс провести упражнения на «вдох»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Нюхать что – то приятное» и т. д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95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ли ребята приходят уставшие, после предыдущих уроков, провести гимнастику для снятия усталости: поднимите плечи, разверните и отпустите их. Сделайте так несколько раз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бы взбодриться сделаем следующие упражнения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) Сложите ладони перед грудью, быстро-быстро потрите друг о дружку, это упражнение способствует поднятию энергии и работы всех внутренних органов, так как на ладонях находится много биологически активных зон и точек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)Раздвиньте указательный и средний пальцы на обеих руках, просуньте между ними уши и с силой растирайте кожу. Этот массаж улучшит зрение и активизиру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ту головного мозг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95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ная (30-35 минут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сходя из динамики работоспособности на уроке, нужно выбрат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авильное время для физ. пауз и провести упражн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 Заключительная (2 - 3 минуты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ведение итогов, объяснение домашнего задания, ответы на вопрос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рок надо завершить спокойн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чащиеся должны иметь возможность задать учителю вопросы, учитель комментирует задание, учитель и учащиеся прощаютс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Здоровьесберегающие технолог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тивирование учащихся на уроках (минутка здоровья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имнастика ума (занимательные задачи о здоровье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ная часть урока (включает 4-7 видов деятельности, физкультминутки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машнее задание (дифференцированное, с комментарием учителя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флекс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Здоровьесберегающие технолог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08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здание доброжелательной обстановки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ложительный эмоциональный настр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рогая дозировка учебной нагрузки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мена (4-7) видов деятельност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троение урока с учетом работоспособности учащихс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блюдение гигиенических требований (свежий воздух, оптимальный тепловой режим, хорошая освещенность, чистот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Здоровьесберегающие технолог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лагоприятный эмоциональный настро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ведение физкультминуток и динамических пауз на урок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нтистрессовым моментом на уроке является стимулирование учащихся к использованию различных способов решения, без боязни ошибиться, получить неправильный отв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рошие результаты дает работа в парах, в группах как на местах, так и у доски, более “слабый” ученик чувствует поддерж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конце урока нужно обсудить не только то, что усвоено нового, но выяснить, что понравилось на уроке, какие вопросы хотелось бы повторить, задания какого типа выполни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нешняя мотивация: оценка, похвала, поддержка, соревновательный мето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Нужно следить за осанкой во время уро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СЛЕДУЕТ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изко наклонять голову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прягать и поднимать плечи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идеть, на поджатой под себя ноге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идеть, скрестив ног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ЕДУЕТ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 время работы – локти должны лежать на столе, а спина быть прямой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Упражнения для гла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78920" y="1197000"/>
            <a:ext cx="8713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Вертикальные движения глаз вверх-вни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Горизонтальное вправо-вле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Вращение глазами по часовой стрелке и проти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Закрыть глаза и представить по очереди цвета радуги как можно отчетливе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На доске до начала урока начертить какую-либо кривую (спираль, окружность, ломаную);предлагается глазами «нарисовать» эти фигуры несколько раз в одном, а затем в другом направлен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1042920" y="5013360"/>
            <a:ext cx="334332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920" y="274320"/>
            <a:ext cx="90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Обман  зрения - оптические иллюз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5904000" cy="41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79280" y="1844640"/>
            <a:ext cx="878544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гласно определению Всемирной организации здравоохранения, здоровье – это состояние полного физического, психического и социального благополучия, а не только отсутствие болезней или физических дефектов. Здоровьесберегающие технологии можно рассматривать как одну из самых перспективных образовательных систем 21 века, и как совокупность приемов, форм и методов организации обучения школьников, без ущерба для их здоровья, и как качественную характеристику любой педагогической технологии по критерию ее воздействия на здоровье учащихся и педагог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3635280" y="44280"/>
            <a:ext cx="1946520" cy="18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Параллельны ли горизонтальные линии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33564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7640" y="27432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Массирование биологически активных точе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ее тысячи биологически активных точек на ухе известно в настоящее время, поэтому, массируя их, можно апосредовательно воздействовать на весь организм. Нужно стараться так помассировать ушные раковины, чтобы уши «горели». Упражнение можно выполнять в такой последовательнос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Потягивание за мочки сверху вниз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Потягивание ушной раковины ввер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Потягивание ушной раковины к наруж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Круговые движения ушной раковины по часовой стрелке и проти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Мозговая  гимнаст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екрестные движения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развивает память, активизирует оба полушария мозга). Поднимая согнутую в колене правую ногу,  коснитесь ею левого локтя и наоборот. Упражнение делается сначала медленно, затем темп убыстряет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вадрат – треугольни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активизирует полушария). Левой рукой в воздухе рисовать квадрат, а правой треугольник и наоборо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928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Мозговая гимнастика (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</a:rPr>
              <a:t>продолжение</a:t>
            </a: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08000" y="1268280"/>
            <a:ext cx="892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хо-нос  (активизирует полушария). Обеими руками дотронуться: левой до носа, правой  до левого уха, хлопнуть в ладоши, затем дотронуться левой до правого уха, правой – до носа. Делать упражнение, убыстряя темп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чание головой (улучшает мыслительную деятельность, чтение). Дышите глубоко, расслабьте плечи и уроните голову вперед. Позвольте голове медленно качаться из стороны в сторону, пока при помощи дыхания уходит напряжение, подбородок вычерчивает слегка изогнутую линию на груди по мере расслабления ше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Задачи, связанные со здоровом образом жизн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24000" y="16002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уроках можно использовать задачи, содержащие сведения о здоровом образе жизни. Они призваны заинтересовать учащихся вопросами устройства тела человека, а учитель по ходу выполнения заданий может помогать систематизации знани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ссмотрим примеры  задач, которые непосредственно связаны с понятиями “знание своего тела”, “гигиена тела”, “правильное питание”, “здоровый образ жизни”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езопасное поведение на дорогах”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3480"/>
            <a:ext cx="81583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Задач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764640"/>
            <a:ext cx="8856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поясничном, крестцовом и копчиковом отделах позвоночника позвонков поровну. В грудном отделе их на семь больше, чем в поясничном, а в шейном отделе – на пять меньше, чем в грудном. Сколько позвонков в каждом отделе позвоночника, если всего их 32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дно из чисел на 0,3 больше другого. 60% большего числа на 0,03 больше, чем 70% меньшего числа. Найдите эти числа и узнайте, какова суточная потребность организма в витаминах В1 и В2 в миллиграммах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дно число на 42 меньше, чем другое. Если первое число увеличить в 4,5 раза, а ко второму прибавить 28, то их сумма будет равна 180. Найдите эти числа, и вы узнаете, сколько лет полноценной жизни забирает табак у курильщиков и сколько лет в среднем живут в России мужчин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дно число в два раза больше другого. Если большее из этих чисел умножить на два, а меньшее умножить на четыре, то их сумма будет равна 48. Найдите эти числа. Меньшее из них покажет вам, сколько минут жизни забирает одна сигарет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Рассмотрите диаграмму и ответьте на 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Объект 3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6910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4470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Математические физкультминут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23640" y="764640"/>
            <a:ext cx="81356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 изучении правильных и неправильных дробей учитель предлагает во время физкультминутки следующее упражнение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еники встают, руки вытянуты вперед; задание: если учитель назовет правильную дробь, ученики поднимают руки вверх, можно при этом подняться на носки, потянуться; если неправильную – руки опускают вниз с наклоном и расслабление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В 10-11 классе полезно предлагать учащимся представлять стереометрические модели, мысленно поворачивая их, рассматривая со всех сторон. Стараться представить модель как можно более четко, удерживать ее перед мысленным взором в течение нескольких мину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0" y="18900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3358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чень важно развить воображение учеников. С этой целью выполняется следующее упражнение. После введения нового материала, хорового прочтения нового термина ученикам предлагается закрыть глаза и представить, что нос вырос, как у Буратино, обмакнуть его, как в сказке, в чернила и написать как можно красивее носом в воздухе этот новый термин, это можно сделать только мысленно или с движением головы; зафиксировать перед глазами записанное слово, запомнить его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58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ногие ребята легко отвлекаются. С целью концентрации внимания устный счет в 5-6 классах можно проводить с закрытыми глазами. Особенно это хорошо удается при решении цепочки примеров. Учитель читает последовательно каждый пример, ребята решают его и готовность выполнять следующий показывают поднятием руки. В конце задания (через 5-6 примеров) ребята открывают глаза, сверяют ответы. Работа проводится в быстром темпе, вызывает интерес ребя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Физкультминутка в форме игры 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«Я самый внимательный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длагается ряд чисе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5, 76, 38, 567,100, 55, 35, 86, 25, 50, 1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читель указкой показывает числа попорядку и предлагает выполнить действ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Хлопните в ладоши, если число делится  на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Топайте ногами, если число кратно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Крутите головой, если число  делится на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чему вы одновременно хлопали, топали и крутили голово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560" y="259920"/>
            <a:ext cx="910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Цель здоровьесберегающих  технологий</a:t>
            </a:r>
            <a:r>
              <a:rPr b="1" lang="ru-RU" sz="3600" spc="-1" strike="noStrike">
                <a:solidFill>
                  <a:srgbClr val="262673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еспечить школьнику возможность сохранения здоровья за период обучения в школ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формировать у него необходимые знания, умения и навыки по здоровому образу жиз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учить использовать полученные знания в повседневной жизн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Физкультминутка в форме стихотво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ыстро встали, улыбнулись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ше-выше потянулис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у-ка, плечи распрямите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нимите, опустит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право, влево повернитесь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ук ладонями коснитес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ли, встали. Сели , вста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на месте побежа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125360"/>
            <a:ext cx="8686800" cy="29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Посмотри на "пушистиков". 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У них разные настроения.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Выбери "пушистика", у которого такое же настроение, как у тебя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76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Моё настроение похоже н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лнышк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лнышко с тучкой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учку 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учку с дождико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учку с молние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Солнце 3"/>
          <p:cNvSpPr/>
          <p:nvPr/>
        </p:nvSpPr>
        <p:spPr>
          <a:xfrm>
            <a:off x="3222720" y="1568520"/>
            <a:ext cx="714240" cy="6429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Солнце 4"/>
          <p:cNvSpPr/>
          <p:nvPr/>
        </p:nvSpPr>
        <p:spPr>
          <a:xfrm>
            <a:off x="4788000" y="2211480"/>
            <a:ext cx="714240" cy="6429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Выноска-облако 5"/>
          <p:cNvSpPr/>
          <p:nvPr/>
        </p:nvSpPr>
        <p:spPr>
          <a:xfrm>
            <a:off x="5521320" y="2319480"/>
            <a:ext cx="1000080" cy="428400"/>
          </a:xfrm>
          <a:prstGeom prst="cloudCallout">
            <a:avLst>
              <a:gd name="adj1" fmla="val -4208"/>
              <a:gd name="adj2" fmla="val 39226"/>
            </a:avLst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Выноска-облако 6"/>
          <p:cNvSpPr/>
          <p:nvPr/>
        </p:nvSpPr>
        <p:spPr>
          <a:xfrm>
            <a:off x="3079800" y="2968560"/>
            <a:ext cx="1000080" cy="428760"/>
          </a:xfrm>
          <a:prstGeom prst="cloudCallout">
            <a:avLst>
              <a:gd name="adj1" fmla="val -4208"/>
              <a:gd name="adj2" fmla="val 39226"/>
            </a:avLst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Выноска-облако 7"/>
          <p:cNvSpPr/>
          <p:nvPr/>
        </p:nvSpPr>
        <p:spPr>
          <a:xfrm>
            <a:off x="4551480" y="4024440"/>
            <a:ext cx="1000080" cy="428400"/>
          </a:xfrm>
          <a:prstGeom prst="cloudCallout">
            <a:avLst>
              <a:gd name="adj1" fmla="val -25819"/>
              <a:gd name="adj2" fmla="val 143953"/>
            </a:avLst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Выноска-облако 8"/>
          <p:cNvSpPr/>
          <p:nvPr/>
        </p:nvSpPr>
        <p:spPr>
          <a:xfrm>
            <a:off x="4441680" y="5214960"/>
            <a:ext cx="1000440" cy="428760"/>
          </a:xfrm>
          <a:prstGeom prst="cloudCallout">
            <a:avLst>
              <a:gd name="adj1" fmla="val -25819"/>
              <a:gd name="adj2" fmla="val 143953"/>
            </a:avLst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Rectangle 2" descr=""/>
          <p:cNvPicPr/>
          <p:nvPr/>
        </p:nvPicPr>
        <p:blipFill>
          <a:blip r:embed="rId1"/>
          <a:stretch/>
        </p:blipFill>
        <p:spPr>
          <a:xfrm>
            <a:off x="901800" y="353880"/>
            <a:ext cx="7559640" cy="2389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солныщко"/>
          <p:cNvPicPr/>
          <p:nvPr/>
        </p:nvPicPr>
        <p:blipFill>
          <a:blip r:embed="rId2"/>
          <a:stretch/>
        </p:blipFill>
        <p:spPr>
          <a:xfrm rot="604200">
            <a:off x="1439640" y="2814120"/>
            <a:ext cx="463680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7138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Ребенка можно назвать здоровым, если 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197000"/>
            <a:ext cx="8569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физическом плане – здоровье позволяет ему справляться с учебной нагрузкой, ребёнок умеет преодолевать усталость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социальном плане – он коммуникабелен, общителен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эмоциональном плане – ребёнок уравновешен, способен удивляться и восхищатьс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интеллектуальном плане – учащийся проявляет хорошие умственные способности, наблюдательность, воображение, самообучаемость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нравственном плане – он признаёт основные общечеловеческие цен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Задачи, стоящие перед учител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78920" y="1412640"/>
            <a:ext cx="8425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еник способен сосредоточиться лишь на том, что ему интересно, нравится, поэтому задача учителя – помочь ученику преодолеть усталость, уныние, неудовлетворенность. Ведь часто мы слышим от своих учеников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Мне тогда все понятно, когда интересно”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чит, ребенку должно быть интересно на уроке. Неудовлетворенность, не облагороженная разумом, может привести к агрессивности, мнительности, тревожности. Учитель должен постоянно заботиться о сохранении психического здоровья детей в норме, повышать устойчивость нервной системы учащихся в преодолении трудностей. Необходимо постоянно заботиться о том, чтобы привести в согласие притязания ученика и его возможн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Здоровьесберегающий урок -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о такой урок, на котором соблюдается соответствие содержания, объема учебного материала, методов и форм учебной деятельности возрастным, индивидуальным возможностям  и способностям учащих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Урок – это основа учебного процесс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9280" y="1341000"/>
            <a:ext cx="8785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 сответствии со здоровьесберегающими технологиями к организации урока предъявляются следующие требования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Плотность урока. Должна быть от 60% до 70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Наличие эмоциональных разрядо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 Шутки, улыбки, стихи, музыка должны быт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-3 раза за урок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Виды учебной деятельности должн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редоваться 4-7 раз за урок и н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должаться более 10 минут кажда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79280" y="259920"/>
            <a:ext cx="8856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На уроке должно быть 2 физ. паузы по 1 минуте из трёх лёгких упражнений с 3-4 повторам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из. паузы должны быть обоснованными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если писали – для глаз и пальце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если слушали - для снятия напряжения, смены поз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 Поза учащихся и её чередова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. Наличие в содержательной части урока, вопросов, связанных со здоровьем и здоровым образом жизн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.Гигиенические условия в кабинете 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ремя урока (температура, свежест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здуха, освещённость и др.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79280" y="54936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8.Темп окончания урока. На заключительную част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рока необходимо оставлять времени, достаточного для того, чтобы дети успели записать, понять домашнее задание и задать вопрос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допустимо затягивать урок на перемен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9. Место и длительность применения ТСО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льзя, чтобы дети все 40 минут смотрели кино или на экран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атистика: при несоблюдении гигиенически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орм при использовании ТСО, здоровь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худшается в 2,5 раз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Svetlana Sapunova</cp:lastModifiedBy>
  <dcterms:modified xsi:type="dcterms:W3CDTF">2017-12-11T17:13:53Z</dcterms:modified>
  <cp:revision>68</cp:revision>
  <dc:subject/>
  <dc:title>Слайд 1</dc:title>
</cp:coreProperties>
</file>