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BFC6-64B3-410C-A6C5-F82DBFF30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4A31-9870-4539-AABB-AF31687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E26F-A76F-4951-9B1E-615F189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A620-1573-44F9-A2FB-20FB06111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778BC-A349-43A8-842F-A1BD55283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6B50E-D1F8-4FAA-A1AA-1173881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1F67B-1B05-4538-B1ED-64BC1E6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6EDB-22A6-417A-92B9-8F4276C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32BB-946E-40C5-AEFA-A0C8B436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CE3E-41C4-4289-8195-38F6D5A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03FB-80AC-4F01-9555-B422A5A1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C702-4AF8-41A4-A7B7-0E0EDCE9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37DB0-2C67-4592-B228-A0E579D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C67DF-665D-4CB0-852D-44803793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D1A31-688E-4169-BE07-3CEF6C5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F9D6E-5BD1-4256-A526-15EE6E8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D1D4F-F5AD-4A89-BE52-24A99AC7A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28EC-EE8B-4151-BAC9-5E3868F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C535-BA03-4311-B9D5-CF97EFD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B143-8D13-45F2-9A9F-3804911E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AF17-D28C-4924-8B7A-070D3FF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685E-09B8-4824-B495-62EA3FA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3258-90C8-40B8-AC00-C5BEACD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996C-D8F4-4A25-9F50-90BAA60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DDC3C-8D7C-495D-8015-034789E60F6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4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Line 7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cap="sq"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A1FF6A-CF2D-4FB2-9897-B74DD73CD4D6}" type="slidenum">
              <a:rPr b="0" lang="ru-RU" sz="1100" spc="-1" strike="noStrike">
                <a:solidFill>
                  <a:srgbClr val="ffffff"/>
                </a:solidFill>
                <a:latin typeface="Trebuchet MS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27640" y="0"/>
            <a:ext cx="430200" cy="40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Выполнен в рамках внеурочной деятельности.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Авторы проекта: члены кружка «Юннатов»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Руководитель проекта:  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rebuchet MS"/>
              </a:rPr>
              <a:t>Петрова Валентина Михайловна.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-108000" y="-717120"/>
            <a:ext cx="7775640" cy="71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нездовская средня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ленского района Смолен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му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Цветы памя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 в рамках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ы проекта: члены кружка «Юнна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и проекта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а Валентина Михай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лого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6\17 уч.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566640" y="165240"/>
            <a:ext cx="7255080" cy="119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746360" y="198900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93560" y="96840"/>
            <a:ext cx="7255080" cy="1695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816200" y="220500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500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928960" y="0"/>
            <a:ext cx="6215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униципальное бюджетное общеобразовательное учрежд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нездовская средняя шко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оленского района Смолен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714840" y="4786200"/>
            <a:ext cx="5072040" cy="1143000"/>
          </a:xfrm>
          <a:prstGeom prst="flowChartPunchedTap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3276720" cy="58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41781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ратская могила в д. Ракитня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хоронено 250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647720" y="2060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20840" y="-219240"/>
            <a:ext cx="7254720" cy="11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979640" y="1927080"/>
            <a:ext cx="454500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3171600" cy="5638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3857760" y="285840"/>
            <a:ext cx="352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ратская могила в д. Глущё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643200" y="2071800"/>
            <a:ext cx="447696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66600" y="542880"/>
            <a:ext cx="7467840" cy="11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4372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46200" y="162864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7:34:05Z</dcterms:created>
  <dc:creator>Admin</dc:creator>
  <dc:description/>
  <dc:language>en-US</dc:language>
  <cp:lastModifiedBy>Директор</cp:lastModifiedBy>
  <dcterms:modified xsi:type="dcterms:W3CDTF">2017-11-24T16:47:08Z</dcterms:modified>
  <cp:revision>25</cp:revision>
  <dc:subject/>
  <dc:title>Слайд 1</dc:title>
</cp:coreProperties>
</file>