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56DE8-5467-453C-B6B2-20C74AA685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86AC2-3133-4934-A116-C40077C0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9A0E-B9E6-4FC2-BF63-CFE0CC1A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F7E24-DAE0-4A6B-8D61-848C23D95B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43AE1-DC33-45FB-B37C-F7C2DE450C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8D8B6-99D8-4B2E-BB29-D5D900CA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2D157-B23A-49FA-BB2A-ED0A906B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50E58-29C0-4260-A471-2BAC03B6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1CF4E-2950-4185-991D-B98D342A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7DB1C-32DB-4C77-B97E-2029F188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D034F-CE32-4280-B39D-3C21BAE1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33A5-A3A4-4A97-9A40-5A4B7CC3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01407-C53A-4FD2-9951-B90975B5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9227C-1F0C-4A6F-862C-3948A675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CD571-EFF1-4379-8856-7E426184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E2FA4-4F4A-4142-82EE-59729AF1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B2443-72AC-4DBF-AE3D-F756976915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CEAF8-1B64-4394-8CEA-50E3D74B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7A92E-50E0-4D06-ABB2-9669880C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E9C07-D71E-495F-9A16-36434C4E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51E6E-983D-488E-8015-CA1253C9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04BDF-7142-4F16-BE6C-4324ABF7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A3F23-BC57-430C-AD52-00F31AEA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3A6C8-72D1-4A32-AA37-DD0A9183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8150400" y="-6480"/>
            <a:ext cx="998280" cy="6869160"/>
            <a:chOff x="8150400" y="-6480"/>
            <a:chExt cx="998280" cy="686916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9982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8153280" y="0"/>
              <a:ext cx="9892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251400" y="6555960"/>
            <a:ext cx="5875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7B4B30-85F5-45AA-88FC-A12D18E4BC69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"/>
          <p:cNvGrpSpPr/>
          <p:nvPr/>
        </p:nvGrpSpPr>
        <p:grpSpPr>
          <a:xfrm>
            <a:off x="8150400" y="-6480"/>
            <a:ext cx="998280" cy="6869160"/>
            <a:chOff x="8150400" y="-6480"/>
            <a:chExt cx="998280" cy="6869160"/>
          </a:xfrm>
        </p:grpSpPr>
        <p:pic>
          <p:nvPicPr>
            <p:cNvPr id="45" name="Picture 2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9982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3"/>
            <p:cNvSpPr/>
            <p:nvPr/>
          </p:nvSpPr>
          <p:spPr>
            <a:xfrm>
              <a:off x="8153280" y="0"/>
              <a:ext cx="9892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Group 4"/>
          <p:cNvGrpSpPr/>
          <p:nvPr/>
        </p:nvGrpSpPr>
        <p:grpSpPr>
          <a:xfrm>
            <a:off x="2664000" y="-6480"/>
            <a:ext cx="6484680" cy="6869160"/>
            <a:chOff x="2664000" y="-6480"/>
            <a:chExt cx="6484680" cy="6869160"/>
          </a:xfrm>
        </p:grpSpPr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2664000" y="-6480"/>
              <a:ext cx="64846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6"/>
            <p:cNvSpPr/>
            <p:nvPr/>
          </p:nvSpPr>
          <p:spPr>
            <a:xfrm>
              <a:off x="2666880" y="0"/>
              <a:ext cx="64756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Line 7"/>
          <p:cNvSpPr/>
          <p:nvPr/>
        </p:nvSpPr>
        <p:spPr>
          <a:xfrm flipV="1">
            <a:off x="2666880" y="-1440"/>
            <a:ext cx="1800" cy="6860880"/>
          </a:xfrm>
          <a:prstGeom prst="line">
            <a:avLst/>
          </a:prstGeom>
          <a:ln cap="sq"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3"/>
          </p:nvPr>
        </p:nvSpPr>
        <p:spPr>
          <a:xfrm>
            <a:off x="5870160" y="6558120"/>
            <a:ext cx="20019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880040" y="6555960"/>
            <a:ext cx="58716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23A058-EAA3-4AE2-9F38-A1501A8E6626}" type="slidenum">
              <a:rPr b="0" lang="ru-RU" sz="1100" spc="-1" strike="noStrike">
                <a:solidFill>
                  <a:srgbClr val="ffffff"/>
                </a:solidFill>
                <a:latin typeface="Trebuchet MS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27640" y="0"/>
            <a:ext cx="430200" cy="40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Выполнен в рамках внеурочной деятельности.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Авторы проекта: члены кружка «Юннатов»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Руководитель проекта:   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Trebuchet MS"/>
              </a:rPr>
              <a:t>Петрова Валентина Михайловна.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-108000" y="-717120"/>
            <a:ext cx="7775640" cy="71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е бюджетное общеобразовательное учрежд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нездовская средняя шко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моленского района Смоленской обл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тему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Цветы памя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ен в рамках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ы проекта: члены кружка «Юннат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уководители проекта: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трова Валентина Михайл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Шлогова Людмила Васил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16\17 уч.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566640" y="165240"/>
            <a:ext cx="7255080" cy="1199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1746360" y="1989000"/>
            <a:ext cx="489564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493560" y="96840"/>
            <a:ext cx="7255080" cy="1695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1816200" y="2205000"/>
            <a:ext cx="4610160" cy="3457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35002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2928960" y="0"/>
            <a:ext cx="62150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Муниципальное бюджетное общеобразовательное учрежд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Гнездовская средняя школ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моленского района Смоленской обла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3714840" y="4786200"/>
            <a:ext cx="5072040" cy="1143000"/>
          </a:xfrm>
          <a:prstGeom prst="flowChartPunchedTap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cap="sq"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714240" y="500040"/>
            <a:ext cx="3276720" cy="5824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417816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Братская могила в д. Ракитня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хоронено 2500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7254720" cy="1158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1647720" y="206064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420840" y="-219240"/>
            <a:ext cx="7254720" cy="115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1979640" y="1927080"/>
            <a:ext cx="4545000" cy="3408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1619280" y="1989000"/>
            <a:ext cx="468144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3171600" cy="5638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3857760" y="285840"/>
            <a:ext cx="352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Братская могила в д. Глущё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3643200" y="2071800"/>
            <a:ext cx="4476960" cy="3357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66600" y="542880"/>
            <a:ext cx="7467840" cy="1176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1835280" y="2492280"/>
            <a:ext cx="4537080" cy="3403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7443720" cy="798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546200" y="162864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3T17:34:05Z</dcterms:created>
  <dc:creator>Admin</dc:creator>
  <dc:description/>
  <dc:language>en-US</dc:language>
  <cp:lastModifiedBy>Директор</cp:lastModifiedBy>
  <dcterms:modified xsi:type="dcterms:W3CDTF">2017-11-24T16:47:08Z</dcterms:modified>
  <cp:revision>25</cp:revision>
  <dc:subject/>
  <dc:title>Слайд 1</dc:title>
</cp:coreProperties>
</file>