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56AA-6D5D-4313-8CF9-E394042DA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F016-C38F-4160-9990-4F4694DF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04A5-CFC2-4CB8-9917-C7A26F57C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B099-4B99-4CB3-AFB7-EB915C3F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9744-A6AF-446C-A88E-714B6552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0E5E-493C-4E0A-A12B-A6659907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E7E4-910D-480D-8440-3F84D91A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58A8-31F6-4C91-8C35-6532EB7F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A485-4193-48D5-911F-6FCDAD1F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48E1-6B44-4ABC-B3FB-B33968CD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F7FE-0CBF-43F3-BC86-1ADA4755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D7F8-4E8E-4360-B137-9F15BF1B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0741-E0CE-48EC-822F-133CBA0E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139B-97C8-4E7D-891D-43D22165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DE7F-1700-4F83-BCBC-B4FA8FEE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D3E5-3637-434F-A72B-1B60DE745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31F9-CBBF-43BA-85A0-DE400912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9E73-D57D-403F-B927-EE87B52B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573D-C6AF-4641-81B4-AC8F2D85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2871-59F4-4596-A2E7-67C7095C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6899-3EB7-4857-9A49-96538BDA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F917-6268-45F7-A2CA-F279E8B8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21AE-E2DB-4E5C-9F68-CB610B96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097F-4B24-476E-9235-21A7A3D2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A760-837D-4582-8E7C-476388D1A42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40C0-5382-4F64-B18E-7CE15BFC788B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езентация по теме: «Одежда».                       </a:t>
            </a: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Группа раннего возраста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                  </a:t>
            </a: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Подготовила: Магомедова А.Р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odejda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3"/>
          <p:cNvPicPr/>
          <p:nvPr/>
        </p:nvPicPr>
        <p:blipFill>
          <a:blip r:embed="rId2"/>
          <a:stretch/>
        </p:blipFill>
        <p:spPr>
          <a:xfrm>
            <a:off x="4932360" y="1197000"/>
            <a:ext cx="4211640" cy="5661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6"/>
          <p:cNvSpPr/>
          <p:nvPr/>
        </p:nvSpPr>
        <p:spPr>
          <a:xfrm>
            <a:off x="5364000" y="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Юбка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879480" y="536400"/>
            <a:ext cx="772488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1311"/>
                </a:solidFill>
                <a:latin typeface="Arial"/>
              </a:rPr>
              <a:t>Цель: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знакомить детей с видами одежды и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их     назначением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Найди-Лишний-3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5"/>
          <p:cNvSpPr/>
          <p:nvPr/>
        </p:nvSpPr>
        <p:spPr>
          <a:xfrm>
            <a:off x="2176560" y="260280"/>
            <a:ext cx="473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Четвертый лишний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slide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5" descr="kartochki-kartinki-odejda-dlya-detey-skachat-77200-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голубо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Безрукавка-1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dc2538370d24ca1ec5098e901b4c010c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Куртка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Пальто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278126_600"/>
          <p:cNvPicPr/>
          <p:nvPr/>
        </p:nvPicPr>
        <p:blipFill>
          <a:blip r:embed="rId1"/>
          <a:stretch/>
        </p:blipFill>
        <p:spPr>
          <a:xfrm>
            <a:off x="0" y="692280"/>
            <a:ext cx="4211640" cy="6165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Шорты-1"/>
          <p:cNvPicPr/>
          <p:nvPr/>
        </p:nvPicPr>
        <p:blipFill>
          <a:blip r:embed="rId2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6"/>
          <p:cNvSpPr/>
          <p:nvPr/>
        </p:nvSpPr>
        <p:spPr>
          <a:xfrm>
            <a:off x="519120" y="18900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Штан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thumb300"/>
          <p:cNvPicPr/>
          <p:nvPr/>
        </p:nvPicPr>
        <p:blipFill>
          <a:blip r:embed="rId1"/>
          <a:stretch/>
        </p:blipFill>
        <p:spPr>
          <a:xfrm>
            <a:off x="0" y="115920"/>
            <a:ext cx="5029200" cy="6384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776773224_w640_h640_img_0588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Жакет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Блузка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ПРИЗ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dacf1e6eb81263a45fba7101be3"/>
          <p:cNvPicPr/>
          <p:nvPr/>
        </p:nvPicPr>
        <p:blipFill>
          <a:blip r:embed="rId1"/>
          <a:stretch/>
        </p:blipFill>
        <p:spPr>
          <a:xfrm>
            <a:off x="0" y="260280"/>
            <a:ext cx="4282920" cy="54007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812160" y="1017720"/>
            <a:ext cx="239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Перчатки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Picture 6" descr="Без названия (2)"/>
          <p:cNvPicPr/>
          <p:nvPr/>
        </p:nvPicPr>
        <p:blipFill>
          <a:blip r:embed="rId2"/>
          <a:stretch/>
        </p:blipFill>
        <p:spPr>
          <a:xfrm>
            <a:off x="4932360" y="1413000"/>
            <a:ext cx="4211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Без названия (1)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c202-12_mini5"/>
          <p:cNvPicPr/>
          <p:nvPr/>
        </p:nvPicPr>
        <p:blipFill>
          <a:blip r:embed="rId2"/>
          <a:stretch/>
        </p:blipFill>
        <p:spPr>
          <a:xfrm>
            <a:off x="4932360" y="0"/>
            <a:ext cx="4064040" cy="50846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6"/>
          <p:cNvSpPr/>
          <p:nvPr/>
        </p:nvSpPr>
        <p:spPr>
          <a:xfrm>
            <a:off x="5149080" y="5084640"/>
            <a:ext cx="266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Носки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13" name="Object 8"/>
          <p:cNvGraphicFramePr/>
          <p:nvPr/>
        </p:nvGraphicFramePr>
        <p:xfrm>
          <a:off x="1523880" y="5462640"/>
          <a:ext cx="6096240" cy="3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5462640"/>
                    <a:ext cx="60962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4T13:42:33Z</dcterms:created>
  <dc:creator>Гайдар</dc:creator>
  <dc:description/>
  <dc:language>en-US</dc:language>
  <cp:lastModifiedBy>Гайдар</cp:lastModifiedBy>
  <dcterms:modified xsi:type="dcterms:W3CDTF">2017-09-26T18:35:33Z</dcterms:modified>
  <cp:revision>4</cp:revision>
  <dc:subject/>
  <dc:title>Презентация по теме: «Одежда»</dc:title>
</cp:coreProperties>
</file>