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CE85-A403-40BC-93AB-A819F01F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AE2-8376-449C-B762-A903102A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AEB-2A93-4517-BEE2-DA6746A4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C87C-257C-4BCD-BE1D-F65B39FE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CAF0-BC8F-4C09-80B6-6BB1C7BC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3A10-5E8B-419C-954D-92D98433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64FF-09D0-4910-9BEC-BEA7FBB3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C3AF-2F34-4C8B-8F9F-445DE32B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0ECB-595C-4F1B-8B9F-7FC58E75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6678-4C12-4E68-8621-64B4531A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C37D-95A3-4BFA-9E85-39F77C7F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029-A34D-4FD3-9C05-5A9F6CA0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DD97-B2CA-4FDC-BB5E-7E26F731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5E95-F224-4556-A744-7715261E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3951-0223-42DB-9961-EFD64B6A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0B2A-6CE4-4505-A9A3-210350E7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C4B2-46C6-4FCA-86AE-8DE103E2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C46-8BE0-4D5C-AF06-DCBAF5B8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29A-D713-4AA1-9480-A79C5CD5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EB2-285E-40B6-AC01-DE0F2BDA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997-3A1A-45ED-9814-8019FF26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E30B-6117-48C5-86E9-FEAA3FE0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7CD-5330-4B8B-A934-6ABA35C8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1C8-5F17-4C1D-AC03-C407C9AF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1973-E772-4638-A7AF-CAC18A8708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E77C-1A0A-4E8F-9746-195F9FF61D6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езентация по теме: «Одежда».                       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Группа раннего возраста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Подготовила: Магомедова А.Р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odejda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3"/>
          <p:cNvPicPr/>
          <p:nvPr/>
        </p:nvPicPr>
        <p:blipFill>
          <a:blip r:embed="rId2"/>
          <a:stretch/>
        </p:blipFill>
        <p:spPr>
          <a:xfrm>
            <a:off x="4932360" y="1197000"/>
            <a:ext cx="4211640" cy="5661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5364000" y="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Юбк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879480" y="536400"/>
            <a:ext cx="772488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1311"/>
                </a:solidFill>
                <a:latin typeface="Arial"/>
              </a:rPr>
              <a:t>Цель: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знакомить детей с видами одежды и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их     назначением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Найди-Лишний-3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2176560" y="260280"/>
            <a:ext cx="473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Четвертый лишний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slide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kartochki-kartinki-odejda-dlya-detey-skachat-77200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голубо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Безрукавка-1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dc2538370d24ca1ec5098e901b4c010c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Куртка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Пальто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278126_600"/>
          <p:cNvPicPr/>
          <p:nvPr/>
        </p:nvPicPr>
        <p:blipFill>
          <a:blip r:embed="rId1"/>
          <a:stretch/>
        </p:blipFill>
        <p:spPr>
          <a:xfrm>
            <a:off x="0" y="692280"/>
            <a:ext cx="4211640" cy="6165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Шорты-1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"/>
          <p:cNvSpPr/>
          <p:nvPr/>
        </p:nvSpPr>
        <p:spPr>
          <a:xfrm>
            <a:off x="519120" y="18900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Штан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thumb300"/>
          <p:cNvPicPr/>
          <p:nvPr/>
        </p:nvPicPr>
        <p:blipFill>
          <a:blip r:embed="rId1"/>
          <a:stretch/>
        </p:blipFill>
        <p:spPr>
          <a:xfrm>
            <a:off x="0" y="115920"/>
            <a:ext cx="5029200" cy="6384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776773224_w640_h640_img_0588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Жакет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Блузка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ПРИЗ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dacf1e6eb81263a45fba7101be3"/>
          <p:cNvPicPr/>
          <p:nvPr/>
        </p:nvPicPr>
        <p:blipFill>
          <a:blip r:embed="rId1"/>
          <a:stretch/>
        </p:blipFill>
        <p:spPr>
          <a:xfrm>
            <a:off x="0" y="260280"/>
            <a:ext cx="4282920" cy="5400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812160" y="1017720"/>
            <a:ext cx="239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Перчатк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6" descr="Без названия (2)"/>
          <p:cNvPicPr/>
          <p:nvPr/>
        </p:nvPicPr>
        <p:blipFill>
          <a:blip r:embed="rId2"/>
          <a:stretch/>
        </p:blipFill>
        <p:spPr>
          <a:xfrm>
            <a:off x="4932360" y="1413000"/>
            <a:ext cx="421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Без названия (1)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c202-12_mini5"/>
          <p:cNvPicPr/>
          <p:nvPr/>
        </p:nvPicPr>
        <p:blipFill>
          <a:blip r:embed="rId2"/>
          <a:stretch/>
        </p:blipFill>
        <p:spPr>
          <a:xfrm>
            <a:off x="4932360" y="0"/>
            <a:ext cx="4064040" cy="50846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5149080" y="508464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Носки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3" name="Object 8"/>
          <p:cNvGraphicFramePr/>
          <p:nvPr/>
        </p:nvGraphicFramePr>
        <p:xfrm>
          <a:off x="1523880" y="5462640"/>
          <a:ext cx="6096240" cy="3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5462640"/>
                    <a:ext cx="60962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4T13:42:33Z</dcterms:created>
  <dc:creator>Гайдар</dc:creator>
  <dc:description/>
  <dc:language>en-US</dc:language>
  <cp:lastModifiedBy>Гайдар</cp:lastModifiedBy>
  <dcterms:modified xsi:type="dcterms:W3CDTF">2017-09-26T18:35:33Z</dcterms:modified>
  <cp:revision>4</cp:revision>
  <dc:subject/>
  <dc:title>Презентация по теме: «Одежда»</dc:title>
</cp:coreProperties>
</file>