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9FE-8DF4-4134-A2B1-1FE07713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2A2-98EA-456B-AA3B-70FFA7A0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84B-AF04-43E5-8859-5AD19365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877-B804-4E5F-B5F2-A9DC495C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DF0C-0367-409B-ADB3-E89F2284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A8CE-C22F-49F0-AC8E-1D10CEF4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C7D4-9196-4AF9-BB72-25628F81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E673-53D3-45E2-B575-1EC25C91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997F-940A-4CA5-B78C-400D62ED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FEDF-0A9B-4DC7-A326-3CF1CEF5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36FB-6CA0-428C-B278-C4A923B9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079-4C1D-4338-8D16-7C10309B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D61D-C097-4762-A2A8-E2AB878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27BB-3A80-40EE-B580-2869C51B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37CF-6E23-479D-A196-763879C8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B57E-249B-44C6-BF41-97C828DB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6E03-A5EC-4135-AF2D-780D422B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DBF-BE6B-4589-A9AB-681C6F97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D6B-8CB0-42FE-9968-401DFBB4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456-DADA-4316-8B2F-1A486725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C4A-0F95-45ED-8E4D-968D0E6A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D03-F02A-45D7-89FE-CDBB6913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8BA-9AC2-4DF0-A9B7-FF681CC8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610-4B4E-46B7-8BF1-BB764A15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38F7-37BE-476E-B966-825F6BC921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1520-645B-4CB7-9CD5-F842F38A092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езентация по теме: «Одежда».                       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Группа раннего возраст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Подготовила: Магомедова А.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odejda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3"/>
          <p:cNvPicPr/>
          <p:nvPr/>
        </p:nvPicPr>
        <p:blipFill>
          <a:blip r:embed="rId2"/>
          <a:stretch/>
        </p:blipFill>
        <p:spPr>
          <a:xfrm>
            <a:off x="4932360" y="1197000"/>
            <a:ext cx="4211640" cy="5661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5364000" y="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Юб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879480" y="536400"/>
            <a:ext cx="77248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знакомить детей с видами одежды и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их     назначением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Найди-Лишний-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176560" y="260280"/>
            <a:ext cx="473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Четвертый лишний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slide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kartochki-kartinki-odejda-dlya-detey-skachat-77200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голубо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Безрукавка-1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dc2538370d24ca1ec5098e901b4c010c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Куртка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Пальто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278126_600"/>
          <p:cNvPicPr/>
          <p:nvPr/>
        </p:nvPicPr>
        <p:blipFill>
          <a:blip r:embed="rId1"/>
          <a:stretch/>
        </p:blipFill>
        <p:spPr>
          <a:xfrm>
            <a:off x="0" y="692280"/>
            <a:ext cx="4211640" cy="6165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Шорты-1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519120" y="18900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Шта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thumb300"/>
          <p:cNvPicPr/>
          <p:nvPr/>
        </p:nvPicPr>
        <p:blipFill>
          <a:blip r:embed="rId1"/>
          <a:stretch/>
        </p:blipFill>
        <p:spPr>
          <a:xfrm>
            <a:off x="0" y="115920"/>
            <a:ext cx="5029200" cy="6384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776773224_w640_h640_img_0588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Жакет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Блузка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ПРИЗ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dacf1e6eb81263a45fba7101be3"/>
          <p:cNvPicPr/>
          <p:nvPr/>
        </p:nvPicPr>
        <p:blipFill>
          <a:blip r:embed="rId1"/>
          <a:stretch/>
        </p:blipFill>
        <p:spPr>
          <a:xfrm>
            <a:off x="0" y="260280"/>
            <a:ext cx="4282920" cy="5400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812160" y="1017720"/>
            <a:ext cx="23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ерчатк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6" descr="Без названия (2)"/>
          <p:cNvPicPr/>
          <p:nvPr/>
        </p:nvPicPr>
        <p:blipFill>
          <a:blip r:embed="rId2"/>
          <a:stretch/>
        </p:blipFill>
        <p:spPr>
          <a:xfrm>
            <a:off x="4932360" y="1413000"/>
            <a:ext cx="421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Без названия (1)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202-12_mini5"/>
          <p:cNvPicPr/>
          <p:nvPr/>
        </p:nvPicPr>
        <p:blipFill>
          <a:blip r:embed="rId2"/>
          <a:stretch/>
        </p:blipFill>
        <p:spPr>
          <a:xfrm>
            <a:off x="4932360" y="0"/>
            <a:ext cx="4064040" cy="50846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5149080" y="508464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Носки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3" name="Object 8"/>
          <p:cNvGraphicFramePr/>
          <p:nvPr/>
        </p:nvGraphicFramePr>
        <p:xfrm>
          <a:off x="1523880" y="5462640"/>
          <a:ext cx="609624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462640"/>
                    <a:ext cx="6096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4T13:42:33Z</dcterms:created>
  <dc:creator>Гайдар</dc:creator>
  <dc:description/>
  <dc:language>en-US</dc:language>
  <cp:lastModifiedBy>Гайдар</cp:lastModifiedBy>
  <dcterms:modified xsi:type="dcterms:W3CDTF">2017-09-26T18:35:33Z</dcterms:modified>
  <cp:revision>4</cp:revision>
  <dc:subject/>
  <dc:title>Презентация по теме: «Одежда»</dc:title>
</cp:coreProperties>
</file>