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45A-3604-4F9D-9B15-95E67620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5DE-8A5A-4168-900B-5D2A4793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BD8-5319-4835-BE35-4402C4D0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2EA-770E-4D45-BF7F-C7DDC389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5F53-B7E1-4589-9798-95AC0F94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552D-9BF4-4C7F-9ABE-1C923E87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86EB-8D75-43CD-A9B4-CF952BA1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0061-A5BC-4ECD-8EF5-C8C8516B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FB75-FE64-479F-845E-2E336816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FCB3-95EE-40D5-9941-6D27E993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DE97-82A2-431C-9714-312CC2DA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C9B-A348-47DE-AE93-75A50DB1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BA6B-E563-45C8-BB06-CB8BE907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F3B4-2F24-4F26-A46F-E6A9B01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EC1A-6355-4D37-BD92-1AE355F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EAA9-4DF0-4ABE-84E2-68B3F43E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1CAB-910B-4EE8-8BAE-BC1DC0D2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D037-81C5-4AE8-AF15-96B2A7F7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0D69-0F51-4BDC-A689-61807154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D5F84-8D07-44B9-91F7-81B0F929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C7EB-0E7C-4F2A-9924-BEB04E6A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9909-87E2-4F98-A28F-314E1077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6D5-F426-4123-9024-9F85A293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CF01-1C64-4A19-8687-F7B5C9E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A0EE-64F7-4BF3-BCBF-A67B324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90EE-1D54-4B87-8EC8-F19BDB24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637E3-576D-4854-85D8-DBA9B9B7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B987-DEB9-4914-B508-2C461A66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D6159-1524-4102-A4A8-6E8291F5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BCFC-FC0D-4CA9-8001-43D2E189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BE97-D3C2-44F4-B216-4A745B70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180E-CE59-46E2-9857-EBF8335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C24F-1BD2-421E-AE32-C5EF40E9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475-CBAE-4AD4-B176-97BCF3D2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F45B5-F69F-4ECB-A9C7-4FA36DF1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475F-AF46-4A83-BBB5-0467E0C5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B863-A5B9-4841-B1E4-391A9D31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16CF-CC06-4530-8D7C-C6B89993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0F91-7FB6-45E7-95D0-41A6481F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59C3-DD6B-4843-A002-C0015863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ABE0-F529-44F1-AFEC-E0D28AE9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CE98-F873-46B8-A9FD-94529E61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3B6E-59FF-424D-A0F8-048FCFCF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4AB-8CDE-4E26-9858-F7A26ADF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DDE-091D-41EA-BAF2-D2E268A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FF7-56AA-43DD-81EB-D2B5AE54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EE3-49A8-466B-AEC7-93559B6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781-A0A0-45FC-A6CB-1041232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7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A5826-2AB4-4152-873E-BC773782E76C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E07D2-B354-4166-9924-F3DCEC691AB9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8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7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4BBB0-D486-4D4A-8464-EA3559818ADC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8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7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9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E9BF3-2316-48BC-B1D8-C37C75684ED9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8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77880" y="2160360"/>
            <a:ext cx="10777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bb3517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bb3517"/>
                </a:solidFill>
                <a:latin typeface="Times New Roman"/>
                <a:ea typeface="Times New Roman"/>
              </a:rPr>
              <a:t>ПЕСОЧНАЯ СТРАНА»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tretch/>
        </p:blipFill>
        <p:spPr>
          <a:xfrm>
            <a:off x="2612880" y="2887560"/>
            <a:ext cx="56293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639720" y="522360"/>
            <a:ext cx="474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шебный дружо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 желтый песо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и немножко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кажи дорожку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1"/>
          <a:stretch/>
        </p:blipFill>
        <p:spPr>
          <a:xfrm>
            <a:off x="6461280" y="222120"/>
            <a:ext cx="5365440" cy="33307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2"/>
          <a:stretch/>
        </p:blipFill>
        <p:spPr>
          <a:xfrm>
            <a:off x="339840" y="2208240"/>
            <a:ext cx="5581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388800" y="222120"/>
            <a:ext cx="4680000" cy="3056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2"/>
          <a:stretch/>
        </p:blipFill>
        <p:spPr>
          <a:xfrm>
            <a:off x="6505560" y="111240"/>
            <a:ext cx="5133960" cy="31669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"/>
          <p:cNvPicPr/>
          <p:nvPr/>
        </p:nvPicPr>
        <p:blipFill>
          <a:blip r:embed="rId3"/>
          <a:stretch/>
        </p:blipFill>
        <p:spPr>
          <a:xfrm>
            <a:off x="3457440" y="3395520"/>
            <a:ext cx="57121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257040" y="169920"/>
            <a:ext cx="3845160" cy="33433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"/>
          <p:cNvPicPr/>
          <p:nvPr/>
        </p:nvPicPr>
        <p:blipFill>
          <a:blip r:embed="rId2"/>
          <a:stretch/>
        </p:blipFill>
        <p:spPr>
          <a:xfrm>
            <a:off x="8386920" y="169920"/>
            <a:ext cx="3585960" cy="43495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" descr=""/>
          <p:cNvPicPr/>
          <p:nvPr/>
        </p:nvPicPr>
        <p:blipFill>
          <a:blip r:embed="rId3"/>
          <a:stretch/>
        </p:blipFill>
        <p:spPr>
          <a:xfrm>
            <a:off x="4245120" y="2193840"/>
            <a:ext cx="39970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311040" y="169920"/>
            <a:ext cx="3934080" cy="3735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"/>
          <p:cNvPicPr/>
          <p:nvPr/>
        </p:nvPicPr>
        <p:blipFill>
          <a:blip r:embed="rId2"/>
          <a:stretch/>
        </p:blipFill>
        <p:spPr>
          <a:xfrm>
            <a:off x="7981920" y="169920"/>
            <a:ext cx="4016520" cy="37353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"/>
          <p:cNvPicPr/>
          <p:nvPr/>
        </p:nvPicPr>
        <p:blipFill>
          <a:blip r:embed="rId3"/>
          <a:stretch/>
        </p:blipFill>
        <p:spPr>
          <a:xfrm>
            <a:off x="4075200" y="2835360"/>
            <a:ext cx="3801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165240" y="117360"/>
            <a:ext cx="47066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7053120" y="0"/>
            <a:ext cx="4756320" cy="3330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3"/>
          <a:stretch/>
        </p:blipFill>
        <p:spPr>
          <a:xfrm>
            <a:off x="3787920" y="3330720"/>
            <a:ext cx="477648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374760" y="222120"/>
            <a:ext cx="4119480" cy="32655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"/>
          <p:cNvPicPr/>
          <p:nvPr/>
        </p:nvPicPr>
        <p:blipFill>
          <a:blip r:embed="rId2"/>
          <a:stretch/>
        </p:blipFill>
        <p:spPr>
          <a:xfrm>
            <a:off x="6897600" y="222120"/>
            <a:ext cx="4645080" cy="33768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"/>
          <p:cNvPicPr/>
          <p:nvPr/>
        </p:nvPicPr>
        <p:blipFill>
          <a:blip r:embed="rId3"/>
          <a:stretch/>
        </p:blipFill>
        <p:spPr>
          <a:xfrm>
            <a:off x="3949560" y="2847960"/>
            <a:ext cx="34909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388800" y="274680"/>
            <a:ext cx="3895920" cy="32130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" descr=""/>
          <p:cNvPicPr/>
          <p:nvPr/>
        </p:nvPicPr>
        <p:blipFill>
          <a:blip r:embed="rId2"/>
          <a:stretch/>
        </p:blipFill>
        <p:spPr>
          <a:xfrm>
            <a:off x="7289640" y="287280"/>
            <a:ext cx="4589640" cy="32004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3" descr=""/>
          <p:cNvPicPr/>
          <p:nvPr/>
        </p:nvPicPr>
        <p:blipFill>
          <a:blip r:embed="rId3"/>
          <a:stretch/>
        </p:blipFill>
        <p:spPr>
          <a:xfrm>
            <a:off x="4154400" y="2990880"/>
            <a:ext cx="34606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4079880" cy="28101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"/>
          <p:cNvPicPr/>
          <p:nvPr/>
        </p:nvPicPr>
        <p:blipFill>
          <a:blip r:embed="rId2"/>
          <a:stretch/>
        </p:blipFill>
        <p:spPr>
          <a:xfrm>
            <a:off x="7275600" y="195120"/>
            <a:ext cx="4411440" cy="32529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3" descr=""/>
          <p:cNvPicPr/>
          <p:nvPr/>
        </p:nvPicPr>
        <p:blipFill>
          <a:blip r:embed="rId3"/>
          <a:stretch/>
        </p:blipFill>
        <p:spPr>
          <a:xfrm>
            <a:off x="1855800" y="3448080"/>
            <a:ext cx="51433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2050920" y="222120"/>
            <a:ext cx="846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педагогами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5" descr="I:\20.10 Наташа\IMG_8059.JPG"/>
          <p:cNvPicPr/>
          <p:nvPr/>
        </p:nvPicPr>
        <p:blipFill>
          <a:blip r:embed="rId1"/>
          <a:stretch/>
        </p:blipFill>
        <p:spPr>
          <a:xfrm>
            <a:off x="6448320" y="1322280"/>
            <a:ext cx="5446800" cy="4786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3"/>
          <p:cNvSpPr/>
          <p:nvPr/>
        </p:nvSpPr>
        <p:spPr>
          <a:xfrm>
            <a:off x="379440" y="1052640"/>
            <a:ext cx="56815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ы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пки – раскладушки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и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леты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312840" y="1844640"/>
            <a:ext cx="1153476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о усиливается желание ребенка узнавать что-то новое, экспериментировать и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сочнице мощно развивается тактильная чувствительность как основа «ручного интеллекта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играх с песком более гармонично и интенсивно развиваются все познавательные функции (восприятие, внимание, память, мышление), а также речь и мотор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четвертых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ршенствуется предметно-игровая деятельность, что в дальнейшем способствует развитию сюжетно-ролевой игры и коммуникативных навыков ребен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пятых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сок, как и вода, способен «заземлять» отрицательную энергию, что особенно актуально в работе с «особыми» деть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312840" y="274680"/>
            <a:ext cx="1171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традиционных педагогических занятий в песочницу дает больший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й и образовательный эффект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жели стандартные формы обучения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77520" y="1331640"/>
            <a:ext cx="911844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данной проблемы очевидна на сегодняшний день и заключается в том, что многие современные концепции дошкольного образования признают незаменимое влияние песочной терапии на речевое развитие ребёнка. Совершенствование системы коррекционного образования — не только задача педагогов-практиков, но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ая пробл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даментальной педагогической науки, динамично меняющейся в условиях современной жизн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irc_mi" descr="http://vse-o-detkah.ru/wp-content/uploads/2012/07/%D0%B8%D0%B3%D1%80%D1%8B-%D1%81-%D0%BF%D0%B5%D1%81%D0%BA%D0%BE%D0%BC1.jpg"/>
          <p:cNvPicPr/>
          <p:nvPr/>
        </p:nvPicPr>
        <p:blipFill>
          <a:blip r:embed="rId1"/>
          <a:stretch/>
        </p:blipFill>
        <p:spPr>
          <a:xfrm>
            <a:off x="8634240" y="5068800"/>
            <a:ext cx="15750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1449360" y="404640"/>
            <a:ext cx="949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irc_mi" descr="http://detsad-kitty.ru/uploads/posts/2014-01/1390735663_3910914-769217-sand-castle.jpg"/>
          <p:cNvPicPr/>
          <p:nvPr/>
        </p:nvPicPr>
        <p:blipFill>
          <a:blip r:embed="rId1"/>
          <a:stretch/>
        </p:blipFill>
        <p:spPr>
          <a:xfrm>
            <a:off x="3147840" y="1606680"/>
            <a:ext cx="6309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1449000"/>
            <a:ext cx="8596440" cy="23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грамоте;  развитие речи, познавательных и     психических  процессов; развитие  мелкой моторики, с помощью песочной терапии у детей с нарушениями реч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9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2120" y="1161720"/>
            <a:ext cx="1098576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5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Коррекционно-образовательные: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развивать речь (звуковые  и  смысловые стороны); работать над  автоматизацией звуков; совершенствовать  слоговую структуру слова, связную  речь; учить выстраивать композиции на песке по образцу и по замысл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Коррекционно-развивающие: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развивать психические  процессы (мышление, память, воображение, фантазию), логическое мышление, тонкие тактильные ощущения, мелкую моторику.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  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Коррекционно-воспитательные: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воспитание внимания, выдержки, ответственности; создание положительного эмоционального настроя у   детей и желания занимать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44600" y="731520"/>
            <a:ext cx="10463040" cy="62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применении пескотерапии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ются все психические и познавательные  процессы – речь, моторика, восприятие, внимание,   память и мышление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ется тактильная чувствительность, как основа «ручного интеллекта»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ивается желание ребёнка узнавать что-то новое, экспериментировать и работать самостоятельно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ствуется предметно-игровая деятельность, что способствует развитию сюжетно-ролевой игры  и  коммуникативных навыков ребёнк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587520" y="365040"/>
            <a:ext cx="9705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гр с песком, является очень эффективным средством в образовательной и коррекционно-развивающей работе с детьми. Можно использовать игровые упражнения с песком в индивидуальной логопедической работе с детьми, а также как элемент подгруппового занятия, в процессе которых решаются очень многие задач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нематических представлени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поставленных звуков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грамот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язной реч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логовой структуры реч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6019920" y="1751040"/>
            <a:ext cx="337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ей закройте глазк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у я: «Раз, два, тр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утитесь вы в сказк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 доброго пути!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48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1"/>
          <a:stretch/>
        </p:blipFill>
        <p:spPr>
          <a:xfrm>
            <a:off x="262080" y="1554120"/>
            <a:ext cx="5341680" cy="34876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"/>
          <p:cNvPicPr/>
          <p:nvPr/>
        </p:nvPicPr>
        <p:blipFill>
          <a:blip r:embed="rId2"/>
          <a:stretch/>
        </p:blipFill>
        <p:spPr>
          <a:xfrm>
            <a:off x="6283440" y="3174840"/>
            <a:ext cx="554652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3048120" y="30751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равствуй, наш песоче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тенький дружочек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152280" y="136440"/>
            <a:ext cx="4394160" cy="2938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2"/>
          <a:stretch/>
        </p:blipFill>
        <p:spPr>
          <a:xfrm>
            <a:off x="7327800" y="136440"/>
            <a:ext cx="4500720" cy="293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"/>
          <p:cNvPicPr/>
          <p:nvPr/>
        </p:nvPicPr>
        <p:blipFill>
          <a:blip r:embed="rId3"/>
          <a:stretch/>
        </p:blipFill>
        <p:spPr>
          <a:xfrm>
            <a:off x="152280" y="3632040"/>
            <a:ext cx="4394160" cy="3036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4"/>
          <a:stretch/>
        </p:blipFill>
        <p:spPr>
          <a:xfrm>
            <a:off x="7327800" y="3632040"/>
            <a:ext cx="45007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5408640" y="1109520"/>
            <a:ext cx="441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 сегодня ждет песоче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, свежий, золото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и сюда, дружоче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ешь рой, а хочешь – строй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2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4550040" cy="30556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3" descr=""/>
          <p:cNvPicPr/>
          <p:nvPr/>
        </p:nvPicPr>
        <p:blipFill>
          <a:blip r:embed="rId2"/>
          <a:stretch/>
        </p:blipFill>
        <p:spPr>
          <a:xfrm>
            <a:off x="7272360" y="3017880"/>
            <a:ext cx="4484520" cy="3618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"/>
          <p:cNvPicPr/>
          <p:nvPr/>
        </p:nvPicPr>
        <p:blipFill>
          <a:blip r:embed="rId3"/>
          <a:stretch/>
        </p:blipFill>
        <p:spPr>
          <a:xfrm>
            <a:off x="152280" y="3395520"/>
            <a:ext cx="6527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0T17:28:46Z</dcterms:created>
  <dc:creator>RePack by Diakov</dc:creator>
  <dc:description/>
  <dc:language>en-US</dc:language>
  <cp:lastModifiedBy>RePack by Diakov</cp:lastModifiedBy>
  <dcterms:modified xsi:type="dcterms:W3CDTF">2017-12-12T19:25:28Z</dcterms:modified>
  <cp:revision>12</cp:revision>
  <dc:subject/>
  <dc:title>ПРЕЗЕНТАЦИЯ</dc:title>
</cp:coreProperties>
</file>