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47F1-D4A4-40A5-A76A-879B05CBA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D8C0-6715-407D-AE0F-DAB0517C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535E-BFFB-46CA-9848-16EF449EA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8384-2AA1-4494-BDAB-CB7643818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CCF3-EB58-41C7-8680-9FAC6B923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73AF-7BB5-4062-8B61-4D37C5BE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4F4A8-70F2-4108-9B92-D7615E24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D8D4-BFCE-4C25-9EF1-231F5528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E7FD-0CBD-47C5-AB2F-9B2D980E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5E94-3754-4760-B5E5-88CA4C5B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6AB9-CFD1-4A61-98EF-FACAF4EF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0F5D-BEBB-4900-AF70-EE060381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03C3-F1D0-413E-8835-83F60384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8313-AD3E-4916-82A3-0E261288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FDE1-B325-4F80-8348-C1DFA942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D02BC-F643-4339-8F77-B6229AEE0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0F55-8450-49D3-AC2C-BE3E7BE99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A4977-CBEA-4214-B0C1-EF9D67CDE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ECC3A-9B7A-45F4-91BE-E11754BA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10B2A-3C12-4591-802B-0B0729FB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E1960-DFB7-4FE5-B179-C8F68C58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B35B4-FBFD-48AD-85AE-299EB365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00BF-73DC-48C2-970E-28236E6E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96A5C-4803-4999-91D5-42CAF0C6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D3E24-F260-42B0-B02F-39355FF5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24875-ED7F-4217-A916-72306E15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5E58F-BF1C-49E4-AC9D-E4A99A9D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3D2F2-04A7-495A-9C0B-47609519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CD671-D34B-4D97-B4C3-B98B0CB9B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EA6DD-68AF-4C94-A549-40A9E1BB4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798A5-ECF9-4E1C-962F-6AFDF2F8E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4AAE3-270C-4ADA-B1D9-4141FEDD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79D9B-B2AE-46F4-BBCF-0F271CB1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101B-0DB0-403F-8A70-7AE2D95E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95CDD-7153-4B4F-90B2-AE0D8B27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7DD1B-BB35-4E3B-9E1F-B5556D58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2340D-3D64-49B3-AD5E-73FD247B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E88A8-54F5-45D5-AB76-C61046F6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45CBD-8457-430B-816F-7ED8CD18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E2CD1-9F06-4FD9-8AD8-083E4C5C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B02EB-0F6D-4F27-8F5D-9A41D5FE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9B000-BB3E-429D-94C3-50230EBD5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229DD-5AB5-45B2-8CBA-F47DC5E10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2685-94DC-44D8-A6E9-15B0501B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9D3A-24AE-496C-95EA-3D8B38BA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A0EE-C1DD-4F37-9160-85A2A2D6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B7F1-4C68-40DD-AD3C-7A1C04ED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95F3-B597-4AD1-837F-37AAC7A9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8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8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19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2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6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b2136d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7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eb3d9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BEFDA0-ED1A-43BF-B1E1-E917484DB902}" type="slidenum">
              <a:rPr b="0" lang="en-US" sz="900" spc="-1" strike="noStrike">
                <a:solidFill>
                  <a:srgbClr val="eb3d9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5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18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2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26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b2136d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2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eb3d9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ADD5F6-41A5-411E-ACE8-D0EEDE6DB660}" type="slidenum">
              <a:rPr b="0" lang="en-US" sz="900" spc="-1" strike="noStrike">
                <a:solidFill>
                  <a:srgbClr val="eb3d9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8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8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19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2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6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b2136d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7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9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eb3d9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583B6A-4020-4F21-BFB8-9E42FD775036}" type="slidenum">
              <a:rPr b="0" lang="en-US" sz="900" spc="-1" strike="noStrike">
                <a:solidFill>
                  <a:srgbClr val="eb3d9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28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8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19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2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6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b2136d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7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9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eb3d9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42F923-19FA-4C4B-8FFB-216D2D26EB50}" type="slidenum">
              <a:rPr b="0" lang="en-US" sz="900" spc="-1" strike="noStrike">
                <a:solidFill>
                  <a:srgbClr val="eb3d9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8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ЗЕНТАЦИЯ</a:t>
            </a:r>
            <a:endParaRPr b="0" lang="en-US" sz="8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77880" y="2160360"/>
            <a:ext cx="107776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bb3517"/>
                </a:solidFill>
                <a:latin typeface="Times New Roman"/>
                <a:ea typeface="Times New Roman"/>
              </a:rPr>
              <a:t>«</a:t>
            </a:r>
            <a:r>
              <a:rPr b="1" i="1" lang="ru-RU" sz="4000" spc="-1" strike="noStrike">
                <a:solidFill>
                  <a:srgbClr val="bb3517"/>
                </a:solidFill>
                <a:latin typeface="Times New Roman"/>
                <a:ea typeface="Times New Roman"/>
              </a:rPr>
              <a:t>ПЕСОЧНАЯ СТРАНА»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4" name="Рисунок 3" descr=""/>
          <p:cNvPicPr/>
          <p:nvPr/>
        </p:nvPicPr>
        <p:blipFill>
          <a:blip r:embed="rId1"/>
          <a:stretch/>
        </p:blipFill>
        <p:spPr>
          <a:xfrm>
            <a:off x="2612880" y="2887560"/>
            <a:ext cx="562932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639720" y="522360"/>
            <a:ext cx="4741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лшебный дружок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ш желтый песок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и немножко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скажи дорожку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Рисунок 2" descr=""/>
          <p:cNvPicPr/>
          <p:nvPr/>
        </p:nvPicPr>
        <p:blipFill>
          <a:blip r:embed="rId1"/>
          <a:stretch/>
        </p:blipFill>
        <p:spPr>
          <a:xfrm>
            <a:off x="6461280" y="222120"/>
            <a:ext cx="5365440" cy="333072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3" descr=""/>
          <p:cNvPicPr/>
          <p:nvPr/>
        </p:nvPicPr>
        <p:blipFill>
          <a:blip r:embed="rId2"/>
          <a:stretch/>
        </p:blipFill>
        <p:spPr>
          <a:xfrm>
            <a:off x="339840" y="2208240"/>
            <a:ext cx="55814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Рисунок 1" descr=""/>
          <p:cNvPicPr/>
          <p:nvPr/>
        </p:nvPicPr>
        <p:blipFill>
          <a:blip r:embed="rId1"/>
          <a:stretch/>
        </p:blipFill>
        <p:spPr>
          <a:xfrm>
            <a:off x="388800" y="222120"/>
            <a:ext cx="4680000" cy="305604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2" descr=""/>
          <p:cNvPicPr/>
          <p:nvPr/>
        </p:nvPicPr>
        <p:blipFill>
          <a:blip r:embed="rId2"/>
          <a:stretch/>
        </p:blipFill>
        <p:spPr>
          <a:xfrm>
            <a:off x="6505560" y="111240"/>
            <a:ext cx="5133960" cy="316692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3" descr=""/>
          <p:cNvPicPr/>
          <p:nvPr/>
        </p:nvPicPr>
        <p:blipFill>
          <a:blip r:embed="rId3"/>
          <a:stretch/>
        </p:blipFill>
        <p:spPr>
          <a:xfrm>
            <a:off x="3457440" y="3395520"/>
            <a:ext cx="571212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Рисунок 1" descr=""/>
          <p:cNvPicPr/>
          <p:nvPr/>
        </p:nvPicPr>
        <p:blipFill>
          <a:blip r:embed="rId1"/>
          <a:stretch/>
        </p:blipFill>
        <p:spPr>
          <a:xfrm>
            <a:off x="257040" y="169920"/>
            <a:ext cx="3845160" cy="334332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2" descr=""/>
          <p:cNvPicPr/>
          <p:nvPr/>
        </p:nvPicPr>
        <p:blipFill>
          <a:blip r:embed="rId2"/>
          <a:stretch/>
        </p:blipFill>
        <p:spPr>
          <a:xfrm>
            <a:off x="8386920" y="169920"/>
            <a:ext cx="3585960" cy="434952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3" descr=""/>
          <p:cNvPicPr/>
          <p:nvPr/>
        </p:nvPicPr>
        <p:blipFill>
          <a:blip r:embed="rId3"/>
          <a:stretch/>
        </p:blipFill>
        <p:spPr>
          <a:xfrm>
            <a:off x="4245120" y="2193840"/>
            <a:ext cx="399708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Рисунок 1" descr=""/>
          <p:cNvPicPr/>
          <p:nvPr/>
        </p:nvPicPr>
        <p:blipFill>
          <a:blip r:embed="rId1"/>
          <a:stretch/>
        </p:blipFill>
        <p:spPr>
          <a:xfrm>
            <a:off x="311040" y="169920"/>
            <a:ext cx="3934080" cy="373536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2" descr=""/>
          <p:cNvPicPr/>
          <p:nvPr/>
        </p:nvPicPr>
        <p:blipFill>
          <a:blip r:embed="rId2"/>
          <a:stretch/>
        </p:blipFill>
        <p:spPr>
          <a:xfrm>
            <a:off x="7981920" y="169920"/>
            <a:ext cx="4016520" cy="373536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4" descr=""/>
          <p:cNvPicPr/>
          <p:nvPr/>
        </p:nvPicPr>
        <p:blipFill>
          <a:blip r:embed="rId3"/>
          <a:stretch/>
        </p:blipFill>
        <p:spPr>
          <a:xfrm>
            <a:off x="4075200" y="2835360"/>
            <a:ext cx="380196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Рисунок 1" descr=""/>
          <p:cNvPicPr/>
          <p:nvPr/>
        </p:nvPicPr>
        <p:blipFill>
          <a:blip r:embed="rId1"/>
          <a:stretch/>
        </p:blipFill>
        <p:spPr>
          <a:xfrm>
            <a:off x="165240" y="117360"/>
            <a:ext cx="4706640" cy="335772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2" descr=""/>
          <p:cNvPicPr/>
          <p:nvPr/>
        </p:nvPicPr>
        <p:blipFill>
          <a:blip r:embed="rId2"/>
          <a:stretch/>
        </p:blipFill>
        <p:spPr>
          <a:xfrm>
            <a:off x="7053120" y="0"/>
            <a:ext cx="4756320" cy="333072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3" descr=""/>
          <p:cNvPicPr/>
          <p:nvPr/>
        </p:nvPicPr>
        <p:blipFill>
          <a:blip r:embed="rId3"/>
          <a:stretch/>
        </p:blipFill>
        <p:spPr>
          <a:xfrm>
            <a:off x="3787920" y="3330720"/>
            <a:ext cx="4776480" cy="34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Рисунок 1" descr=""/>
          <p:cNvPicPr/>
          <p:nvPr/>
        </p:nvPicPr>
        <p:blipFill>
          <a:blip r:embed="rId1"/>
          <a:stretch/>
        </p:blipFill>
        <p:spPr>
          <a:xfrm>
            <a:off x="374760" y="222120"/>
            <a:ext cx="4119480" cy="326556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2" descr=""/>
          <p:cNvPicPr/>
          <p:nvPr/>
        </p:nvPicPr>
        <p:blipFill>
          <a:blip r:embed="rId2"/>
          <a:stretch/>
        </p:blipFill>
        <p:spPr>
          <a:xfrm>
            <a:off x="6897600" y="222120"/>
            <a:ext cx="4645080" cy="337680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3" descr=""/>
          <p:cNvPicPr/>
          <p:nvPr/>
        </p:nvPicPr>
        <p:blipFill>
          <a:blip r:embed="rId3"/>
          <a:stretch/>
        </p:blipFill>
        <p:spPr>
          <a:xfrm>
            <a:off x="3949560" y="2847960"/>
            <a:ext cx="349092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Рисунок 1" descr=""/>
          <p:cNvPicPr/>
          <p:nvPr/>
        </p:nvPicPr>
        <p:blipFill>
          <a:blip r:embed="rId1"/>
          <a:stretch/>
        </p:blipFill>
        <p:spPr>
          <a:xfrm>
            <a:off x="388800" y="274680"/>
            <a:ext cx="3895920" cy="321300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2" descr=""/>
          <p:cNvPicPr/>
          <p:nvPr/>
        </p:nvPicPr>
        <p:blipFill>
          <a:blip r:embed="rId2"/>
          <a:stretch/>
        </p:blipFill>
        <p:spPr>
          <a:xfrm>
            <a:off x="7289640" y="287280"/>
            <a:ext cx="4589640" cy="320040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3" descr=""/>
          <p:cNvPicPr/>
          <p:nvPr/>
        </p:nvPicPr>
        <p:blipFill>
          <a:blip r:embed="rId3"/>
          <a:stretch/>
        </p:blipFill>
        <p:spPr>
          <a:xfrm>
            <a:off x="4154400" y="2990880"/>
            <a:ext cx="34606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Рисунок 1" descr=""/>
          <p:cNvPicPr/>
          <p:nvPr/>
        </p:nvPicPr>
        <p:blipFill>
          <a:blip r:embed="rId1"/>
          <a:stretch/>
        </p:blipFill>
        <p:spPr>
          <a:xfrm>
            <a:off x="347760" y="195120"/>
            <a:ext cx="4079880" cy="281016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2" descr=""/>
          <p:cNvPicPr/>
          <p:nvPr/>
        </p:nvPicPr>
        <p:blipFill>
          <a:blip r:embed="rId2"/>
          <a:stretch/>
        </p:blipFill>
        <p:spPr>
          <a:xfrm>
            <a:off x="7275600" y="195120"/>
            <a:ext cx="4411440" cy="325296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3" descr=""/>
          <p:cNvPicPr/>
          <p:nvPr/>
        </p:nvPicPr>
        <p:blipFill>
          <a:blip r:embed="rId3"/>
          <a:stretch/>
        </p:blipFill>
        <p:spPr>
          <a:xfrm>
            <a:off x="1855800" y="3448080"/>
            <a:ext cx="514332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1"/>
          <p:cNvSpPr/>
          <p:nvPr/>
        </p:nvSpPr>
        <p:spPr>
          <a:xfrm>
            <a:off x="2050920" y="222120"/>
            <a:ext cx="846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бота с педагогами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2" name="Picture 5" descr="I:\20.10 Наташа\IMG_8059.JPG"/>
          <p:cNvPicPr/>
          <p:nvPr/>
        </p:nvPicPr>
        <p:blipFill>
          <a:blip r:embed="rId1"/>
          <a:stretch/>
        </p:blipFill>
        <p:spPr>
          <a:xfrm>
            <a:off x="6448320" y="1322280"/>
            <a:ext cx="5446800" cy="4786560"/>
          </a:xfrm>
          <a:prstGeom prst="rect">
            <a:avLst/>
          </a:prstGeom>
          <a:ln w="0">
            <a:noFill/>
          </a:ln>
        </p:spPr>
      </p:pic>
      <p:sp>
        <p:nvSpPr>
          <p:cNvPr id="263" name="Прямоугольник 3"/>
          <p:cNvSpPr/>
          <p:nvPr/>
        </p:nvSpPr>
        <p:spPr>
          <a:xfrm>
            <a:off x="379440" y="1052640"/>
            <a:ext cx="568152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седы,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пки – раскладушки,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ультации,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клеты,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омендаци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тер-класс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оугольник 1"/>
          <p:cNvSpPr/>
          <p:nvPr/>
        </p:nvSpPr>
        <p:spPr>
          <a:xfrm>
            <a:off x="312840" y="1844640"/>
            <a:ext cx="11534760" cy="47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первых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енно усиливается желание ребенка узнавать что-то новое, экспериментировать и работать самостоятельно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вторых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сочнице мощно развивается тактильная чувствительность как основа «ручного интеллекта»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-третьих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играх с песком более гармонично и интенсивно развиваются все познавательные функции (восприятие, внимание, память, мышление), а также речь и моторик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-четвертых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вершенствуется предметно-игровая деятельность, что в дальнейшем способствует развитию сюжетно-ролевой игры и коммуникативных навыков ребенк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-пятых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сок, как и вода, способен «заземлять» отрицательную энергию, что особенно актуально в работе с «особыми» детьм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Прямоугольник 2"/>
          <p:cNvSpPr/>
          <p:nvPr/>
        </p:nvSpPr>
        <p:spPr>
          <a:xfrm>
            <a:off x="312840" y="274680"/>
            <a:ext cx="1171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нос традиционных педагогических занятий в песочницу дает больший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ный и образовательный эффект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жели стандартные формы обучения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8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77520" y="1331640"/>
            <a:ext cx="9118440" cy="47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данной проблемы очевидна на сегодняшний день и заключается в том, что многие современные концепции дошкольного образования признают незаменимое влияние песочной терапии на речевое развитие ребёнка. Совершенствование системы коррекционного образования — не только задача педагогов-практиков, но 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ая проблем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ундаментальной педагогической науки, динамично меняющейся в условиях современной жизни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7" name="irc_mi" descr="http://vse-o-detkah.ru/wp-content/uploads/2012/07/%D0%B8%D0%B3%D1%80%D1%8B-%D1%81-%D0%BF%D0%B5%D1%81%D0%BA%D0%BE%D0%BC1.jpg"/>
          <p:cNvPicPr/>
          <p:nvPr/>
        </p:nvPicPr>
        <p:blipFill>
          <a:blip r:embed="rId1"/>
          <a:stretch/>
        </p:blipFill>
        <p:spPr>
          <a:xfrm>
            <a:off x="8634240" y="5068800"/>
            <a:ext cx="157500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1"/>
          <p:cNvSpPr/>
          <p:nvPr/>
        </p:nvSpPr>
        <p:spPr>
          <a:xfrm>
            <a:off x="1449360" y="404640"/>
            <a:ext cx="949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7" name="irc_mi" descr="http://detsad-kitty.ru/uploads/posts/2014-01/1390735663_3910914-769217-sand-castle.jpg"/>
          <p:cNvPicPr/>
          <p:nvPr/>
        </p:nvPicPr>
        <p:blipFill>
          <a:blip r:embed="rId1"/>
          <a:stretch/>
        </p:blipFill>
        <p:spPr>
          <a:xfrm>
            <a:off x="3147840" y="1606680"/>
            <a:ext cx="630900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77520" y="1449000"/>
            <a:ext cx="8596440" cy="23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учение грамоте;  развитие речи, познавательных и     психических  процессов; развитие  мелкой моторики, с помощью песочной терапии у детей с нарушениями речи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9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: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22120" y="1161720"/>
            <a:ext cx="10985760" cy="53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5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Коррекционно-образовательные: 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развивать речь (звуковые  и  смысловые стороны); работать над  автоматизацией звуков; совершенствовать  слоговую структуру слова, связную  речь; учить выстраивать композиции на песке по образцу и по замыслу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5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Коррекционно-развивающие: 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развивать психические  процессы (мышление, память, воображение, фантазию), логическое мышление, тонкие тактильные ощущения, мелкую моторику.</a:t>
            </a: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  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5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Коррекционно-воспитательные: 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воспитание внимания, выдержки, ответственности; создание положительного эмоционального настроя у   детей и желания заниматься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Calibri"/>
              </a:rPr>
              <a:t>    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44600" y="731520"/>
            <a:ext cx="10463040" cy="625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 применении пескотерапии: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виваются все психические и познавательные  процессы – речь, моторика, восприятие, внимание,   память и мышление;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вивается тактильная чувствительность, как основа «ручного интеллекта»;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силивается желание ребёнка узнавать что-то новое, экспериментировать и работать самостоятельно;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вершенствуется предметно-игровая деятельность, что способствует развитию сюжетно-ролевой игры  и  коммуникативных навыков ребёнка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1"/>
          <p:cNvSpPr/>
          <p:nvPr/>
        </p:nvSpPr>
        <p:spPr>
          <a:xfrm>
            <a:off x="587520" y="365040"/>
            <a:ext cx="97059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игр с песком, является очень эффективным средством в образовательной и коррекционно-развивающей работе с детьми. Можно использовать игровые упражнения с песком в индивидуальной логопедической работе с детьми, а также как элемент подгруппового занятия, в процессе которых решаются очень многие задачи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фонематических представлений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грамматического строя реч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ация поставленных звуков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грамоте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связной реч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слоговой структуры реч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мелкой моторики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1"/>
          <p:cNvSpPr/>
          <p:nvPr/>
        </p:nvSpPr>
        <p:spPr>
          <a:xfrm>
            <a:off x="6019920" y="1751040"/>
            <a:ext cx="3371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рей закройте глазки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ажу я: «Раз, два, три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чутитесь вы в сказке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м доброго пути!»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бота с детьми</a:t>
            </a:r>
            <a:endParaRPr b="0" lang="en-US" sz="48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226" name="Рисунок 3" descr=""/>
          <p:cNvPicPr/>
          <p:nvPr/>
        </p:nvPicPr>
        <p:blipFill>
          <a:blip r:embed="rId1"/>
          <a:stretch/>
        </p:blipFill>
        <p:spPr>
          <a:xfrm>
            <a:off x="262080" y="1554120"/>
            <a:ext cx="5341680" cy="348768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4" descr=""/>
          <p:cNvPicPr/>
          <p:nvPr/>
        </p:nvPicPr>
        <p:blipFill>
          <a:blip r:embed="rId2"/>
          <a:stretch/>
        </p:blipFill>
        <p:spPr>
          <a:xfrm>
            <a:off x="6283440" y="3174840"/>
            <a:ext cx="5546520" cy="34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1"/>
          <p:cNvSpPr/>
          <p:nvPr/>
        </p:nvSpPr>
        <p:spPr>
          <a:xfrm>
            <a:off x="3048120" y="3075120"/>
            <a:ext cx="60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дравствуй, наш песочек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елтенький дружочек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Рисунок 2" descr=""/>
          <p:cNvPicPr/>
          <p:nvPr/>
        </p:nvPicPr>
        <p:blipFill>
          <a:blip r:embed="rId1"/>
          <a:stretch/>
        </p:blipFill>
        <p:spPr>
          <a:xfrm>
            <a:off x="152280" y="136440"/>
            <a:ext cx="4394160" cy="293868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3" descr=""/>
          <p:cNvPicPr/>
          <p:nvPr/>
        </p:nvPicPr>
        <p:blipFill>
          <a:blip r:embed="rId2"/>
          <a:stretch/>
        </p:blipFill>
        <p:spPr>
          <a:xfrm>
            <a:off x="7327800" y="136440"/>
            <a:ext cx="4500720" cy="293868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4" descr=""/>
          <p:cNvPicPr/>
          <p:nvPr/>
        </p:nvPicPr>
        <p:blipFill>
          <a:blip r:embed="rId3"/>
          <a:stretch/>
        </p:blipFill>
        <p:spPr>
          <a:xfrm>
            <a:off x="152280" y="3632040"/>
            <a:ext cx="4394160" cy="303696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5" descr=""/>
          <p:cNvPicPr/>
          <p:nvPr/>
        </p:nvPicPr>
        <p:blipFill>
          <a:blip r:embed="rId4"/>
          <a:stretch/>
        </p:blipFill>
        <p:spPr>
          <a:xfrm>
            <a:off x="7327800" y="3632040"/>
            <a:ext cx="450072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оугольник 1"/>
          <p:cNvSpPr/>
          <p:nvPr/>
        </p:nvSpPr>
        <p:spPr>
          <a:xfrm>
            <a:off x="5408640" y="1109520"/>
            <a:ext cx="441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с сегодня ждет песочек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тый, свежий, золотой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ходи сюда, дружочек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чешь рой, а хочешь – строй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Рисунок 2" descr=""/>
          <p:cNvPicPr/>
          <p:nvPr/>
        </p:nvPicPr>
        <p:blipFill>
          <a:blip r:embed="rId1"/>
          <a:stretch/>
        </p:blipFill>
        <p:spPr>
          <a:xfrm>
            <a:off x="152280" y="157320"/>
            <a:ext cx="4550040" cy="305568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3" descr=""/>
          <p:cNvPicPr/>
          <p:nvPr/>
        </p:nvPicPr>
        <p:blipFill>
          <a:blip r:embed="rId2"/>
          <a:stretch/>
        </p:blipFill>
        <p:spPr>
          <a:xfrm>
            <a:off x="7272360" y="3017880"/>
            <a:ext cx="4484520" cy="361800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4" descr=""/>
          <p:cNvPicPr/>
          <p:nvPr/>
        </p:nvPicPr>
        <p:blipFill>
          <a:blip r:embed="rId3"/>
          <a:stretch/>
        </p:blipFill>
        <p:spPr>
          <a:xfrm>
            <a:off x="152280" y="3395520"/>
            <a:ext cx="6527880" cy="33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20T17:28:46Z</dcterms:created>
  <dc:creator>RePack by Diakov</dc:creator>
  <dc:description/>
  <dc:language>en-US</dc:language>
  <cp:lastModifiedBy>RePack by Diakov</cp:lastModifiedBy>
  <dcterms:modified xsi:type="dcterms:W3CDTF">2017-12-12T19:25:28Z</dcterms:modified>
  <cp:revision>12</cp:revision>
  <dc:subject/>
  <dc:title>ПРЕЗЕНТАЦИЯ</dc:title>
</cp:coreProperties>
</file>