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008-D019-4DCA-862D-16F40760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662-36EB-4AD3-8031-7196F5B3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D00-C2EC-4580-8F66-CA5D7423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A4B-BF95-4351-B557-03C81C14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C64A-4EE0-4DA1-A731-F4A35E10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7221-7A73-4442-AE14-4BF843CB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4705-804C-415A-A81E-1FA52402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1513-3745-4E04-A524-3C80D923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BA1B-40DC-45E4-AF17-24C0ECF6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D470-1B2A-4F46-8A77-AC0FE8C5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31FC-E00E-49FD-88CA-59F9ABFB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322-CD46-447D-AC79-FED3CA5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D251-5620-4C0F-BF15-DC337D8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F651-5602-465E-A671-A98472E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5662-3108-4D6A-AAAA-CAB1F834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EE44-72DC-43CD-A3F0-F382CD1F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5DBD-07AC-4D64-B3F6-C1E07765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BE09A-05E8-4D85-9286-4F8BBCD4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229B-C7BE-4BA1-ACC7-70DCA4D7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1BF5-7988-411C-BDD7-5381AE67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5FB5-1616-40EA-AF4C-55E08223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2379-21B1-4CC2-8EC9-F34207EC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C3E-1D5E-416B-B87B-4800E398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D6B5-C431-419D-8DA6-FD1696FF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2B07-8D54-4433-9E66-00BB416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0C4D-CBC8-4CCB-ABF5-135D74AB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F06B-6F9F-46FA-BC03-3211270E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EDB8-6A16-4CF0-A390-CB24195C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9904-D569-4344-A904-2EF77C4C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2D98-7B53-4E08-AB60-79DCBFC6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07C5-8E67-4EA7-B3CB-A503F81F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E3EA4-7122-4A5C-80AE-12DFF261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D5E4-C1D9-4BA7-A1A6-3A630BA5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49F-365A-4A3D-9F6A-F8759BCC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8B36-DE7B-4862-89D2-484799B6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891B-F482-465B-BAE4-C56209F0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EA93F-46F9-487C-A8DE-CA4AA0B4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9224-B953-442A-816A-C95733C0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95B0-93D0-43EA-B4BA-DC746FC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F7F4-0FA9-457C-9B64-AF2EEF82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4F6E9-3238-477D-9D52-950F6E00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53A27-584C-438F-8CAB-1A69F5F6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F540-38F0-4804-9EA7-ABAECA8E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E4C92-0579-4909-8FC8-EA633632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626-5D6B-4186-B421-97007348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2D02F-DAC6-483B-8A28-5393240D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8E48-9744-4258-808C-31091AA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22DE-BEC6-438D-A6A8-B83F7DC7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4DA2E-8041-4B2E-88B5-C09B8657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C2D0F-A7D5-466B-90EB-4E12CC5C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6173A-BAE6-46BC-AEF2-83B847F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3CB0C-8BF5-451D-9C84-62675861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E2FC-6A27-42FC-96C5-7544E12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AC2A1-8E1B-47C4-81AB-63D202A3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EFBE1-DF82-4BE4-B12A-6057B294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C13-EE85-4FDA-9F09-2C55F98E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1F613-2793-48D5-8B35-AEB386BF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6FA-9853-46CF-B12C-3F92DEE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9B8-0AAA-4076-BA6F-201B854A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41E-09CF-4957-9949-4C57322C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A506-1311-49BC-A762-05E46179F8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FE9D-916E-4F57-8AFE-6EC224DB66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9FB5-B68D-4F58-A1CD-B13C32C78E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9EF8-ED42-4E30-BF23-10472AE96EF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D54E-E278-4BD8-A57B-015D8E4E9B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3" descr=""/>
          <p:cNvPicPr/>
          <p:nvPr/>
        </p:nvPicPr>
        <p:blipFill>
          <a:blip r:embed="rId1"/>
          <a:stretch/>
        </p:blipFill>
        <p:spPr>
          <a:xfrm>
            <a:off x="1852560" y="1590840"/>
            <a:ext cx="6585120" cy="2500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36640" y="4000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Руководитель: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учительница технологии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МБОУ Гнездовская СШ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Шлогова Людмила Васильевн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59" name="Прямоугольник 14" descr=""/>
          <p:cNvPicPr/>
          <p:nvPr/>
        </p:nvPicPr>
        <p:blipFill>
          <a:blip r:embed="rId2"/>
          <a:stretch/>
        </p:blipFill>
        <p:spPr>
          <a:xfrm>
            <a:off x="3243240" y="5748480"/>
            <a:ext cx="3949560" cy="7617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4"/>
          <p:cNvSpPr/>
          <p:nvPr/>
        </p:nvSpPr>
        <p:spPr>
          <a:xfrm>
            <a:off x="1714680" y="42876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нездовская средня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ленского района Смол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циальный заказ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ьница начальных классов обратилась к учителю технологии с просьбой помочь сшить костюмы для проекта «Богатыр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удут нужны: сарафаны, кокошники, рубах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бота закипела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Шьём сарафан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вочки 6-7 классов взялись за пошив сарафанов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Форма сарафана: колокол (сшиваем из двух полотнищ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Сарафан  украшаем тесьмо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5" name="Содержимое 4" descr="DSC08122.JPG"/>
          <p:cNvPicPr/>
          <p:nvPr/>
        </p:nvPicPr>
        <p:blipFill>
          <a:blip r:embed="rId1"/>
          <a:srcRect l="16960" t="0" r="12735" b="0"/>
          <a:stretch/>
        </p:blipFill>
        <p:spPr>
          <a:xfrm>
            <a:off x="5715000" y="642960"/>
            <a:ext cx="300024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ши сарафан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7" name="Содержимое 9" descr="DSC08121.JPG"/>
          <p:cNvPicPr/>
          <p:nvPr/>
        </p:nvPicPr>
        <p:blipFill>
          <a:blip r:embed="rId1"/>
          <a:srcRect l="9721" t="0" r="12154" b="0"/>
          <a:stretch/>
        </p:blipFill>
        <p:spPr>
          <a:xfrm>
            <a:off x="1071720" y="1643040"/>
            <a:ext cx="2786040" cy="475452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8" descr="DSC08124.JPG"/>
          <p:cNvPicPr/>
          <p:nvPr/>
        </p:nvPicPr>
        <p:blipFill>
          <a:blip r:embed="rId2"/>
          <a:srcRect l="14354" t="0" r="22083" b="0"/>
          <a:stretch/>
        </p:blipFill>
        <p:spPr>
          <a:xfrm>
            <a:off x="3929040" y="1143000"/>
            <a:ext cx="2428920" cy="50943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0" descr="DSC08125.JPG"/>
          <p:cNvPicPr/>
          <p:nvPr/>
        </p:nvPicPr>
        <p:blipFill>
          <a:blip r:embed="rId3"/>
          <a:srcRect l="20014" t="0" r="17362" b="0"/>
          <a:stretch/>
        </p:blipFill>
        <p:spPr>
          <a:xfrm>
            <a:off x="6500880" y="1571760"/>
            <a:ext cx="2270160" cy="4832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им рубах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вушки 10 класса придумали, как из обычной мужской сорочки сделать рубахи для богатырей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. Манжеты отрезаем, а край рукава украшаем тесьмо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. Воротник подворачиваем внутрь или отрезаем и горловину и полочку украшаем тесьм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. Кушак изготовим из шерстяных нит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2" name="Содержимое 6" descr="DSC08133.JPG"/>
          <p:cNvPicPr/>
          <p:nvPr/>
        </p:nvPicPr>
        <p:blipFill>
          <a:blip r:embed="rId1"/>
          <a:srcRect l="0" t="16136" r="0" b="0"/>
          <a:stretch/>
        </p:blipFill>
        <p:spPr>
          <a:xfrm>
            <a:off x="5786280" y="3000240"/>
            <a:ext cx="2953080" cy="18576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DSC08135.JPG"/>
          <p:cNvPicPr/>
          <p:nvPr/>
        </p:nvPicPr>
        <p:blipFill>
          <a:blip r:embed="rId2"/>
          <a:stretch/>
        </p:blipFill>
        <p:spPr>
          <a:xfrm>
            <a:off x="5786280" y="642960"/>
            <a:ext cx="2953080" cy="22147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8" descr="DSC08134.JPG"/>
          <p:cNvPicPr/>
          <p:nvPr/>
        </p:nvPicPr>
        <p:blipFill>
          <a:blip r:embed="rId3"/>
          <a:srcRect l="0" t="28126" r="0" b="0"/>
          <a:stretch/>
        </p:blipFill>
        <p:spPr>
          <a:xfrm>
            <a:off x="5786280" y="5000760"/>
            <a:ext cx="304812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ши рубах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6" name="Содержимое 4" descr="DSC08131.JPG"/>
          <p:cNvPicPr/>
          <p:nvPr/>
        </p:nvPicPr>
        <p:blipFill>
          <a:blip r:embed="rId1"/>
          <a:stretch/>
        </p:blipFill>
        <p:spPr>
          <a:xfrm>
            <a:off x="1000080" y="1214280"/>
            <a:ext cx="2800440" cy="3733920"/>
          </a:xfrm>
          <a:prstGeom prst="rect">
            <a:avLst/>
          </a:prstGeom>
          <a:ln w="0">
            <a:noFill/>
          </a:ln>
        </p:spPr>
      </p:pic>
      <p:pic>
        <p:nvPicPr>
          <p:cNvPr id="277" name="Содержимое 5" descr="DSC08132.JPG"/>
          <p:cNvPicPr/>
          <p:nvPr/>
        </p:nvPicPr>
        <p:blipFill>
          <a:blip r:embed="rId2"/>
          <a:stretch/>
        </p:blipFill>
        <p:spPr>
          <a:xfrm>
            <a:off x="3571920" y="22147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6" descr="DSC08130.JPG"/>
          <p:cNvPicPr/>
          <p:nvPr/>
        </p:nvPicPr>
        <p:blipFill>
          <a:blip r:embed="rId3"/>
          <a:stretch/>
        </p:blipFill>
        <p:spPr>
          <a:xfrm>
            <a:off x="6327720" y="2786040"/>
            <a:ext cx="2816280" cy="3755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отовим кокошник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вушки 11 класса придумали эскиз, подобрали материалы для украшения (бисер и ленты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следовательность работ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Делаем шаблон –основу из картона, из ткани выкраиваем 2 делали (по шаблону), сшиваем картонные и тканевые детал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Из бисера делаем цепочки, выкладываем их по кокошнику, пришиваем резинку и лен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1" name="Содержимое 4" descr="DSC08126.JPG"/>
          <p:cNvPicPr/>
          <p:nvPr/>
        </p:nvPicPr>
        <p:blipFill>
          <a:blip r:embed="rId1"/>
          <a:stretch/>
        </p:blipFill>
        <p:spPr>
          <a:xfrm>
            <a:off x="5276880" y="24843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ши кокошни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3" name="Содержимое 4" descr="DSC08128.JPG"/>
          <p:cNvPicPr/>
          <p:nvPr/>
        </p:nvPicPr>
        <p:blipFill>
          <a:blip r:embed="rId1"/>
          <a:stretch/>
        </p:blipFill>
        <p:spPr>
          <a:xfrm>
            <a:off x="1214280" y="2571840"/>
            <a:ext cx="3786480" cy="2840040"/>
          </a:xfrm>
          <a:prstGeom prst="rect">
            <a:avLst/>
          </a:prstGeom>
          <a:ln w="0">
            <a:noFill/>
          </a:ln>
        </p:spPr>
      </p:pic>
      <p:pic>
        <p:nvPicPr>
          <p:cNvPr id="284" name="Содержимое 5" descr="DSC08129.JPG"/>
          <p:cNvPicPr/>
          <p:nvPr/>
        </p:nvPicPr>
        <p:blipFill>
          <a:blip r:embed="rId2"/>
          <a:stretch/>
        </p:blipFill>
        <p:spPr>
          <a:xfrm>
            <a:off x="5214960" y="39290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6" descr="DSC08127.JPG"/>
          <p:cNvPicPr/>
          <p:nvPr/>
        </p:nvPicPr>
        <p:blipFill>
          <a:blip r:embed="rId3"/>
          <a:stretch/>
        </p:blipFill>
        <p:spPr>
          <a:xfrm>
            <a:off x="5214960" y="1143000"/>
            <a:ext cx="357192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езентация проекта «Богатыри» в МБОУ Сметанинской СШ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7" name="Содержимое 5" descr="DSC04129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10:22:02Z</dcterms:created>
  <dc:creator>Admin</dc:creator>
  <dc:description/>
  <dc:language>en-US</dc:language>
  <cp:lastModifiedBy>Admin</cp:lastModifiedBy>
  <dcterms:modified xsi:type="dcterms:W3CDTF">2017-12-11T12:00:21Z</dcterms:modified>
  <cp:revision>9</cp:revision>
  <dc:subject/>
  <dc:title>Слайд 1</dc:title>
</cp:coreProperties>
</file>