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0FC-FFC1-4403-A464-79B02B55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69F-2E8F-4F7E-A7CF-EDFB2505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7EA-FD18-4A6E-90CB-C1F97F09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1FA-F7C0-433C-B09E-EA1F7F26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560-B670-427D-B2A1-E94FAF1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034-1FB2-4447-834E-12D0E12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E1A2-1EB8-41FE-891A-8BF39BC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7182-1695-4783-A5A4-833F0FA0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CF5E-FFDB-47DB-B3F9-2EAA760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E6E-0837-44A3-9C43-3E161AD3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F347-68C0-4B1F-BBD0-A9F9459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590-0623-4570-9369-36340C87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EEB7-5887-4F29-9C5E-EBE0C63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278-697D-465E-9AB3-7971BCF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3A46-682A-4E31-8359-CF48FFDC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C694-0160-401F-8E6A-9A92FC4A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45E-CD68-4A7B-8376-BE8DD196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5A0B-A38E-4880-803D-1331EAB4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053D-26C6-401E-9827-7909F34D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BF80-D188-4E2E-AD47-7855A46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C510-C477-4E30-BC58-930C8189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E9BE-CD46-4B6A-B5FC-D5B415C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2E3-353C-4468-B38E-735823F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87C9-87A3-4904-B218-B0D9FE1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0B0B-86DD-4248-A34F-3A957FB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9DE3-77FB-4A6F-BF00-97C48F2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0804-62F4-46F0-9EC1-467CFFB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34A4-40E5-414C-A037-9962CFFC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BA52-246A-42B2-98C7-EE1AD466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C7B3-3BA1-4DC1-A241-71F52109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EA70-833A-42B6-B3CA-A3B89715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E1CE-53ED-48B8-96B0-3E95C7F8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364E-52CA-4B84-A9AB-173843B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256-1828-45B1-9BC5-36E9B49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67AE-B556-4C4A-923C-D67A617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A5DE-B2A4-477F-8DC5-8A3871B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9F88-A6C4-47C4-937E-FC8B4B6E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5271-99EF-4C9D-AD31-3CA8A55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C9E4-00F2-4AE1-96E9-AE3CD98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44E3-E0BF-46D4-8BA5-F10FE06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34F3-1DF1-4CE7-A3AB-CCEB9E19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5E25-B80D-437F-8A61-9D9B4AB5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0785-BA3C-4692-A7D6-5C4E9F88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FD14-9692-465E-8C52-C41C7A78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C71-F543-4A28-9B00-395FDC36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BC42-BF75-4F6E-BEC5-9D59876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0BD0-914C-41FB-98E8-FC7FFB0A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0B86-503A-472B-8A41-F808AB5A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57FD-E4CC-4019-8F8F-BC2132BE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56E4-A8BD-487B-A1AF-5C7A3D82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66FB-5AAC-4FCB-BA5F-034EA27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EE8B-3239-4C68-97A2-A3A2635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60EF-BCA2-4FCA-B897-16C65D2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35F0-E2B8-43B3-B450-720F5E0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3217-18E2-4741-A2DB-59DC5B4C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5B7-5C6D-40A4-882C-C2AA5A9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D79D-0B84-4207-9996-9FBB0FF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F0C-3BEF-42F5-9B2F-DF5E695B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320-5DFE-4226-B0E3-2BFC867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4B1-0CFB-4F4D-851D-7A1DE43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F6F-2339-4745-978B-B5E4647565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6A6-7942-4D9A-9C8F-B2E7A6AA4A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5933-33B3-4C8C-8AD3-A30E22F4F9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A3D0-CBBB-4958-A65B-9242116E2A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C9D-E4E1-4F1E-B55B-78F36BFCC8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1590840"/>
            <a:ext cx="6585120" cy="2500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6640" y="4000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уководитель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чительница технологии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МБОУ Гнездовская СШ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Шлогова Людмила Васильевн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59" name="Прямоугольник 14" descr=""/>
          <p:cNvPicPr/>
          <p:nvPr/>
        </p:nvPicPr>
        <p:blipFill>
          <a:blip r:embed="rId2"/>
          <a:stretch/>
        </p:blipFill>
        <p:spPr>
          <a:xfrm>
            <a:off x="3243240" y="5748480"/>
            <a:ext cx="3949560" cy="7617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1714680" y="42876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нездов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ленского района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циальный зака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ьница начальных классов обратилась к учителю технологии с просьбой помочь сшить костюмы для проекта «Богатыр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дут нужны: сарафаны, кокошники, рубах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та закипел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Шьём сарафан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вочки 6-7 классов взялись за пошив сарафан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Форма сарафана: колокол (сшиваем из двух полотнищ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арафан  украшаем тесьмо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Содержимое 4" descr="DSC08122.JPG"/>
          <p:cNvPicPr/>
          <p:nvPr/>
        </p:nvPicPr>
        <p:blipFill>
          <a:blip r:embed="rId1"/>
          <a:srcRect l="16960" t="0" r="12735" b="0"/>
          <a:stretch/>
        </p:blipFill>
        <p:spPr>
          <a:xfrm>
            <a:off x="5715000" y="642960"/>
            <a:ext cx="3000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сарафа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7" name="Содержимое 9" descr="DSC08121.JPG"/>
          <p:cNvPicPr/>
          <p:nvPr/>
        </p:nvPicPr>
        <p:blipFill>
          <a:blip r:embed="rId1"/>
          <a:srcRect l="9721" t="0" r="12154" b="0"/>
          <a:stretch/>
        </p:blipFill>
        <p:spPr>
          <a:xfrm>
            <a:off x="1071720" y="1643040"/>
            <a:ext cx="2786040" cy="475452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8" descr="DSC08124.JPG"/>
          <p:cNvPicPr/>
          <p:nvPr/>
        </p:nvPicPr>
        <p:blipFill>
          <a:blip r:embed="rId2"/>
          <a:srcRect l="14354" t="0" r="22083" b="0"/>
          <a:stretch/>
        </p:blipFill>
        <p:spPr>
          <a:xfrm>
            <a:off x="3929040" y="1143000"/>
            <a:ext cx="2428920" cy="5094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0" descr="DSC08125.JPG"/>
          <p:cNvPicPr/>
          <p:nvPr/>
        </p:nvPicPr>
        <p:blipFill>
          <a:blip r:embed="rId3"/>
          <a:srcRect l="20014" t="0" r="17362" b="0"/>
          <a:stretch/>
        </p:blipFill>
        <p:spPr>
          <a:xfrm>
            <a:off x="6500880" y="1571760"/>
            <a:ext cx="2270160" cy="4832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им рубах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вушки 10 класса придумали, как из обычной мужской сорочки сделать рубахи для богатырей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Манжеты отрезаем, а край рукава украшаем тесьмо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Воротник подворачиваем внутрь или отрезаем и горловину и полочку украшаем тесьм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Кушак изготовим из шерстяных нит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Содержимое 6" descr="DSC08133.JPG"/>
          <p:cNvPicPr/>
          <p:nvPr/>
        </p:nvPicPr>
        <p:blipFill>
          <a:blip r:embed="rId1"/>
          <a:srcRect l="0" t="16136" r="0" b="0"/>
          <a:stretch/>
        </p:blipFill>
        <p:spPr>
          <a:xfrm>
            <a:off x="5786280" y="3000240"/>
            <a:ext cx="2953080" cy="18576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DSC08135.JPG"/>
          <p:cNvPicPr/>
          <p:nvPr/>
        </p:nvPicPr>
        <p:blipFill>
          <a:blip r:embed="rId2"/>
          <a:stretch/>
        </p:blipFill>
        <p:spPr>
          <a:xfrm>
            <a:off x="5786280" y="642960"/>
            <a:ext cx="2953080" cy="22147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DSC08134.JPG"/>
          <p:cNvPicPr/>
          <p:nvPr/>
        </p:nvPicPr>
        <p:blipFill>
          <a:blip r:embed="rId3"/>
          <a:srcRect l="0" t="28126" r="0" b="0"/>
          <a:stretch/>
        </p:blipFill>
        <p:spPr>
          <a:xfrm>
            <a:off x="5786280" y="5000760"/>
            <a:ext cx="304812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рубах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6" name="Содержимое 4" descr="DSC08131.JPG"/>
          <p:cNvPicPr/>
          <p:nvPr/>
        </p:nvPicPr>
        <p:blipFill>
          <a:blip r:embed="rId1"/>
          <a:stretch/>
        </p:blipFill>
        <p:spPr>
          <a:xfrm>
            <a:off x="1000080" y="1214280"/>
            <a:ext cx="2800440" cy="3733920"/>
          </a:xfrm>
          <a:prstGeom prst="rect">
            <a:avLst/>
          </a:prstGeom>
          <a:ln w="0">
            <a:noFill/>
          </a:ln>
        </p:spPr>
      </p:pic>
      <p:pic>
        <p:nvPicPr>
          <p:cNvPr id="277" name="Содержимое 5" descr="DSC08132.JPG"/>
          <p:cNvPicPr/>
          <p:nvPr/>
        </p:nvPicPr>
        <p:blipFill>
          <a:blip r:embed="rId2"/>
          <a:stretch/>
        </p:blipFill>
        <p:spPr>
          <a:xfrm>
            <a:off x="3571920" y="22147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6" descr="DSC08130.JPG"/>
          <p:cNvPicPr/>
          <p:nvPr/>
        </p:nvPicPr>
        <p:blipFill>
          <a:blip r:embed="rId3"/>
          <a:stretch/>
        </p:blipFill>
        <p:spPr>
          <a:xfrm>
            <a:off x="6327720" y="2786040"/>
            <a:ext cx="2816280" cy="375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 кокошник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вушки 11 класса придумали эскиз, подобрали материалы для украшения (бисер и ленты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ледовательность работ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Делаем шаблон –основу из картона, из ткани выкраиваем 2 делали (по шаблону), сшиваем картонные и тканевые дета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Из бисера делаем цепочки, выкладываем их по кокошнику, пришиваем резинку и лен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1" name="Содержимое 4" descr="DSC08126.JPG"/>
          <p:cNvPicPr/>
          <p:nvPr/>
        </p:nvPicPr>
        <p:blipFill>
          <a:blip r:embed="rId1"/>
          <a:stretch/>
        </p:blipFill>
        <p:spPr>
          <a:xfrm>
            <a:off x="5276880" y="24843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ши кокошн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3" name="Содержимое 4" descr="DSC08128.JPG"/>
          <p:cNvPicPr/>
          <p:nvPr/>
        </p:nvPicPr>
        <p:blipFill>
          <a:blip r:embed="rId1"/>
          <a:stretch/>
        </p:blipFill>
        <p:spPr>
          <a:xfrm>
            <a:off x="1214280" y="2571840"/>
            <a:ext cx="3786480" cy="2840040"/>
          </a:xfrm>
          <a:prstGeom prst="rect">
            <a:avLst/>
          </a:prstGeom>
          <a:ln w="0">
            <a:noFill/>
          </a:ln>
        </p:spPr>
      </p:pic>
      <p:pic>
        <p:nvPicPr>
          <p:cNvPr id="284" name="Содержимое 5" descr="DSC08129.JPG"/>
          <p:cNvPicPr/>
          <p:nvPr/>
        </p:nvPicPr>
        <p:blipFill>
          <a:blip r:embed="rId2"/>
          <a:stretch/>
        </p:blipFill>
        <p:spPr>
          <a:xfrm>
            <a:off x="5214960" y="39290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DSC08127.JPG"/>
          <p:cNvPicPr/>
          <p:nvPr/>
        </p:nvPicPr>
        <p:blipFill>
          <a:blip r:embed="rId3"/>
          <a:stretch/>
        </p:blipFill>
        <p:spPr>
          <a:xfrm>
            <a:off x="5214960" y="114300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зентация проекта «Богатыри» в МБОУ Сметанинской СШ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5" descr="DSC04129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10:22:02Z</dcterms:created>
  <dc:creator>Admin</dc:creator>
  <dc:description/>
  <dc:language>en-US</dc:language>
  <cp:lastModifiedBy>Admin</cp:lastModifiedBy>
  <dcterms:modified xsi:type="dcterms:W3CDTF">2017-12-11T12:00:21Z</dcterms:modified>
  <cp:revision>9</cp:revision>
  <dc:subject/>
  <dc:title>Слайд 1</dc:title>
</cp:coreProperties>
</file>