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A86D-9196-4975-9C75-56CB8BA3F1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ражание  зву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9851-BFA2-409F-A1B6-6516D30404B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машина  ед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9650-5B0D-4CF7-BDCE-5D4C5137D2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паровоз  гу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235D-93B5-4AB7-BE67-862FD09F80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амолёт  гу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8CB5-6E12-49F3-8CFC-E5B820D013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ная  машина  спеш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4E6-61E4-438F-87E4-DE64836B93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56D-0A5F-4877-866C-A71D91BA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12D-C5BA-442D-B4CC-1470F73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AEE-4ED6-4BEC-941D-4E04879D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9A7-BF78-40EC-9631-D30787D5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A6AD-6AD2-4733-B891-25B52529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DB96-BE69-48CE-A0E5-9DF388A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17C4-BF46-4E40-A169-EEB4AD85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F102-13E9-4D55-A70A-D0D6342F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63EE-FF20-4742-ACEC-C381B23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1983-B125-45B6-909C-2615AE66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A3D0-C195-4050-90ED-E2C6AD9A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548-4A39-4FDC-8126-2972A33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7DEA-D9CC-4E9E-8893-8F9E300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5972-CEF7-4FE0-8A28-1F19A6F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7F73-6052-46D3-BBDC-4BDDF0CA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2B3-3E54-49F0-BAB9-DE97BE61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290E-341C-422C-852C-EF990B01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F58-6775-47B6-913A-0D9100B8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147-EA59-4DEF-8357-17D8118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BFE-BCD2-4474-920E-ED10907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04F-2021-40DB-8BA6-B4E7E05B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51B-D78C-45B4-981E-1751B8F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900-6CCA-49A4-B990-B545325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67B-2F2A-4AEF-92D0-2C63EAC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117D-F541-4D0C-84A0-261A14E471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CBEC-4226-4011-9ADE-47179D1F37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Звуки транспорт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одражание  звук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Трактор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Содержимое 3" descr="трактор.jpg"/>
          <p:cNvPicPr/>
          <p:nvPr/>
        </p:nvPicPr>
        <p:blipFill>
          <a:blip r:embed="rId1"/>
          <a:stretch/>
        </p:blipFill>
        <p:spPr>
          <a:xfrm>
            <a:off x="1571760" y="1714680"/>
            <a:ext cx="62546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актор  как  разговаривает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параходный гудок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000240" y="1428840"/>
            <a:ext cx="294480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503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Пароход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Содержимое 3" descr="пароход.jpg"/>
          <p:cNvPicPr/>
          <p:nvPr/>
        </p:nvPicPr>
        <p:blipFill>
          <a:blip r:embed="rId1"/>
          <a:stretch/>
        </p:blipFill>
        <p:spPr>
          <a:xfrm>
            <a:off x="1785960" y="1643040"/>
            <a:ext cx="5897520" cy="4718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оход  гудит…….как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ментовская сирена - пипикалк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2786040" y="1285920"/>
            <a:ext cx="323064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309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Полицейская машин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Содержимое 3" descr="полицейская машина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лиция  гонитс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ментовская сирена - пипикалк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2786040" y="1285920"/>
            <a:ext cx="323064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3097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ю  подготовил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шунова  В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Машин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Содержимое 3" descr="джип.jpg"/>
          <p:cNvPicPr/>
          <p:nvPr/>
        </p:nvPicPr>
        <p:blipFill>
          <a:blip r:embed="rId1"/>
          <a:stretch/>
        </p:blipFill>
        <p:spPr>
          <a:xfrm>
            <a:off x="1298520" y="1600200"/>
            <a:ext cx="65469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 машина  едет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поезд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143160" y="1785960"/>
            <a:ext cx="2890800" cy="429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2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Поезд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Содержимое 3" descr="паровоз.jpg"/>
          <p:cNvPicPr/>
          <p:nvPr/>
        </p:nvPicPr>
        <p:blipFill>
          <a:blip r:embed="rId1"/>
          <a:stretch/>
        </p:blipFill>
        <p:spPr>
          <a:xfrm>
            <a:off x="1762200" y="1757520"/>
            <a:ext cx="5619600" cy="420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 паровоз  гудит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поезд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143160" y="1785960"/>
            <a:ext cx="2890800" cy="429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26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Самолет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Содержимое 3" descr="самолет.jpg"/>
          <p:cNvPicPr/>
          <p:nvPr/>
        </p:nvPicPr>
        <p:blipFill>
          <a:blip r:embed="rId1"/>
          <a:stretch/>
        </p:blipFill>
        <p:spPr>
          <a:xfrm>
            <a:off x="1643040" y="1928880"/>
            <a:ext cx="610884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 самолёт  гудит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Шумотека - Звук трактор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000240" y="1571760"/>
            <a:ext cx="3159360" cy="469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514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Скорая помощь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Содержимое 3" descr="скорая помощь.jpg"/>
          <p:cNvPicPr/>
          <p:nvPr/>
        </p:nvPicPr>
        <p:blipFill>
          <a:blip r:embed="rId1"/>
          <a:stretch/>
        </p:blipFill>
        <p:spPr>
          <a:xfrm>
            <a:off x="1714680" y="2286000"/>
            <a:ext cx="613872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жарная  машина  спешит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Шумотека - Звук трактор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000240" y="1571760"/>
            <a:ext cx="3159360" cy="469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551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5:29Z</dcterms:created>
  <dc:creator>User</dc:creator>
  <dc:description/>
  <dc:language>en-US</dc:language>
  <cp:lastModifiedBy>Дом</cp:lastModifiedBy>
  <dcterms:modified xsi:type="dcterms:W3CDTF">2017-11-25T17:32:58Z</dcterms:modified>
  <cp:revision>9</cp:revision>
  <dc:subject/>
  <dc:title>Масленица.</dc:title>
</cp:coreProperties>
</file>