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25A-D579-4843-83E7-D40357928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ражание  зву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D752-E548-4AAB-9A44-A68461DF88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машина  ед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0B0-4D78-41F6-8008-027FC00CBC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паровоз  гу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946A-EE3D-4384-822A-43E920BBA8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амолёт  гу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A38-7166-4EFC-9039-6737E6F2CC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ная  машина  спеш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820-2C26-4BCE-A9BB-C0EAAD17FF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5C9-0DCD-47E2-9C8A-D7D7D38B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931-A73B-4725-9B52-F6BC80F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9B9-9C38-4320-89D2-880B872D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603-740E-4B46-A89E-3BE11291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165E-B7B6-4839-85E7-6AA49C0E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5A37-5B78-4058-9287-D24B93BE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8767-020A-458E-9EBD-1E3EE8DA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734-DD2E-4521-A977-2FBD36B4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D659-FC20-423D-98DA-DACB155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1C5-367E-4DA8-B244-5FB5A6C1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311B-C3B9-4EEE-93CB-8BCE774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07B-5265-4C85-B34F-14CDF21E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80C-DF26-4606-A1A0-DD09A9F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6D0-2333-471B-9D17-F44F0BAA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C7E-2687-4F4D-A703-82B12C82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2ECD-810F-4D5E-B73B-10FF9720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6490-1C18-4030-8201-459D589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3B4-CD75-47FC-B520-0FDBDDF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B3F-5911-4897-A9E0-D8D391F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873-5BF2-40C9-B4E0-37AD12C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6D1-E62B-400B-916A-49435C3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5C6-6C20-47F7-BEE3-F7A4878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27C-26CD-4A79-80EA-AF32CCD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ADA-EC30-4807-94C9-4637AB4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450-119C-40A9-B989-3C7132919C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DDE4-2150-4590-892C-340916EFC9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Звуки транспорт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одражание  зву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Трактор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Содержимое 3" descr="трактор.jpg"/>
          <p:cNvPicPr/>
          <p:nvPr/>
        </p:nvPicPr>
        <p:blipFill>
          <a:blip r:embed="rId1"/>
          <a:stretch/>
        </p:blipFill>
        <p:spPr>
          <a:xfrm>
            <a:off x="1571760" y="1714680"/>
            <a:ext cx="62546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рактор  как  разговаривает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параходный гудок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428840"/>
            <a:ext cx="2944800" cy="437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03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арохо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Содержимое 3" descr="пароход.jpg"/>
          <p:cNvPicPr/>
          <p:nvPr/>
        </p:nvPicPr>
        <p:blipFill>
          <a:blip r:embed="rId1"/>
          <a:stretch/>
        </p:blipFill>
        <p:spPr>
          <a:xfrm>
            <a:off x="1785960" y="1643040"/>
            <a:ext cx="5897520" cy="471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роход  гудит…….как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ментовская сирена - пипикалк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2786040" y="1285920"/>
            <a:ext cx="323064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309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олицейская машин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Содержимое 3" descr="полицейская машина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ция  гонитс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ментовская сирена - пипикалк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2786040" y="1285920"/>
            <a:ext cx="323064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097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ю  подготовил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шунова  В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Машин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Содержимое 3" descr="джип.jpg"/>
          <p:cNvPicPr/>
          <p:nvPr/>
        </p:nvPicPr>
        <p:blipFill>
          <a:blip r:embed="rId1"/>
          <a:stretch/>
        </p:blipFill>
        <p:spPr>
          <a:xfrm>
            <a:off x="1298520" y="1600200"/>
            <a:ext cx="65469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машина  еде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поезд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143160" y="1785960"/>
            <a:ext cx="289080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Поез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Содержимое 3" descr="паровоз.jpg"/>
          <p:cNvPicPr/>
          <p:nvPr/>
        </p:nvPicPr>
        <p:blipFill>
          <a:blip r:embed="rId1"/>
          <a:stretch/>
        </p:blipFill>
        <p:spPr>
          <a:xfrm>
            <a:off x="1762200" y="1757520"/>
            <a:ext cx="5619600" cy="420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паровоз  гуди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поезд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143160" y="1785960"/>
            <a:ext cx="2890800" cy="429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26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Самоле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Содержимое 3" descr="самолет.jpg"/>
          <p:cNvPicPr/>
          <p:nvPr/>
        </p:nvPicPr>
        <p:blipFill>
          <a:blip r:embed="rId1"/>
          <a:stretch/>
        </p:blipFill>
        <p:spPr>
          <a:xfrm>
            <a:off x="1643040" y="1928880"/>
            <a:ext cx="610884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 самолёт  гудит?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Шумотека - Звук трактор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571760"/>
            <a:ext cx="3159360" cy="469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514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ahoma"/>
              </a:rPr>
              <a:t>Скорая помощь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Содержимое 3" descr="скорая помощь.jpg"/>
          <p:cNvPicPr/>
          <p:nvPr/>
        </p:nvPicPr>
        <p:blipFill>
          <a:blip r:embed="rId1"/>
          <a:stretch/>
        </p:blipFill>
        <p:spPr>
          <a:xfrm>
            <a:off x="1714680" y="2286000"/>
            <a:ext cx="6138720" cy="39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жарная  машина  спешит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Шумотека - Звук трактора1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знак вопроса.png"/>
          <p:cNvPicPr/>
          <p:nvPr/>
        </p:nvPicPr>
        <p:blipFill>
          <a:blip r:embed="rId2"/>
          <a:stretch/>
        </p:blipFill>
        <p:spPr>
          <a:xfrm>
            <a:off x="3000240" y="1571760"/>
            <a:ext cx="3159360" cy="469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551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29Z</dcterms:created>
  <dc:creator>User</dc:creator>
  <dc:description/>
  <dc:language>en-US</dc:language>
  <cp:lastModifiedBy>Дом</cp:lastModifiedBy>
  <dcterms:modified xsi:type="dcterms:W3CDTF">2017-11-25T17:32:58Z</dcterms:modified>
  <cp:revision>9</cp:revision>
  <dc:subject/>
  <dc:title>Масленица.</dc:title>
</cp:coreProperties>
</file>