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Построение равного отрезка" id="0">
      <p:sldLst>
        <p:sld r:id="rId6"/>
      </p:sldLst>
    </p:custShow>
    <p:custShow name="Построение равного угла" id="1">
      <p:sldLst>
        <p:sld r:id="rId7"/>
      </p:sldLst>
    </p:custShow>
    <p:custShow name="Деление отрезка пополам" id="2">
      <p:sldLst>
        <p:sld r:id="rId8"/>
      </p:sldLst>
    </p:custShow>
    <p:custShow name="Деление угла пополам" id="3">
      <p:sldLst>
        <p:sld r:id="rId9"/>
      </p:sldLst>
    </p:custShow>
    <p:custShow name="Построение треугольника по двум" id="4">
      <p:sldLst>
        <p:sld r:id="rId10"/>
      </p:sldLst>
    </p:custShow>
    <p:custShow name="Построение треугольника по стор" id="5">
      <p:sldLst>
        <p:sld r:id="rId11"/>
      </p:sldLst>
    </p:custShow>
    <p:custShow name="Построение треугольника по трем" id="6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3EF-DB2D-43AD-8501-C1B7953E7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Геометрические построения" 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D89-66F3-45E4-BBD8-2A351E87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2E6-89E9-485A-B6A4-41C9C69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C6D-BCA6-4777-A951-FEC6FF50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162-907A-4E63-BDDC-7A34A0A0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4D4-3324-453A-B2D3-A2797F9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883-6A16-4BB2-803A-C5B8486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9B3-109B-45D8-BDEC-45F8AE7D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799-7C2E-468A-B452-1DE169E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1C9-F3F2-4051-B858-F34B5FD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0DD-CAC2-42E3-BF5A-E82D47F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3C7-F90B-4BB1-ADBB-90E5B47E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021-646C-4A59-A278-00F1471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597360"/>
            <a:ext cx="81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400" spc="-1" strike="noStrike">
                <a:solidFill>
                  <a:srgbClr val="c0c0c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c0c0"/>
                </a:solidFill>
                <a:latin typeface="Monotype Corsiva"/>
              </a:rPr>
              <a:t>Перещепновская школа     &lt;&lt;  Геметрические построения  &gt;&gt;      7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99A5-9FF4-4C4E-BE78-6E41E13C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Рисунок1"/>
          <p:cNvPicPr/>
          <p:nvPr/>
        </p:nvPicPr>
        <p:blipFill>
          <a:blip r:embed="rId2"/>
          <a:stretch/>
        </p:blipFill>
        <p:spPr>
          <a:xfrm>
            <a:off x="6840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3"/>
          <a:stretch/>
        </p:blipFill>
        <p:spPr>
          <a:xfrm>
            <a:off x="0" y="4265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1116000" y="130500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Monotype Corsiva"/>
              </a:rPr>
              <a:t>Геометрические построения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863640" y="4797360"/>
            <a:ext cx="71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Monotype Corsiva"/>
              </a:rPr>
              <a:t>с помощью циркуля и линейк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0000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2" name="Picture 22" descr="Рисунок2"/>
          <p:cNvPicPr/>
          <p:nvPr/>
        </p:nvPicPr>
        <p:blipFill>
          <a:blip r:embed="rId4"/>
          <a:stretch/>
        </p:blipFill>
        <p:spPr>
          <a:xfrm>
            <a:off x="6551640" y="267336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3"/>
          <p:cNvPicPr/>
          <p:nvPr/>
        </p:nvPicPr>
        <p:blipFill>
          <a:blip r:embed="rId5"/>
          <a:stretch/>
        </p:blipFill>
        <p:spPr>
          <a:xfrm>
            <a:off x="142920" y="2097000"/>
            <a:ext cx="24876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6256440"/>
            <a:ext cx="131580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6453360"/>
            <a:ext cx="936360" cy="787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920000" y="6093000"/>
            <a:ext cx="1224000" cy="765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Кнопка1"/>
          <p:cNvPicPr/>
          <p:nvPr/>
        </p:nvPicPr>
        <p:blipFill>
          <a:blip r:embed="rId2"/>
          <a:stretch/>
        </p:blipFill>
        <p:spPr>
          <a:xfrm>
            <a:off x="179280" y="189000"/>
            <a:ext cx="3924360" cy="40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Кнопка1"/>
          <p:cNvPicPr/>
          <p:nvPr/>
        </p:nvPicPr>
        <p:blipFill>
          <a:blip r:embed="rId3"/>
          <a:stretch/>
        </p:blipFill>
        <p:spPr>
          <a:xfrm>
            <a:off x="826920" y="1665360"/>
            <a:ext cx="8058240" cy="40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Кнопка1"/>
          <p:cNvPicPr/>
          <p:nvPr/>
        </p:nvPicPr>
        <p:blipFill>
          <a:blip r:embed="rId4"/>
          <a:stretch/>
        </p:blipFill>
        <p:spPr>
          <a:xfrm>
            <a:off x="324000" y="549360"/>
            <a:ext cx="3524040" cy="40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Кнопка1"/>
          <p:cNvPicPr/>
          <p:nvPr/>
        </p:nvPicPr>
        <p:blipFill>
          <a:blip r:embed="rId5"/>
          <a:stretch/>
        </p:blipFill>
        <p:spPr>
          <a:xfrm>
            <a:off x="503280" y="907920"/>
            <a:ext cx="3524040" cy="4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Кнопка1"/>
          <p:cNvPicPr/>
          <p:nvPr/>
        </p:nvPicPr>
        <p:blipFill>
          <a:blip r:embed="rId6"/>
          <a:stretch/>
        </p:blipFill>
        <p:spPr>
          <a:xfrm>
            <a:off x="684360" y="1268280"/>
            <a:ext cx="312408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Кнопка1"/>
          <p:cNvPicPr/>
          <p:nvPr/>
        </p:nvPicPr>
        <p:blipFill>
          <a:blip r:embed="rId7"/>
          <a:stretch/>
        </p:blipFill>
        <p:spPr>
          <a:xfrm>
            <a:off x="1042920" y="2023920"/>
            <a:ext cx="8101080" cy="4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Кнопка1"/>
          <p:cNvPicPr/>
          <p:nvPr/>
        </p:nvPicPr>
        <p:blipFill>
          <a:blip r:embed="rId8"/>
          <a:stretch/>
        </p:blipFill>
        <p:spPr>
          <a:xfrm>
            <a:off x="1150920" y="2384280"/>
            <a:ext cx="5791320" cy="4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"/>
          <p:cNvPicPr/>
          <p:nvPr/>
        </p:nvPicPr>
        <p:blipFill>
          <a:blip r:embed="rId9"/>
          <a:stretch/>
        </p:blipFill>
        <p:spPr>
          <a:xfrm rot="19017600">
            <a:off x="4284720" y="3068280"/>
            <a:ext cx="2125440" cy="31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2" descr=""/>
          <p:cNvPicPr/>
          <p:nvPr/>
        </p:nvPicPr>
        <p:blipFill>
          <a:blip r:embed="rId10"/>
          <a:stretch/>
        </p:blipFill>
        <p:spPr>
          <a:xfrm>
            <a:off x="719280" y="2852640"/>
            <a:ext cx="3709800" cy="37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4"/>
          <p:cNvGraphicFramePr/>
          <p:nvPr/>
        </p:nvGraphicFramePr>
        <p:xfrm>
          <a:off x="4859280" y="152280"/>
          <a:ext cx="3780000" cy="163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152280"/>
                    <a:ext cx="37800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172360" y="6534000"/>
            <a:ext cx="971640" cy="3240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125892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395280" y="119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50920" y="1341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77164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Line 5"/>
          <p:cNvSpPr/>
          <p:nvPr/>
        </p:nvSpPr>
        <p:spPr>
          <a:xfrm flipV="1">
            <a:off x="539640" y="1700280"/>
            <a:ext cx="7848720" cy="3889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403280" y="414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" name="Arc 7"/>
          <p:cNvSpPr/>
          <p:nvPr/>
        </p:nvSpPr>
        <p:spPr>
          <a:xfrm flipV="1" rot="21125400">
            <a:off x="968400" y="806400"/>
            <a:ext cx="230508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 rot="19486200">
            <a:off x="2266560" y="3824280"/>
            <a:ext cx="2305080" cy="14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176720" y="3716280"/>
            <a:ext cx="698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4140360" y="299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0" name="Line 11"/>
          <p:cNvSpPr/>
          <p:nvPr/>
        </p:nvSpPr>
        <p:spPr>
          <a:xfrm flipV="1">
            <a:off x="1727280" y="3752640"/>
            <a:ext cx="2484360" cy="12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 rot="21419400">
            <a:off x="1042920" y="5121360"/>
            <a:ext cx="5256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Отрезок А'B' равен отрезку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1655640" y="4941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отрезк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366480" y="763920"/>
            <a:ext cx="2842200" cy="4183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1224000" cy="69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04000" y="5950080"/>
            <a:ext cx="1440000" cy="907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0405E-006 L 0.14704 0.56232 E">
                                      <p:cBhvr>
                                        <p:cTn id="3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 flipH="1">
            <a:off x="684000" y="1700280"/>
            <a:ext cx="216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H="1" flipV="1">
            <a:off x="324000" y="620280"/>
            <a:ext cx="25192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403280" y="2276640"/>
            <a:ext cx="7416720" cy="396072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5"/>
          <p:cNvSpPr/>
          <p:nvPr/>
        </p:nvSpPr>
        <p:spPr>
          <a:xfrm flipH="1">
            <a:off x="1403280" y="676440"/>
            <a:ext cx="1403280" cy="2095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H="1">
            <a:off x="2587680" y="3790800"/>
            <a:ext cx="1838160" cy="1403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>
            <a:off x="684360" y="1125360"/>
            <a:ext cx="1820880" cy="14036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8"/>
          <p:cNvSpPr/>
          <p:nvPr/>
        </p:nvSpPr>
        <p:spPr>
          <a:xfrm flipH="1">
            <a:off x="2797200" y="3359160"/>
            <a:ext cx="1378080" cy="14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2987640" y="907560"/>
            <a:ext cx="432000" cy="446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987640" y="2997000"/>
            <a:ext cx="4464000" cy="2376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1403280" y="1557360"/>
            <a:ext cx="1297080" cy="287280"/>
          </a:xfrm>
          <a:prstGeom prst="leftArrow">
            <a:avLst>
              <a:gd name="adj1" fmla="val 50000"/>
              <a:gd name="adj2" fmla="val 11287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 rot="18653400">
            <a:off x="2736000" y="4599360"/>
            <a:ext cx="1476360" cy="277920"/>
          </a:xfrm>
          <a:prstGeom prst="rightArrow">
            <a:avLst>
              <a:gd name="adj1" fmla="val 50000"/>
              <a:gd name="adj2" fmla="val 1328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 rot="21374400">
            <a:off x="1474560" y="1190160"/>
            <a:ext cx="287280" cy="1325520"/>
          </a:xfrm>
          <a:prstGeom prst="upArrow">
            <a:avLst>
              <a:gd name="adj1" fmla="val 50000"/>
              <a:gd name="adj2" fmla="val 115351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2037000">
            <a:off x="2987280" y="4076640"/>
            <a:ext cx="1440000" cy="336600"/>
          </a:xfrm>
          <a:prstGeom prst="leftArrow">
            <a:avLst>
              <a:gd name="adj1" fmla="val 50000"/>
              <a:gd name="adj2" fmla="val 106952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2843280" y="1052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2411280" y="5300640"/>
            <a:ext cx="3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276720" y="5300640"/>
            <a:ext cx="4579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Угол А' равен углу А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19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равного угл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916360" y="530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9280" y="6562800"/>
            <a:ext cx="104472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720" y="5958000"/>
            <a:ext cx="1511280" cy="90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2627280" y="2997000"/>
            <a:ext cx="3673440" cy="647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3"/>
          <p:cNvSpPr/>
          <p:nvPr/>
        </p:nvSpPr>
        <p:spPr>
          <a:xfrm flipV="1" rot="21221400">
            <a:off x="0" y="981000"/>
            <a:ext cx="5402160" cy="540216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4"/>
          <p:cNvSpPr/>
          <p:nvPr/>
        </p:nvSpPr>
        <p:spPr>
          <a:xfrm flipV="1" rot="9999000">
            <a:off x="3708000" y="439920"/>
            <a:ext cx="5435640" cy="5402520"/>
          </a:xfrm>
          <a:prstGeom prst="pie">
            <a:avLst/>
          </a:prstGeom>
          <a:noFill/>
          <a:ln w="6480">
            <a:solidFill>
              <a:srgbClr val="0000e4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5"/>
          <p:cNvSpPr/>
          <p:nvPr/>
        </p:nvSpPr>
        <p:spPr>
          <a:xfrm flipV="1" rot="18129600">
            <a:off x="2379600" y="2225520"/>
            <a:ext cx="2736720" cy="107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6"/>
          <p:cNvSpPr/>
          <p:nvPr/>
        </p:nvSpPr>
        <p:spPr>
          <a:xfrm flipV="1" rot="1413000">
            <a:off x="2411280" y="4004640"/>
            <a:ext cx="273708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7"/>
          <p:cNvSpPr/>
          <p:nvPr/>
        </p:nvSpPr>
        <p:spPr>
          <a:xfrm flipV="1" rot="12424800">
            <a:off x="4032000" y="1591200"/>
            <a:ext cx="2736720" cy="108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8"/>
          <p:cNvSpPr/>
          <p:nvPr/>
        </p:nvSpPr>
        <p:spPr>
          <a:xfrm flipV="1" rot="6864600">
            <a:off x="4138560" y="3609000"/>
            <a:ext cx="2736720" cy="10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176720" y="1413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788000" y="5229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4103640" y="549360"/>
            <a:ext cx="936720" cy="59040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2411280" y="292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6156360" y="227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564000" y="328464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5435640" y="292428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4500720" y="321300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4067280" y="270828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4" name="WordArt 18"/>
          <p:cNvSpPr txBox="1"/>
          <p:nvPr/>
        </p:nvSpPr>
        <p:spPr>
          <a:xfrm>
            <a:off x="3348000" y="3645000"/>
            <a:ext cx="55404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очка О - середина отрезка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5" name="WordArt 19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21"/>
          <p:cNvSpPr txBox="1"/>
          <p:nvPr/>
        </p:nvSpPr>
        <p:spPr>
          <a:xfrm>
            <a:off x="4284720" y="5229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7" name="WordArt 22"/>
          <p:cNvSpPr txBox="1"/>
          <p:nvPr/>
        </p:nvSpPr>
        <p:spPr>
          <a:xfrm>
            <a:off x="370836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8" name="WordArt 23"/>
          <p:cNvSpPr txBox="1"/>
          <p:nvPr/>
        </p:nvSpPr>
        <p:spPr>
          <a:xfrm>
            <a:off x="395280" y="5805360"/>
            <a:ext cx="55404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CD - серединный перпендикуляр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9" name="WordArt 24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28000" y="6562800"/>
            <a:ext cx="111600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5518080"/>
            <a:ext cx="1187280" cy="1339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500"/>
                            </p:stCondLst>
                            <p:childTnLst>
                              <p:par>
                                <p:cTn id="1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 flipH="1">
            <a:off x="1042920" y="620640"/>
            <a:ext cx="3097440" cy="532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1042920" y="4292640"/>
            <a:ext cx="7058160" cy="165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4"/>
          <p:cNvSpPr/>
          <p:nvPr/>
        </p:nvSpPr>
        <p:spPr>
          <a:xfrm flipH="1">
            <a:off x="767520" y="2060640"/>
            <a:ext cx="4737240" cy="4489560"/>
          </a:xfrm>
          <a:prstGeom prst="pie">
            <a:avLst/>
          </a:pr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 rot="19452600">
            <a:off x="630360" y="4498560"/>
            <a:ext cx="4392360" cy="274680"/>
          </a:xfrm>
          <a:prstGeom prst="rightArrow">
            <a:avLst>
              <a:gd name="adj1" fmla="val 50000"/>
              <a:gd name="adj2" fmla="val 399771"/>
            </a:avLst>
          </a:prstGeom>
          <a:solidFill>
            <a:srgbClr val="008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6"/>
          <p:cNvSpPr/>
          <p:nvPr/>
        </p:nvSpPr>
        <p:spPr>
          <a:xfrm flipH="1">
            <a:off x="1907280" y="2133720"/>
            <a:ext cx="1690920" cy="3511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7"/>
          <p:cNvSpPr/>
          <p:nvPr/>
        </p:nvSpPr>
        <p:spPr>
          <a:xfrm flipH="1">
            <a:off x="1907280" y="4437000"/>
            <a:ext cx="3598920" cy="11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3924360" y="2708280"/>
            <a:ext cx="1511280" cy="2160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9"/>
          <p:cNvSpPr/>
          <p:nvPr/>
        </p:nvSpPr>
        <p:spPr>
          <a:xfrm flipH="1" rot="77400">
            <a:off x="2700360" y="2277720"/>
            <a:ext cx="4167000" cy="296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0"/>
          <p:cNvSpPr/>
          <p:nvPr/>
        </p:nvSpPr>
        <p:spPr>
          <a:xfrm flipH="1" rot="345000">
            <a:off x="2194920" y="1341360"/>
            <a:ext cx="3571920" cy="354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203640" y="2276640"/>
            <a:ext cx="1873080" cy="1728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V="1">
            <a:off x="1116000" y="765000"/>
            <a:ext cx="6842160" cy="511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3419640" y="620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539640" y="57340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781200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6" name="WordArt 16"/>
          <p:cNvSpPr txBox="1"/>
          <p:nvPr/>
        </p:nvSpPr>
        <p:spPr>
          <a:xfrm>
            <a:off x="7020000" y="4046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17"/>
          <p:cNvSpPr txBox="1"/>
          <p:nvPr/>
        </p:nvSpPr>
        <p:spPr>
          <a:xfrm rot="20862600">
            <a:off x="1258920" y="5444640"/>
            <a:ext cx="568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D биссектриса угла АВ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8"/>
          <p:cNvSpPr txBox="1"/>
          <p:nvPr/>
        </p:nvSpPr>
        <p:spPr>
          <a:xfrm>
            <a:off x="3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Деление угла пополам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75640" y="5921280"/>
            <a:ext cx="1584360" cy="93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3964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250920" y="198900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79280" y="242100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179280" y="1989000"/>
            <a:ext cx="396108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7"/>
          <p:cNvSpPr/>
          <p:nvPr/>
        </p:nvSpPr>
        <p:spPr>
          <a:xfrm>
            <a:off x="179280" y="191628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8"/>
          <p:cNvSpPr/>
          <p:nvPr/>
        </p:nvSpPr>
        <p:spPr>
          <a:xfrm>
            <a:off x="250920" y="155736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 flipV="1">
            <a:off x="250920" y="162828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V="1">
            <a:off x="4140360" y="5157720"/>
            <a:ext cx="3744720" cy="966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12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3"/>
          <p:cNvSpPr/>
          <p:nvPr/>
        </p:nvSpPr>
        <p:spPr>
          <a:xfrm>
            <a:off x="4067280" y="4757760"/>
            <a:ext cx="3824280" cy="140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4"/>
          <p:cNvSpPr/>
          <p:nvPr/>
        </p:nvSpPr>
        <p:spPr>
          <a:xfrm>
            <a:off x="4070520" y="2963880"/>
            <a:ext cx="990360" cy="305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140360" y="2997360"/>
            <a:ext cx="0" cy="305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V="1">
            <a:off x="4140360" y="2997000"/>
            <a:ext cx="431640" cy="31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395280" y="3068640"/>
            <a:ext cx="216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95280" y="4076640"/>
            <a:ext cx="1944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395280" y="4076640"/>
            <a:ext cx="1655640" cy="64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21"/>
          <p:cNvSpPr/>
          <p:nvPr/>
        </p:nvSpPr>
        <p:spPr>
          <a:xfrm>
            <a:off x="539640" y="3068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22"/>
          <p:cNvSpPr/>
          <p:nvPr/>
        </p:nvSpPr>
        <p:spPr>
          <a:xfrm>
            <a:off x="4248000" y="4367160"/>
            <a:ext cx="1600200" cy="1617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4"/>
          <p:cNvSpPr/>
          <p:nvPr/>
        </p:nvSpPr>
        <p:spPr>
          <a:xfrm>
            <a:off x="1476360" y="328464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 flipV="1">
            <a:off x="1835280" y="3284280"/>
            <a:ext cx="144360" cy="176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4571640" y="4149720"/>
            <a:ext cx="1260360" cy="1403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7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29"/>
          <p:cNvSpPr/>
          <p:nvPr/>
        </p:nvSpPr>
        <p:spPr>
          <a:xfrm>
            <a:off x="4140360" y="2997360"/>
            <a:ext cx="691920" cy="3049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H="1" flipV="1">
            <a:off x="4572000" y="2997000"/>
            <a:ext cx="3240000" cy="194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3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34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двум сторонам и углу между ними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8360" y="6210360"/>
            <a:ext cx="165564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7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4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1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85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9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2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95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3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8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8500"/>
                            </p:stCondLst>
                            <p:childTnLst>
                              <p:par>
                                <p:cTn id="4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4292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9280" y="213372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216000" y="1628280"/>
            <a:ext cx="3924360" cy="50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6"/>
          <p:cNvSpPr/>
          <p:nvPr/>
        </p:nvSpPr>
        <p:spPr>
          <a:xfrm>
            <a:off x="179280" y="1628640"/>
            <a:ext cx="3959280" cy="92088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V="1">
            <a:off x="4140360" y="5445000"/>
            <a:ext cx="3816360" cy="67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9"/>
          <p:cNvSpPr/>
          <p:nvPr/>
        </p:nvSpPr>
        <p:spPr>
          <a:xfrm>
            <a:off x="4067280" y="4437000"/>
            <a:ext cx="3913200" cy="1649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10"/>
          <p:cNvSpPr/>
          <p:nvPr/>
        </p:nvSpPr>
        <p:spPr>
          <a:xfrm>
            <a:off x="4067280" y="472428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395280" y="2349000"/>
            <a:ext cx="1366920" cy="100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3"/>
          <p:cNvSpPr/>
          <p:nvPr/>
        </p:nvSpPr>
        <p:spPr>
          <a:xfrm>
            <a:off x="4284720" y="4365720"/>
            <a:ext cx="1600200" cy="16174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 flipV="1">
            <a:off x="395280" y="2349000"/>
            <a:ext cx="216072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95280" y="3357720"/>
            <a:ext cx="1944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17"/>
          <p:cNvSpPr/>
          <p:nvPr/>
        </p:nvSpPr>
        <p:spPr>
          <a:xfrm>
            <a:off x="324000" y="2060640"/>
            <a:ext cx="1619280" cy="23223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18"/>
          <p:cNvSpPr/>
          <p:nvPr/>
        </p:nvSpPr>
        <p:spPr>
          <a:xfrm>
            <a:off x="1476360" y="2637000"/>
            <a:ext cx="868320" cy="18000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1547640" y="2636640"/>
            <a:ext cx="287640" cy="1476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4643280" y="4149360"/>
            <a:ext cx="1224000" cy="1366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1"/>
          <p:cNvSpPr/>
          <p:nvPr/>
        </p:nvSpPr>
        <p:spPr>
          <a:xfrm>
            <a:off x="4168800" y="4111560"/>
            <a:ext cx="1627200" cy="14050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95280" y="501336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5280" y="4868640"/>
            <a:ext cx="2089080" cy="14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5"/>
          <p:cNvSpPr/>
          <p:nvPr/>
        </p:nvSpPr>
        <p:spPr>
          <a:xfrm>
            <a:off x="324000" y="4508640"/>
            <a:ext cx="1619280" cy="16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431640" y="4652640"/>
            <a:ext cx="147636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27"/>
          <p:cNvSpPr/>
          <p:nvPr/>
        </p:nvSpPr>
        <p:spPr>
          <a:xfrm>
            <a:off x="6156360" y="3527280"/>
            <a:ext cx="1619280" cy="2114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 flipH="1">
            <a:off x="6300720" y="4941720"/>
            <a:ext cx="151128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9"/>
          <p:cNvSpPr/>
          <p:nvPr/>
        </p:nvSpPr>
        <p:spPr>
          <a:xfrm>
            <a:off x="1547640" y="4797360"/>
            <a:ext cx="706680" cy="10796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30"/>
          <p:cNvSpPr/>
          <p:nvPr/>
        </p:nvSpPr>
        <p:spPr>
          <a:xfrm>
            <a:off x="6084720" y="4365720"/>
            <a:ext cx="549360" cy="107928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1584360" y="4869000"/>
            <a:ext cx="323640" cy="111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V="1">
            <a:off x="6227640" y="4437000"/>
            <a:ext cx="36036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H="1" flipV="1">
            <a:off x="3635280" y="3357720"/>
            <a:ext cx="4176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V="1">
            <a:off x="4140360" y="3645000"/>
            <a:ext cx="360360" cy="24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500720" y="3645000"/>
            <a:ext cx="3311280" cy="1296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36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37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стороне и двум прилежащим уг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4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2500"/>
                            </p:stCondLst>
                            <p:childTnLst>
                              <p:par>
                                <p:cTn id="4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6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35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8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2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5500"/>
                            </p:stCondLst>
                            <p:childTnLst>
                              <p:par>
                                <p:cTn id="5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9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2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6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0000"/>
                            </p:stCondLst>
                            <p:childTnLst>
                              <p:par>
                                <p:cTn id="54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935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7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90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130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6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9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31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11280" y="105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250920" y="198900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50920" y="234936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250920" y="27082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3419640" y="4365720"/>
            <a:ext cx="55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50920" y="1628280"/>
            <a:ext cx="244944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250920" y="2276280"/>
            <a:ext cx="3960720" cy="431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10"/>
          <p:cNvSpPr/>
          <p:nvPr/>
        </p:nvSpPr>
        <p:spPr>
          <a:xfrm>
            <a:off x="250920" y="2276640"/>
            <a:ext cx="3959280" cy="92052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3419640" y="5373720"/>
            <a:ext cx="3744720" cy="7905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3276720" y="4508640"/>
            <a:ext cx="3913200" cy="1649160"/>
          </a:xfrm>
          <a:prstGeom prst="pie">
            <a:avLst/>
          </a:pr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3"/>
          <p:cNvSpPr/>
          <p:nvPr/>
        </p:nvSpPr>
        <p:spPr>
          <a:xfrm>
            <a:off x="3276720" y="4797360"/>
            <a:ext cx="3824280" cy="140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4"/>
          <p:cNvSpPr/>
          <p:nvPr/>
        </p:nvSpPr>
        <p:spPr>
          <a:xfrm>
            <a:off x="250920" y="1844640"/>
            <a:ext cx="3058920" cy="817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250920" y="198864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6"/>
          <p:cNvSpPr/>
          <p:nvPr/>
        </p:nvSpPr>
        <p:spPr>
          <a:xfrm>
            <a:off x="3132000" y="3068640"/>
            <a:ext cx="2662200" cy="302112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3419640" y="3141360"/>
            <a:ext cx="502920" cy="298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8"/>
          <p:cNvSpPr/>
          <p:nvPr/>
        </p:nvSpPr>
        <p:spPr>
          <a:xfrm>
            <a:off x="179280" y="1628640"/>
            <a:ext cx="2519640" cy="79560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9"/>
          <p:cNvSpPr/>
          <p:nvPr/>
        </p:nvSpPr>
        <p:spPr>
          <a:xfrm>
            <a:off x="4643280" y="3068640"/>
            <a:ext cx="2519640" cy="19652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 flipH="1" flipV="1">
            <a:off x="4643280" y="4868640"/>
            <a:ext cx="2376720" cy="144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493236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 flipV="1">
            <a:off x="3419640" y="3716280"/>
            <a:ext cx="1584000" cy="24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5003640" y="3716280"/>
            <a:ext cx="2016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 flipV="1">
            <a:off x="3419640" y="5013000"/>
            <a:ext cx="3600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25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2340000" y="692280"/>
            <a:ext cx="4464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Arial"/>
              </a:rPr>
              <a:t>по трем сторон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6562800"/>
            <a:ext cx="971640" cy="295200"/>
          </a:xfrm>
          <a:prstGeom prst="roundRect">
            <a:avLst>
              <a:gd name="adj" fmla="val 16667"/>
            </a:avLst>
          </a:prstGeom>
          <a:solidFill>
            <a:srgbClr val="e97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32720" y="6210360"/>
            <a:ext cx="1511280" cy="64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0"/>
                            </p:stCondLst>
                            <p:childTnLst>
                              <p:par>
                                <p:cTn id="6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7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1500"/>
                            </p:stCondLst>
                            <p:childTnLst>
                              <p:par>
                                <p:cTn id="67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9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73000"/>
                            </p:stCondLst>
                            <p:childTnLst>
                              <p:par>
                                <p:cTn id="6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6500"/>
                            </p:stCondLst>
                            <p:childTnLst>
                              <p:par>
                                <p:cTn id="689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6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9:48:56Z</dcterms:created>
  <dc:creator>admin</dc:creator>
  <dc:description/>
  <dc:language>en-US</dc:language>
  <cp:lastModifiedBy>LENOVO</cp:lastModifiedBy>
  <dcterms:modified xsi:type="dcterms:W3CDTF">2012-01-22T17:17:53Z</dcterms:modified>
  <cp:revision>40</cp:revision>
  <dc:subject/>
  <dc:title>Слайд 1</dc:title>
</cp:coreProperties>
</file>