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  <p:custShowLst>
    <p:custShow name="Построение равного отрезка" id="0">
      <p:sldLst>
        <p:sld r:id="rId6"/>
      </p:sldLst>
    </p:custShow>
    <p:custShow name="Построение равного угла" id="1">
      <p:sldLst>
        <p:sld r:id="rId7"/>
      </p:sldLst>
    </p:custShow>
    <p:custShow name="Деление отрезка пополам" id="2">
      <p:sldLst>
        <p:sld r:id="rId8"/>
      </p:sldLst>
    </p:custShow>
    <p:custShow name="Деление угла пополам" id="3">
      <p:sldLst>
        <p:sld r:id="rId9"/>
      </p:sldLst>
    </p:custShow>
    <p:custShow name="Построение треугольника по двум" id="4">
      <p:sldLst>
        <p:sld r:id="rId10"/>
      </p:sldLst>
    </p:custShow>
    <p:custShow name="Построение треугольника по стор" id="5">
      <p:sldLst>
        <p:sld r:id="rId11"/>
      </p:sldLst>
    </p:custShow>
    <p:custShow name="Построение треугольника по трем" id="6">
      <p:sldLst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Геометрические построения" 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1C1B-925B-4630-8C87-3D4617D1FB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Геометрические построения" 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Геометрические построения" 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0AB-C4FC-4D1D-B14A-F61E0A4D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E4A-F620-4304-BBC3-5DBE60DF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E94-D81A-473E-8DBA-3E3A181A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91F-431C-4920-885B-D79E54D8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EA1-4254-4564-B312-10842A41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229-1130-408C-AD95-C7C44865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9A3-33C1-46D9-BFCF-8A3772B5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07C-BE63-4B87-B569-9447246D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2C0-2222-4A37-9D24-D98FA46C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6A3-4E1B-44D5-BBEA-2E66A96F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B8C-506A-4EBC-83D9-9F5FC61C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9C2-302A-487D-B24C-BA5F290B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360" y="6597360"/>
            <a:ext cx="8136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400" spc="-1" strike="noStrike">
                <a:solidFill>
                  <a:srgbClr val="c0c0c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c0c0"/>
                </a:solidFill>
                <a:latin typeface="Monotype Corsiva"/>
              </a:rPr>
              <a:t>Перещепновская школа     &lt;&lt;  Геметрические построения  &gt;&gt;      7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5C09-BBE5-499E-B1A6-DDBA6C25B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Рисунок1"/>
          <p:cNvPicPr/>
          <p:nvPr/>
        </p:nvPicPr>
        <p:blipFill>
          <a:blip r:embed="rId2"/>
          <a:stretch/>
        </p:blipFill>
        <p:spPr>
          <a:xfrm>
            <a:off x="684036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"/>
          <p:cNvPicPr/>
          <p:nvPr/>
        </p:nvPicPr>
        <p:blipFill>
          <a:blip r:embed="rId3"/>
          <a:stretch/>
        </p:blipFill>
        <p:spPr>
          <a:xfrm>
            <a:off x="0" y="4265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50" name="WordArt 9"/>
          <p:cNvSpPr txBox="1"/>
          <p:nvPr/>
        </p:nvSpPr>
        <p:spPr>
          <a:xfrm>
            <a:off x="1116000" y="1305000"/>
            <a:ext cx="7058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Monotype Corsiva"/>
              </a:rPr>
              <a:t>Геометрические построения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99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863640" y="4797360"/>
            <a:ext cx="71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Monotype Corsiva"/>
              </a:rPr>
              <a:t>с помощью циркуля и линейк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0000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52" name="Picture 22" descr="Рисунок2"/>
          <p:cNvPicPr/>
          <p:nvPr/>
        </p:nvPicPr>
        <p:blipFill>
          <a:blip r:embed="rId4"/>
          <a:stretch/>
        </p:blipFill>
        <p:spPr>
          <a:xfrm>
            <a:off x="6551640" y="2673360"/>
            <a:ext cx="2460600" cy="184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Рисунок3"/>
          <p:cNvPicPr/>
          <p:nvPr/>
        </p:nvPicPr>
        <p:blipFill>
          <a:blip r:embed="rId5"/>
          <a:stretch/>
        </p:blipFill>
        <p:spPr>
          <a:xfrm>
            <a:off x="142920" y="2097000"/>
            <a:ext cx="248760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11840" y="6256440"/>
            <a:ext cx="1315800" cy="36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6453360"/>
            <a:ext cx="936360" cy="7878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7920000" y="6093000"/>
            <a:ext cx="1224000" cy="765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Кнопка1"/>
          <p:cNvPicPr/>
          <p:nvPr/>
        </p:nvPicPr>
        <p:blipFill>
          <a:blip r:embed="rId2"/>
          <a:stretch/>
        </p:blipFill>
        <p:spPr>
          <a:xfrm>
            <a:off x="179280" y="189000"/>
            <a:ext cx="3924360" cy="40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Кнопка1"/>
          <p:cNvPicPr/>
          <p:nvPr/>
        </p:nvPicPr>
        <p:blipFill>
          <a:blip r:embed="rId3"/>
          <a:stretch/>
        </p:blipFill>
        <p:spPr>
          <a:xfrm>
            <a:off x="826920" y="1665360"/>
            <a:ext cx="8058240" cy="40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Кнопка1"/>
          <p:cNvPicPr/>
          <p:nvPr/>
        </p:nvPicPr>
        <p:blipFill>
          <a:blip r:embed="rId4"/>
          <a:stretch/>
        </p:blipFill>
        <p:spPr>
          <a:xfrm>
            <a:off x="324000" y="549360"/>
            <a:ext cx="3524040" cy="409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Кнопка1"/>
          <p:cNvPicPr/>
          <p:nvPr/>
        </p:nvPicPr>
        <p:blipFill>
          <a:blip r:embed="rId5"/>
          <a:stretch/>
        </p:blipFill>
        <p:spPr>
          <a:xfrm>
            <a:off x="503280" y="907920"/>
            <a:ext cx="3524040" cy="40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Кнопка1"/>
          <p:cNvPicPr/>
          <p:nvPr/>
        </p:nvPicPr>
        <p:blipFill>
          <a:blip r:embed="rId6"/>
          <a:stretch/>
        </p:blipFill>
        <p:spPr>
          <a:xfrm>
            <a:off x="684360" y="1268280"/>
            <a:ext cx="3124080" cy="409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Кнопка1"/>
          <p:cNvPicPr/>
          <p:nvPr/>
        </p:nvPicPr>
        <p:blipFill>
          <a:blip r:embed="rId7"/>
          <a:stretch/>
        </p:blipFill>
        <p:spPr>
          <a:xfrm>
            <a:off x="1042920" y="2023920"/>
            <a:ext cx="8101080" cy="40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Кнопка1"/>
          <p:cNvPicPr/>
          <p:nvPr/>
        </p:nvPicPr>
        <p:blipFill>
          <a:blip r:embed="rId8"/>
          <a:stretch/>
        </p:blipFill>
        <p:spPr>
          <a:xfrm>
            <a:off x="1150920" y="2384280"/>
            <a:ext cx="5791320" cy="4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1" descr=""/>
          <p:cNvPicPr/>
          <p:nvPr/>
        </p:nvPicPr>
        <p:blipFill>
          <a:blip r:embed="rId9"/>
          <a:stretch/>
        </p:blipFill>
        <p:spPr>
          <a:xfrm rot="19017600">
            <a:off x="4284720" y="3068280"/>
            <a:ext cx="2125440" cy="316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2" descr=""/>
          <p:cNvPicPr/>
          <p:nvPr/>
        </p:nvPicPr>
        <p:blipFill>
          <a:blip r:embed="rId10"/>
          <a:stretch/>
        </p:blipFill>
        <p:spPr>
          <a:xfrm>
            <a:off x="719280" y="2852640"/>
            <a:ext cx="3709800" cy="371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44"/>
          <p:cNvGraphicFramePr/>
          <p:nvPr/>
        </p:nvGraphicFramePr>
        <p:xfrm>
          <a:off x="4859280" y="152280"/>
          <a:ext cx="3780000" cy="163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9280" y="152280"/>
                    <a:ext cx="378000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172360" y="6534000"/>
            <a:ext cx="971640" cy="3240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1258920" cy="69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Line 2"/>
          <p:cNvSpPr/>
          <p:nvPr/>
        </p:nvSpPr>
        <p:spPr>
          <a:xfrm>
            <a:off x="395280" y="1197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250920" y="1341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2771640" y="1341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4" name="Line 5"/>
          <p:cNvSpPr/>
          <p:nvPr/>
        </p:nvSpPr>
        <p:spPr>
          <a:xfrm flipV="1">
            <a:off x="539640" y="1700280"/>
            <a:ext cx="7848720" cy="3889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403280" y="4149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" name="Arc 7"/>
          <p:cNvSpPr/>
          <p:nvPr/>
        </p:nvSpPr>
        <p:spPr>
          <a:xfrm flipV="1" rot="21125400">
            <a:off x="968400" y="806400"/>
            <a:ext cx="2305080" cy="108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8"/>
          <p:cNvSpPr/>
          <p:nvPr/>
        </p:nvSpPr>
        <p:spPr>
          <a:xfrm flipV="1" rot="19486200">
            <a:off x="2266560" y="3824280"/>
            <a:ext cx="2305080" cy="147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4176720" y="3716280"/>
            <a:ext cx="698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10"/>
          <p:cNvSpPr txBox="1"/>
          <p:nvPr/>
        </p:nvSpPr>
        <p:spPr>
          <a:xfrm>
            <a:off x="4140360" y="2997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0" name="Line 11"/>
          <p:cNvSpPr/>
          <p:nvPr/>
        </p:nvSpPr>
        <p:spPr>
          <a:xfrm flipV="1">
            <a:off x="1727280" y="3752640"/>
            <a:ext cx="2484360" cy="1260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2"/>
          <p:cNvSpPr txBox="1"/>
          <p:nvPr/>
        </p:nvSpPr>
        <p:spPr>
          <a:xfrm rot="21419400">
            <a:off x="1042920" y="5121360"/>
            <a:ext cx="5256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Отрезок А'B' равен отрезку АВ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1655640" y="494172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6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равного отрезка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Line 17"/>
          <p:cNvSpPr/>
          <p:nvPr/>
        </p:nvSpPr>
        <p:spPr>
          <a:xfrm flipV="1">
            <a:off x="366480" y="763920"/>
            <a:ext cx="2842200" cy="4183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1224000" cy="69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04000" y="5950080"/>
            <a:ext cx="1440000" cy="907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10405E-006 L 0.14704 0.56232 E">
                                      <p:cBhvr>
                                        <p:cTn id="3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"/>
          <p:cNvSpPr/>
          <p:nvPr/>
        </p:nvSpPr>
        <p:spPr>
          <a:xfrm flipH="1">
            <a:off x="684000" y="1700280"/>
            <a:ext cx="216036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H="1" flipV="1">
            <a:off x="324000" y="620280"/>
            <a:ext cx="251928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403280" y="2276640"/>
            <a:ext cx="7416720" cy="396072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5"/>
          <p:cNvSpPr/>
          <p:nvPr/>
        </p:nvSpPr>
        <p:spPr>
          <a:xfrm flipH="1">
            <a:off x="1403280" y="676440"/>
            <a:ext cx="1403280" cy="2095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6"/>
          <p:cNvSpPr/>
          <p:nvPr/>
        </p:nvSpPr>
        <p:spPr>
          <a:xfrm flipH="1">
            <a:off x="2587680" y="3790800"/>
            <a:ext cx="1838160" cy="1403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7"/>
          <p:cNvSpPr/>
          <p:nvPr/>
        </p:nvSpPr>
        <p:spPr>
          <a:xfrm flipH="1">
            <a:off x="684360" y="1125360"/>
            <a:ext cx="1820880" cy="14036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8"/>
          <p:cNvSpPr/>
          <p:nvPr/>
        </p:nvSpPr>
        <p:spPr>
          <a:xfrm flipH="1">
            <a:off x="2797200" y="3359160"/>
            <a:ext cx="1378080" cy="1403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V="1">
            <a:off x="2987640" y="907560"/>
            <a:ext cx="432000" cy="446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2987640" y="2997000"/>
            <a:ext cx="4464000" cy="2376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1403280" y="1557360"/>
            <a:ext cx="1297080" cy="287280"/>
          </a:xfrm>
          <a:prstGeom prst="leftArrow">
            <a:avLst>
              <a:gd name="adj1" fmla="val 50000"/>
              <a:gd name="adj2" fmla="val 11287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 rot="18653400">
            <a:off x="2736000" y="4599360"/>
            <a:ext cx="1476360" cy="277920"/>
          </a:xfrm>
          <a:prstGeom prst="rightArrow">
            <a:avLst>
              <a:gd name="adj1" fmla="val 50000"/>
              <a:gd name="adj2" fmla="val 13280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 rot="21374400">
            <a:off x="1474560" y="1190160"/>
            <a:ext cx="287280" cy="1325520"/>
          </a:xfrm>
          <a:prstGeom prst="upArrow">
            <a:avLst>
              <a:gd name="adj1" fmla="val 50000"/>
              <a:gd name="adj2" fmla="val 115351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 rot="2037000">
            <a:off x="2987280" y="4076640"/>
            <a:ext cx="1440000" cy="336600"/>
          </a:xfrm>
          <a:prstGeom prst="leftArrow">
            <a:avLst>
              <a:gd name="adj1" fmla="val 50000"/>
              <a:gd name="adj2" fmla="val 106952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2843280" y="1052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2411280" y="5300640"/>
            <a:ext cx="39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276720" y="5300640"/>
            <a:ext cx="4579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3300"/>
                </a:solidFill>
                <a:latin typeface="Times New Roman"/>
              </a:rPr>
              <a:t>Угол А' равен углу А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19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равного угла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2916360" y="5300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99280" y="6562800"/>
            <a:ext cx="104472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720" y="5958000"/>
            <a:ext cx="1511280" cy="90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2627280" y="2997000"/>
            <a:ext cx="3673440" cy="6476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rc 3"/>
          <p:cNvSpPr/>
          <p:nvPr/>
        </p:nvSpPr>
        <p:spPr>
          <a:xfrm flipV="1" rot="21221400">
            <a:off x="0" y="981000"/>
            <a:ext cx="5402160" cy="5402160"/>
          </a:xfrm>
          <a:prstGeom prst="pie">
            <a:avLst/>
          </a:prstGeom>
          <a:noFill/>
          <a:ln w="6480">
            <a:solidFill>
              <a:srgbClr val="0000e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4"/>
          <p:cNvSpPr/>
          <p:nvPr/>
        </p:nvSpPr>
        <p:spPr>
          <a:xfrm flipV="1" rot="9999000">
            <a:off x="3708000" y="439920"/>
            <a:ext cx="5435640" cy="5402520"/>
          </a:xfrm>
          <a:prstGeom prst="pie">
            <a:avLst/>
          </a:prstGeom>
          <a:noFill/>
          <a:ln w="6480">
            <a:solidFill>
              <a:srgbClr val="0000e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5"/>
          <p:cNvSpPr/>
          <p:nvPr/>
        </p:nvSpPr>
        <p:spPr>
          <a:xfrm flipV="1" rot="18129600">
            <a:off x="2379600" y="2225520"/>
            <a:ext cx="2736720" cy="1079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6"/>
          <p:cNvSpPr/>
          <p:nvPr/>
        </p:nvSpPr>
        <p:spPr>
          <a:xfrm flipV="1" rot="1413000">
            <a:off x="2411280" y="4004640"/>
            <a:ext cx="2737080" cy="107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7"/>
          <p:cNvSpPr/>
          <p:nvPr/>
        </p:nvSpPr>
        <p:spPr>
          <a:xfrm flipV="1" rot="12424800">
            <a:off x="4032000" y="1591200"/>
            <a:ext cx="2736720" cy="108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8"/>
          <p:cNvSpPr/>
          <p:nvPr/>
        </p:nvSpPr>
        <p:spPr>
          <a:xfrm flipV="1" rot="6864600">
            <a:off x="4138560" y="3609000"/>
            <a:ext cx="2736720" cy="107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4176720" y="1413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4788000" y="5229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4103640" y="549360"/>
            <a:ext cx="936720" cy="590400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2411280" y="292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WordArt 13"/>
          <p:cNvSpPr txBox="1"/>
          <p:nvPr/>
        </p:nvSpPr>
        <p:spPr>
          <a:xfrm>
            <a:off x="6156360" y="2276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3564000" y="3284640"/>
            <a:ext cx="71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5435640" y="2924280"/>
            <a:ext cx="71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4500720" y="321300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7"/>
          <p:cNvSpPr txBox="1"/>
          <p:nvPr/>
        </p:nvSpPr>
        <p:spPr>
          <a:xfrm>
            <a:off x="4067280" y="2708280"/>
            <a:ext cx="352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О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4" name="WordArt 18"/>
          <p:cNvSpPr txBox="1"/>
          <p:nvPr/>
        </p:nvSpPr>
        <p:spPr>
          <a:xfrm>
            <a:off x="3348000" y="3645000"/>
            <a:ext cx="55404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Точка О - середина отрезка АВ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25" name="WordArt 19"/>
          <p:cNvSpPr txBox="1"/>
          <p:nvPr/>
        </p:nvSpPr>
        <p:spPr>
          <a:xfrm>
            <a:off x="25092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Деление отрезка попо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21"/>
          <p:cNvSpPr txBox="1"/>
          <p:nvPr/>
        </p:nvSpPr>
        <p:spPr>
          <a:xfrm>
            <a:off x="4284720" y="5229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С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7" name="WordArt 22"/>
          <p:cNvSpPr txBox="1"/>
          <p:nvPr/>
        </p:nvSpPr>
        <p:spPr>
          <a:xfrm>
            <a:off x="3708360" y="1341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D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8" name="WordArt 23"/>
          <p:cNvSpPr txBox="1"/>
          <p:nvPr/>
        </p:nvSpPr>
        <p:spPr>
          <a:xfrm>
            <a:off x="395280" y="5805360"/>
            <a:ext cx="5540400" cy="6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CD - серединный перпендикуляр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29" name="WordArt 24"/>
          <p:cNvSpPr txBox="1"/>
          <p:nvPr/>
        </p:nvSpPr>
        <p:spPr>
          <a:xfrm>
            <a:off x="25092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Деление отрезка попо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28000" y="6562800"/>
            <a:ext cx="111600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56720" y="5518080"/>
            <a:ext cx="1187280" cy="1339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500"/>
                            </p:stCondLst>
                            <p:childTnLst>
                              <p:par>
                                <p:cTn id="17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6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 flipH="1">
            <a:off x="1042920" y="620640"/>
            <a:ext cx="3097440" cy="5329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1042920" y="4292640"/>
            <a:ext cx="7058160" cy="1657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4"/>
          <p:cNvSpPr/>
          <p:nvPr/>
        </p:nvSpPr>
        <p:spPr>
          <a:xfrm flipH="1">
            <a:off x="767520" y="2060640"/>
            <a:ext cx="4737240" cy="4489560"/>
          </a:xfrm>
          <a:prstGeom prst="pie">
            <a:avLst/>
          </a:pr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 rot="19452600">
            <a:off x="630360" y="4498560"/>
            <a:ext cx="4392360" cy="274680"/>
          </a:xfrm>
          <a:prstGeom prst="rightArrow">
            <a:avLst>
              <a:gd name="adj1" fmla="val 50000"/>
              <a:gd name="adj2" fmla="val 399771"/>
            </a:avLst>
          </a:prstGeom>
          <a:solidFill>
            <a:srgbClr val="008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6"/>
          <p:cNvSpPr/>
          <p:nvPr/>
        </p:nvSpPr>
        <p:spPr>
          <a:xfrm flipH="1">
            <a:off x="1907280" y="2133720"/>
            <a:ext cx="1690920" cy="3511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7"/>
          <p:cNvSpPr/>
          <p:nvPr/>
        </p:nvSpPr>
        <p:spPr>
          <a:xfrm flipH="1">
            <a:off x="1907280" y="4437000"/>
            <a:ext cx="3598920" cy="1184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 flipV="1">
            <a:off x="3924360" y="2708280"/>
            <a:ext cx="1511280" cy="2160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rc 9"/>
          <p:cNvSpPr/>
          <p:nvPr/>
        </p:nvSpPr>
        <p:spPr>
          <a:xfrm flipH="1" rot="77400">
            <a:off x="2700360" y="2277720"/>
            <a:ext cx="4167000" cy="296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10"/>
          <p:cNvSpPr/>
          <p:nvPr/>
        </p:nvSpPr>
        <p:spPr>
          <a:xfrm flipH="1" rot="345000">
            <a:off x="2194920" y="1341360"/>
            <a:ext cx="3571920" cy="354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203640" y="2276640"/>
            <a:ext cx="1873080" cy="1728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V="1">
            <a:off x="1116000" y="765000"/>
            <a:ext cx="6842160" cy="5113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3"/>
          <p:cNvSpPr txBox="1"/>
          <p:nvPr/>
        </p:nvSpPr>
        <p:spPr>
          <a:xfrm>
            <a:off x="3419640" y="620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4" name="WordArt 14"/>
          <p:cNvSpPr txBox="1"/>
          <p:nvPr/>
        </p:nvSpPr>
        <p:spPr>
          <a:xfrm>
            <a:off x="539640" y="57340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5" name="WordArt 15"/>
          <p:cNvSpPr txBox="1"/>
          <p:nvPr/>
        </p:nvSpPr>
        <p:spPr>
          <a:xfrm>
            <a:off x="781200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С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6" name="WordArt 16"/>
          <p:cNvSpPr txBox="1"/>
          <p:nvPr/>
        </p:nvSpPr>
        <p:spPr>
          <a:xfrm>
            <a:off x="7020000" y="4046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D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WordArt 17"/>
          <p:cNvSpPr txBox="1"/>
          <p:nvPr/>
        </p:nvSpPr>
        <p:spPr>
          <a:xfrm rot="20862600">
            <a:off x="1258920" y="5444640"/>
            <a:ext cx="568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D биссектриса угла АВС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8"/>
          <p:cNvSpPr txBox="1"/>
          <p:nvPr/>
        </p:nvSpPr>
        <p:spPr>
          <a:xfrm>
            <a:off x="3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Деление угла пополам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75640" y="5921280"/>
            <a:ext cx="1584360" cy="936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5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39640" y="1052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250920" y="198900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179280" y="242100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179280" y="1989000"/>
            <a:ext cx="396108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7"/>
          <p:cNvSpPr/>
          <p:nvPr/>
        </p:nvSpPr>
        <p:spPr>
          <a:xfrm>
            <a:off x="179280" y="1916280"/>
            <a:ext cx="3959280" cy="920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8"/>
          <p:cNvSpPr/>
          <p:nvPr/>
        </p:nvSpPr>
        <p:spPr>
          <a:xfrm>
            <a:off x="250920" y="1557360"/>
            <a:ext cx="3058920" cy="817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 flipV="1">
            <a:off x="250920" y="1628280"/>
            <a:ext cx="3025800" cy="3589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4140360" y="4581000"/>
            <a:ext cx="4824360" cy="154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 flipV="1">
            <a:off x="4140360" y="5157720"/>
            <a:ext cx="3744720" cy="9669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12"/>
          <p:cNvSpPr/>
          <p:nvPr/>
        </p:nvSpPr>
        <p:spPr>
          <a:xfrm>
            <a:off x="4067280" y="4437000"/>
            <a:ext cx="3913200" cy="1649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13"/>
          <p:cNvSpPr/>
          <p:nvPr/>
        </p:nvSpPr>
        <p:spPr>
          <a:xfrm>
            <a:off x="4067280" y="4757760"/>
            <a:ext cx="3824280" cy="1400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14"/>
          <p:cNvSpPr/>
          <p:nvPr/>
        </p:nvSpPr>
        <p:spPr>
          <a:xfrm>
            <a:off x="4070520" y="2963880"/>
            <a:ext cx="990360" cy="30574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4140360" y="2997360"/>
            <a:ext cx="0" cy="305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V="1">
            <a:off x="4140360" y="2997000"/>
            <a:ext cx="431640" cy="31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 flipV="1">
            <a:off x="4140360" y="4941720"/>
            <a:ext cx="3671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8"/>
          <p:cNvSpPr/>
          <p:nvPr/>
        </p:nvSpPr>
        <p:spPr>
          <a:xfrm flipV="1">
            <a:off x="395280" y="3068640"/>
            <a:ext cx="216072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95280" y="4076640"/>
            <a:ext cx="194472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395280" y="4076640"/>
            <a:ext cx="1655640" cy="647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21"/>
          <p:cNvSpPr/>
          <p:nvPr/>
        </p:nvSpPr>
        <p:spPr>
          <a:xfrm>
            <a:off x="539640" y="3068640"/>
            <a:ext cx="1619280" cy="23223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22"/>
          <p:cNvSpPr/>
          <p:nvPr/>
        </p:nvSpPr>
        <p:spPr>
          <a:xfrm>
            <a:off x="4248000" y="4367160"/>
            <a:ext cx="1600200" cy="1617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 flipV="1">
            <a:off x="4140360" y="4437000"/>
            <a:ext cx="576000" cy="1656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24"/>
          <p:cNvSpPr/>
          <p:nvPr/>
        </p:nvSpPr>
        <p:spPr>
          <a:xfrm>
            <a:off x="1476360" y="3284640"/>
            <a:ext cx="868320" cy="180000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 flipV="1">
            <a:off x="1835280" y="3284280"/>
            <a:ext cx="144360" cy="17650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 flipH="1" flipV="1">
            <a:off x="4571640" y="4149720"/>
            <a:ext cx="1260360" cy="1403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27"/>
          <p:cNvSpPr/>
          <p:nvPr/>
        </p:nvSpPr>
        <p:spPr>
          <a:xfrm>
            <a:off x="4168800" y="4111560"/>
            <a:ext cx="1627200" cy="14050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 flipV="1">
            <a:off x="4140360" y="1844280"/>
            <a:ext cx="64764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29"/>
          <p:cNvSpPr/>
          <p:nvPr/>
        </p:nvSpPr>
        <p:spPr>
          <a:xfrm>
            <a:off x="4140360" y="2997360"/>
            <a:ext cx="691920" cy="3049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 flipH="1" flipV="1">
            <a:off x="4572000" y="2997000"/>
            <a:ext cx="3240000" cy="1944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33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34"/>
          <p:cNvSpPr txBox="1"/>
          <p:nvPr/>
        </p:nvSpPr>
        <p:spPr>
          <a:xfrm>
            <a:off x="684360" y="692280"/>
            <a:ext cx="7920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 двум сторонам и углу между ними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8360" y="6210360"/>
            <a:ext cx="1655640" cy="64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1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9500"/>
                            </p:stCondLst>
                            <p:childTnLst>
                              <p:par>
                                <p:cTn id="3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7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50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1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4500"/>
                            </p:stCondLst>
                            <p:childTnLst>
                              <p:par>
                                <p:cTn id="374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8000"/>
                            </p:stCondLst>
                            <p:childTnLst>
                              <p:par>
                                <p:cTn id="3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15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8500"/>
                            </p:stCondLst>
                            <p:childTnLst>
                              <p:par>
                                <p:cTn id="39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2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9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2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6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9500"/>
                            </p:stCondLst>
                            <p:childTnLst>
                              <p:par>
                                <p:cTn id="41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3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4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8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8500"/>
                            </p:stCondLst>
                            <p:childTnLst>
                              <p:par>
                                <p:cTn id="4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042920" y="1052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79280" y="213372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216000" y="1628280"/>
            <a:ext cx="3924360" cy="5050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6"/>
          <p:cNvSpPr/>
          <p:nvPr/>
        </p:nvSpPr>
        <p:spPr>
          <a:xfrm>
            <a:off x="179280" y="1628640"/>
            <a:ext cx="3959280" cy="92088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 flipV="1">
            <a:off x="4140360" y="4581000"/>
            <a:ext cx="4824360" cy="154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V="1">
            <a:off x="4140360" y="5445000"/>
            <a:ext cx="3816360" cy="679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9"/>
          <p:cNvSpPr/>
          <p:nvPr/>
        </p:nvSpPr>
        <p:spPr>
          <a:xfrm>
            <a:off x="4067280" y="4437000"/>
            <a:ext cx="3913200" cy="1649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10"/>
          <p:cNvSpPr/>
          <p:nvPr/>
        </p:nvSpPr>
        <p:spPr>
          <a:xfrm>
            <a:off x="4067280" y="4724280"/>
            <a:ext cx="3824280" cy="140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4140360" y="4941720"/>
            <a:ext cx="3671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V="1">
            <a:off x="395280" y="2349000"/>
            <a:ext cx="1366920" cy="1008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13"/>
          <p:cNvSpPr/>
          <p:nvPr/>
        </p:nvSpPr>
        <p:spPr>
          <a:xfrm>
            <a:off x="4284720" y="4365720"/>
            <a:ext cx="1600200" cy="16174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4140360" y="4437000"/>
            <a:ext cx="576000" cy="1656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 flipV="1">
            <a:off x="395280" y="2349000"/>
            <a:ext cx="216072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395280" y="3357720"/>
            <a:ext cx="194472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17"/>
          <p:cNvSpPr/>
          <p:nvPr/>
        </p:nvSpPr>
        <p:spPr>
          <a:xfrm>
            <a:off x="324000" y="2060640"/>
            <a:ext cx="1619280" cy="23223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18"/>
          <p:cNvSpPr/>
          <p:nvPr/>
        </p:nvSpPr>
        <p:spPr>
          <a:xfrm>
            <a:off x="1476360" y="2637000"/>
            <a:ext cx="868320" cy="180000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1547640" y="2636640"/>
            <a:ext cx="287640" cy="1476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4643280" y="4149360"/>
            <a:ext cx="1224000" cy="13669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1"/>
          <p:cNvSpPr/>
          <p:nvPr/>
        </p:nvSpPr>
        <p:spPr>
          <a:xfrm>
            <a:off x="4168800" y="4111560"/>
            <a:ext cx="1627200" cy="14050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4140360" y="1844280"/>
            <a:ext cx="64764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395280" y="5013360"/>
            <a:ext cx="158436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395280" y="4868640"/>
            <a:ext cx="2089080" cy="14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25"/>
          <p:cNvSpPr/>
          <p:nvPr/>
        </p:nvSpPr>
        <p:spPr>
          <a:xfrm>
            <a:off x="324000" y="4508640"/>
            <a:ext cx="1619280" cy="16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 flipV="1">
            <a:off x="431640" y="4652640"/>
            <a:ext cx="1476360" cy="360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27"/>
          <p:cNvSpPr/>
          <p:nvPr/>
        </p:nvSpPr>
        <p:spPr>
          <a:xfrm>
            <a:off x="6156360" y="3527280"/>
            <a:ext cx="1619280" cy="21146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 flipH="1">
            <a:off x="6300720" y="4941720"/>
            <a:ext cx="1511280" cy="64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29"/>
          <p:cNvSpPr/>
          <p:nvPr/>
        </p:nvSpPr>
        <p:spPr>
          <a:xfrm>
            <a:off x="1547640" y="4797360"/>
            <a:ext cx="706680" cy="10796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rc 30"/>
          <p:cNvSpPr/>
          <p:nvPr/>
        </p:nvSpPr>
        <p:spPr>
          <a:xfrm>
            <a:off x="6084720" y="4365720"/>
            <a:ext cx="549360" cy="10792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1584360" y="4869000"/>
            <a:ext cx="323640" cy="1116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V="1">
            <a:off x="6227640" y="4437000"/>
            <a:ext cx="360360" cy="100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H="1" flipV="1">
            <a:off x="3635280" y="3357720"/>
            <a:ext cx="417672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V="1">
            <a:off x="4140360" y="3645000"/>
            <a:ext cx="360360" cy="24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4500720" y="3645000"/>
            <a:ext cx="3311280" cy="1296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36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37"/>
          <p:cNvSpPr txBox="1"/>
          <p:nvPr/>
        </p:nvSpPr>
        <p:spPr>
          <a:xfrm>
            <a:off x="684360" y="692280"/>
            <a:ext cx="7920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 стороне и двум прилежащим уг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4920" y="6210360"/>
            <a:ext cx="1189080" cy="64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45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8500"/>
                            </p:stCondLst>
                            <p:childTnLst>
                              <p:par>
                                <p:cTn id="47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4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2500"/>
                            </p:stCondLst>
                            <p:childTnLst>
                              <p:par>
                                <p:cTn id="49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6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35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70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1000"/>
                            </p:stCondLst>
                            <p:childTnLst>
                              <p:par>
                                <p:cTn id="510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5000"/>
                            </p:stCondLst>
                            <p:childTnLst>
                              <p:par>
                                <p:cTn id="5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85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2000"/>
                            </p:stCondLst>
                            <p:childTnLst>
                              <p:par>
                                <p:cTn id="522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75500"/>
                            </p:stCondLst>
                            <p:childTnLst>
                              <p:par>
                                <p:cTn id="52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90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2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6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90000"/>
                            </p:stCondLst>
                            <p:childTnLst>
                              <p:par>
                                <p:cTn id="54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93500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97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1500"/>
                            </p:stCondLst>
                            <p:childTnLst>
                              <p:par>
                                <p:cTn id="5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90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13000"/>
                            </p:stCondLst>
                            <p:childTnLst>
                              <p:par>
                                <p:cTn id="5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155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19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23500"/>
                            </p:stCondLst>
                            <p:childTnLst>
                              <p:par>
                                <p:cTn id="5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260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29500"/>
                            </p:stCondLst>
                            <p:childTnLst>
                              <p:par>
                                <p:cTn id="5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30500"/>
                            </p:stCondLst>
                            <p:childTnLst>
                              <p:par>
                                <p:cTn id="5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31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11280" y="1052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250920" y="198900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250920" y="234936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250920" y="27082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3419640" y="4365720"/>
            <a:ext cx="5543280" cy="18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50920" y="1628280"/>
            <a:ext cx="2449440" cy="360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V="1">
            <a:off x="250920" y="2276280"/>
            <a:ext cx="3960720" cy="431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10"/>
          <p:cNvSpPr/>
          <p:nvPr/>
        </p:nvSpPr>
        <p:spPr>
          <a:xfrm>
            <a:off x="250920" y="2276640"/>
            <a:ext cx="3959280" cy="920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 flipV="1">
            <a:off x="3419640" y="5373720"/>
            <a:ext cx="3744720" cy="7905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12"/>
          <p:cNvSpPr/>
          <p:nvPr/>
        </p:nvSpPr>
        <p:spPr>
          <a:xfrm>
            <a:off x="3276720" y="4508640"/>
            <a:ext cx="3913200" cy="164916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13"/>
          <p:cNvSpPr/>
          <p:nvPr/>
        </p:nvSpPr>
        <p:spPr>
          <a:xfrm>
            <a:off x="3276720" y="4797360"/>
            <a:ext cx="3824280" cy="140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14"/>
          <p:cNvSpPr/>
          <p:nvPr/>
        </p:nvSpPr>
        <p:spPr>
          <a:xfrm>
            <a:off x="250920" y="1844640"/>
            <a:ext cx="3058920" cy="817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 flipV="1">
            <a:off x="250920" y="1988640"/>
            <a:ext cx="3025800" cy="3589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16"/>
          <p:cNvSpPr/>
          <p:nvPr/>
        </p:nvSpPr>
        <p:spPr>
          <a:xfrm>
            <a:off x="3132000" y="3068640"/>
            <a:ext cx="2662200" cy="302112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7"/>
          <p:cNvSpPr/>
          <p:nvPr/>
        </p:nvSpPr>
        <p:spPr>
          <a:xfrm flipV="1">
            <a:off x="3419640" y="3141360"/>
            <a:ext cx="502920" cy="2987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18"/>
          <p:cNvSpPr/>
          <p:nvPr/>
        </p:nvSpPr>
        <p:spPr>
          <a:xfrm>
            <a:off x="179280" y="1628640"/>
            <a:ext cx="2519640" cy="79560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9"/>
          <p:cNvSpPr/>
          <p:nvPr/>
        </p:nvSpPr>
        <p:spPr>
          <a:xfrm>
            <a:off x="4643280" y="3068640"/>
            <a:ext cx="2519640" cy="19652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 flipH="1" flipV="1">
            <a:off x="4643280" y="4868640"/>
            <a:ext cx="2376720" cy="144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4932360" y="3645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 flipV="1">
            <a:off x="3419640" y="3716280"/>
            <a:ext cx="1584000" cy="24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3"/>
          <p:cNvSpPr/>
          <p:nvPr/>
        </p:nvSpPr>
        <p:spPr>
          <a:xfrm>
            <a:off x="5003640" y="3716280"/>
            <a:ext cx="2016360" cy="129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4"/>
          <p:cNvSpPr/>
          <p:nvPr/>
        </p:nvSpPr>
        <p:spPr>
          <a:xfrm flipV="1">
            <a:off x="3419640" y="5013000"/>
            <a:ext cx="3600360" cy="1152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25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WordArt 26"/>
          <p:cNvSpPr txBox="1"/>
          <p:nvPr/>
        </p:nvSpPr>
        <p:spPr>
          <a:xfrm>
            <a:off x="2340000" y="692280"/>
            <a:ext cx="4464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 трем сторон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32720" y="6210360"/>
            <a:ext cx="1511280" cy="64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000"/>
                            </p:stCondLst>
                            <p:childTnLst>
                              <p:par>
                                <p:cTn id="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0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63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8500"/>
                            </p:stCondLst>
                            <p:childTnLst>
                              <p:par>
                                <p:cTn id="63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9500"/>
                            </p:stCondLst>
                            <p:childTnLst>
                              <p:par>
                                <p:cTn id="64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2000"/>
                            </p:stCondLst>
                            <p:childTnLst>
                              <p:par>
                                <p:cTn id="65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6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0"/>
                            </p:stCondLst>
                            <p:childTnLst>
                              <p:par>
                                <p:cTn id="6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3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75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1500"/>
                            </p:stCondLst>
                            <p:childTnLst>
                              <p:par>
                                <p:cTn id="67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65000"/>
                            </p:stCondLst>
                            <p:childTnLst>
                              <p:par>
                                <p:cTn id="677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90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73000"/>
                            </p:stCondLst>
                            <p:childTnLst>
                              <p:par>
                                <p:cTn id="6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76500"/>
                            </p:stCondLst>
                            <p:childTnLst>
                              <p:par>
                                <p:cTn id="689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0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3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6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9:48:56Z</dcterms:created>
  <dc:creator>admin</dc:creator>
  <dc:description/>
  <dc:language>en-US</dc:language>
  <cp:lastModifiedBy>LENOVO</cp:lastModifiedBy>
  <dcterms:modified xsi:type="dcterms:W3CDTF">2012-01-22T17:17:53Z</dcterms:modified>
  <cp:revision>40</cp:revision>
  <dc:subject/>
  <dc:title>Слайд 1</dc:title>
</cp:coreProperties>
</file>