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8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100E5-F5F2-4E04-B5C3-7284D92C81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99295-D127-490E-8463-1C337AE3A9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077-B303-4D23-BDAB-B093B917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440" y="3736800"/>
            <a:ext cx="769140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D69-4378-4ACC-988A-B883D26E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373680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6720" y="373680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E7D-9AC9-46DB-B5D8-D1727DD0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6080" y="182844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6720" y="182844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440" y="373680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6080" y="373680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6720" y="373680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9D02-B462-4EDC-809A-614D41C3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92D3-A510-4CD2-AEE6-06B9C6F4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7691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8952-ED1F-47A1-BC1A-FC5F0048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A9D4-F751-433E-9928-BB56A59C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A220-4078-4F3E-A78D-E7AE9352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7D2A-90F7-416D-9CDD-D9E5E38B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68659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DDE2-7A76-4B34-86BF-8FC458D7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440" y="373680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5E01-83EB-4253-9EF1-ED5EF86E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7691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3E1-E2C0-4BA8-BE9A-885F0E8E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6720" y="373680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4B3A-2AC0-45A1-8DCC-77427E93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440" y="3736800"/>
            <a:ext cx="769140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6624-D6CB-4B1A-929C-172197A2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440" y="3736800"/>
            <a:ext cx="769140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0113-7F5C-433E-AEAB-6979AAD3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440" y="373680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6720" y="373680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CC37-FD39-49E3-A6B5-00EF173B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6080" y="182844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6720" y="182844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440" y="373680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6080" y="373680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6720" y="3736800"/>
            <a:ext cx="247644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02FF-2049-4A1F-9867-29455F00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74B-BEBC-4BEC-BEF4-B344CA6B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96A-0E84-4FDE-AF5E-C27B9EAE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B79-4A37-4B6A-97BA-4D29B865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68659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086-5703-4DA3-952B-FA99AC48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373680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37C3-F8BB-4B46-8F75-272FC4DD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6720" y="373680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498A-C5BD-40FB-97E4-11E0E1A6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736800"/>
            <a:ext cx="7691400" cy="174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4CB-7B52-4812-8334-2A21E17B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0000">
            <a:off x="777312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659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828440"/>
            <a:ext cx="76914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6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13887-B5B8-4EF4-9A5E-9E3C77A803D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0000">
            <a:off x="7862040" y="22680"/>
            <a:ext cx="116532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0000">
            <a:off x="7827480" y="19332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79480" cy="1241280"/>
            <a:chOff x="7920" y="5540400"/>
            <a:chExt cx="1779480" cy="124128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4040" cy="102564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08000" cy="19980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2440" cy="64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28720" cy="5889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09520" cy="18720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15920" cy="1728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1320" cy="603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3120" cy="27144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3000" cy="10152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79480" cy="1233360"/>
              <a:chOff x="7920" y="5540400"/>
              <a:chExt cx="1779480" cy="123336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65440" cy="1119240"/>
                <a:chOff x="792000" y="5654520"/>
                <a:chExt cx="865440" cy="111924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4800" cy="13320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77480" cy="20628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3720" cy="1810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39960" cy="3920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2320" cy="2304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5240" cy="3729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79480" cy="1071360"/>
                <a:chOff x="7920" y="5540400"/>
                <a:chExt cx="1779480" cy="107136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4480" cy="13320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2000" cy="6937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2400" cy="26028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06520" cy="93816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47600" cy="39564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4920" cy="20952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2680" cy="33156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4120" cy="13176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79960" y="2116080"/>
            <a:ext cx="381240" cy="4303800"/>
            <a:chOff x="8679960" y="2116080"/>
            <a:chExt cx="381240" cy="4303800"/>
          </a:xfrm>
        </p:grpSpPr>
        <p:sp>
          <p:nvSpPr>
            <p:cNvPr id="36" name=""/>
            <p:cNvSpPr/>
            <p:nvPr/>
          </p:nvSpPr>
          <p:spPr>
            <a:xfrm flipH="1">
              <a:off x="8679600" y="4159080"/>
              <a:ext cx="320760" cy="226080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080" y="2116080"/>
              <a:ext cx="320760" cy="25876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6095520" y="-248760"/>
            <a:ext cx="4575600" cy="4383720"/>
            <a:chOff x="6095520" y="-248760"/>
            <a:chExt cx="4575600" cy="4383720"/>
          </a:xfrm>
        </p:grpSpPr>
        <p:grpSp>
          <p:nvGrpSpPr>
            <p:cNvPr id="39" name=""/>
            <p:cNvGrpSpPr/>
            <p:nvPr/>
          </p:nvGrpSpPr>
          <p:grpSpPr>
            <a:xfrm>
              <a:off x="6095520" y="-248760"/>
              <a:ext cx="4575600" cy="4383720"/>
              <a:chOff x="6095520" y="-248760"/>
              <a:chExt cx="4575600" cy="4383720"/>
            </a:xfrm>
          </p:grpSpPr>
          <p:sp>
            <p:nvSpPr>
              <p:cNvPr id="40" name=""/>
              <p:cNvSpPr/>
              <p:nvPr/>
            </p:nvSpPr>
            <p:spPr>
              <a:xfrm rot="18420000">
                <a:off x="8618400" y="1726920"/>
                <a:ext cx="93600" cy="45252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6095520" y="-248760"/>
                <a:ext cx="4575600" cy="4383720"/>
                <a:chOff x="6095520" y="-248760"/>
                <a:chExt cx="4575600" cy="4383720"/>
              </a:xfrm>
            </p:grpSpPr>
            <p:sp>
              <p:nvSpPr>
                <p:cNvPr id="42" name=""/>
                <p:cNvSpPr/>
                <p:nvPr/>
              </p:nvSpPr>
              <p:spPr>
                <a:xfrm rot="18420000">
                  <a:off x="7454160" y="-91080"/>
                  <a:ext cx="543600" cy="33624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0000">
                  <a:off x="7630200" y="972720"/>
                  <a:ext cx="956520" cy="119664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0000">
                  <a:off x="7009920" y="631080"/>
                  <a:ext cx="1802520" cy="245772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0000">
                  <a:off x="7027200" y="100080"/>
                  <a:ext cx="2711880" cy="368568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0000">
                  <a:off x="8355240" y="2870640"/>
                  <a:ext cx="600840" cy="3265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0000">
                  <a:off x="8231400" y="2553120"/>
                  <a:ext cx="642240" cy="38772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0000">
                  <a:off x="7494480" y="413640"/>
                  <a:ext cx="642240" cy="3970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0000">
                  <a:off x="7395120" y="166680"/>
                  <a:ext cx="633960" cy="371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1920" cy="1479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1511280"/>
            <a:ext cx="639612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A7E6F-E09E-43AE-85C3-B2A1CB0B9529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3240" cy="1773000"/>
            <a:chOff x="195120" y="235080"/>
            <a:chExt cx="3783240" cy="177300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66880" cy="160956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57520" cy="15937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57640" cy="14540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3240" cy="1711080"/>
              <a:chOff x="195120" y="235080"/>
              <a:chExt cx="3783240" cy="171108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1920" cy="3348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3240" cy="1711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1560" cy="9698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55320" cy="646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2240" cy="5731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492680" y="4005360"/>
            <a:ext cx="1580040" cy="1779120"/>
            <a:chOff x="7492680" y="4005360"/>
            <a:chExt cx="1580040" cy="1779120"/>
          </a:xfrm>
        </p:grpSpPr>
        <p:sp>
          <p:nvSpPr>
            <p:cNvPr id="103" name=""/>
            <p:cNvSpPr/>
            <p:nvPr/>
          </p:nvSpPr>
          <p:spPr>
            <a:xfrm rot="7320000">
              <a:off x="7792200" y="4657320"/>
              <a:ext cx="993960" cy="4604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8440" y="4634640"/>
              <a:ext cx="990720" cy="455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6560" y="4623480"/>
              <a:ext cx="655920" cy="4161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492680" y="4005360"/>
              <a:ext cx="1580040" cy="1779120"/>
              <a:chOff x="7492680" y="4005360"/>
              <a:chExt cx="1580040" cy="177912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626240" y="5126400"/>
                <a:ext cx="128160" cy="1702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516800" y="4441680"/>
                <a:ext cx="1531440" cy="90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7973280" y="4633200"/>
                <a:ext cx="1079640" cy="508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723880" y="4376880"/>
                <a:ext cx="139680" cy="3376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01440" y="4669920"/>
                <a:ext cx="437400" cy="2966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cap="sq"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93400" y="576360"/>
            <a:ext cx="687060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етодическое объединение учителей русского языка и литературы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604880"/>
            <a:ext cx="401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46800" anchor="t">
            <a:noAutofit/>
          </a:bodyPr>
          <a:p>
            <a:pPr marL="343080" indent="-331920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9040" y="863640"/>
            <a:ext cx="68706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нтеллектуально-творческая деятельность  учителей и обучающихся на уроках  русского языка и литератур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14200" y="685800"/>
            <a:ext cx="8643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ителя по итогам первого полугодия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инимали участие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1. Всероссийское онлайн тестирование учителей русского языка и литературы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2. Апробация КИМов по русскому языку по материалам ФИП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3.Видеоконфере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рамках Школы цифрового века «Разные грани  профессионального мастерства педагога», «Кто такие учителя-новаторы и в чём их новаторство?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4200" y="685800"/>
            <a:ext cx="8643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ителя по итогам первого полугодия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инимали участие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4. Вебинары, районные семинары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5. Экспресс-занятия по подготовке учащихся к ЕГЭ, ОГЭ, итоговому сочинению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6. Конкурс «Учитель года по версии сайта www.mldvru — 2016» (диплом 2 степени Скворцова Н.П.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7. Учительская олимпиада «Профессиональная гордость»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14200" y="685800"/>
            <a:ext cx="885852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ающиеся по итогам первого полугод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имали участ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1. Всероссийский конкурс сочинений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2. Школьный и муниципальный этап Всероссийской олимпиады школьников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обедител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бовская Юлия —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544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енкина Алина — русский язы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544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зёры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бовская Юлия — рус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544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кирда София — рус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544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артамышев Сергей — приз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544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Григорьева Анастасия — приз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544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енкина Алина - приз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544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544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544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4200" y="685800"/>
            <a:ext cx="8643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бучающиеся по итогам первого полугодия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инимали участие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Конкурс сочинений «Если бы я был учителем...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Женовак Ольга — 1 мест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ладимиров Денис — 1 мест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енкина Алина — 2 мест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Циммерман Андрей — 1 мест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Шабанова Сурайя — 1 место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4200" y="685800"/>
            <a:ext cx="8643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бучающиеся по итогам первого полугодия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инимали участие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Конкурс сочинений «Как прекрасен этот мир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Женовак Ольга, Владимиров Дени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енкина Алина, Григорьева Анастас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Шевченко Мария, Щербакова Соф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Кабанова Наталья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Конкурс «Русский медвежонок"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25520" indent="-316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0" y="503280"/>
            <a:ext cx="91393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Какие же в целом получены результаты инновационно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деятельности методического объединени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-  совместная практическая деятельность детей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взрослых в реальной жиз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- рост профессионального мастерства педагогов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- работа по обобщению и распространению передовог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едагогического опыт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- создание условий для развития творческих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интеллектуальных, исследовательских способностей учащихся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- призовые места обучающихся  и педагогов в муниципальных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региональных конкурс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47640" y="720720"/>
            <a:ext cx="7920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Работая в этом направлении, нам еще предстои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решить ряд наиболее актуальных для нас задач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·        повышение проектной и информационной  культуры педагогов и учащихся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·        создание условий для использования метода проектной деятельности в урочной и внеурочной деятельност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5:08:40Z</dcterms:created>
  <dc:creator>Павел</dc:creator>
  <dc:description/>
  <dc:language>en-US</dc:language>
  <cp:lastModifiedBy/>
  <dcterms:modified xsi:type="dcterms:W3CDTF">2017-01-16T11:35:0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