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8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57D1A-173E-4C5E-AA0E-26974AE403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DB856-6A5E-4205-B55C-0F57FD110E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63A4-C8F2-46FE-BE98-5C2C9D59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440" y="3736800"/>
            <a:ext cx="769140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8961-0F96-458F-BB5B-2C51183D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440" y="373680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6720" y="373680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78D-D9B7-4FD5-AC2C-CC84456C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247644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6080" y="1828440"/>
            <a:ext cx="247644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6720" y="1828440"/>
            <a:ext cx="247644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440" y="3736800"/>
            <a:ext cx="247644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6080" y="3736800"/>
            <a:ext cx="247644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6720" y="3736800"/>
            <a:ext cx="247644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E182-6751-4799-B2A1-742A81DE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46C0-A6F5-462A-B8DA-F53BF19F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7691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6D40-A24C-41FC-B65E-55D7EDD3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3AFE-74A8-43D4-ADB4-3D81A343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F7E8-C54F-41E0-8596-3A47A574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17CA-00E5-439B-ABF0-E21F3176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68659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D149-D6FB-4D22-A5D8-1021B04C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440" y="373680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8C43-5E04-499C-B4A9-8BA535AE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7691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FB66-47C8-4F35-A4C5-E2139287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6720" y="373680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49D8-FA18-453E-940D-896FEEBB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440" y="3736800"/>
            <a:ext cx="769140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BB34-5101-4003-B0DC-7A5CF245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440" y="3736800"/>
            <a:ext cx="769140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889B-2D8F-4F2C-872B-15A89014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440" y="373680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6720" y="373680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9520-EE0E-4E0D-838B-E4C3D251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247644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6080" y="1828440"/>
            <a:ext cx="247644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6720" y="1828440"/>
            <a:ext cx="247644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440" y="3736800"/>
            <a:ext cx="247644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6080" y="3736800"/>
            <a:ext cx="247644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6720" y="3736800"/>
            <a:ext cx="247644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E52E-1FD2-4527-9ADD-EA297CE3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317-A8AC-4365-A34B-2B900035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FDE1-A857-4371-A4AD-848E4874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BA9B-6EAB-4453-BAEE-EF189839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68659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566C-C265-451C-BA0B-D05F9A67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440" y="373680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EC64-D7B7-48C0-AB99-6E0A2B5A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6720" y="373680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3673-087C-443C-BC5D-63032332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3736800"/>
            <a:ext cx="769140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3293-9531-435E-8118-71EA4B18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0000">
            <a:off x="777312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828440"/>
            <a:ext cx="76914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6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3F958-7CE9-48EC-B55C-8043079DAB3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0000">
            <a:off x="7862040" y="22680"/>
            <a:ext cx="116532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0000">
            <a:off x="7827480" y="19332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79480" cy="1241280"/>
            <a:chOff x="7920" y="5540400"/>
            <a:chExt cx="1779480" cy="124128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4040" cy="102564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08000" cy="19980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2440" cy="64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28720" cy="5889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09520" cy="18720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15920" cy="1728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1320" cy="603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3120" cy="27144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3000" cy="10152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79480" cy="1233360"/>
              <a:chOff x="7920" y="5540400"/>
              <a:chExt cx="1779480" cy="123336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65440" cy="1119240"/>
                <a:chOff x="792000" y="5654520"/>
                <a:chExt cx="865440" cy="111924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4800" cy="13320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77480" cy="20628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3720" cy="1810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39960" cy="3920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2320" cy="2304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5240" cy="3729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79480" cy="1071360"/>
                <a:chOff x="7920" y="5540400"/>
                <a:chExt cx="1779480" cy="107136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4480" cy="13320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2000" cy="6937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2400" cy="26028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06520" cy="93816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47600" cy="39564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4920" cy="20952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2680" cy="33156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4120" cy="13176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79960" y="2116080"/>
            <a:ext cx="381240" cy="4303800"/>
            <a:chOff x="8679960" y="2116080"/>
            <a:chExt cx="381240" cy="4303800"/>
          </a:xfrm>
        </p:grpSpPr>
        <p:sp>
          <p:nvSpPr>
            <p:cNvPr id="36" name=""/>
            <p:cNvSpPr/>
            <p:nvPr/>
          </p:nvSpPr>
          <p:spPr>
            <a:xfrm flipH="1">
              <a:off x="8679600" y="4159080"/>
              <a:ext cx="320760" cy="226080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080" y="2116080"/>
              <a:ext cx="320760" cy="25876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6095520" y="-248760"/>
            <a:ext cx="4575600" cy="4383720"/>
            <a:chOff x="6095520" y="-248760"/>
            <a:chExt cx="4575600" cy="4383720"/>
          </a:xfrm>
        </p:grpSpPr>
        <p:grpSp>
          <p:nvGrpSpPr>
            <p:cNvPr id="39" name=""/>
            <p:cNvGrpSpPr/>
            <p:nvPr/>
          </p:nvGrpSpPr>
          <p:grpSpPr>
            <a:xfrm>
              <a:off x="6095520" y="-248760"/>
              <a:ext cx="4575600" cy="4383720"/>
              <a:chOff x="6095520" y="-248760"/>
              <a:chExt cx="4575600" cy="4383720"/>
            </a:xfrm>
          </p:grpSpPr>
          <p:sp>
            <p:nvSpPr>
              <p:cNvPr id="40" name=""/>
              <p:cNvSpPr/>
              <p:nvPr/>
            </p:nvSpPr>
            <p:spPr>
              <a:xfrm rot="18420000">
                <a:off x="8618400" y="1726920"/>
                <a:ext cx="93600" cy="45252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6095520" y="-248760"/>
                <a:ext cx="4575600" cy="4383720"/>
                <a:chOff x="6095520" y="-248760"/>
                <a:chExt cx="4575600" cy="4383720"/>
              </a:xfrm>
            </p:grpSpPr>
            <p:sp>
              <p:nvSpPr>
                <p:cNvPr id="42" name=""/>
                <p:cNvSpPr/>
                <p:nvPr/>
              </p:nvSpPr>
              <p:spPr>
                <a:xfrm rot="18420000">
                  <a:off x="7454160" y="-91080"/>
                  <a:ext cx="543600" cy="33624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0000">
                  <a:off x="7630200" y="972720"/>
                  <a:ext cx="956520" cy="119664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0000">
                  <a:off x="7009920" y="631080"/>
                  <a:ext cx="1802520" cy="245772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0000">
                  <a:off x="7027200" y="100080"/>
                  <a:ext cx="2711880" cy="368568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0000">
                  <a:off x="8355240" y="2870640"/>
                  <a:ext cx="600840" cy="3265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0000">
                  <a:off x="8231400" y="2553120"/>
                  <a:ext cx="642240" cy="38772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0000">
                  <a:off x="7494480" y="413640"/>
                  <a:ext cx="642240" cy="3970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0000">
                  <a:off x="7395120" y="166680"/>
                  <a:ext cx="633960" cy="371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1920" cy="1479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1511280"/>
            <a:ext cx="639612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002FC-210A-4B9C-85D5-3CF7B7FD187C}" type="slidenum">
              <a:rPr b="0" lang="ru-RU" sz="1400" spc="-1" strike="noStrike">
                <a:solidFill>
                  <a:srgbClr val="000000"/>
                </a:solidFill>
                <a:latin typeface="Comic Sans MS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3240" cy="1773000"/>
            <a:chOff x="195120" y="235080"/>
            <a:chExt cx="3783240" cy="177300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66880" cy="160956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57520" cy="15937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57640" cy="14540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3240" cy="1711080"/>
              <a:chOff x="195120" y="235080"/>
              <a:chExt cx="3783240" cy="171108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1920" cy="3348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3240" cy="1711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1560" cy="9698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55320" cy="646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2240" cy="5731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492680" y="4005360"/>
            <a:ext cx="1580040" cy="1779120"/>
            <a:chOff x="7492680" y="4005360"/>
            <a:chExt cx="1580040" cy="1779120"/>
          </a:xfrm>
        </p:grpSpPr>
        <p:sp>
          <p:nvSpPr>
            <p:cNvPr id="103" name=""/>
            <p:cNvSpPr/>
            <p:nvPr/>
          </p:nvSpPr>
          <p:spPr>
            <a:xfrm rot="7320000">
              <a:off x="7792200" y="4657320"/>
              <a:ext cx="993960" cy="4604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8440" y="4634640"/>
              <a:ext cx="990720" cy="455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6560" y="4623480"/>
              <a:ext cx="655920" cy="4161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492680" y="4005360"/>
              <a:ext cx="1580040" cy="1779120"/>
              <a:chOff x="7492680" y="4005360"/>
              <a:chExt cx="1580040" cy="177912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626240" y="5126400"/>
                <a:ext cx="128160" cy="1702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516800" y="4441680"/>
                <a:ext cx="1531440" cy="90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7973280" y="4633200"/>
                <a:ext cx="1079640" cy="508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723880" y="4376880"/>
                <a:ext cx="139680" cy="3376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01440" y="4669920"/>
                <a:ext cx="437400" cy="2966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cap="sq"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93400" y="576360"/>
            <a:ext cx="6870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етодическое объединение учителей русского языка и литературы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604880"/>
            <a:ext cx="401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46800" anchor="t">
            <a:noAutofit/>
          </a:bodyPr>
          <a:p>
            <a:pPr marL="343080" indent="-331920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9040" y="863640"/>
            <a:ext cx="68706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нтеллектуально-творческая деятельность  учителей и обучающихся на уроках  русского языка и литератур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14200" y="685800"/>
            <a:ext cx="8643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ителя по итогам первого полугодия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ринимали участие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1. Всероссийское онлайн тестирование учителей русского языка и литературы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2. Апробация КИМов по русскому языку по материалам ФИПИ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3.Видеоконференци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рамках Школы цифрового века «Разные грани  профессионального мастерства педагога», «Кто такие учителя-новаторы и в чём их новаторство?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4200" y="685800"/>
            <a:ext cx="8643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ителя по итогам первого полугодия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ринимали участие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4. Вебинары, районные семинары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5. Экспресс-занятия по подготовке учащихся к ЕГЭ, ОГЭ, итоговому сочинению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6. Конкурс «Учитель года по версии сайта www.mldvru — 2016» (диплом 2 степени Скворцова Н.П.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7. Учительская олимпиада «Профессиональная гордость»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14200" y="685800"/>
            <a:ext cx="885852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учающиеся по итогам первого полугод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имали участ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1. Всероссийский конкурс сочинений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2. Школьный и муниципальный этап Всероссийской олимпиады школьников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обедител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бовская Юлия —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544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енкина Алина — русский язы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544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зёры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бовская Юлия — русс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544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кирда София — русс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544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артамышев Сергей — приз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544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Григорьева Анастасия — приз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544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енкина Алина - приз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544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544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544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4200" y="685800"/>
            <a:ext cx="8643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бучающиеся по итогам первого полугодия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ринимали участие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Конкурс сочинений «Если бы я был учителем...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Женовак Ольга — 1 мест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ладимиров Денис — 1 мест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енкина Алина — 2 мест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Циммерман Андрей — 1 мест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Шабанова Сурайя — 1 место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4200" y="685800"/>
            <a:ext cx="8643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бучающиеся по итогам первого полугодия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ринимали участие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Конкурс сочинений «Как прекрасен этот мир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Женовак Ольга, Владимиров Денис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енкина Алина, Григорьева Анастаси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Шевченко Мария, Щербакова Софи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Кабанова Наталья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Конкурс «Русский медвежонок"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0" y="503280"/>
            <a:ext cx="913932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Какие же в целом получены результаты инновационно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деятельности методического объединени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-  совместная практическая деятельность детей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взрослых в реальной жиз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- рост профессионального мастерства педагогов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- работа по обобщению и распространению передовог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педагогического опыт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- создание условий для развития творческих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интеллектуальных, исследовательских способностей учащихся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- призовые места обучающихся  и педагогов в муниципальных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региональных конкурс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47640" y="720720"/>
            <a:ext cx="7920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Работая в этом направлении, нам еще предстои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решить ряд наиболее актуальных для нас задач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·        повышение проектной и информационной  культуры педагогов и учащихся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·        создание условий для использования метода проектной деятельности в урочной и внеурочной деятельности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5:08:40Z</dcterms:created>
  <dc:creator>Павел</dc:creator>
  <dc:description/>
  <dc:language>en-US</dc:language>
  <cp:lastModifiedBy/>
  <dcterms:modified xsi:type="dcterms:W3CDTF">2017-01-16T11:35:0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