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7.png" ContentType="image/png"/>
  <Override PartName="/ppt/media/image9.jpeg" ContentType="image/jpe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D66B-AF00-4B53-B9D0-95567F629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43C46-413D-452F-9849-96939F1348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9C62A-8B28-4212-9187-1DF36BBA87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70C3C-B954-4F2D-A77E-89D4BEAD3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406206-53C7-4A7C-87C5-8B0A38C1B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285AA-0231-40AE-983D-CCA15CD05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6FDC4-2770-4D77-B9E2-1094A9E1D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4E5F4-F02B-4A99-A690-449B911E8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642A5D-B3C4-4CE9-B84D-B7B411571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E2251E-8092-45BF-8063-F50E87B3E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647B78-A55A-4AD6-9C7F-1F64BD3AB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B5DBA-829E-4150-9228-1A6B4BC3D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33F94-0F76-4D89-996A-9CD271573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87B492-BD2E-44DB-8F9B-044CE4EEA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DBAAC-DA02-4700-93E1-9C0989F74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FF245-6F1E-4279-9366-EE99EF5639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8C6503-CC64-41BF-B392-784BDAD04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4AC49-744E-41B9-A43D-1B9A057F5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3D60-F08F-48AA-9513-EC352F36A3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43B8B-99C6-47F6-A7E6-E376A12EB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0F7C7-D940-499F-A855-0D6A3EACF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40064-4CC1-423F-8E74-3E11CFEC3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1AF7F-EAA6-47ED-8F8A-589D7859F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BEF5-505E-46B6-945B-F35C0D40D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D87D3-04B4-4D65-B3B1-5E541661748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4D671-BABE-4059-AE06-053E96B3F95D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fammeo.ru/articles.php?article_id=265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fammeo.ru/articles.php?article_id=852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6633"/>
                </a:solidFill>
                <a:latin typeface="Garamond"/>
              </a:rPr>
              <a:t>ВИДЫ БРЮК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943240" y="3962520"/>
            <a:ext cx="259092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6600"/>
                </a:solidFill>
                <a:latin typeface="Arial"/>
              </a:rPr>
              <a:t>8 клас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Пронина Р.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МБОУ СШ №10 г. Чех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09120" y="1066680"/>
            <a:ext cx="44197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27 - брюки-бананы,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28 - брюки Бэгги (брюки бой-френда),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29 - пижамные брюки, 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30 - облегающий комбинезон для гимнастики,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31 - комбинезон с лямками.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10" name="" descr="Виды брюк"/>
          <p:cNvPicPr/>
          <p:nvPr/>
        </p:nvPicPr>
        <p:blipFill>
          <a:blip r:embed="rId1"/>
          <a:stretch/>
        </p:blipFill>
        <p:spPr>
          <a:xfrm>
            <a:off x="5334120" y="380880"/>
            <a:ext cx="3485880" cy="647712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1679040" y="485640"/>
            <a:ext cx="304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Arial"/>
              </a:rPr>
              <a:t>Длинные брю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6840" y="277920"/>
            <a:ext cx="20574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Garamond"/>
              </a:rPr>
              <a:t>Описание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Сафари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- брюки </a:t>
            </a:r>
            <a:r>
              <a:rPr b="0" lang="ru-RU" sz="21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в стиле сафари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, природных натуральных цветов, из практичной ткани, с накладными карманами, швами, заклепками, пряжками, часто с манжетами. Могут быть и широкими, и зауженными, длинными и укороченным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Бэгги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(брюки бой-френда)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- брюки широкие, прямые, мешковатые, свободные и слегка заниженные в паху, с карманами на застежках и липучках, грубыми швами, часто с подвернутыми штанинами. Их любят носить байкеры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Пижамные брюки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- широки от бедра брюки, присборенные у пояса, в стиле пижамных штанов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Тренировочные брюки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- спортивные штаны из мягкой трикотажной ткани для занятий спортом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Комбинезон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- брюки, соединенные с верхом. Основные виды комбинезонов - облегающий и комбинезон с лямками. Хотя видов комбинезонов сейчас значительно больше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Garamond"/>
              </a:rPr>
              <a:t>Модели шортов и укороченных брюк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181480" y="1295280"/>
            <a:ext cx="37339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32 - бермуды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33 - бриджи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34 - капри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35 - гольф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36 - брюки-гаучо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37 - брюки-кюлоты,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38 - велосипедки,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39 - юбка-брюки.</a:t>
            </a:r>
            <a:r>
              <a:rPr b="1" lang="ru-RU" sz="3000" spc="-1" strike="noStrike">
                <a:solidFill>
                  <a:srgbClr val="006633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Модели шортов"/>
          <p:cNvPicPr/>
          <p:nvPr/>
        </p:nvPicPr>
        <p:blipFill>
          <a:blip r:embed="rId1"/>
          <a:stretch/>
        </p:blipFill>
        <p:spPr>
          <a:xfrm>
            <a:off x="304920" y="1219320"/>
            <a:ext cx="4724280" cy="541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182880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Garamond"/>
              </a:rPr>
              <a:t>Описание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Бермуды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 - укороченные брюки длиной чуть выше колен, созданные по типу формы Британских колониальных войск для стран с жарким климатом. Название произошло от Бермудских островов, где такие брюки являются деловой одеждой мужчин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Бриджи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 - шорты до колен, плотно охватывающие ногу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Капри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 - укороченные брюки длиной чуть ниже середины икры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Брюки-гаучо 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- широкие, слегка расклешенные брюки длиной до икры, созданные по подобию традиционных брюк южно-американских пастухов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Кюлоты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 – узкие брюки до колен из плотной ткани, созданные по типу мужских брюк эпохи Людовика XIV: их рекомендуется носить с высокими сапогами до колена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Брюки - пумпы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 – созданы в конце XX века суфражистками и представляют собой широкие штаны длиной до середины голени, собранные в нижней части на манжету или резинку. В современном костюме это - вид укороченных шаровар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Велосипедки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 - любые шорты из эластичной ткани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Шорты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 - название коротких брюк длиной до середины бедра;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Гольф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 - это клетчатые шорты до колена на манжете, изначально предназначались для игры в гольф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000000"/>
                </a:solidFill>
                <a:latin typeface="Arial"/>
              </a:rPr>
              <a:t>Юбка-брюки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 - очень широкие укороченные брюки, расклешенные от бедра, имеют вид юбки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800" spc="-1" strike="noStrike">
                <a:solidFill>
                  <a:srgbClr val="006633"/>
                </a:solidFill>
                <a:latin typeface="Garamond"/>
              </a:rPr>
              <a:t>Основные стили джинсов</a:t>
            </a:r>
            <a:br>
              <a:rPr sz="3800"/>
            </a:b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Regular (old) style (обычный "старый" стиль) 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– джинсы классического стиля, сидящие плотно на фигуре: имеют прямой крой, иногда – заужены книзу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Easy (comfort) style (свободный "комфортный" стиль) 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– джинсы по крою похожи на классические варианты, но сидят на фигуре свободно, не стесняя движений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Slim style (обтягивающий стиль)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 – джинсы из денима с добавкой эластана: хорошо подчеркивают достоинства фигуры благодаря стрейчевой ткани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Loose style (просторный стиль)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 – широкие, свободные модели джинсов, которым отдает предпочтение молодежь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Baggy style (мешковатый стиль)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 - "рэпперские", слегка приспущенные, так называемые «джинсы бой-френда». Могут иметь большое количество карманов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Country style (Boot cut) (стиль кантри, клеш) 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– джинсы ковбоев, которые облегают тело в верхней части, а в нижней части имею клеш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Job style (рабочий стиль)</a:t>
            </a: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 – джинсы имеют большое количество карманов для рабочих инструментов и лямки, на которые удобно вешать крупногабаритные инструменты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78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33"/>
                </a:solidFill>
                <a:latin typeface="Garamond"/>
              </a:rPr>
              <a:t>Чертеж брюк </a:t>
            </a:r>
            <a:br>
              <a:rPr sz="2400"/>
            </a:br>
            <a:r>
              <a:rPr b="1" lang="en-US" sz="2400" spc="-1" strike="noStrike">
                <a:solidFill>
                  <a:srgbClr val="006633"/>
                </a:solidFill>
                <a:latin typeface="Garamond"/>
              </a:rPr>
              <a:t>Названия деталей кроя и срезов</a:t>
            </a:r>
            <a:endParaRPr b="0" lang="en-US" sz="24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990720" y="1295280"/>
            <a:ext cx="3200400" cy="52387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5562720" y="1143000"/>
            <a:ext cx="3276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Garamond"/>
              </a:rPr>
              <a:t>Чертеж основы шорт без боковых швов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594360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277560"/>
            <a:ext cx="3429000" cy="40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Garamond"/>
              </a:rPr>
              <a:t>Детали кроя шорт </a:t>
            </a:r>
            <a:br>
              <a:rPr sz="2800"/>
            </a:b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04920" y="3124080"/>
            <a:ext cx="4800600" cy="350532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4267080" y="228600"/>
            <a:ext cx="4724640" cy="31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1920" y="1600200"/>
            <a:ext cx="44197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1 - классические брюки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2 - брюки-клеш от колена (брюки-колокол),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 3 - брюки-сигареты (дудочки, трубочки, узкие брюки).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4 - широкие брюки Марлен Дитрих (в мужском стиле)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5 - широкие брюки-паруса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6 - шаровары,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Garamond"/>
              </a:rPr>
              <a:t>7 - брюки со штрипками.</a:t>
            </a:r>
            <a:r>
              <a:rPr b="0" lang="en-US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89" name="" descr="Модели брюк"/>
          <p:cNvPicPr/>
          <p:nvPr/>
        </p:nvPicPr>
        <p:blipFill>
          <a:blip r:embed="rId1"/>
          <a:stretch/>
        </p:blipFill>
        <p:spPr>
          <a:xfrm>
            <a:off x="4800600" y="685800"/>
            <a:ext cx="4095720" cy="59529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914400" y="533160"/>
            <a:ext cx="4049640" cy="48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33"/>
                </a:solidFill>
                <a:latin typeface="Arial"/>
              </a:rPr>
              <a:t>Длинные брю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228600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Garamond"/>
              </a:rPr>
              <a:t>Описание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Брюки - клеш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 – расклешенные от бедра брюки, наиболее удачно подходящие женщинам с узкими бедрами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Расклешенные от колена (брюки-колокол)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 брюки рекомендуются для высоких и стройных женщин, так как визуально укорачивают фигуру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Брюки-сигареты (дудочки, брюки-трубочки)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 – равномерно узкие брюки, плотно облегающие ноги, рекомендуются для высоких и стройных женщин, имеющих идеальную фигуру. Впервые их одел Элвис Пресли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Брюки в стиле </a:t>
            </a:r>
            <a:r>
              <a:rPr b="0" lang="en-US" sz="17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Марлен Дитрих</a:t>
            </a:r>
            <a:r>
              <a:rPr b="0" lang="en-US" sz="1700" spc="-1" strike="noStrike" u="sng">
                <a:solidFill>
                  <a:srgbClr val="000000"/>
                </a:solidFill>
                <a:uFillTx/>
                <a:latin typeface="Arial"/>
              </a:rPr>
              <a:t> (широкие брюки в мужском стиле)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 – прямые широкие брюки мужского покроя для высоких и стройных фигур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Широкие брюки-паруса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 – элегантные брюки из легких, струящихся тканей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Arial"/>
              </a:rPr>
              <a:t>Шаровары (брюки-баллоны, турецкие)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 – широкие женственные брюки восточного стиля, собранные у щиколотки на манжету или резинку; шаровары, вместе с бананами, галифе и брюками-афгани составляют группу, которая называется овальные брюки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09120" y="1066680"/>
            <a:ext cx="3505320" cy="52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8</a:t>
            </a:r>
            <a:r>
              <a:rPr b="0" i="1" lang="ru-RU" sz="2800" spc="-1" strike="noStrike">
                <a:solidFill>
                  <a:srgbClr val="000000"/>
                </a:solidFill>
                <a:latin typeface="Garamond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- галифе,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9 - брюки-афгани, 10 – леггинсы,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11 - брюки чинос,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12 - брюки карго, </a:t>
            </a:r>
            <a:br>
              <a:rPr sz="2800"/>
            </a:br>
            <a:r>
              <a:rPr b="1" lang="ru-RU" sz="2800" spc="-1" strike="noStrike">
                <a:solidFill>
                  <a:srgbClr val="000000"/>
                </a:solidFill>
                <a:latin typeface="Garamond"/>
              </a:rPr>
              <a:t>13 - джодпуры (рейтузы, брюки для верховой езды, жокейские), 14 - самурайские брюки хакама.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4" name="" descr="Модели брюк с фото"/>
          <p:cNvPicPr/>
          <p:nvPr/>
        </p:nvPicPr>
        <p:blipFill>
          <a:blip r:embed="rId1"/>
          <a:stretch/>
        </p:blipFill>
        <p:spPr>
          <a:xfrm>
            <a:off x="4419720" y="457200"/>
            <a:ext cx="4476600" cy="601992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993240" y="228600"/>
            <a:ext cx="304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Arial"/>
              </a:rPr>
              <a:t>Длинные брю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2209680" cy="4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Garamond"/>
              </a:rPr>
              <a:t>Описание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Брюки – бананы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 – свободные брюки, относящиеся к разряду овальных, крой которых напоминает соответствующий плод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Брюки – галифе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 – брюки сложного кроя, заимствованного из военной формы – имеют расширение в области бедер и хорошо смотрятся на высоких девушках с узкими бедрами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Брюки – афгани (алладин, «Али Баба», зуавы, саруэл, гаремные, фюзо)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 – брюки с низко расположенной проймой, созданные по аналогии со штанами, имеющими распространение в Индии и Афганистане: женственные и оригинальные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жинсы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 – брюки из денима - джинсовой ткани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Кордеройз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 – брюки и джинсы из вельвета в рубчик, получившие название от слова «cord» - вельвет по-английски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Штроксы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 – тоже брюки из вельветовой ткани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Техасы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 – название любых джинсов, бытовавшее в СССР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Брюки со штрипками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 – часть мужского костюма XIX века с деталью в нижней части в виде петли, которая проходила под каблуком обуви. В современном костюме такие брюки чаще всего используются в качестве спортивной одежды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Леггинсы 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– это брюки из эластичных материалов, плотно облегающие фигуру, которые рекомендуется носить с длинными туниками и свитерам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Брюки чинос (чино, чиносы)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 - это прямые брюки небрежного, слегка помятого вида, из практичной дышащей ткани (лен, хлопок), со складками у пояса, для летнего времени года. Часто носятся со слегка подвернутыми штанинами. Классические цвета чиносов — бежевый, хаки или оливковый и синий. Изначально шились из китайской ткани (отсюда название) для американской армии. Отлично подходят в качестве замены джинсам, и вообще подходят почти на все случаи жизн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Брюки карго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 - удобные практичные свободные брюки для работы и отдыха, с грубой обработкой швов, объемными вместительными карманами по бокам и не только с застежками, заклепками, липучками кнопками и пряжками, обычно из непромокаемой ткани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Брюки со стрелками 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- прямые строгие брюки со складками по центру штанин впереди. Отлично подходят для офиса и для торжественных случаев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Панталоны (блумерсы)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 - мешковатые свободные брюки, присборенные на щиколотках. Первоначально - нижние штаны, сужающиеся к колену, где присборены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2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Джодпуры (брюки для верховой езды, рейтузы, жокейские брюки) 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- узкие облегающие брюки со штрипками. Изначально предназначались для верховой езды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160" y="838080"/>
            <a:ext cx="4343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15 - блумерсы (панталоны),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16 - хипстеры,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17 – чуридары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18 - брюки со стрелками,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19 - шальвары (брюки-патиалы)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 20 - тренировочные брюки.</a:t>
            </a:r>
            <a:r>
              <a:rPr b="0" lang="ru-RU" sz="42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99" name="" descr="Какие бывают брюки"/>
          <p:cNvPicPr/>
          <p:nvPr/>
        </p:nvPicPr>
        <p:blipFill>
          <a:blip r:embed="rId1"/>
          <a:stretch/>
        </p:blipFill>
        <p:spPr>
          <a:xfrm>
            <a:off x="4667400" y="228600"/>
            <a:ext cx="4476600" cy="629604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1450440" y="304920"/>
            <a:ext cx="304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Arial"/>
              </a:rPr>
              <a:t>Длинные брю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Garamond"/>
              </a:rPr>
              <a:t>Описание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Хипстеры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 - брюки с заниженной талией (на 3-5 см ниже пупка)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Брюки каррот (морковки)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 - свободные у бедер брюки, плавно сужающиеся к щиколотке, могут быть чуть укорочены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Хакама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 - широкие японские брюки самураев, расклешенные от бедра, что дает сходство с юбкой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Чуридары 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- восточные индийские штаны, расширенные на бедрах, со складками на поясе, узкие обтягивающие внизу, где присборены в складки, так как длина штанин намного превышает длину ног. Могут быть с манжетами с застежками на лодыжках. Носятся с туникой, юбкой, камизом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Шальвары (сальвары, брюки-патиалы)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 — восточные широкие шаровары с большим количеством складок на кокетке вверху и на брючинах. Носятся с камизом, туникой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76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Arial"/>
              </a:rPr>
              <a:t>Шарары</a:t>
            </a:r>
            <a:r>
              <a:rPr b="0" lang="ru-RU" sz="1900" spc="-1" strike="noStrike">
                <a:solidFill>
                  <a:srgbClr val="000000"/>
                </a:solidFill>
                <a:latin typeface="Arial"/>
              </a:rPr>
              <a:t> - индийские широкие штаны, расклешенные от бедра. Носятся с камизом и туникой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1523880"/>
            <a:ext cx="39625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21 - брюки каррот (брюки-морковки),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22 - широкие брюки-палаццо,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23 - брюки-шарары,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24 - брюки-слимы, </a:t>
            </a:r>
            <a:br>
              <a:rPr sz="3200"/>
            </a:br>
            <a:r>
              <a:rPr b="1" lang="ru-RU" sz="3200" spc="-1" strike="noStrike">
                <a:solidFill>
                  <a:srgbClr val="000000"/>
                </a:solidFill>
                <a:latin typeface="Garamond"/>
              </a:rPr>
              <a:t>25 - брюки-скинни.</a:t>
            </a:r>
            <a:r>
              <a:rPr b="0" lang="ru-RU" sz="3800" spc="-1" strike="noStrike">
                <a:solidFill>
                  <a:srgbClr val="006633"/>
                </a:solidFill>
                <a:latin typeface="Garamond"/>
              </a:rPr>
              <a:t> </a:t>
            </a:r>
            <a:endParaRPr b="0" lang="en-US" sz="3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04" name="" descr="Фасоны брюк"/>
          <p:cNvPicPr/>
          <p:nvPr/>
        </p:nvPicPr>
        <p:blipFill>
          <a:blip r:embed="rId1"/>
          <a:stretch/>
        </p:blipFill>
        <p:spPr>
          <a:xfrm>
            <a:off x="4667400" y="304920"/>
            <a:ext cx="4476600" cy="633384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371600" y="2318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993240" y="533520"/>
            <a:ext cx="304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Arial"/>
              </a:rPr>
              <a:t>Длинные брю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2209680" cy="56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33"/>
                </a:solidFill>
                <a:latin typeface="Garamond"/>
              </a:rPr>
              <a:t>Описание</a:t>
            </a:r>
            <a:endParaRPr b="0" lang="en-US" sz="2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Брюки палаццо (юбка-брюки палаццо)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 - очень широкие женственные брюки из легкой, свободно ниспадающей ткани. Расширены от бедра и имеют завышенную талию. Очень похожи на юбку, поэтому их часто называют юбкой-брюкам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лимы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 - очень узкие, полностью обтягивающие брюки, со слегка завышенной талией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Скинни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 - обтягивающие брюки «в облипку», как вторая кож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26T15:22:19Z</dcterms:created>
  <dc:creator>Acer</dc:creator>
  <dc:description/>
  <dc:language>en-US</dc:language>
  <cp:lastModifiedBy>Acer</cp:lastModifiedBy>
  <dcterms:modified xsi:type="dcterms:W3CDTF">2017-12-13T16:40:48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