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C0EC-CF58-4E1C-831F-700D96C96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66FA-2BAC-4AAD-B8A9-BB14F950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F8D11-5F4F-4966-9226-9F79919F7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F3DB-6241-43BF-B41D-92FA5EE41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A36EF-60CC-4C35-86AD-4969CAAAB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916F-CF09-47C5-AD40-6BDF5DA2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953F-7701-49E4-BB00-5BF48991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A0EC-1BF0-465F-8A00-060B3DC5B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9C292-EF80-44C1-BE19-F9438C066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E8346-E17A-46DD-B069-E3FCF89E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95588-1714-463C-9A9C-6A3B640C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7E4A-CB51-4FBF-96EF-D2CCE9B8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9DD1-5BED-45E9-891C-E2080723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75E29-E61C-4845-8F9A-B774E6E6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26160-3860-48E3-8477-03767408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91D9D-3DD6-47C4-BB5E-EE75D71EC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26A3D-68B6-4174-A4EA-9BED68D8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F987-873D-4400-AC8F-99EF1A44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3F09-B9BD-4F8C-AC8A-F59FC06C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1C6B-F59A-42E7-A9E3-D0B09DF43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956B-6F5C-41CD-BBC7-0B65A90F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5CAF-7DA9-491C-8DEB-D62F85D4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4D80-D372-4EF0-B59E-DE1E89A21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8DBD-EB79-4E82-82B1-6F8236CB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881DB-FCF5-421F-A82E-AE071712011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6CE74-6150-4A4F-A2AE-54DD6FF2617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ammeo.ru/articles.php?article_id=265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ammeo.ru/articles.php?article_id=852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ВИДЫ БРЮК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943240" y="3962520"/>
            <a:ext cx="2590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8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нина Р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БОУ СШ №10 г. Чех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4419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27 - брюки-бананы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28 - брюки Бэгги (брюки бой-френда)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29 - пижамные брюки,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30 - облегающий комбинезон для гимнастики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31 - комбинезон с лямками.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" descr="Виды брюк"/>
          <p:cNvPicPr/>
          <p:nvPr/>
        </p:nvPicPr>
        <p:blipFill>
          <a:blip r:embed="rId1"/>
          <a:stretch/>
        </p:blipFill>
        <p:spPr>
          <a:xfrm>
            <a:off x="5334120" y="380880"/>
            <a:ext cx="3485880" cy="647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79040" y="48564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Длинные брю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2057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Описание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афар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- брюки 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в стиле сафар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природных натуральных цветов, из практичной ткани, с накладными карманами, швами, заклепками, пряжками, часто с манжетами. Могут быть и широкими, и зауженными, длинными и укороченны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Бэгг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(брюки бой-френда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- брюки широкие, прямые, мешковатые, свободные и слегка заниженные в паху, с карманами на застежках и липучках, грубыми швами, часто с подвернутыми штанинами. Их любят носить байкер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ижамные брюк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- широки от бедра брюки, присборенные у пояса, в стиле пижамных штан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Тренировочные брюк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- спортивные штаны из мягкой трикотажной ткани для занятий спорт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омбинезо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- брюки, соединенные с верхом. Основные виды комбинезонов - облегающий и комбинезон с лямками. Хотя видов комбинезонов сейчас значительно больш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Модели шортов и укороченных брюк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81480" y="1295280"/>
            <a:ext cx="3733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2 - бермуды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3 - бриджи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4 - капри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5 - гольф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6 - брюки-гауч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7 - брюки-кюлоты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8 - велосипедк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9 - юбка-брюки.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Модели шортов"/>
          <p:cNvPicPr/>
          <p:nvPr/>
        </p:nvPicPr>
        <p:blipFill>
          <a:blip r:embed="rId1"/>
          <a:stretch/>
        </p:blipFill>
        <p:spPr>
          <a:xfrm>
            <a:off x="304920" y="1219320"/>
            <a:ext cx="4724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1828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Описание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Бермуды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- укороченные брюки длиной чуть выше колен, созданные по типу формы Британских колониальных войск для стран с жарким климатом. Название произошло от Бермудских островов, где такие брюки являются деловой одеждой мужчин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Бридж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- шорты до колен, плотно охватывающие ног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апр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- укороченные брюки длиной чуть ниже середины икры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Брюки-гаучо 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широкие, слегка расклешенные брюки длиной до икры, созданные по подобию традиционных брюк южно-американских пастухов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юлоты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– узкие брюки до колен из плотной ткани, созданные по типу мужских брюк эпохи Людовика XIV: их рекомендуется носить с высокими сапогами до колен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Брюки - пумпы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– созданы в конце XX века суфражистками и представляют собой широкие штаны длиной до середины голени, собранные в нижней части на манжету или резинку. В современном костюме это - вид укороченных шаровар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елосипедк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- любые шорты из эластичной ткан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Шорты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- название коротких брюк длиной до середины бедр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ольф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- это клетчатые шорты до колена на манжете, изначально предназначались для игры в гольф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Юбка-брюк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- очень широкие укороченные брюки, расклешенные от бедра, имеют вид юбк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сновные стили джинсов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Regular (old) style (обычный "старый" стиль) 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– джинсы классического стиля, сидящие плотно на фигуре: имеют прямой крой, иногда – заужены книз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Easy (comfort) style (свободный "комфортный" стиль) 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– джинсы по крою похожи на классические варианты, но сидят на фигуре свободно, не стесняя движ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Slim style (обтягивающий стиль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– джинсы из денима с добавкой эластана: хорошо подчеркивают достоинства фигуры благодаря стрейчевой ткан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Loose style (просторный стиль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– широкие, свободные модели джинсов, которым отдает предпочтение молодежь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Baggy style (мешковатый стиль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- "рэпперские", слегка приспущенные, так называемые «джинсы бой-френда». Могут иметь большое количество карман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Country style (Boot cut) (стиль кантри, клеш) 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– джинсы ковбоев, которые облегают тело в верхней части, а в нижней части имею клеш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Job style (рабочий стиль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– джинсы имеют большое количество карманов для рабочих инструментов и лямки, на которые удобно вешать крупногабаритные инструмен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Чертеж брюк </a:t>
            </a:r>
            <a:br>
              <a:rPr sz="2400"/>
            </a:b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Названия деталей кроя и срезов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3200400" cy="5238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3276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Чертеж основы шорт без боковых швов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4290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Детали кроя шорт 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4800600" cy="3505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267080" y="228600"/>
            <a:ext cx="47246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600200"/>
            <a:ext cx="4419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 - классические брюки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 - брюки-клеш от колена (брюки-колокол)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3 - брюки-сигареты (дудочки, трубочки, узкие брюки)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4 - широкие брюки Марлен Дитрих (в мужском стиле)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 - широкие брюки-паруса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 - шаровары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7 - брюки со штрипками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Модели брюк"/>
          <p:cNvPicPr/>
          <p:nvPr/>
        </p:nvPicPr>
        <p:blipFill>
          <a:blip r:embed="rId1"/>
          <a:stretch/>
        </p:blipFill>
        <p:spPr>
          <a:xfrm>
            <a:off x="4800600" y="685800"/>
            <a:ext cx="4095720" cy="5952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14400" y="533160"/>
            <a:ext cx="4049640" cy="48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Длинные брю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2286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Описание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Брюки - клеш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– расклешенные от бедра брюки, наиболее удачно подходящие женщинам с узкими бедрам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Расклешенные от колена (брюки-колокол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брюки рекомендуются для высоких и стройных женщин, так как визуально укорачивают фигуру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Брюки-сигареты (дудочки, брюки-трубочки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– равномерно узкие брюки, плотно облегающие ноги, рекомендуются для высоких и стройных женщин, имеющих идеальную фигуру. Впервые их одел Элвис Пресл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Брюки в стиле </a:t>
            </a:r>
            <a:r>
              <a:rPr b="0" lang="en-US" sz="17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Марлен Дитрих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 (широкие брюки в мужском стиле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– прямые широкие брюки мужского покроя для высоких и стройных фигур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Широкие брюки-парус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– элегантные брюки из легких, струящихся тканей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Шаровары (брюки-баллоны, турецкие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– широкие женственные брюки восточного стиля, собранные у щиколотки на манжету или резинку; шаровары, вместе с бананами, галифе и брюками-афгани составляют группу, которая называется овальные брюк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35053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8</a:t>
            </a:r>
            <a:r>
              <a:rPr b="0" i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- галифе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9 - брюки-афгани, 10 – леггинсы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11 - брюки чинос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12 - брюки карго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13 - джодпуры (рейтузы, брюки для верховой езды, жокейские), 14 - самурайские брюки хакама.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" descr="Модели брюк с фото"/>
          <p:cNvPicPr/>
          <p:nvPr/>
        </p:nvPicPr>
        <p:blipFill>
          <a:blip r:embed="rId1"/>
          <a:stretch/>
        </p:blipFill>
        <p:spPr>
          <a:xfrm>
            <a:off x="4419720" y="457200"/>
            <a:ext cx="4476600" cy="6019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93240" y="22860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Длинные брю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220968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Описание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рюки – банан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– свободные брюки, относящиеся к разряду овальных, крой которых напоминает соответствующий плод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рюки – галиф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– брюки сложного кроя, заимствованного из военной формы – имеют расширение в области бедер и хорошо смотрятся на высоких девушках с узкими бедрам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рюки – афгани (алладин, «Али Баба», зуавы, саруэл, гаремные, фюзо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– брюки с низко расположенной проймой, созданные по аналогии со штанами, имеющими распространение в Индии и Афганистане: женственные и оригинальные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жинс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– брюки из денима - джинсовой ткан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рдеройз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– брюки и джинсы из вельвета в рубчик, получившие название от слова «cord» - вельвет по-английск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Штрокс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– тоже брюки из вельветовой ткан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ехас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– название любых джинсов, бытовавшее в СССР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рюки со штрипкам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– часть мужского костюма XIX века с деталью в нижней части в виде петли, которая проходила под каблуком обуви. В современном костюме такие брюки чаще всего используются в качестве спортивной одежд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еггинсы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это брюки из эластичных материалов, плотно облегающие фигуру, которые рекомендуется носить с длинными туниками и свитера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рюки чинос (чино, чиносы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- это прямые брюки небрежного, слегка помятого вида, из практичной дышащей ткани (лен, хлопок), со складками у пояса, для летнего времени года. Часто носятся со слегка подвернутыми штанинами. Классические цвета чиносов — бежевый, хаки или оливковый и синий. Изначально шились из китайской ткани (отсюда название) для американской армии. Отлично подходят в качестве замены джинсам, и вообще подходят почти на все случаи жизн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рюки карго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- удобные практичные свободные брюки для работы и отдыха, с грубой обработкой швов, объемными вместительными карманами по бокам и не только с застежками, заклепками, липучками кнопками и пряжками, обычно из непромокаемой ткан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рюки со стрелками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прямые строгие брюки со складками по центру штанин впереди. Отлично подходят для офиса и для торжественных случае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анталоны (блумерсы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- мешковатые свободные брюки, присборенные на щиколотках. Первоначально - нижние штаны, сужающиеся к колену, где присборен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жодпуры (брюки для верховой езды, рейтузы, жокейские брюки)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узкие облегающие брюки со штрипками. Изначально предназначались для верховой езд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15 - блумерсы (панталоны)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16 - хипстеры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17 – чуридары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18 - брюки со стрелками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19 - шальвары (брюки-патиалы)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20 - тренировочные брюки.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" descr="Какие бывают брюки"/>
          <p:cNvPicPr/>
          <p:nvPr/>
        </p:nvPicPr>
        <p:blipFill>
          <a:blip r:embed="rId1"/>
          <a:stretch/>
        </p:blipFill>
        <p:spPr>
          <a:xfrm>
            <a:off x="4667400" y="228600"/>
            <a:ext cx="4476600" cy="6296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450440" y="30492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Длинные брю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Описание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Хипстеры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 - брюки с заниженной талией (на 3-5 см ниже пупка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Брюки каррот (морковки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 - свободные у бедер брюки, плавно сужающиеся к щиколотке, могут быть чуть укорочен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Хакам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 - широкие японские брюки самураев, расклешенные от бедра, что дает сходство с юбк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Чуридары 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восточные индийские штаны, расширенные на бедрах, со складками на поясе, узкие обтягивающие внизу, где присборены в складки, так как длина штанин намного превышает длину ног. Могут быть с манжетами с застежками на лодыжках. Носятся с туникой, юбкой, камиз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Шальвары (сальвары, брюки-патиалы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 — восточные широкие шаровары с большим количеством складок на кокетке вверху и на брючинах. Носятся с камизом, туник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Шарары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 - индийские широкие штаны, расклешенные от бедра. Носятся с камизом и туник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21 - брюки каррот (брюки-морковки)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22 - широкие брюки-палаццо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23 - брюки-шарары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24 - брюки-слимы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25 - брюки-скинни.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" descr="Фасоны брюк"/>
          <p:cNvPicPr/>
          <p:nvPr/>
        </p:nvPicPr>
        <p:blipFill>
          <a:blip r:embed="rId1"/>
          <a:stretch/>
        </p:blipFill>
        <p:spPr>
          <a:xfrm>
            <a:off x="4667400" y="304920"/>
            <a:ext cx="4476600" cy="6333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71600" y="2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3240" y="53352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Длинные брю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22096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Описание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рюки палаццо (юбка-брюки палаццо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- очень широкие женственные брюки из легкой, свободно ниспадающей ткани. Расширены от бедра и имеют завышенную талию. Очень похожи на юбку, поэтому их часто называют юбкой-брюк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лим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- очень узкие, полностью обтягивающие брюки, со слегка завышенной тали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кинн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- обтягивающие брюки «в облипку», как вторая кож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6T15:22:19Z</dcterms:created>
  <dc:creator>Acer</dc:creator>
  <dc:description/>
  <dc:language>en-US</dc:language>
  <cp:lastModifiedBy>Acer</cp:lastModifiedBy>
  <dcterms:modified xsi:type="dcterms:W3CDTF">2017-12-13T16:40:4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