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5.gif" ContentType="image/gif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300F-ECF3-46D8-9F14-C111969A2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5D12-018C-4900-BD10-06D21622E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C378-F2C8-4F52-B9F3-5E5E2A1DC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CC2D-B236-4D26-AB80-010B7CFB1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B2106-5C31-49C4-AEA2-0997EDBE83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DE8B-AA4F-4CFC-A92B-CD2CF79D6B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28CAE-6FCF-46FF-8D92-2365902686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44208-10DB-4CE3-B4AA-C566299391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D89F-578D-4D0B-B3D3-E2EEC3719B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39AD7-437B-46C0-9B47-30ECC9AE60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40A46-BD28-485B-AAD2-18FDBC69D1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5AA0-B266-46A4-A3BC-05B58E4B7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58927-5A94-475B-B216-241AC49794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5052D-5823-4C21-82E6-8B1E669020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87827-2386-4700-BA5D-D7FC1CD2DA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F25C-70D5-43EC-B288-030F7EC2B5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CD31-F666-47F8-9FCF-1DB115FCA8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59C5-DFCE-42E6-ACCA-3197FFDC4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2861-703A-406A-AE2D-099182E10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577F-C475-482A-BAC1-D98D06B83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0D34-A128-496C-98C3-3F705054F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C469-473C-4817-81B7-E65CCA147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445D-E5A6-41F4-9B70-F1D2955C8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2DFF-C4AB-4E1A-977D-618A7B41D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4964AD-1407-49B0-9489-BBB008318CDB}" type="slidenum">
              <a:rPr b="0" lang="ru-RU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4B8F64E-C88C-4675-8077-A653CBCF90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anbw.ru/analitycs/hotstation.html" TargetMode="External"/><Relationship Id="rId3" Type="http://schemas.openxmlformats.org/officeDocument/2006/relationships/hyperlink" Target="http://www.manbw.ru/analitycs/hotstation.html" TargetMode="External"/><Relationship Id="rId4" Type="http://schemas.openxmlformats.org/officeDocument/2006/relationships/hyperlink" Target="http://ru.wikipedia.org/wiki/&#1042;&#1072;&#1090;&#1090;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59;&#1088;&#1072;&#1085;_(&#1101;&#1083;&#1077;&#1084;&#1077;&#1085;&#1090;)" TargetMode="External"/><Relationship Id="rId3" Type="http://schemas.openxmlformats.org/officeDocument/2006/relationships/hyperlink" Target="http://ru.wikipedia.org/wiki/&#1059;&#1088;&#1072;&#1085;_(&#1101;&#1083;&#1077;&#1084;&#1077;&#1085;&#1090;)" TargetMode="External"/><Relationship Id="rId4" Type="http://schemas.openxmlformats.org/officeDocument/2006/relationships/hyperlink" Target="http://ru.wikipedia.org/wiki/&#1043;&#1077;&#1085;&#1077;&#1088;&#1072;&#1094;&#1080;&#1103;_&#1101;&#1083;&#1077;&#1082;&#1090;&#1088;&#1086;&#1101;&#1085;&#1077;&#1088;&#1075;&#1080;&#1080;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ubricon.com/partner.asp?aid=%7B67D3DEB3-C528-4962-940C-C04A817F4B92%7D&amp;ext=0" TargetMode="External"/><Relationship Id="rId3" Type="http://schemas.openxmlformats.org/officeDocument/2006/relationships/hyperlink" Target="http://www.manbw.ru/analitycs/turbogen.html" TargetMode="External"/><Relationship Id="rId4" Type="http://schemas.openxmlformats.org/officeDocument/2006/relationships/hyperlink" Target="http://www.manbw.ru/analitycs/transformers.html" TargetMode="External"/><Relationship Id="rId5" Type="http://schemas.openxmlformats.org/officeDocument/2006/relationships/hyperlink" Target="http://www.manbw.ru/analitycs/gradirni.html" TargetMode="Externa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lovari.yandex.ru/dict/bse/article/00028/11200.htm?text=&#1076;&#1099;&#1084;&#1086;&#1074;&#1099;&#1077;%20&#1075;&#1072;&#1079;&#1099;" TargetMode="External"/><Relationship Id="rId3" Type="http://schemas.openxmlformats.org/officeDocument/2006/relationships/hyperlink" Target="http://slovari.yandex.ru/dict/bse/article/00091/15800.htm?text=&#1096;&#1083;&#1072;&#1082;" TargetMode="External"/><Relationship Id="rId4" Type="http://schemas.openxmlformats.org/officeDocument/2006/relationships/hyperlink" Target="http://ru.wikipedia.org/wiki/&#1056;&#1072;&#1076;&#1080;&#1086;&#1072;&#1082;&#1090;&#1080;&#1074;&#1085;&#1099;&#1077;_&#1086;&#1090;&#1093;&#1086;&#1076;&#1099;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/index.php?title=&#1069;&#1085;&#1077;&#1088;&#1075;&#1086;&#1073;&#1083;&#1086;&#1082;&amp;action=edit&amp;redlink=1" TargetMode="External"/><Relationship Id="rId3" Type="http://schemas.openxmlformats.org/officeDocument/2006/relationships/hyperlink" Target="http://ru.wikipedia.org/wiki/&#1042;&#1042;&#1069;&#1056;" TargetMode="External"/><Relationship Id="rId4" Type="http://schemas.openxmlformats.org/officeDocument/2006/relationships/hyperlink" Target="http://ru.wikipedia.org/w/index.php?title=&#1061;&#1072;&#1088;&#1100;&#1082;&#1086;&#1074;&#1089;&#1082;&#1080;&#1081;_&#1090;&#1091;&#1088;&#1073;&#1080;&#1085;&#1085;&#1099;&#1081;_&#1079;&#1072;&#1074;&#1086;&#1076;&amp;action=edit&amp;redlink=1" TargetMode="External"/><Relationship Id="rId5" Type="http://schemas.openxmlformats.org/officeDocument/2006/relationships/hyperlink" Target="http://ru.wikipedia.org/wiki/&#1057;&#1072;&#1085;&#1082;&#1090;-&#1055;&#1077;&#1090;&#1077;&#1088;&#1073;&#1091;&#1088;&#1075;" TargetMode="External"/><Relationship Id="rId6" Type="http://schemas.openxmlformats.org/officeDocument/2006/relationships/hyperlink" Target="http://ru.wikipedia.org/wiki/&#1069;&#1083;&#1077;&#1082;&#1090;&#1088;&#1086;&#1089;&#1080;&#1083;&#1072;_%28&#1079;&#1072;&#1074;&#1086;&#1076;%29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22960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томные электростанции – АЭ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тепловые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электростанции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 На атомных электростанциях в виде источника используется энергия управляемых ядерных реакций. Единичная мощность энергоблоков АЭС достигает 1,5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ГВт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2280"/>
            <a:ext cx="830592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томные электростанци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743200" y="3763800"/>
            <a:ext cx="3884760" cy="2641680"/>
            <a:chOff x="2743200" y="3763800"/>
            <a:chExt cx="3884760" cy="2641680"/>
          </a:xfrm>
        </p:grpSpPr>
        <p:pic>
          <p:nvPicPr>
            <p:cNvPr id="87" name="" descr=""/>
            <p:cNvPicPr/>
            <p:nvPr/>
          </p:nvPicPr>
          <p:blipFill>
            <a:blip r:embed="rId7"/>
            <a:stretch/>
          </p:blipFill>
          <p:spPr>
            <a:xfrm>
              <a:off x="2743200" y="3763800"/>
              <a:ext cx="3884760" cy="26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743200" y="3763800"/>
              <a:ext cx="3884760" cy="26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 начала 2008 года Ленинградской АЭС выработано 9 миллиардов 547 миллионов кВт-часов электроэнергии или 100,4% от планового задания ФСТ с дополнительной выработкой в объеме 40,4 миллиона кВт-ча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14400" y="457200"/>
            <a:ext cx="723888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Ленинградская АЭ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3581280" cy="239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0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291960"/>
            <a:ext cx="8229600" cy="138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Боль стра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 </a:t>
            </a:r>
            <a:br>
              <a:rPr sz="1400"/>
            </a:br>
            <a:r>
              <a:rPr b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 ЧЕРНОБЫЛЕ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, друзья, не сказка – это быль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ть на свете город Чернобыль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рентгенов здесь звенит сосновый лес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ыль звенит, нет в мире звонче мест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 собрался здесь такой народ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м не надо лозунгов “вперед”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не ждут здесь окончанья смен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м не важно сколько здесь рентген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им людям в пояс поклонюсь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лько почему же гложет грусть?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лько на глазах моих слез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лько не сказать “туда нельзя”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“Не свети”, прошу сосновый лес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десь опять работает АЭС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реактор спрятан за стеной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 один вопрос “какой ценой”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638680" y="28195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слеслов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ЭС – это хорошее, выгодное и практически чистое производство электроэнергии. Но пример Чернобыля заставляет задуматься о безопасности на таких предприят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0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качестве распространенного топлива для атомных электростанций применяется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U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ура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 При цепной реакции деления ядерного вещества выделяется значительное количество тепловой энергии, используемое для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генерации электроэнергии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380880"/>
            <a:ext cx="8001000" cy="1524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Виды топлива АЭ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53000" y="2406600"/>
            <a:ext cx="4032360" cy="3110040"/>
            <a:chOff x="4653000" y="2406600"/>
            <a:chExt cx="4032360" cy="3110040"/>
          </a:xfrm>
        </p:grpSpPr>
        <p:pic>
          <p:nvPicPr>
            <p:cNvPr id="93" name="" descr=""/>
            <p:cNvPicPr/>
            <p:nvPr/>
          </p:nvPicPr>
          <p:blipFill>
            <a:blip r:embed="rId5"/>
            <a:stretch/>
          </p:blipFill>
          <p:spPr>
            <a:xfrm>
              <a:off x="4653000" y="2406600"/>
              <a:ext cx="4032360" cy="31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653000" y="2406600"/>
              <a:ext cx="4032360" cy="31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1905120"/>
            <a:ext cx="34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делении ядер урана образуются быстрые нейтроны. Через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теплоносител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энергия поступает в парогенератор. Пар высокого давления направляется в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турбогенерато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Полученная электроэнергия идет на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трансформато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далее на распределительные устройства. Циркуляцию теплоносителя на атомных электростанциях обеспечивают насосы: главный и конденсатный. Избытки тепла АЭС направляются на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градирн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457200"/>
            <a:ext cx="7925040" cy="175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Принцип действия АЭ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2514600"/>
            <a:ext cx="4967280" cy="2565360"/>
            <a:chOff x="0" y="2514600"/>
            <a:chExt cx="4967280" cy="2565360"/>
          </a:xfrm>
        </p:grpSpPr>
        <p:pic>
          <p:nvPicPr>
            <p:cNvPr id="99" name="" descr=""/>
            <p:cNvPicPr/>
            <p:nvPr/>
          </p:nvPicPr>
          <p:blipFill>
            <a:blip r:embed="rId6"/>
            <a:stretch/>
          </p:blipFill>
          <p:spPr>
            <a:xfrm>
              <a:off x="0" y="2514600"/>
              <a:ext cx="496728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0" y="2514600"/>
              <a:ext cx="4967280" cy="25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65300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томные электростанции – АЭС не выбрасывают в атмосферу дымовых газов. На АЭС отсутствуют отходы в виде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зол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шлак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  Проблемы на атомных электростанциях это избыточные количества тепла и хранение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радиоактивных отход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533520"/>
            <a:ext cx="792468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АЭС-эк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01640" y="2676600"/>
            <a:ext cx="3421080" cy="2638440"/>
            <a:chOff x="701640" y="2676600"/>
            <a:chExt cx="3421080" cy="2638440"/>
          </a:xfrm>
        </p:grpSpPr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701640" y="2676600"/>
              <a:ext cx="342108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01640" y="2676600"/>
              <a:ext cx="3421080" cy="26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65300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бы защитить людей и атмосферу от радиоактивных выбросов на атомных электростанциях принимают специальные меры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лучшение надежности оборудования АЭС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ублирование уязвимых систем,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сокие требования к квалификации персонал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щита и охрана от внешних воздейств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533520"/>
            <a:ext cx="784872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Как защитить всё живо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20640" y="2419200"/>
            <a:ext cx="3827520" cy="2953080"/>
            <a:chOff x="620640" y="2419200"/>
            <a:chExt cx="3827520" cy="295308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620640" y="2419200"/>
              <a:ext cx="3827520" cy="29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20640" y="2419200"/>
              <a:ext cx="3827520" cy="29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Beaver Valley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положение: PA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ератор: FirstEnergy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фигурация: 2 X 888 МВт ядерные реактоы с водяным охлаждением под давлением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вод в эксплуатацию: 1976-1987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Limerick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положение: PA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ератор: Exelon Nuclear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фигурация: 2 X 1,143 МВт ядерные реакторы с кипящей водой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вод в эксплуатацию: 1986-1990</a:t>
            </a: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952880" y="1752480"/>
            <a:ext cx="2889360" cy="2229120"/>
            <a:chOff x="4952880" y="1752480"/>
            <a:chExt cx="2889360" cy="222912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4952880" y="1752480"/>
              <a:ext cx="288936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952880" y="1752480"/>
              <a:ext cx="2889360" cy="22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" name=""/>
          <p:cNvSpPr txBox="1"/>
          <p:nvPr/>
        </p:nvSpPr>
        <p:spPr>
          <a:xfrm>
            <a:off x="914400" y="380880"/>
            <a:ext cx="6858000" cy="129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АЭС в С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029200" y="4267080"/>
            <a:ext cx="2971800" cy="229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653000" y="1905120"/>
            <a:ext cx="4033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unterston-B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положение: Ayrshire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ератор: British Energy plc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фигурация: 2 X 625 МВт усовершенствованный реактор с газовым охлаждением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вод в эксплуатацию: 1976, 1977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unterston-A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положение: Ayrshire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ератор: British Nuclear Fuels Ltd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фигурация: 2 X 160 МВт GCR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вод в эксплуатацию: 1964 (остановлена в 1989-1990)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мментарий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 завершении строительства это была самая мощная атомная электростанция в мир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38080" y="1905120"/>
            <a:ext cx="3275280" cy="2527200"/>
            <a:chOff x="838080" y="1905120"/>
            <a:chExt cx="3275280" cy="25272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838080" y="1905120"/>
              <a:ext cx="3275280" cy="25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38080" y="1905120"/>
              <a:ext cx="327528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0" y="152280"/>
            <a:ext cx="8381880" cy="144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АЭС в Великобритан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600200" y="4495680"/>
            <a:ext cx="2768760" cy="213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2120" y="609480"/>
            <a:ext cx="708660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АЭС в Герман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91000" y="1905120"/>
            <a:ext cx="2554560" cy="1969920"/>
            <a:chOff x="5391000" y="1905120"/>
            <a:chExt cx="2554560" cy="196992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5391000" y="1905120"/>
              <a:ext cx="2554560" cy="19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391000" y="1905120"/>
              <a:ext cx="2554560" cy="19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10080" y="4267080"/>
            <a:ext cx="2513160" cy="1903680"/>
            <a:chOff x="5410080" y="4267080"/>
            <a:chExt cx="2513160" cy="1903680"/>
          </a:xfrm>
        </p:grpSpPr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5410080" y="4267080"/>
              <a:ext cx="2513160" cy="190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410080" y="4267080"/>
              <a:ext cx="2513160" cy="19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0640" y="2419200"/>
            <a:ext cx="4030560" cy="3110040"/>
            <a:chOff x="620640" y="2419200"/>
            <a:chExt cx="4030560" cy="311004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620640" y="2419200"/>
              <a:ext cx="4030560" cy="31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20640" y="2419200"/>
              <a:ext cx="4030560" cy="31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анция состоит из четырёх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энергоблоков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, с реакторами типа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ВВЭР-440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 турбинами К-220-44-3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Харьковского Турбинного Завод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 генераторами ТВВ-220-2АУ3 производства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Санкт-Петербургского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ahoma"/>
                <a:hlinkClick r:id="rId6"/>
              </a:rPr>
              <a:t>завода Электросил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 Тепловая мощность АЭС составляет 5 500 МВт, что соответствует установленной электрической мощности 1 760 МВ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5181480" y="2666880"/>
            <a:ext cx="2971800" cy="2382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143000" y="533520"/>
            <a:ext cx="685800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Кольская АЭ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5-06T18:25:35Z</dcterms:modified>
  <cp:revision>53</cp:revision>
  <dc:subject/>
  <dc:title>PowerPoint Presentation</dc:title>
</cp:coreProperties>
</file>