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21D-CF73-43D0-BC17-1AF285A3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D2E-365E-4151-9028-E85EAA7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9C1-BAC2-41BB-9ECA-1407FC4A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680-2E2A-47D1-A5F0-C829F1A7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6CA0-9905-4837-95E6-E713776F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FBCC-AFA4-48A5-84E4-AA6063DF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C90-0CC8-4529-8207-AFC1D649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DDFB-AD52-4FE9-9C6A-653F3F87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DCD8-C858-413E-950E-FD4857DA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02C9-F8DD-4777-B12C-A04836B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1BF-F6BC-4DEF-AFB0-DBB4479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244-B7C8-41EB-B9DB-CC508CC1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F5D8-0297-4000-862E-4941C5A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8B6-5F16-4782-8723-9F9FDF1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5A3-6913-4B4F-9CBE-68A0305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2D50-F207-492F-84E1-36F77BA5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06D-84C6-4BC0-AE0B-1C0DA26C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627-7A98-453E-8E33-7FDB40F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C24-74D9-4E0C-BD9E-2C3C326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CF4-056F-41A7-A5EA-0B2E8B5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432-B964-486F-AF69-E3330B1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F8F-E6DE-4FCB-89C2-89A38230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951-F80C-4141-A357-6F6F833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292-20E0-4F63-BC27-DC8BB261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4779-ED22-481A-8DFB-866F8518B13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289E-F16E-4121-ACB3-73D105CC452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508960" cy="1719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643440" y="4642920"/>
            <a:ext cx="2500200" cy="2071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ила педагог-психоло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ДОУ Центр развития ребенка № 4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горова М.Г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16" descr="http://lobzik-profi.ru/wp-content/uploads/images/%D0%B4%D0%B5%D0%BA%D1%83%D0%BF%D0%B0%D0%B6%20%D0%B1%D1%83%D1%82%D1%8B%D0%BB%D0%BE%D0%BA%20%D0%BD%D0%BE%D0%B2%D1%8B%D0%B5%20%D0%B8%D0%B4%D0%B5%D0%B8_6.jpg"/>
          <p:cNvPicPr/>
          <p:nvPr/>
        </p:nvPicPr>
        <p:blipFill>
          <a:blip r:embed="rId2"/>
          <a:stretch/>
        </p:blipFill>
        <p:spPr>
          <a:xfrm>
            <a:off x="0" y="1785960"/>
            <a:ext cx="6286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158760" y="3213000"/>
            <a:ext cx="584208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ажнение «Дере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В свободную минутку попробуйте представить себя деревом. Каким в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нравится, с каким легче всего себя отождествлять. Детально прорисуй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образ этого дерева: его мощный и гибкий ствол, переплетающиеся ветв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колышущуюся на ветру листву, открытость кроны навстречу солнечным луч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и влаге дождя, корни, прочно вросшие в землю. Земля – это символ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urier New"/>
              </a:rPr>
              <a:t>корни – это символ стабильности, связи человека с реаль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1160" y="1844640"/>
            <a:ext cx="761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Любое напряженное психологическое состояние характеризу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суженностью сознания и сверхконцентрацией человека на сво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переживаниях. Для стабилизации состояния необходимо переве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внимание человека на другие объекты или распределить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urier New"/>
              </a:rPr>
              <a:t>множество объектов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250920" y="189000"/>
            <a:ext cx="87627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-релакса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 методы "психологического душ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8" descr="http://clipart-library.com/img1/1675027.jpg"/>
          <p:cNvPicPr/>
          <p:nvPr/>
        </p:nvPicPr>
        <p:blipFill>
          <a:blip r:embed="rId1"/>
          <a:stretch/>
        </p:blipFill>
        <p:spPr>
          <a:xfrm>
            <a:off x="5929200" y="3000240"/>
            <a:ext cx="321480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11280" y="189000"/>
            <a:ext cx="799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Психологическая зарядка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788000" y="2205000"/>
            <a:ext cx="4176720" cy="936720"/>
          </a:xfrm>
          <a:prstGeom prst="cloudCallout">
            <a:avLst>
              <a:gd name="adj1" fmla="val -44412"/>
              <a:gd name="adj2" fmla="val 74574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Очень я собой горжусь, я на многое гожус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492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тоя,           свести              лопа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лыбнуться и подмигивая лев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том правым  глазом повтор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08000" y="1052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пражнения направлены на овладение при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елаксации и  концентрации,    способству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вышению       энергетического          потенц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440" y="36450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ложив на лоб левую ладо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затем        правую    повтор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4786200" y="3141720"/>
            <a:ext cx="4357800" cy="1224000"/>
          </a:xfrm>
          <a:prstGeom prst="cloudCallout">
            <a:avLst>
              <a:gd name="adj1" fmla="val -46828"/>
              <a:gd name="adj2" fmla="val 41050"/>
            </a:avLst>
          </a:prstGeom>
          <a:gradFill rotWithShape="0">
            <a:gsLst>
              <a:gs pos="0">
                <a:srgbClr val="ffccff"/>
              </a:gs>
              <a:gs pos="100000">
                <a:srgbClr val="cce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решаю любые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мною всегда любовь и удач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3240" y="46530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ирая ладонь о ладонь повтор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4608360" y="4365720"/>
            <a:ext cx="4535640" cy="1152360"/>
          </a:xfrm>
          <a:prstGeom prst="cloudCallout">
            <a:avLst>
              <a:gd name="adj1" fmla="val -41388"/>
              <a:gd name="adj2" fmla="val 64874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приманиваю удачу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ждым днем становлюсь богаче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960" y="522936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став на цыпочки, руки над го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мкнуть в  кольцо,      повтор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608360" y="5516640"/>
            <a:ext cx="4535640" cy="1152360"/>
          </a:xfrm>
          <a:prstGeom prst="cloudCallout">
            <a:avLst>
              <a:gd name="adj1" fmla="val -41388"/>
              <a:gd name="adj2" fmla="val 46143"/>
            </a:avLst>
          </a:prstGeom>
          <a:gradFill rotWithShape="0">
            <a:gsLst>
              <a:gs pos="0">
                <a:srgbClr val="ccecff"/>
              </a:gs>
              <a:gs pos="100000">
                <a:srgbClr val="ffcc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согрета солнечным лучиком, я достойна самого лучшего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932360" y="544500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"Вселенная мне улыб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 все у меня получается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-5040" y="1700280"/>
            <a:ext cx="411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уки в стороны, кулаки с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лая         вращения    ру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0" y="1700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"На   пути  у меня нет прегра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се получится так, как над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-1800" y="2637000"/>
            <a:ext cx="42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уки   на поясе,  делая накл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право  -  влево,    повтор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88000" y="26370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"Покой и улыбку всегда берег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мне все помогут, и я помогу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06200" y="3645000"/>
            <a:ext cx="362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уки     на  поясе  накл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перед - назад, повтор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500720" y="37162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итуация любая мне подвластна, мир  прекрасен – и я прекрасн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4508640"/>
            <a:ext cx="43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дпрыгивая на правой, затем на    левой   ноге,     повтор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4932360" y="450864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"Я     бодра  и  энергич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дела   идут    отлично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74240" y="5445000"/>
            <a:ext cx="391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ложив        руки    в    зам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елая      глубокий         вд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1500120" y="214200"/>
            <a:ext cx="6121440" cy="17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Психологическая 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зарядка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3924360" y="21337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3924360" y="2997360"/>
            <a:ext cx="100800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635280" y="4005360"/>
            <a:ext cx="1008000" cy="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>
            <a:off x="4284720" y="4797360"/>
            <a:ext cx="10080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500120" y="0"/>
            <a:ext cx="651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Заповед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психологического здоров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79280" y="2286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1.    </a:t>
            </a:r>
            <a:r>
              <a:rPr b="1" lang="ru-RU" sz="2000" spc="-1" strike="noStrike">
                <a:solidFill>
                  <a:srgbClr val="660066"/>
                </a:solidFill>
                <a:latin typeface="Arial Rounded MT Bold"/>
              </a:rPr>
              <a:t>Не надо «переделывать» окружающих на свой л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09880" y="2643120"/>
            <a:ext cx="68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2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 оставайтесь один на один с неприят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06280" y="307188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3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амосовершенствуйтесь, вырабатывайте чув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бственн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79000" y="3786120"/>
            <a:ext cx="70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4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Будьте реалистом, не ожидайте «манны с неб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84760" y="4286160"/>
            <a:ext cx="54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5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мейте смотреть на себя со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81520" y="4643280"/>
            <a:ext cx="67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Rounded MT Bold"/>
              </a:rPr>
              <a:t>6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 удерживайте в сознании тревожн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 rot="2392200">
            <a:off x="7480080" y="958680"/>
            <a:ext cx="1657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филак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05" name="Picture 11" descr="http://img0.liveinternet.ru/images/attach/c/2/67/104/67104140_1290794043_yogainsphere.jpg"/>
          <p:cNvPicPr/>
          <p:nvPr/>
        </p:nvPicPr>
        <p:blipFill>
          <a:blip r:embed="rId1"/>
          <a:stretch/>
        </p:blipFill>
        <p:spPr>
          <a:xfrm>
            <a:off x="0" y="5040360"/>
            <a:ext cx="914400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Ежик  танцует.mp4" descr="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'Кастрюлька Анатоля ' (1).mp4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60020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47600" y="1197000"/>
            <a:ext cx="80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остояние психологического благополучия, комфорта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стеме отношений к себе, другим и обществу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778840" y="184464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тсутствуют фактор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ля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992320" y="60930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оциальные условия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600" y="2492280"/>
            <a:ext cx="38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Хорошая физическ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мственная раб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2484360" y="3357720"/>
            <a:ext cx="4680000" cy="863280"/>
          </a:xfrm>
          <a:prstGeom prst="ellipse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доров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60" y="5229360"/>
            <a:ext cx="37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инхронные и посто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оказатели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сех систем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960" y="378936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сокие резер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озмож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5947560" y="2205000"/>
            <a:ext cx="3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декватные реа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внешние раздра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451560" y="32130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Хорошая соци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дап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219000" y="414972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Адекватная 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729760" y="4581360"/>
            <a:ext cx="32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табильное гармон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физическое и ум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6287400" y="558972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Средняя и высо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мотивация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V="1">
            <a:off x="4716360" y="2421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4716360" y="4221000"/>
            <a:ext cx="0" cy="1873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 flipH="1">
            <a:off x="2771640" y="4149720"/>
            <a:ext cx="648000" cy="107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 flipH="1" flipV="1">
            <a:off x="1258560" y="3068280"/>
            <a:ext cx="208908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1042920" y="3789360"/>
            <a:ext cx="1441440" cy="1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V="1">
            <a:off x="5724360" y="2781000"/>
            <a:ext cx="648000" cy="57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6877080" y="3789360"/>
            <a:ext cx="93672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5435640" y="4221000"/>
            <a:ext cx="43164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6084720" y="4149720"/>
            <a:ext cx="2160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4932360" y="4221000"/>
            <a:ext cx="1584360" cy="165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4"/>
          <p:cNvSpPr txBox="1"/>
          <p:nvPr/>
        </p:nvSpPr>
        <p:spPr>
          <a:xfrm>
            <a:off x="684360" y="333360"/>
            <a:ext cx="78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Психологическое здоровье человека</a:t>
            </a:r>
            <a:endParaRPr b="0" lang="en-US" sz="2400" spc="1" strike="noStrike">
              <a:ln w="1584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755640" y="333360"/>
            <a:ext cx="73864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ичины и профилактика 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эмоциональных срывов</a:t>
            </a:r>
            <a:endParaRPr b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059280" y="1773360"/>
            <a:ext cx="2376360" cy="79200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3492360" y="1989000"/>
            <a:ext cx="158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чи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01760" y="254628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Острая психическая трав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762160" y="472428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Длительное перенапр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658760" y="2492280"/>
            <a:ext cx="418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Затянувшаяся и тщательно скрыва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конфликтная ситу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50080" y="3645000"/>
            <a:ext cx="380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Беспорядочная смен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в течение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60720" y="362592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арушения привычного ритм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3480" y="4724280"/>
            <a:ext cx="459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Испуг, частые огорчения, болезнь близк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еприятные изве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722240" y="5589720"/>
            <a:ext cx="592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Необходимость сдерживать себя, свои желания, чув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 Black"/>
              </a:rPr>
              <a:t>противоречия между «должен» и «хоч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1908000" y="2276640"/>
            <a:ext cx="1151280" cy="36036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5364000" y="2349360"/>
            <a:ext cx="1152720" cy="216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2268000" y="2565360"/>
            <a:ext cx="1511640" cy="115092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4356000" y="2565360"/>
            <a:ext cx="1511280" cy="115092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140360" y="2565360"/>
            <a:ext cx="71280" cy="309564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3203640" y="2565360"/>
            <a:ext cx="792000" cy="2232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4284720" y="2565360"/>
            <a:ext cx="1582560" cy="2232000"/>
          </a:xfrm>
          <a:prstGeom prst="line">
            <a:avLst/>
          </a:prstGeom>
          <a:ln w="1908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95280" y="1197000"/>
            <a:ext cx="87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аждый человек может научиться управлять собственными реакциями в напряженных ситуациях. То, что вас тревожит, действительно заслуживает пристального внимания уже потому, что лишает вас поко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763640" y="18900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Экспресс-приемы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снятия эмоционального напряжения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32880" y="2000160"/>
            <a:ext cx="8288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Сложите руки в «замок» за сп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Так как «-» эмоции «живут» на шее ниже затылка и на плечах, напрягите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и спину, потянитесь, расслабьте плечи и руки. Сбросьте напряжение с кис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32880" y="2857680"/>
            <a:ext cx="828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Сложите руки в «замок» перед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отянитесь, напрягая плечи и руки, расслабьтесь, встряхните руки и ки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(во время потягивания в организм выбрасывается эндорфин – «гормон счасть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0040" y="3714840"/>
            <a:ext cx="46944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Улыбнитесь!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Зафиксируйте улыбку на лице на 10-15 секунд. При улыбке расслабляется гораз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больше мышц,  чем  при  обычном  положении.  Почувствуйте  благодать, котор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расходится по всему телу от улыбки. Сохраните это состоя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785880" y="4950000"/>
            <a:ext cx="4214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Если хочется скандала, широко откройте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ри этом мускулы лица расслабляются, и агрессия уменьш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573800" y="507204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http://d.topic.lt/FF/upload/post/201602/02/1834391/smeshnye-kartinki-s-nadpisjami-9.jpg"/>
          <p:cNvPicPr/>
          <p:nvPr/>
        </p:nvPicPr>
        <p:blipFill>
          <a:blip r:embed="rId5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285840" y="928800"/>
            <a:ext cx="400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риска психологического здоровь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Их можно разделить на две основны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Средовые (все что окружает ребе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Субъективные (его индивидуальные и личностные особен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724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2428"/>
                </a:solidFill>
                <a:uFillTx/>
                <a:latin typeface="Arial"/>
              </a:rPr>
              <a:t>Вопрос для участников консультации</a:t>
            </a:r>
            <a:r>
              <a:rPr b="0" lang="ru-RU" sz="2000" spc="-1" strike="noStrike">
                <a:solidFill>
                  <a:srgbClr val="07242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Arial"/>
              </a:rPr>
              <a:t>Что можно отнести к средовым и субъективным фактор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2" descr="1283854841_5.jpg"/>
          <p:cNvPicPr/>
          <p:nvPr/>
        </p:nvPicPr>
        <p:blipFill>
          <a:blip r:embed="rId1"/>
          <a:stretch/>
        </p:blipFill>
        <p:spPr>
          <a:xfrm>
            <a:off x="4214880" y="714240"/>
            <a:ext cx="4929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00040" y="500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 психологического здоровья дет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286160" y="1785960"/>
            <a:ext cx="464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можно разделить на две основные группы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все, что окружает ребенка) и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его индивидуальные личностные особен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факторам можно отнести неблагоприятные семейные условия и неблагоприятные условия, связанные с детским учреж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нутриличност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бъективным) факторам относятся характер, темперамент, само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rutraditions.ru/sites/default/files/resize/remote/5ef50cde8d7d3b390ed39395096f5e85-604x489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49040" y="260280"/>
            <a:ext cx="900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Профессиональные и личностные качества педагога тесно свя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И также тесно они связаны с эмоциональным состоянием дет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торое определяет их познавате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и поведенческое состояние.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79280" y="1700280"/>
            <a:ext cx="871380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ияние педагога на своих воспитанников</a:t>
            </a:r>
            <a:endParaRPr b="0" i="1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40120" y="2349360"/>
            <a:ext cx="860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личностной тревожности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и сверхконтроля поведения со сторон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педагога («болезнь безупречности») через доминирование или  гиперопеку ведет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Снижению социальной активности ребенка и затрудняет формирование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самосто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9760" y="3213000"/>
            <a:ext cx="80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преимущественного развития вербального интеллекта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у педагогов (преобладание в работе словесных форм обучения и воспита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72960" y="4005360"/>
            <a:ext cx="83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Поведенческий фактор,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когда педагог неосознанно  провоцирует отве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реакци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47760" y="564372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равнодушия,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формального отношения к ребенку разрушает личност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эмоциональное общение, мешает решению проблем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4760" y="4653000"/>
            <a:ext cx="825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Фактор неадекватного отношения к себе и неумение разобр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Rounded MT Bold"/>
              </a:rPr>
              <a:t>в себе и собственных проблемах.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Не умея принять себя и признать св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ourier New"/>
              </a:rPr>
              <a:t>достоинства очень трудно это сделать по отношению к друг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 rot="5400000">
            <a:off x="-360" y="2421000"/>
            <a:ext cx="431640" cy="431640"/>
          </a:xfrm>
          <a:custGeom>
            <a:avLst/>
            <a:gdLst>
              <a:gd name="textAreaLeft" fmla="*/ 186840 w 431640"/>
              <a:gd name="textAreaRight" fmla="*/ 244800 w 431640"/>
              <a:gd name="textAreaTop" fmla="*/ 186840 h 431640"/>
              <a:gd name="textAreaBottom" fmla="*/ 244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55" y="9355"/>
                </a:lnTo>
                <a:lnTo>
                  <a:pt x="10800" y="0"/>
                </a:lnTo>
                <a:lnTo>
                  <a:pt x="12245" y="9355"/>
                </a:lnTo>
                <a:lnTo>
                  <a:pt x="21600" y="10800"/>
                </a:lnTo>
                <a:lnTo>
                  <a:pt x="12245" y="12245"/>
                </a:lnTo>
                <a:lnTo>
                  <a:pt x="10800" y="21600"/>
                </a:lnTo>
                <a:lnTo>
                  <a:pt x="9355" y="122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 rot="5400000">
            <a:off x="-360" y="3213000"/>
            <a:ext cx="432000" cy="431640"/>
          </a:xfrm>
          <a:custGeom>
            <a:avLst/>
            <a:gdLst>
              <a:gd name="textAreaLeft" fmla="*/ 189000 w 432000"/>
              <a:gd name="textAreaRight" fmla="*/ 243000 w 432000"/>
              <a:gd name="textAreaTop" fmla="*/ 189000 h 431640"/>
              <a:gd name="textAreaBottom" fmla="*/ 242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59" y="9459"/>
                </a:lnTo>
                <a:lnTo>
                  <a:pt x="10800" y="0"/>
                </a:lnTo>
                <a:lnTo>
                  <a:pt x="12141" y="9459"/>
                </a:lnTo>
                <a:lnTo>
                  <a:pt x="21600" y="10800"/>
                </a:lnTo>
                <a:lnTo>
                  <a:pt x="12141" y="12141"/>
                </a:lnTo>
                <a:lnTo>
                  <a:pt x="10800" y="21600"/>
                </a:lnTo>
                <a:lnTo>
                  <a:pt x="9459" y="121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 rot="5400000">
            <a:off x="-360" y="3933720"/>
            <a:ext cx="432000" cy="431640"/>
          </a:xfrm>
          <a:custGeom>
            <a:avLst/>
            <a:gdLst>
              <a:gd name="textAreaLeft" fmla="*/ 185760 w 432000"/>
              <a:gd name="textAreaRight" fmla="*/ 246240 w 432000"/>
              <a:gd name="textAreaTop" fmla="*/ 185760 h 431640"/>
              <a:gd name="textAreaBottom" fmla="*/ 2458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291" y="9291"/>
                </a:lnTo>
                <a:lnTo>
                  <a:pt x="10800" y="0"/>
                </a:lnTo>
                <a:lnTo>
                  <a:pt x="12309" y="9291"/>
                </a:lnTo>
                <a:lnTo>
                  <a:pt x="21600" y="10800"/>
                </a:lnTo>
                <a:lnTo>
                  <a:pt x="12309" y="12309"/>
                </a:lnTo>
                <a:lnTo>
                  <a:pt x="10800" y="21600"/>
                </a:lnTo>
                <a:lnTo>
                  <a:pt x="9291" y="1230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 rot="5400000">
            <a:off x="-360" y="4653000"/>
            <a:ext cx="431640" cy="431640"/>
          </a:xfrm>
          <a:custGeom>
            <a:avLst/>
            <a:gdLst>
              <a:gd name="textAreaLeft" fmla="*/ 182160 w 431640"/>
              <a:gd name="textAreaRight" fmla="*/ 249480 w 431640"/>
              <a:gd name="textAreaTop" fmla="*/ 182160 h 431640"/>
              <a:gd name="textAreaBottom" fmla="*/ 249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3" y="9123"/>
                </a:lnTo>
                <a:lnTo>
                  <a:pt x="10800" y="0"/>
                </a:lnTo>
                <a:lnTo>
                  <a:pt x="12477" y="9123"/>
                </a:lnTo>
                <a:lnTo>
                  <a:pt x="21600" y="10800"/>
                </a:lnTo>
                <a:lnTo>
                  <a:pt x="12477" y="12477"/>
                </a:lnTo>
                <a:lnTo>
                  <a:pt x="10800" y="21600"/>
                </a:lnTo>
                <a:lnTo>
                  <a:pt x="9123" y="124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 rot="5400000">
            <a:off x="-360" y="5661000"/>
            <a:ext cx="432000" cy="431640"/>
          </a:xfrm>
          <a:custGeom>
            <a:avLst/>
            <a:gdLst>
              <a:gd name="textAreaLeft" fmla="*/ 182520 w 432000"/>
              <a:gd name="textAreaRight" fmla="*/ 249480 w 432000"/>
              <a:gd name="textAreaTop" fmla="*/ 182160 h 431640"/>
              <a:gd name="textAreaBottom" fmla="*/ 249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23" y="9123"/>
                </a:lnTo>
                <a:lnTo>
                  <a:pt x="10800" y="0"/>
                </a:lnTo>
                <a:lnTo>
                  <a:pt x="12477" y="9123"/>
                </a:lnTo>
                <a:lnTo>
                  <a:pt x="21600" y="10800"/>
                </a:lnTo>
                <a:lnTo>
                  <a:pt x="12477" y="12477"/>
                </a:lnTo>
                <a:lnTo>
                  <a:pt x="10800" y="21600"/>
                </a:lnTo>
                <a:lnTo>
                  <a:pt x="9123" y="124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zoldou1.crimea-school.ru/sites/default/files/images/reb.jpg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52:49Z</dcterms:created>
  <dc:creator>1</dc:creator>
  <dc:description/>
  <dc:language>en-US</dc:language>
  <cp:lastModifiedBy>Марина</cp:lastModifiedBy>
  <dcterms:modified xsi:type="dcterms:W3CDTF">2017-12-14T11:51:18Z</dcterms:modified>
  <cp:revision>63</cp:revision>
  <dc:subject/>
  <dc:title>Слайд 1</dc:title>
</cp:coreProperties>
</file>