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1D54-BA45-43CF-848A-E94AB274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792-8AA7-4197-84AD-4E9265E3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0AF-238F-42E2-BA28-394A4201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CC8B-48D8-4A0B-9ECD-2F0D8D35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451B-1C4D-45CA-B459-E2032815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7844-94FB-4D7D-B8BC-81D89FD2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EFB6-6F07-4DBA-83DB-2DADB015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7064-0F9F-4767-9849-70E3AC1C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A7AA-6B8C-4533-90FB-1FE21FE9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35E9-BE88-483E-BA27-5D27BB47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8CC5-D6DD-458F-8765-97046B68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4B7B-18AA-4BD4-8490-DF7B14AE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E263-6234-49A4-9150-2B3A924A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651B-EC52-41FE-9585-455C69C1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19A2-C096-4EE8-81EE-388BB834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603C-397E-40A0-9815-4F991290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EE58-FC23-4E0F-9979-06F520D9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AA6B-ACAF-4EF0-BEED-673AA0B2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7A15-E77B-4C7E-A8D7-BBF76962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22D0-E083-45C3-83F3-77896E90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953B-C383-419E-A24F-F4447157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E045-6D9B-464B-8F71-AA108D95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314A-93D6-4344-8721-488767ED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E8FF-6004-4D37-9AD1-DB6C720B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F329-6CAA-47A9-A532-558FED1E793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F964-90EE-4630-9D56-1137C6C5B42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317520" y="182520"/>
            <a:ext cx="8508960" cy="1719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643440" y="4642920"/>
            <a:ext cx="2500200" cy="2071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готовила педагог-психолог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ДОУ Центр развития ребенка № 4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Егорова М.Г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Picture 16" descr="http://lobzik-profi.ru/wp-content/uploads/images/%D0%B4%D0%B5%D0%BA%D1%83%D0%BF%D0%B0%D0%B6%20%D0%B1%D1%83%D1%82%D1%8B%D0%BB%D0%BE%D0%BA%20%D0%BD%D0%BE%D0%B2%D1%8B%D0%B5%20%D0%B8%D0%B4%D0%B5%D0%B8_6.jpg"/>
          <p:cNvPicPr/>
          <p:nvPr/>
        </p:nvPicPr>
        <p:blipFill>
          <a:blip r:embed="rId2"/>
          <a:stretch/>
        </p:blipFill>
        <p:spPr>
          <a:xfrm>
            <a:off x="0" y="1785960"/>
            <a:ext cx="62866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8"/>
          <p:cNvSpPr/>
          <p:nvPr/>
        </p:nvSpPr>
        <p:spPr>
          <a:xfrm>
            <a:off x="158760" y="3213000"/>
            <a:ext cx="5842080" cy="34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пражнение «Дерев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Courier New"/>
              </a:rPr>
              <a:t>В свободную минутку попробуйте представить себя деревом. Каким ва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Courier New"/>
              </a:rPr>
              <a:t>нравится, с каким легче всего себя отождествлять. Детально прорисуй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Courier New"/>
              </a:rPr>
              <a:t>образ этого дерева: его мощный и гибкий ствол, переплетающиеся ветв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Courier New"/>
              </a:rPr>
              <a:t>колышущуюся на ветру листву, открытость кроны навстречу солнечным луча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Courier New"/>
              </a:rPr>
              <a:t>и влаге дождя, корни, прочно вросшие в землю. Земля – это символ жизн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Courier New"/>
              </a:rPr>
              <a:t>корни – это символ стабильности, связи человека с реальност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11160" y="1844640"/>
            <a:ext cx="761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urier New"/>
              </a:rPr>
              <a:t>Любое напряженное психологическое состояние характеризуе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urier New"/>
              </a:rPr>
              <a:t>суженностью сознания и сверхконцентрацией человека на сво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urier New"/>
              </a:rPr>
              <a:t>переживаниях. Для стабилизации состояния необходимо переве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urier New"/>
              </a:rPr>
              <a:t>внимание человека на другие объекты или распределить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urier New"/>
              </a:rPr>
              <a:t>множество объектов окружающего ми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WordArt 11"/>
          <p:cNvSpPr txBox="1"/>
          <p:nvPr/>
        </p:nvSpPr>
        <p:spPr>
          <a:xfrm>
            <a:off x="250920" y="189000"/>
            <a:ext cx="876276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ы-релаксаци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ли методы "психологического душа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0" name="Picture 8" descr="http://clipart-library.com/img1/1675027.jpg"/>
          <p:cNvPicPr/>
          <p:nvPr/>
        </p:nvPicPr>
        <p:blipFill>
          <a:blip r:embed="rId1"/>
          <a:stretch/>
        </p:blipFill>
        <p:spPr>
          <a:xfrm>
            <a:off x="5929200" y="3000240"/>
            <a:ext cx="321480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5"/>
          <p:cNvSpPr txBox="1"/>
          <p:nvPr/>
        </p:nvSpPr>
        <p:spPr>
          <a:xfrm>
            <a:off x="611280" y="189000"/>
            <a:ext cx="7993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Психологическая зарядка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4788000" y="2205000"/>
            <a:ext cx="4176720" cy="936720"/>
          </a:xfrm>
          <a:prstGeom prst="cloudCallout">
            <a:avLst>
              <a:gd name="adj1" fmla="val -44412"/>
              <a:gd name="adj2" fmla="val 74574"/>
            </a:avLst>
          </a:prstGeom>
          <a:gradFill rotWithShape="0">
            <a:gsLst>
              <a:gs pos="0">
                <a:srgbClr val="ccecff"/>
              </a:gs>
              <a:gs pos="100000">
                <a:srgbClr val="ffccff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Очень я собой горжусь, я на многое гожусь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0" y="2492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Стоя,           свести              лопат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улыбнуться и подмигивая левы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потом правым  глазом повтори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108000" y="105264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Упражнения направлены на овладение прие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релаксации и  концентрации,    способствующ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овышению       энергетического          потенц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1440" y="3645000"/>
            <a:ext cx="37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оложив на лоб левую ладон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затем        правую    повторя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4"/>
          <p:cNvSpPr/>
          <p:nvPr/>
        </p:nvSpPr>
        <p:spPr>
          <a:xfrm>
            <a:off x="4786200" y="3141720"/>
            <a:ext cx="4357800" cy="1224000"/>
          </a:xfrm>
          <a:prstGeom prst="cloudCallout">
            <a:avLst>
              <a:gd name="adj1" fmla="val -46828"/>
              <a:gd name="adj2" fmla="val 41050"/>
            </a:avLst>
          </a:prstGeom>
          <a:gradFill rotWithShape="0">
            <a:gsLst>
              <a:gs pos="0">
                <a:srgbClr val="ffccff"/>
              </a:gs>
              <a:gs pos="100000">
                <a:srgbClr val="ccecff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Я решаю любые зада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 мною всегда любовь и удача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5"/>
          <p:cNvSpPr/>
          <p:nvPr/>
        </p:nvSpPr>
        <p:spPr>
          <a:xfrm>
            <a:off x="3240" y="46530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тирая ладонь о ладонь повтори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6"/>
          <p:cNvSpPr/>
          <p:nvPr/>
        </p:nvSpPr>
        <p:spPr>
          <a:xfrm>
            <a:off x="4608360" y="4365720"/>
            <a:ext cx="4535640" cy="1152360"/>
          </a:xfrm>
          <a:prstGeom prst="cloudCallout">
            <a:avLst>
              <a:gd name="adj1" fmla="val -41388"/>
              <a:gd name="adj2" fmla="val 64874"/>
            </a:avLst>
          </a:prstGeom>
          <a:gradFill rotWithShape="0">
            <a:gsLst>
              <a:gs pos="0">
                <a:srgbClr val="ccecff"/>
              </a:gs>
              <a:gs pos="100000">
                <a:srgbClr val="ffccff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Я приманиваю удачу,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аждым днем становлюсь богаче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3960" y="5229360"/>
            <a:ext cx="43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став на цыпочки, руки над гол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омкнуть в  кольцо,      повтори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8"/>
          <p:cNvSpPr/>
          <p:nvPr/>
        </p:nvSpPr>
        <p:spPr>
          <a:xfrm>
            <a:off x="4608360" y="5516640"/>
            <a:ext cx="4535640" cy="1152360"/>
          </a:xfrm>
          <a:prstGeom prst="cloudCallout">
            <a:avLst>
              <a:gd name="adj1" fmla="val -41388"/>
              <a:gd name="adj2" fmla="val 46143"/>
            </a:avLst>
          </a:prstGeom>
          <a:gradFill rotWithShape="0">
            <a:gsLst>
              <a:gs pos="0">
                <a:srgbClr val="ccecff"/>
              </a:gs>
              <a:gs pos="100000">
                <a:srgbClr val="ffccff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Я согрета солнечным лучиком, я достойна самого лучшего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4932360" y="5445000"/>
            <a:ext cx="40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"Вселенная мне улыбае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и все у меня получается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-5040" y="1700280"/>
            <a:ext cx="411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уки в стороны, кулаки сж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елая         вращения    рук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572000" y="17002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"На   пути  у меня нет преград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се получится так, как надо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-1800" y="2637000"/>
            <a:ext cx="424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Руки   на поясе,  делая накл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вправо  -  влево,    повтор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4788000" y="2637000"/>
            <a:ext cx="47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"Покой и улыбку всегда берег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мне все помогут, и я помогу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106200" y="3645000"/>
            <a:ext cx="362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уки     на  поясе  накло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перед - назад, повторя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4500720" y="371628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"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итуация любая мне подвластна, мир  прекрасен – и я прекрасна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0" y="4508640"/>
            <a:ext cx="434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одпрыгивая на правой, затем на    левой   ноге,     повтор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4932360" y="4508640"/>
            <a:ext cx="39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"Я     бодра  и  энергич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 дела   идут    отлично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174240" y="5445000"/>
            <a:ext cx="391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ложив        руки    в    зам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делая      глубокий         вдо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WordArt 14"/>
          <p:cNvSpPr txBox="1"/>
          <p:nvPr/>
        </p:nvSpPr>
        <p:spPr>
          <a:xfrm>
            <a:off x="1500120" y="214200"/>
            <a:ext cx="6121440" cy="17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Психологическая 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Impact"/>
              </a:rPr>
              <a:t>зарядка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192" name="Line 16"/>
          <p:cNvSpPr/>
          <p:nvPr/>
        </p:nvSpPr>
        <p:spPr>
          <a:xfrm>
            <a:off x="3924360" y="2133720"/>
            <a:ext cx="100800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3924360" y="2997360"/>
            <a:ext cx="1008000" cy="0"/>
          </a:xfrm>
          <a:prstGeom prst="line">
            <a:avLst/>
          </a:prstGeom>
          <a:ln w="381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8"/>
          <p:cNvSpPr/>
          <p:nvPr/>
        </p:nvSpPr>
        <p:spPr>
          <a:xfrm>
            <a:off x="3635280" y="4005360"/>
            <a:ext cx="1008000" cy="0"/>
          </a:xfrm>
          <a:prstGeom prst="line">
            <a:avLst/>
          </a:prstGeom>
          <a:ln w="381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9"/>
          <p:cNvSpPr/>
          <p:nvPr/>
        </p:nvSpPr>
        <p:spPr>
          <a:xfrm>
            <a:off x="4284720" y="4797360"/>
            <a:ext cx="1008000" cy="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0"/>
          <p:cNvSpPr/>
          <p:nvPr/>
        </p:nvSpPr>
        <p:spPr>
          <a:xfrm>
            <a:off x="3995640" y="5805360"/>
            <a:ext cx="100800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4"/>
          <p:cNvSpPr txBox="1"/>
          <p:nvPr/>
        </p:nvSpPr>
        <p:spPr>
          <a:xfrm>
            <a:off x="1500120" y="0"/>
            <a:ext cx="6516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Заповед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психологического здоровь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179280" y="228600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Rounded MT Bold"/>
              </a:rPr>
              <a:t>1.    </a:t>
            </a:r>
            <a:r>
              <a:rPr b="1" lang="ru-RU" sz="2000" spc="-1" strike="noStrike">
                <a:solidFill>
                  <a:srgbClr val="660066"/>
                </a:solidFill>
                <a:latin typeface="Arial Rounded MT Bold"/>
              </a:rPr>
              <a:t>Не надо «переделывать» окружающих на свой л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209880" y="2643120"/>
            <a:ext cx="68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Rounded MT Bold"/>
              </a:rPr>
              <a:t>2.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Не оставайтесь один на один с неприятн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06280" y="3071880"/>
            <a:ext cx="725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Rounded MT Bold"/>
              </a:rPr>
              <a:t>3.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амосовершенствуйтесь, вырабатывайте чув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обственного достои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279000" y="3786120"/>
            <a:ext cx="70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Rounded MT Bold"/>
              </a:rPr>
              <a:t>4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.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Будьте реалистом, не ожидайте «манны с небес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84760" y="4286160"/>
            <a:ext cx="54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Rounded MT Bold"/>
              </a:rPr>
              <a:t>5.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мейте смотреть на себя со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281520" y="4643280"/>
            <a:ext cx="67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Rounded MT Bold"/>
              </a:rPr>
              <a:t>6.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Не удерживайте в сознании тревожные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11"/>
          <p:cNvSpPr txBox="1"/>
          <p:nvPr/>
        </p:nvSpPr>
        <p:spPr>
          <a:xfrm rot="2392200">
            <a:off x="7480080" y="958680"/>
            <a:ext cx="165708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филакти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205" name="Picture 11" descr="http://img0.liveinternet.ru/images/attach/c/2/67/104/67104140_1290794043_yogainsphere.jpg"/>
          <p:cNvPicPr/>
          <p:nvPr/>
        </p:nvPicPr>
        <p:blipFill>
          <a:blip r:embed="rId1"/>
          <a:stretch/>
        </p:blipFill>
        <p:spPr>
          <a:xfrm>
            <a:off x="0" y="5040360"/>
            <a:ext cx="9144000" cy="18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Ежик  танцует.mp4" descr="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5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99" name="'Кастрюлька Анатоля ' (1).mp4" descr="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160020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1047600" y="1197000"/>
            <a:ext cx="80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состояние психологического благополучия, комфорта челов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истеме отношений к себе, другим и обществу в це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778840" y="184464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Отсутствуют факторы р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для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2992320" y="6093000"/>
            <a:ext cx="34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Социальные условия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600" y="2492280"/>
            <a:ext cx="38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Хорошая физическа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умственная работоспособ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2484360" y="3357720"/>
            <a:ext cx="4680000" cy="863280"/>
          </a:xfrm>
          <a:prstGeom prst="ellipse">
            <a:avLst/>
          </a:pr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Здоровый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3960" y="5229360"/>
            <a:ext cx="37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Синхронные и постоя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показатели функцио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всех систем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3960" y="3789360"/>
            <a:ext cx="29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ысокие резер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озможности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5947560" y="2205000"/>
            <a:ext cx="31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декватные реа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 внешние раздраж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6451560" y="321300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Хорошая социа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адап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6219000" y="414972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Адекватная само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5729760" y="4581360"/>
            <a:ext cx="321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Стабильное гармонич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физическое и умств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6287400" y="5589720"/>
            <a:ext cx="285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Arial"/>
              </a:rPr>
              <a:t>Средняя и высо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Arial"/>
              </a:rPr>
              <a:t>мотивация дост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Arial"/>
              </a:rPr>
              <a:t>ц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1"/>
          <p:cNvSpPr/>
          <p:nvPr/>
        </p:nvSpPr>
        <p:spPr>
          <a:xfrm flipV="1">
            <a:off x="4716360" y="2421000"/>
            <a:ext cx="0" cy="9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"/>
          <p:cNvSpPr/>
          <p:nvPr/>
        </p:nvSpPr>
        <p:spPr>
          <a:xfrm>
            <a:off x="4716360" y="4221000"/>
            <a:ext cx="0" cy="1873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4"/>
          <p:cNvSpPr/>
          <p:nvPr/>
        </p:nvSpPr>
        <p:spPr>
          <a:xfrm flipH="1">
            <a:off x="2771640" y="4149720"/>
            <a:ext cx="648000" cy="1079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6"/>
          <p:cNvSpPr/>
          <p:nvPr/>
        </p:nvSpPr>
        <p:spPr>
          <a:xfrm flipH="1" flipV="1">
            <a:off x="1258560" y="3068280"/>
            <a:ext cx="208908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7"/>
          <p:cNvSpPr/>
          <p:nvPr/>
        </p:nvSpPr>
        <p:spPr>
          <a:xfrm flipH="1">
            <a:off x="1042920" y="3789360"/>
            <a:ext cx="1441440" cy="144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9"/>
          <p:cNvSpPr/>
          <p:nvPr/>
        </p:nvSpPr>
        <p:spPr>
          <a:xfrm flipV="1">
            <a:off x="5724360" y="2781000"/>
            <a:ext cx="648000" cy="576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0"/>
          <p:cNvSpPr/>
          <p:nvPr/>
        </p:nvSpPr>
        <p:spPr>
          <a:xfrm flipV="1">
            <a:off x="6877080" y="3789360"/>
            <a:ext cx="93672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1"/>
          <p:cNvSpPr/>
          <p:nvPr/>
        </p:nvSpPr>
        <p:spPr>
          <a:xfrm>
            <a:off x="5435640" y="4221000"/>
            <a:ext cx="431640" cy="432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2"/>
          <p:cNvSpPr/>
          <p:nvPr/>
        </p:nvSpPr>
        <p:spPr>
          <a:xfrm>
            <a:off x="6084720" y="4149720"/>
            <a:ext cx="21600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3"/>
          <p:cNvSpPr/>
          <p:nvPr/>
        </p:nvSpPr>
        <p:spPr>
          <a:xfrm>
            <a:off x="4932360" y="4221000"/>
            <a:ext cx="1584360" cy="165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34"/>
          <p:cNvSpPr txBox="1"/>
          <p:nvPr/>
        </p:nvSpPr>
        <p:spPr>
          <a:xfrm>
            <a:off x="684360" y="333360"/>
            <a:ext cx="7848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cc0000"/>
                  </a:solidFill>
                  <a:miter/>
                </a:ln>
                <a:solidFill>
                  <a:srgbClr val="990033"/>
                </a:solidFill>
                <a:latin typeface="Times New Roman"/>
              </a:rPr>
              <a:t>Психологическое здоровье человека</a:t>
            </a:r>
            <a:endParaRPr b="0" lang="en-US" sz="2400" spc="1" strike="noStrike">
              <a:ln w="15840">
                <a:solidFill>
                  <a:srgbClr val="cc0000"/>
                </a:solidFill>
                <a:miter/>
              </a:ln>
              <a:solidFill>
                <a:srgbClr val="990033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755640" y="333360"/>
            <a:ext cx="738648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Причины и профилактика </a:t>
            </a:r>
            <a:endParaRPr b="1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Times New Roman"/>
              </a:rPr>
              <a:t>эмоциональных срывов</a:t>
            </a:r>
            <a:endParaRPr b="1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3059280" y="1773360"/>
            <a:ext cx="2376360" cy="792000"/>
          </a:xfrm>
          <a:prstGeom prst="ellipse">
            <a:avLst/>
          </a:prstGeom>
          <a:noFill/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7"/>
          <p:cNvSpPr txBox="1"/>
          <p:nvPr/>
        </p:nvSpPr>
        <p:spPr>
          <a:xfrm>
            <a:off x="3492360" y="1989000"/>
            <a:ext cx="1584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чины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01760" y="2546280"/>
            <a:ext cx="29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 Black"/>
              </a:rPr>
              <a:t>Острая психическая трав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5762160" y="472428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 Black"/>
              </a:rPr>
              <a:t>Длительное перенапря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4658760" y="2492280"/>
            <a:ext cx="418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 Black"/>
              </a:rPr>
              <a:t>Затянувшаяся и тщательно скрывае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 Black"/>
              </a:rPr>
              <a:t>конфликтная ситу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050080" y="3645000"/>
            <a:ext cx="380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 Black"/>
              </a:rPr>
              <a:t>Беспорядочная смена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Arial Black"/>
              </a:rPr>
              <a:t>в течение д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360720" y="3625920"/>
            <a:ext cx="400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 Black"/>
              </a:rPr>
              <a:t>Нарушения привычного ритма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483480" y="4724280"/>
            <a:ext cx="459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 Black"/>
              </a:rPr>
              <a:t>Испуг, частые огорчения, болезнь близки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 Black"/>
              </a:rPr>
              <a:t>неприятные извес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1722240" y="5589720"/>
            <a:ext cx="592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 Black"/>
              </a:rPr>
              <a:t>Необходимость сдерживать себя, свои желания, чувств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 Black"/>
              </a:rPr>
              <a:t>противоречия между «должен» и «хочу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5"/>
          <p:cNvSpPr/>
          <p:nvPr/>
        </p:nvSpPr>
        <p:spPr>
          <a:xfrm flipH="1">
            <a:off x="1908000" y="2276640"/>
            <a:ext cx="1151280" cy="360360"/>
          </a:xfrm>
          <a:prstGeom prst="line">
            <a:avLst/>
          </a:prstGeom>
          <a:ln w="1908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5364000" y="2349360"/>
            <a:ext cx="1152720" cy="216000"/>
          </a:xfrm>
          <a:prstGeom prst="line">
            <a:avLst/>
          </a:prstGeom>
          <a:ln w="1908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 flipH="1">
            <a:off x="2268000" y="2565360"/>
            <a:ext cx="1511640" cy="1150920"/>
          </a:xfrm>
          <a:prstGeom prst="line">
            <a:avLst/>
          </a:prstGeom>
          <a:ln w="1908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8"/>
          <p:cNvSpPr/>
          <p:nvPr/>
        </p:nvSpPr>
        <p:spPr>
          <a:xfrm>
            <a:off x="4356000" y="2565360"/>
            <a:ext cx="1511280" cy="1150920"/>
          </a:xfrm>
          <a:prstGeom prst="line">
            <a:avLst/>
          </a:prstGeom>
          <a:ln w="1908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9"/>
          <p:cNvSpPr/>
          <p:nvPr/>
        </p:nvSpPr>
        <p:spPr>
          <a:xfrm>
            <a:off x="4140360" y="2565360"/>
            <a:ext cx="71280" cy="3095640"/>
          </a:xfrm>
          <a:prstGeom prst="line">
            <a:avLst/>
          </a:prstGeom>
          <a:ln w="1908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0"/>
          <p:cNvSpPr/>
          <p:nvPr/>
        </p:nvSpPr>
        <p:spPr>
          <a:xfrm flipH="1">
            <a:off x="3203640" y="2565360"/>
            <a:ext cx="792000" cy="2232000"/>
          </a:xfrm>
          <a:prstGeom prst="line">
            <a:avLst/>
          </a:prstGeom>
          <a:ln w="1908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4284720" y="2565360"/>
            <a:ext cx="1582560" cy="2232000"/>
          </a:xfrm>
          <a:prstGeom prst="line">
            <a:avLst/>
          </a:prstGeom>
          <a:ln w="1908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395280" y="1197000"/>
            <a:ext cx="874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аждый человек может научиться управлять собственными реакциями в напряженных ситуациях. То, что вас тревожит, действительно заслуживает пристального внимания уже потому, что лишает вас поко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7"/>
          <p:cNvSpPr txBox="1"/>
          <p:nvPr/>
        </p:nvSpPr>
        <p:spPr>
          <a:xfrm>
            <a:off x="1763640" y="189000"/>
            <a:ext cx="5977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Экспресс-приемы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Times New Roman"/>
              </a:rPr>
              <a:t>снятия эмоционального напряжения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632880" y="2000160"/>
            <a:ext cx="82882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66"/>
                </a:solidFill>
                <a:uFillTx/>
                <a:latin typeface="Arial"/>
              </a:rPr>
              <a:t>Сложите руки в «замок» за спи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Так как «-» эмоции «живут» на шее ниже затылка и на плечах, напрягите ру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и спину, потянитесь, расслабьте плечи и руки. Сбросьте напряжение с кист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632880" y="2857680"/>
            <a:ext cx="8288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66"/>
                </a:solidFill>
                <a:uFillTx/>
                <a:latin typeface="Arial"/>
              </a:rPr>
              <a:t>Сложите руки в «замок» перед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Потянитесь, напрягая плечи и руки, расслабьтесь, встряхните руки и ки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(во время потягивания в организм выбрасывается эндорфин – «гормон счастья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500040" y="3714840"/>
            <a:ext cx="469440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66"/>
                </a:solidFill>
                <a:uFillTx/>
                <a:latin typeface="Arial"/>
              </a:rPr>
              <a:t>Улыбнитесь!</a:t>
            </a: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Зафиксируйте улыбку на лице на 10-15 секунд. При улыбке расслабляется горазд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больше мышц,  чем  при  обычном  положении.  Почувствуйте  благодать, котор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расходится по всему телу от улыбки. Сохраните это состоя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785880" y="4950000"/>
            <a:ext cx="421488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66"/>
                </a:solidFill>
                <a:uFillTx/>
                <a:latin typeface="Arial"/>
              </a:rPr>
              <a:t>Если хочется скандала, широко откройте р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При этом мускулы лица расслабляются, и агрессия уменьш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4573800" y="507204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1" descr="http://d.topic.lt/FF/upload/post/201602/02/1834391/smeshnye-kartinki-s-nadpisjami-9.jpg"/>
          <p:cNvPicPr/>
          <p:nvPr/>
        </p:nvPicPr>
        <p:blipFill>
          <a:blip r:embed="rId5"/>
          <a:stretch/>
        </p:blipFill>
        <p:spPr>
          <a:xfrm>
            <a:off x="5000760" y="3714840"/>
            <a:ext cx="41432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3"/>
          <p:cNvSpPr/>
          <p:nvPr/>
        </p:nvSpPr>
        <p:spPr>
          <a:xfrm>
            <a:off x="285840" y="928800"/>
            <a:ext cx="40003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акторы риска психологического здоровья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2428"/>
                </a:solidFill>
                <a:latin typeface="Arial"/>
              </a:rPr>
              <a:t>Их можно разделить на две основные груп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724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2428"/>
                </a:solidFill>
                <a:latin typeface="Arial"/>
              </a:rPr>
              <a:t>Средовые (все что окружает ребен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724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2428"/>
                </a:solidFill>
                <a:latin typeface="Arial"/>
              </a:rPr>
              <a:t>Субъективные (его индивидуальные и личностные особен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724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72428"/>
                </a:solidFill>
                <a:uFillTx/>
                <a:latin typeface="Arial"/>
              </a:rPr>
              <a:t>Вопрос для участников консультации</a:t>
            </a:r>
            <a:r>
              <a:rPr b="0" lang="ru-RU" sz="2000" spc="-1" strike="noStrike">
                <a:solidFill>
                  <a:srgbClr val="072428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2428"/>
                </a:solidFill>
                <a:latin typeface="Arial"/>
              </a:rPr>
              <a:t>Что можно отнести к средовым и субъективным фактор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2" descr="1283854841_5.jpg"/>
          <p:cNvPicPr/>
          <p:nvPr/>
        </p:nvPicPr>
        <p:blipFill>
          <a:blip r:embed="rId1"/>
          <a:stretch/>
        </p:blipFill>
        <p:spPr>
          <a:xfrm>
            <a:off x="4214880" y="714240"/>
            <a:ext cx="49291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500040" y="50004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кторы риска психологического здоровья дете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4286160" y="1785960"/>
            <a:ext cx="4643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х можно разделить на две основные группы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ов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(все, что окружает ребенка) и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бъектив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(его индивидуальные личностные особенност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ов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факторам можно отнести неблагоприятные семейные условия и неблагоприятные условия, связанные с детским учрежд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 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нутриличностн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убъективным) факторам относятся характер, темперамент, самооц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https://rutraditions.ru/sites/default/files/resize/remote/5ef50cde8d7d3b390ed39395096f5e85-604x489.jpg"/>
          <p:cNvPicPr/>
          <p:nvPr/>
        </p:nvPicPr>
        <p:blipFill>
          <a:blip r:embed="rId1"/>
          <a:stretch/>
        </p:blipFill>
        <p:spPr>
          <a:xfrm>
            <a:off x="0" y="1071720"/>
            <a:ext cx="43578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149040" y="260280"/>
            <a:ext cx="900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Профессиональные и личностные качества педагога тесно связ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И также тесно они связаны с эмоциональным состоянием дет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которое определяет их познаватель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и поведенческое состояние.</a:t>
            </a:r>
            <a:r>
              <a:rPr b="0" lang="ru-RU" sz="20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179280" y="1700280"/>
            <a:ext cx="8713800" cy="49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лияние педагога на своих воспитанников</a:t>
            </a:r>
            <a:endParaRPr b="0" i="1" lang="en-US" sz="2400" spc="1" strike="noStrike">
              <a:ln w="1260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40120" y="2349360"/>
            <a:ext cx="8608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 Rounded MT Bold"/>
              </a:rPr>
              <a:t>Фактор личностной тревожности</a:t>
            </a: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 и сверхконтроля поведения со стороны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педагога («болезнь безупречности») через доминирование или  гиперопеку ведет 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Снижению социальной активности ребенка и затрудняет формирование е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самосто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9760" y="3213000"/>
            <a:ext cx="800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 Rounded MT Bold"/>
              </a:rPr>
              <a:t>Фактор преимущественного развития вербального интеллекта</a:t>
            </a: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у педагогов (преобладание в работе словесных форм обучения и воспитан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72960" y="4005360"/>
            <a:ext cx="831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 Rounded MT Bold"/>
              </a:rPr>
              <a:t>Поведенческий фактор,</a:t>
            </a: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 когда педагог неосознанно  провоцирует ответ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реакции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347760" y="5643720"/>
            <a:ext cx="837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 Rounded MT Bold"/>
              </a:rPr>
              <a:t>Фактор равнодушия,</a:t>
            </a: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 формального отношения к ребенку разрушает личност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эмоциональное общение, мешает решению проблем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4760" y="4653000"/>
            <a:ext cx="8251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 Rounded MT Bold"/>
              </a:rPr>
              <a:t>Фактор неадекватного отношения к себе и неумение разобр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 Rounded MT Bold"/>
              </a:rPr>
              <a:t>в себе и собственных проблемах.</a:t>
            </a: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 Не умея принять себя и признать сво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достоинства очень трудно это сделать по отношению к друг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1"/>
          <p:cNvSpPr/>
          <p:nvPr/>
        </p:nvSpPr>
        <p:spPr>
          <a:xfrm rot="5400000">
            <a:off x="-360" y="2421000"/>
            <a:ext cx="431640" cy="431640"/>
          </a:xfrm>
          <a:custGeom>
            <a:avLst/>
            <a:gdLst>
              <a:gd name="textAreaLeft" fmla="*/ 186840 w 431640"/>
              <a:gd name="textAreaRight" fmla="*/ 244800 w 431640"/>
              <a:gd name="textAreaTop" fmla="*/ 186840 h 431640"/>
              <a:gd name="textAreaBottom" fmla="*/ 244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355" y="9355"/>
                </a:lnTo>
                <a:lnTo>
                  <a:pt x="10800" y="0"/>
                </a:lnTo>
                <a:lnTo>
                  <a:pt x="12245" y="9355"/>
                </a:lnTo>
                <a:lnTo>
                  <a:pt x="21600" y="10800"/>
                </a:lnTo>
                <a:lnTo>
                  <a:pt x="12245" y="12245"/>
                </a:lnTo>
                <a:lnTo>
                  <a:pt x="10800" y="21600"/>
                </a:lnTo>
                <a:lnTo>
                  <a:pt x="9355" y="122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5"/>
          <p:cNvSpPr/>
          <p:nvPr/>
        </p:nvSpPr>
        <p:spPr>
          <a:xfrm rot="5400000">
            <a:off x="-360" y="3213000"/>
            <a:ext cx="432000" cy="431640"/>
          </a:xfrm>
          <a:custGeom>
            <a:avLst/>
            <a:gdLst>
              <a:gd name="textAreaLeft" fmla="*/ 189000 w 432000"/>
              <a:gd name="textAreaRight" fmla="*/ 243000 w 432000"/>
              <a:gd name="textAreaTop" fmla="*/ 189000 h 431640"/>
              <a:gd name="textAreaBottom" fmla="*/ 242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459" y="9459"/>
                </a:lnTo>
                <a:lnTo>
                  <a:pt x="10800" y="0"/>
                </a:lnTo>
                <a:lnTo>
                  <a:pt x="12141" y="9459"/>
                </a:lnTo>
                <a:lnTo>
                  <a:pt x="21600" y="10800"/>
                </a:lnTo>
                <a:lnTo>
                  <a:pt x="12141" y="12141"/>
                </a:lnTo>
                <a:lnTo>
                  <a:pt x="10800" y="21600"/>
                </a:lnTo>
                <a:lnTo>
                  <a:pt x="9459" y="121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6"/>
          <p:cNvSpPr/>
          <p:nvPr/>
        </p:nvSpPr>
        <p:spPr>
          <a:xfrm rot="5400000">
            <a:off x="-360" y="3933720"/>
            <a:ext cx="432000" cy="431640"/>
          </a:xfrm>
          <a:custGeom>
            <a:avLst/>
            <a:gdLst>
              <a:gd name="textAreaLeft" fmla="*/ 185760 w 432000"/>
              <a:gd name="textAreaRight" fmla="*/ 246240 w 432000"/>
              <a:gd name="textAreaTop" fmla="*/ 185760 h 431640"/>
              <a:gd name="textAreaBottom" fmla="*/ 2458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91" y="9291"/>
                </a:lnTo>
                <a:lnTo>
                  <a:pt x="10800" y="0"/>
                </a:lnTo>
                <a:lnTo>
                  <a:pt x="12309" y="9291"/>
                </a:lnTo>
                <a:lnTo>
                  <a:pt x="21600" y="10800"/>
                </a:lnTo>
                <a:lnTo>
                  <a:pt x="12309" y="12309"/>
                </a:lnTo>
                <a:lnTo>
                  <a:pt x="10800" y="21600"/>
                </a:lnTo>
                <a:lnTo>
                  <a:pt x="9291" y="12309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7"/>
          <p:cNvSpPr/>
          <p:nvPr/>
        </p:nvSpPr>
        <p:spPr>
          <a:xfrm rot="5400000">
            <a:off x="-360" y="4653000"/>
            <a:ext cx="431640" cy="431640"/>
          </a:xfrm>
          <a:custGeom>
            <a:avLst/>
            <a:gdLst>
              <a:gd name="textAreaLeft" fmla="*/ 182160 w 431640"/>
              <a:gd name="textAreaRight" fmla="*/ 249480 w 431640"/>
              <a:gd name="textAreaTop" fmla="*/ 182160 h 431640"/>
              <a:gd name="textAreaBottom" fmla="*/ 249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23" y="9123"/>
                </a:lnTo>
                <a:lnTo>
                  <a:pt x="10800" y="0"/>
                </a:lnTo>
                <a:lnTo>
                  <a:pt x="12477" y="9123"/>
                </a:lnTo>
                <a:lnTo>
                  <a:pt x="21600" y="10800"/>
                </a:lnTo>
                <a:lnTo>
                  <a:pt x="12477" y="12477"/>
                </a:lnTo>
                <a:lnTo>
                  <a:pt x="10800" y="21600"/>
                </a:lnTo>
                <a:lnTo>
                  <a:pt x="9123" y="1247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8"/>
          <p:cNvSpPr/>
          <p:nvPr/>
        </p:nvSpPr>
        <p:spPr>
          <a:xfrm rot="5400000">
            <a:off x="-360" y="5661000"/>
            <a:ext cx="432000" cy="431640"/>
          </a:xfrm>
          <a:custGeom>
            <a:avLst/>
            <a:gdLst>
              <a:gd name="textAreaLeft" fmla="*/ 182520 w 432000"/>
              <a:gd name="textAreaRight" fmla="*/ 249480 w 432000"/>
              <a:gd name="textAreaTop" fmla="*/ 182160 h 431640"/>
              <a:gd name="textAreaBottom" fmla="*/ 249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23" y="9123"/>
                </a:lnTo>
                <a:lnTo>
                  <a:pt x="10800" y="0"/>
                </a:lnTo>
                <a:lnTo>
                  <a:pt x="12477" y="9123"/>
                </a:lnTo>
                <a:lnTo>
                  <a:pt x="21600" y="10800"/>
                </a:lnTo>
                <a:lnTo>
                  <a:pt x="12477" y="12477"/>
                </a:lnTo>
                <a:lnTo>
                  <a:pt x="10800" y="21600"/>
                </a:lnTo>
                <a:lnTo>
                  <a:pt x="9123" y="1247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http://zoldou1.crimea-school.ru/sites/default/files/images/reb.jpg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7:52:49Z</dcterms:created>
  <dc:creator>1</dc:creator>
  <dc:description/>
  <dc:language>en-US</dc:language>
  <cp:lastModifiedBy>Марина</cp:lastModifiedBy>
  <dcterms:modified xsi:type="dcterms:W3CDTF">2017-12-14T11:51:18Z</dcterms:modified>
  <cp:revision>63</cp:revision>
  <dc:subject/>
  <dc:title>Слайд 1</dc:title>
</cp:coreProperties>
</file>