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3.jpeg" ContentType="image/jpeg"/>
  <Override PartName="/ppt/media/image30.png" ContentType="image/png"/>
  <Override PartName="/ppt/media/image4.png" ContentType="image/png"/>
  <Override PartName="/ppt/media/image26.jpeg" ContentType="image/jpeg"/>
  <Override PartName="/ppt/media/image5.jpeg" ContentType="image/jpeg"/>
  <Override PartName="/ppt/media/image28.png" ContentType="image/png"/>
  <Override PartName="/ppt/media/image29.png" ContentType="image/png"/>
  <Override PartName="/ppt/media/image13.png" ContentType="image/png"/>
  <Override PartName="/ppt/media/image33.jpeg" ContentType="image/jpeg"/>
  <Override PartName="/ppt/media/image45.png" ContentType="image/png"/>
  <Override PartName="/ppt/media/image40.png" ContentType="image/png"/>
  <Override PartName="/ppt/media/image46.jpeg" ContentType="image/jpeg"/>
  <Override PartName="/ppt/media/image54.png" ContentType="image/png"/>
  <Override PartName="/ppt/media/image44.png" ContentType="image/png"/>
  <Override PartName="/ppt/media/image51.gif" ContentType="image/gif"/>
  <Override PartName="/ppt/media/image31.jpeg" ContentType="image/jpeg"/>
  <Override PartName="/ppt/media/image41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47.png" ContentType="image/png"/>
  <Override PartName="/ppt/media/image1.jpeg" ContentType="image/jpeg"/>
  <Override PartName="/ppt/media/image35.jpeg" ContentType="image/jpeg"/>
  <Override PartName="/ppt/media/image48.png" ContentType="image/png"/>
  <Override PartName="/ppt/media/image9.jpeg" ContentType="image/jpeg"/>
  <Override PartName="/ppt/media/image11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62D6-4B4C-4A8E-BB31-C776A61F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B92-5E8B-45E2-8A36-62BF4202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684-AA56-4D10-B83C-F48DAE52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9E4-C5CE-4377-9D78-099311A0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7C9-1832-4C42-984E-800CDC3B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03C-103E-4C2A-B537-5940125D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AA5-6896-4407-AFE8-2F76A500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929-CCB8-4182-9FB0-83B2FA9E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9E3-8334-49AD-BD65-FA11DDFB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0D2-FFE2-4343-A746-97DFE9AD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612-DD31-4F1B-B5BD-14538D9D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E20-224C-40A0-A320-F8FBCF63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515F-C04A-4B12-8418-16F439FFA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1.gif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image" Target="../media/image54.png"/><Relationship Id="rId9" Type="http://schemas.openxmlformats.org/officeDocument/2006/relationships/image" Target="../media/image54.png"/><Relationship Id="rId10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43080" y="2356920"/>
            <a:ext cx="685800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Формы х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ранени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информ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18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Носитель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643040" y="1285560"/>
            <a:ext cx="7043760" cy="15001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Носитель информации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– это любой материальный объект, используемый для хранения на нём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Группа 10"/>
          <p:cNvGrpSpPr/>
          <p:nvPr/>
        </p:nvGrpSpPr>
        <p:grpSpPr>
          <a:xfrm>
            <a:off x="857160" y="3071880"/>
            <a:ext cx="8286840" cy="3571920"/>
            <a:chOff x="857160" y="3071880"/>
            <a:chExt cx="8286840" cy="3571920"/>
          </a:xfrm>
        </p:grpSpPr>
        <p:pic>
          <p:nvPicPr>
            <p:cNvPr id="245" name="Picture 9" descr="D:\Личные_документы\Елена\Школа_информатика\Школа_3\материал по темам\носители информации\камень.bmp"/>
            <p:cNvPicPr/>
            <p:nvPr/>
          </p:nvPicPr>
          <p:blipFill>
            <a:blip r:embed="rId1"/>
            <a:stretch/>
          </p:blipFill>
          <p:spPr>
            <a:xfrm>
              <a:off x="857160" y="4643640"/>
              <a:ext cx="2915640" cy="19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4" descr="D:\Личные_документы\Елена\Школа_информатика\Школа_3\материал по темам\носители информации\картинки\пергамент 919 год.jpg"/>
            <p:cNvPicPr/>
            <p:nvPr/>
          </p:nvPicPr>
          <p:blipFill>
            <a:blip r:embed="rId2">
              <a:lum contrast="20000"/>
            </a:blip>
            <a:stretch/>
          </p:blipFill>
          <p:spPr>
            <a:xfrm>
              <a:off x="2145960" y="3071880"/>
              <a:ext cx="2332440" cy="19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3" descr="D:\Личные_документы\Елена\Школа_информатика\Школа_3\материал по темам\носители информации\картинки\папирус3.jpg"/>
            <p:cNvPicPr/>
            <p:nvPr/>
          </p:nvPicPr>
          <p:blipFill>
            <a:blip r:embed="rId3"/>
            <a:stretch/>
          </p:blipFill>
          <p:spPr>
            <a:xfrm>
              <a:off x="5134680" y="3144600"/>
              <a:ext cx="2405520" cy="18234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48" name="Picture 2" descr="D:\Личные_документы\Елена\Школа_информатика\Школа_3\материал по темам\носители информации\картинки\китайская бумага.jpg"/>
            <p:cNvPicPr/>
            <p:nvPr/>
          </p:nvPicPr>
          <p:blipFill>
            <a:blip r:embed="rId4"/>
            <a:stretch/>
          </p:blipFill>
          <p:spPr>
            <a:xfrm>
              <a:off x="3786120" y="4500720"/>
              <a:ext cx="3522960" cy="21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4" descr="http://im0-tub-ru.yandex.net/i?id=202689325-25-72&amp;n=21"/>
            <p:cNvPicPr/>
            <p:nvPr/>
          </p:nvPicPr>
          <p:blipFill>
            <a:blip r:embed="rId5"/>
            <a:srcRect l="1461" t="0" r="0" b="0"/>
            <a:stretch/>
          </p:blipFill>
          <p:spPr>
            <a:xfrm>
              <a:off x="7175520" y="4384800"/>
              <a:ext cx="1676160" cy="13143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50" name="Picture 4" descr="http://www.anafor.ru/forums/uploads/post-16704-1342854118.jpg"/>
            <p:cNvPicPr/>
            <p:nvPr/>
          </p:nvPicPr>
          <p:blipFill>
            <a:blip r:embed="rId6"/>
            <a:stretch/>
          </p:blipFill>
          <p:spPr>
            <a:xfrm>
              <a:off x="6373800" y="5470560"/>
              <a:ext cx="2770200" cy="11732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251" name="Овал 11"/>
          <p:cNvSpPr/>
          <p:nvPr/>
        </p:nvSpPr>
        <p:spPr>
          <a:xfrm>
            <a:off x="500040" y="14288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" descr="https://e-w-e.ru/wp-content/uploads/2016/07/%D0%9F%D0%BE%D0%B4%D0%B7%D0%B5%D0%BC%D0%B5%D0%BB%D1%8C%D0%B5_11-768x4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 rot="21474600">
            <a:off x="-252360" y="2376360"/>
            <a:ext cx="2592360" cy="6813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 flipH="1" rot="90000">
            <a:off x="6732720" y="2303280"/>
            <a:ext cx="2592360" cy="6813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575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6541920" y="0"/>
            <a:ext cx="2602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-360" y="0"/>
            <a:ext cx="2771640" cy="2952720"/>
            <a:chOff x="-360" y="0"/>
            <a:chExt cx="2771640" cy="2952720"/>
          </a:xfrm>
        </p:grpSpPr>
        <p:pic>
          <p:nvPicPr>
            <p:cNvPr id="260" name="" descr=""/>
            <p:cNvPicPr/>
            <p:nvPr/>
          </p:nvPicPr>
          <p:blipFill>
            <a:blip r:embed="rId6"/>
            <a:stretch/>
          </p:blipFill>
          <p:spPr>
            <a:xfrm flipH="1">
              <a:off x="-360" y="0"/>
              <a:ext cx="277164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11280" y="692280"/>
              <a:ext cx="194292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 этой комнате находится принцесса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а в другой комнате сидит тигр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372360" y="0"/>
            <a:ext cx="2952720" cy="2952720"/>
            <a:chOff x="6372360" y="0"/>
            <a:chExt cx="2952720" cy="2952720"/>
          </a:xfrm>
        </p:grpSpPr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6372360" y="0"/>
              <a:ext cx="295272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588000" y="693720"/>
              <a:ext cx="20876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 одной из этих комнат находится принцесса; кроме того, в одной из этих комнат сидит тигр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996720" y="2298600"/>
            <a:ext cx="201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На одной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двух двер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напис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прав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а на друг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лож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7164360" y="3284640"/>
            <a:ext cx="2089080" cy="934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106200" y="3284640"/>
            <a:ext cx="2089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71424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Все мои друзья занимаются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каким-нибудь видом спорта. 16 из них увлекаются футболом, а 12 — баскетболом. Двое увлекаются и тем и другим видом спорта. Угадайте, сколько у меня друзе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Овал 23"/>
          <p:cNvSpPr/>
          <p:nvPr/>
        </p:nvSpPr>
        <p:spPr>
          <a:xfrm>
            <a:off x="1071720" y="2357280"/>
            <a:ext cx="3571560" cy="3357720"/>
          </a:xfrm>
          <a:prstGeom prst="ellipse">
            <a:avLst/>
          </a:prstGeom>
          <a:solidFill>
            <a:srgbClr val="4f81bd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Футб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Овал 24"/>
          <p:cNvSpPr/>
          <p:nvPr/>
        </p:nvSpPr>
        <p:spPr>
          <a:xfrm>
            <a:off x="5000760" y="2357280"/>
            <a:ext cx="3571920" cy="3357720"/>
          </a:xfrm>
          <a:prstGeom prst="ellipse">
            <a:avLst/>
          </a:prstGeom>
          <a:solidFill>
            <a:srgbClr val="cd5119">
              <a:alpha val="4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Баскетб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-0.25799 0.00601 E">
                                      <p:cBhvr>
                                        <p:cTn id="87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Заголовок 1"/>
          <p:cNvSpPr/>
          <p:nvPr/>
        </p:nvSpPr>
        <p:spPr>
          <a:xfrm>
            <a:off x="1643040" y="1000080"/>
            <a:ext cx="6643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Задание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  <a:ea typeface="Arial"/>
              </a:rPr>
              <a:t>: определите, информация какого вида воспринимается легч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50004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642960" y="1989000"/>
            <a:ext cx="8209080" cy="429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Вариант 1:</a:t>
            </a:r>
            <a:r>
              <a:rPr b="0" lang="en-US" sz="22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"/>
                <a:ea typeface="Arial"/>
              </a:rPr>
              <a:t>В 5а классе один отличник. В 5б и 5в отличников нет. На «4» и «5» обучаются в 5а  классе – 13 учащихся, а в 5б – 4 ученика. В 5а ни у одного учащегося нет двойки за год. Тройки за год имеют 13 учащихся 5 а класса. В 5в классе один отличник. В 5г классе ни у одного учащегося нет двойки за год. На «4» и «5» обучаются в 5в  классе – 6 учащихся. В 5б классе нет отличников. В 5в и 5б классах нет двоечников. Тройки за год имеют 18 учащихся 5 б класса, и 20 учащихся 5в класса.  На «4» и «5» обучаются в 5г классе – 19 учащихся. В 5в классе нет отличников. В 5г классе 6 учащихся имеют тройки за го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714240" y="2571840"/>
          <a:ext cx="8105760" cy="2530440"/>
        </p:xfrm>
        <a:graphic>
          <a:graphicData uri="http://schemas.openxmlformats.org/drawingml/2006/table">
            <a:tbl>
              <a:tblPr/>
              <a:tblGrid>
                <a:gridCol w="1285920"/>
                <a:gridCol w="1714680"/>
                <a:gridCol w="1785960"/>
                <a:gridCol w="1643040"/>
                <a:gridCol w="16761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ласс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Обучаются 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а </a:t>
                      </a:r>
                      <a:r>
                        <a:rPr b="1" i="1" lang="en-US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Обучаются 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а «</a:t>
                      </a:r>
                      <a:r>
                        <a:rPr b="1" i="1" lang="en-US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»и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Имеют 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Имеют 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 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Box 8"/>
          <p:cNvSpPr/>
          <p:nvPr/>
        </p:nvSpPr>
        <p:spPr>
          <a:xfrm>
            <a:off x="642960" y="200016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Вариант 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2000160" y="5456160"/>
            <a:ext cx="150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ВЫВОД</a:t>
            </a:r>
            <a:r>
              <a:rPr b="1" lang="en-US" sz="2200" spc="-1" strike="noStrike">
                <a:solidFill>
                  <a:srgbClr val="17375e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10"/>
          <p:cNvSpPr/>
          <p:nvPr/>
        </p:nvSpPr>
        <p:spPr>
          <a:xfrm>
            <a:off x="785880" y="52862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eorgia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3286080" y="5429160"/>
            <a:ext cx="54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таблица - это простая и удобная форма представле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Управляющая кнопка: домой 12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142640" y="1242720"/>
            <a:ext cx="7543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Переход от текстовой формы представления информации к табличной часто помогает решать достаточно трудные задач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Табличный способ решения логических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929120" y="2500200"/>
          <a:ext cx="4000680" cy="2571840"/>
        </p:xfrm>
        <a:graphic>
          <a:graphicData uri="http://schemas.openxmlformats.org/drawingml/2006/table">
            <a:tbl>
              <a:tblPr/>
              <a:tblGrid>
                <a:gridCol w="1285920"/>
                <a:gridCol w="905040"/>
                <a:gridCol w="925200"/>
                <a:gridCol w="88452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Та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корз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лукош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едёр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Text Box 29"/>
          <p:cNvSpPr/>
          <p:nvPr/>
        </p:nvSpPr>
        <p:spPr>
          <a:xfrm>
            <a:off x="566640" y="2500200"/>
            <a:ext cx="4219560" cy="4188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"/>
                <a:ea typeface="Arial"/>
              </a:rPr>
              <a:t>Три подружки - Вера, Оля и Таня - пошли в лес по ягоды. Для сбора ягод у них были корзинка, лукошко, ведёрко. Известно, что Оля была не </a:t>
            </a:r>
            <a:br>
              <a:rPr sz="2200"/>
            </a:br>
            <a:r>
              <a:rPr b="0" lang="en-US" sz="2200" spc="-1" strike="noStrike">
                <a:solidFill>
                  <a:srgbClr val="17375e"/>
                </a:solidFill>
                <a:latin typeface="Arial"/>
                <a:ea typeface="Arial"/>
              </a:rPr>
              <a:t>с корзинкой и не с лукошком, Вера не с лукошк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"/>
                <a:ea typeface="Arial"/>
              </a:rPr>
              <a:t>Что с собой взяла каждая из девоче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ая соединительная линия 25"/>
          <p:cNvSpPr/>
          <p:nvPr/>
        </p:nvSpPr>
        <p:spPr>
          <a:xfrm>
            <a:off x="2643120" y="2928960"/>
            <a:ext cx="135756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26"/>
          <p:cNvSpPr/>
          <p:nvPr/>
        </p:nvSpPr>
        <p:spPr>
          <a:xfrm>
            <a:off x="642960" y="3357720"/>
            <a:ext cx="64296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28"/>
          <p:cNvSpPr/>
          <p:nvPr/>
        </p:nvSpPr>
        <p:spPr>
          <a:xfrm>
            <a:off x="571680" y="4286160"/>
            <a:ext cx="3929040" cy="1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30"/>
          <p:cNvSpPr/>
          <p:nvPr/>
        </p:nvSpPr>
        <p:spPr>
          <a:xfrm>
            <a:off x="2357280" y="4714920"/>
            <a:ext cx="214344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32"/>
          <p:cNvSpPr/>
          <p:nvPr/>
        </p:nvSpPr>
        <p:spPr>
          <a:xfrm>
            <a:off x="642960" y="5143680"/>
            <a:ext cx="385776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4"/>
          <p:cNvSpPr/>
          <p:nvPr/>
        </p:nvSpPr>
        <p:spPr>
          <a:xfrm>
            <a:off x="7358040" y="262728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5"/>
          <p:cNvSpPr/>
          <p:nvPr/>
        </p:nvSpPr>
        <p:spPr>
          <a:xfrm>
            <a:off x="7358040" y="328608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36"/>
          <p:cNvSpPr/>
          <p:nvPr/>
        </p:nvSpPr>
        <p:spPr>
          <a:xfrm>
            <a:off x="7286760" y="43020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37"/>
          <p:cNvSpPr/>
          <p:nvPr/>
        </p:nvSpPr>
        <p:spPr>
          <a:xfrm>
            <a:off x="6429240" y="407196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8"/>
          <p:cNvSpPr/>
          <p:nvPr/>
        </p:nvSpPr>
        <p:spPr>
          <a:xfrm>
            <a:off x="8286840" y="4071960"/>
            <a:ext cx="42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39"/>
          <p:cNvSpPr/>
          <p:nvPr/>
        </p:nvSpPr>
        <p:spPr>
          <a:xfrm>
            <a:off x="642960" y="5572080"/>
            <a:ext cx="2714760" cy="1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1"/>
          <p:cNvSpPr/>
          <p:nvPr/>
        </p:nvSpPr>
        <p:spPr>
          <a:xfrm>
            <a:off x="6429240" y="328608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2"/>
          <p:cNvSpPr/>
          <p:nvPr/>
        </p:nvSpPr>
        <p:spPr>
          <a:xfrm>
            <a:off x="6357960" y="28576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43"/>
          <p:cNvSpPr/>
          <p:nvPr/>
        </p:nvSpPr>
        <p:spPr>
          <a:xfrm>
            <a:off x="8286840" y="2643120"/>
            <a:ext cx="42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4"/>
          <p:cNvSpPr/>
          <p:nvPr/>
        </p:nvSpPr>
        <p:spPr>
          <a:xfrm>
            <a:off x="8215200" y="357192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5"/>
          <p:cNvSpPr/>
          <p:nvPr/>
        </p:nvSpPr>
        <p:spPr>
          <a:xfrm>
            <a:off x="4929120" y="5286240"/>
            <a:ext cx="4000680" cy="1313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Ответ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Вера взяла корзин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Оля – ведёр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Таня – лукош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17"/>
          <p:cNvSpPr/>
          <p:nvPr/>
        </p:nvSpPr>
        <p:spPr>
          <a:xfrm>
            <a:off x="1143000" y="235728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Arial"/>
              </a:rPr>
              <a:t>Рабочий стол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Arial"/>
              </a:rPr>
              <a:t>Решение логических з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2" descr=""/>
          <p:cNvPicPr/>
          <p:nvPr/>
        </p:nvPicPr>
        <p:blipFill>
          <a:blip r:embed="rId1"/>
          <a:stretch/>
        </p:blipFill>
        <p:spPr>
          <a:xfrm>
            <a:off x="1000080" y="0"/>
            <a:ext cx="185760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1508400" y="2786040"/>
            <a:ext cx="236916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св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2869560" y="3929040"/>
            <a:ext cx="289512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учи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221800" y="3000240"/>
            <a:ext cx="233100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бежищ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2736360" y="1500120"/>
            <a:ext cx="361728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помин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123120"/>
            <a:ext cx="7643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remove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Память человека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и память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71360" y="1142640"/>
            <a:ext cx="80722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Память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самый первый инструмент хранения информ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6" descr="гусли5"/>
          <p:cNvPicPr/>
          <p:nvPr/>
        </p:nvPicPr>
        <p:blipFill>
          <a:blip r:embed="rId1"/>
          <a:stretch/>
        </p:blipFill>
        <p:spPr>
          <a:xfrm>
            <a:off x="2286000" y="1714680"/>
            <a:ext cx="4622760" cy="3500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9" name="Содержимое 2"/>
          <p:cNvSpPr/>
          <p:nvPr/>
        </p:nvSpPr>
        <p:spPr>
          <a:xfrm>
            <a:off x="1071720" y="5572080"/>
            <a:ext cx="7643520" cy="1071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уществует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память отдельного человека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память человечества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одержащая все знания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акопленные людьми, которыми мы можем воспользовать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Группа 18"/>
          <p:cNvGrpSpPr/>
          <p:nvPr/>
        </p:nvGrpSpPr>
        <p:grpSpPr>
          <a:xfrm>
            <a:off x="1071720" y="0"/>
            <a:ext cx="8072280" cy="6597720"/>
            <a:chOff x="1071720" y="0"/>
            <a:chExt cx="8072280" cy="6597720"/>
          </a:xfrm>
        </p:grpSpPr>
        <p:pic>
          <p:nvPicPr>
            <p:cNvPr id="171" name="Picture 14" descr="http://activerain.com/image_store/uploads/7/8/5/7/4/ar132743443747587.jpg"/>
            <p:cNvPicPr/>
            <p:nvPr/>
          </p:nvPicPr>
          <p:blipFill>
            <a:blip r:embed="rId1"/>
            <a:stretch/>
          </p:blipFill>
          <p:spPr>
            <a:xfrm>
              <a:off x="3782520" y="631440"/>
              <a:ext cx="2152440" cy="30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Прямоугольник 14" descr=""/>
            <p:cNvPicPr/>
            <p:nvPr/>
          </p:nvPicPr>
          <p:blipFill>
            <a:blip r:embed="rId2"/>
            <a:stretch/>
          </p:blipFill>
          <p:spPr>
            <a:xfrm>
              <a:off x="4023720" y="341640"/>
              <a:ext cx="1630080" cy="15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3960360" y="2221200"/>
              <a:ext cx="182520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5" descr="D:\Личные_документы\Елена\Школа_информатика\Школа_3\материал по темам\носители информации\картинки\грамоты 2.jpg"/>
            <p:cNvPicPr/>
            <p:nvPr/>
          </p:nvPicPr>
          <p:blipFill>
            <a:blip r:embed="rId4">
              <a:lum contrast="10000"/>
            </a:blip>
            <a:stretch/>
          </p:blipFill>
          <p:spPr>
            <a:xfrm>
              <a:off x="6049800" y="388080"/>
              <a:ext cx="1479960" cy="20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9" descr="http://img-fotki.yandex.ru/get/4422/108243707.3ea/0_68d99_70773368_XL"/>
            <p:cNvPicPr/>
            <p:nvPr/>
          </p:nvPicPr>
          <p:blipFill>
            <a:blip r:embed="rId5"/>
            <a:stretch/>
          </p:blipFill>
          <p:spPr>
            <a:xfrm>
              <a:off x="1071720" y="3493080"/>
              <a:ext cx="2394720" cy="21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3" descr="http://img0.liveinternet.ru/images/attach/c/2/68/205/68205637_medalxonpoluchzakom.jpg"/>
            <p:cNvPicPr/>
            <p:nvPr/>
          </p:nvPicPr>
          <p:blipFill>
            <a:blip r:embed="rId6"/>
            <a:stretch/>
          </p:blipFill>
          <p:spPr>
            <a:xfrm>
              <a:off x="1138680" y="2037600"/>
              <a:ext cx="1345320" cy="188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2" descr="http://meusonhoeserdragqueen.files.wordpress.com/2012/08/discolon.jpg?w=312&amp;h=500"/>
            <p:cNvPicPr/>
            <p:nvPr/>
          </p:nvPicPr>
          <p:blipFill>
            <a:blip r:embed="rId7"/>
            <a:stretch/>
          </p:blipFill>
          <p:spPr>
            <a:xfrm>
              <a:off x="2341080" y="2037600"/>
              <a:ext cx="1622880" cy="37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8" descr="http://img-fotki.yandex.ru/get/4412/89635038.553/0_6d09c_805374_XL"/>
            <p:cNvPicPr/>
            <p:nvPr/>
          </p:nvPicPr>
          <p:blipFill>
            <a:blip r:embed="rId8"/>
            <a:stretch/>
          </p:blipFill>
          <p:spPr>
            <a:xfrm>
              <a:off x="1609560" y="0"/>
              <a:ext cx="2288880" cy="25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6" descr="http://faculty.maxwell.syr.edu/gaddis/HST210/Sept4/Precuneiform.jpg"/>
            <p:cNvPicPr/>
            <p:nvPr/>
          </p:nvPicPr>
          <p:blipFill>
            <a:blip r:embed="rId9"/>
            <a:stretch/>
          </p:blipFill>
          <p:spPr>
            <a:xfrm>
              <a:off x="7193160" y="970200"/>
              <a:ext cx="1625400" cy="15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" descr="http://www.evrokatalog.eu/files/styles/large/public/field/image/vasneztov5.jpg"/>
            <p:cNvPicPr/>
            <p:nvPr/>
          </p:nvPicPr>
          <p:blipFill>
            <a:blip r:embed="rId10"/>
            <a:stretch/>
          </p:blipFill>
          <p:spPr>
            <a:xfrm>
              <a:off x="3876840" y="3976560"/>
              <a:ext cx="1903680" cy="1955880"/>
            </a:xfrm>
            <a:prstGeom prst="rect">
              <a:avLst/>
            </a:prstGeom>
            <a:ln w="0">
              <a:noFill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pic>
          <p:nvPicPr>
            <p:cNvPr id="181" name="Picture 44" descr="D:\Мои документы\Мои рисунки\Sphinx.jpg"/>
            <p:cNvPicPr/>
            <p:nvPr/>
          </p:nvPicPr>
          <p:blipFill>
            <a:blip r:embed="rId11"/>
            <a:stretch/>
          </p:blipFill>
          <p:spPr>
            <a:xfrm>
              <a:off x="5774400" y="2130120"/>
              <a:ext cx="2525760" cy="244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29" descr="D:\Desktop\8708f32e0d2d.png"/>
            <p:cNvPicPr/>
            <p:nvPr/>
          </p:nvPicPr>
          <p:blipFill>
            <a:blip r:embed="rId12"/>
            <a:stretch/>
          </p:blipFill>
          <p:spPr>
            <a:xfrm>
              <a:off x="5768640" y="2619720"/>
              <a:ext cx="3375360" cy="397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Хранение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14280" y="1499760"/>
            <a:ext cx="542952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Фотография позволила сохранить для потомков зримые свидетельства прошедших времё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85840" y="53452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Камера-обскура 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Ньеп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2214720" y="578628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ервая фотография в мире, 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«Вид из окна», 182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Joseph Nicéphore Niépce.jpg"/>
          <p:cNvPicPr/>
          <p:nvPr/>
        </p:nvPicPr>
        <p:blipFill>
          <a:blip r:embed="rId1"/>
          <a:stretch/>
        </p:blipFill>
        <p:spPr>
          <a:xfrm>
            <a:off x="6649920" y="1487520"/>
            <a:ext cx="2133720" cy="24940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8"/>
          <p:cNvSpPr/>
          <p:nvPr/>
        </p:nvSpPr>
        <p:spPr>
          <a:xfrm>
            <a:off x="6500880" y="392904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Жозеф Нисефор Ньепс – первый 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в мире фото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&amp;Ncy;&amp;softcy;&amp;iecy;&amp;pcy;&amp;scy;, &amp;pcy;&amp;iecy;&amp;rcy;&amp;vcy;&amp;acy;&amp;yacy; &amp;fcy;&amp;ocy;&amp;tcy;&amp;ocy;&amp;gcy;&amp;rcy;&amp;acy;&amp;fcy;&amp;icy;&amp;yacy;, &amp;fcy;&amp;ocy;&amp;tcy;&amp;ocy;&amp;acy;&amp;pcy;&amp;pcy;&amp;acy;&amp;rcy;&amp;acy;&amp;tcy;&amp;ycy;, &amp;scy;&amp;tcy;&amp;acy;&amp;rcy;&amp;ocy;&amp;iecy;, &amp;ncy;&amp;iecy;&amp;gcy;&amp;acy;&amp;tcy;&amp;icy;&amp;vcy;, &amp;ocy;&amp;lcy;&amp;ocy;&amp;vcy;&amp;ocy;, &amp;scy;&amp;vcy;&amp;icy;&amp;ncy;&amp;iecy;&amp;tscy;, &amp;scy;&amp;pcy;&amp;lcy;&amp;acy;&amp;vcy;, &amp;kcy;&amp;acy;&amp;mcy;&amp;iecy;&amp;rcy;&amp;acy;"/>
          <p:cNvPicPr/>
          <p:nvPr/>
        </p:nvPicPr>
        <p:blipFill>
          <a:blip r:embed="rId2"/>
          <a:stretch/>
        </p:blipFill>
        <p:spPr>
          <a:xfrm>
            <a:off x="2676600" y="2840040"/>
            <a:ext cx="3821040" cy="2944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, &amp;Dcy;&amp;zhcy;&amp;ocy;&amp;zcy;&amp;iecy;&amp;fcy;, &amp;Ncy;&amp;icy;&amp;scy;&amp;iecy;&amp;fcy;&amp;ocy;&amp;rcy;, &amp;Ncy;&amp;softcy;&amp;iecy;&amp;pcy;&amp;scy;, &amp;kcy;&amp;acy;&amp;mcy;&amp;iecy;&amp;rcy;&amp;acy;, &amp;ocy;&amp;bcy;&amp;scy;&amp;kcy;&amp;ucy;&amp;rcy;&amp;acy;, &amp;pcy;&amp;iecy;&amp;rcy;&amp;vcy;&amp;acy;&amp;yacy; &amp;fcy;&amp;ocy;&amp;tcy;&amp;ocy;&amp;gcy;&amp;rcy;&amp;acy;&amp;fcy;&amp;icy;&amp;yacy;, &amp;kcy;&amp;acy;&amp;mcy;&amp;iecy;&amp;rcy;&amp;acy;, &amp;fcy;&amp;ocy;&amp;tcy;&amp;ocy;&amp;acy;&amp;pcy;&amp;pcy;&amp;acy;&amp;rcy;&amp;acy;&amp;tcy;&amp;ycy;"/>
          <p:cNvPicPr/>
          <p:nvPr/>
        </p:nvPicPr>
        <p:blipFill>
          <a:blip r:embed="rId3"/>
          <a:stretch/>
        </p:blipFill>
        <p:spPr>
          <a:xfrm>
            <a:off x="571680" y="3362400"/>
            <a:ext cx="2071440" cy="1781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http://images.clipartof.com/thumbnails/1089986-Clipart-3d-Camera-Lens-And-Shutter-Royalty-Free-Vector-Illustration.jpg"/>
          <p:cNvPicPr/>
          <p:nvPr/>
        </p:nvPicPr>
        <p:blipFill>
          <a:blip r:embed="rId4"/>
          <a:stretch/>
        </p:blipFill>
        <p:spPr>
          <a:xfrm>
            <a:off x="6929280" y="4857840"/>
            <a:ext cx="164340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Хранение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5640" y="1571760"/>
            <a:ext cx="66150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Человек научился хранить звуковую информацию. В 1877 году Томасом Эдисоном был создан первый прибор для записи и воспроизведения звука - фоногра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18" descr="C:\Мои документы\Мои рисунки\фонограф.jpg"/>
          <p:cNvPicPr/>
          <p:nvPr/>
        </p:nvPicPr>
        <p:blipFill>
          <a:blip r:embed="rId1"/>
          <a:stretch/>
        </p:blipFill>
        <p:spPr>
          <a:xfrm>
            <a:off x="2500200" y="3549600"/>
            <a:ext cx="2022480" cy="2379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95" name="Picture 19" descr="эдисон"/>
          <p:cNvPicPr/>
          <p:nvPr/>
        </p:nvPicPr>
        <p:blipFill>
          <a:blip r:embed="rId2"/>
          <a:stretch/>
        </p:blipFill>
        <p:spPr>
          <a:xfrm>
            <a:off x="487440" y="1487520"/>
            <a:ext cx="1798560" cy="2438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20"/>
          <p:cNvSpPr/>
          <p:nvPr/>
        </p:nvSpPr>
        <p:spPr>
          <a:xfrm>
            <a:off x="428760" y="4000680"/>
            <a:ext cx="192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Томас Алва Эдисон - изобре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2071800" y="598788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Фонограф Эдисона, 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конец </a:t>
            </a:r>
            <a:r>
              <a:rPr b="1" i="1" lang="en-U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XIX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7286760" y="35719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атефон, 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30-е гг. </a:t>
            </a:r>
            <a:r>
              <a:rPr b="1" i="1" lang="en-U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XX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 в.</a:t>
            </a:r>
            <a:r>
              <a:rPr b="1" i="1" lang="en-U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7" descr="патефон"/>
          <p:cNvPicPr/>
          <p:nvPr/>
        </p:nvPicPr>
        <p:blipFill>
          <a:blip r:embed="rId3"/>
          <a:stretch/>
        </p:blipFill>
        <p:spPr>
          <a:xfrm>
            <a:off x="5888160" y="3143160"/>
            <a:ext cx="1684080" cy="168444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2"/>
          <p:cNvGrpSpPr/>
          <p:nvPr/>
        </p:nvGrpSpPr>
        <p:grpSpPr>
          <a:xfrm>
            <a:off x="4786200" y="4357800"/>
            <a:ext cx="4267080" cy="1500120"/>
            <a:chOff x="4786200" y="4357800"/>
            <a:chExt cx="4267080" cy="1500120"/>
          </a:xfrm>
        </p:grpSpPr>
        <p:pic>
          <p:nvPicPr>
            <p:cNvPr id="201" name="Picture 3" descr="магнитофон катушечный"/>
            <p:cNvPicPr/>
            <p:nvPr/>
          </p:nvPicPr>
          <p:blipFill>
            <a:blip r:embed="rId4"/>
            <a:stretch/>
          </p:blipFill>
          <p:spPr>
            <a:xfrm>
              <a:off x="4786200" y="4369320"/>
              <a:ext cx="1449720" cy="14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5" descr="кассетный магнитофон"/>
            <p:cNvPicPr/>
            <p:nvPr/>
          </p:nvPicPr>
          <p:blipFill>
            <a:blip r:embed="rId5"/>
            <a:stretch/>
          </p:blipFill>
          <p:spPr>
            <a:xfrm>
              <a:off x="6300360" y="4956840"/>
              <a:ext cx="1967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8" descr="аудиокассеты"/>
            <p:cNvPicPr/>
            <p:nvPr/>
          </p:nvPicPr>
          <p:blipFill>
            <a:blip r:embed="rId6"/>
            <a:stretch/>
          </p:blipFill>
          <p:spPr>
            <a:xfrm>
              <a:off x="8342640" y="4357800"/>
              <a:ext cx="710640" cy="150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Text Box 13"/>
          <p:cNvSpPr/>
          <p:nvPr/>
        </p:nvSpPr>
        <p:spPr>
          <a:xfrm>
            <a:off x="4643280" y="578628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Катушечный магнитофон, 70-е гг.</a:t>
            </a:r>
            <a:r>
              <a:rPr b="1" i="1" lang="en-U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 XX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 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6429240" y="578628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Кассетный магнитофон,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 конец </a:t>
            </a:r>
            <a:r>
              <a:rPr b="1" i="1" lang="en-U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XX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 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http://img0.liveinternet.ru/images/attach/c/2/74/97/74097288_nota.jpg"/>
          <p:cNvPicPr/>
          <p:nvPr/>
        </p:nvPicPr>
        <p:blipFill>
          <a:blip r:embed="rId7"/>
          <a:stretch/>
        </p:blipFill>
        <p:spPr>
          <a:xfrm rot="21202800">
            <a:off x="518760" y="5072040"/>
            <a:ext cx="2438280" cy="1357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ttp://kita.com.ua/uploads/tiny_mce/loadimg/th_defe45d46e1455432c6c1c725fe1b884.jpg?hash=836"/>
          <p:cNvPicPr/>
          <p:nvPr/>
        </p:nvPicPr>
        <p:blipFill>
          <a:blip r:embed="rId1"/>
          <a:stretch/>
        </p:blipFill>
        <p:spPr>
          <a:xfrm>
            <a:off x="7394400" y="5715000"/>
            <a:ext cx="1820880" cy="1143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Хранение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214280" y="1386000"/>
            <a:ext cx="750096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189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году в Париже был продемонстрирован пер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в мире кинофильм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«Прибытие поезд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7" descr="C:\Мои документы\Мои рисунки\Lumier.jpg"/>
          <p:cNvPicPr/>
          <p:nvPr/>
        </p:nvPicPr>
        <p:blipFill>
          <a:blip r:embed="rId2"/>
          <a:stretch/>
        </p:blipFill>
        <p:spPr>
          <a:xfrm>
            <a:off x="341280" y="2273400"/>
            <a:ext cx="4309920" cy="3273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C:\Мои документы\Мои рисунки\прибытие поезда.jpg"/>
          <p:cNvPicPr/>
          <p:nvPr/>
        </p:nvPicPr>
        <p:blipFill>
          <a:blip r:embed="rId3"/>
          <a:stretch/>
        </p:blipFill>
        <p:spPr>
          <a:xfrm>
            <a:off x="4789440" y="2357280"/>
            <a:ext cx="4068720" cy="305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12" name="Text Box 19"/>
          <p:cNvSpPr/>
          <p:nvPr/>
        </p:nvSpPr>
        <p:spPr>
          <a:xfrm>
            <a:off x="1000080" y="580716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Изобретатели кинематографа братья Люмьер, конец </a:t>
            </a:r>
            <a:r>
              <a:rPr b="1" i="1" lang="en-U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XIX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4643280" y="564372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ервый короткометражный фильм «Прибытие поезда на вокзал  Ла Сьота», 18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Хранение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42640" y="1285560"/>
            <a:ext cx="75438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Современный компьютер может хранить в своей памяти различные виды информации: текстовую, графическую, числовую и табличную, звуковую и видеоинформ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Группа 18"/>
          <p:cNvGrpSpPr/>
          <p:nvPr/>
        </p:nvGrpSpPr>
        <p:grpSpPr>
          <a:xfrm>
            <a:off x="786600" y="2928960"/>
            <a:ext cx="7428600" cy="3714480"/>
            <a:chOff x="786600" y="2928960"/>
            <a:chExt cx="7428600" cy="3714480"/>
          </a:xfrm>
        </p:grpSpPr>
        <p:grpSp>
          <p:nvGrpSpPr>
            <p:cNvPr id="217" name="Группа 20"/>
            <p:cNvGrpSpPr/>
            <p:nvPr/>
          </p:nvGrpSpPr>
          <p:grpSpPr>
            <a:xfrm>
              <a:off x="1090800" y="2928960"/>
              <a:ext cx="6660000" cy="3568320"/>
              <a:chOff x="1090800" y="2928960"/>
              <a:chExt cx="6660000" cy="3568320"/>
            </a:xfrm>
          </p:grpSpPr>
          <p:grpSp>
            <p:nvGrpSpPr>
              <p:cNvPr id="218" name="Группа 12"/>
              <p:cNvGrpSpPr/>
              <p:nvPr/>
            </p:nvGrpSpPr>
            <p:grpSpPr>
              <a:xfrm>
                <a:off x="1090800" y="2928960"/>
                <a:ext cx="6660000" cy="3568320"/>
                <a:chOff x="1090800" y="2928960"/>
                <a:chExt cx="6660000" cy="3568320"/>
              </a:xfrm>
            </p:grpSpPr>
            <p:sp>
              <p:nvSpPr>
                <p:cNvPr id="219" name="Прямоугольник 26"/>
                <p:cNvSpPr/>
                <p:nvPr/>
              </p:nvSpPr>
              <p:spPr>
                <a:xfrm>
                  <a:off x="1090800" y="2928960"/>
                  <a:ext cx="6660000" cy="35683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20" name="Picture 11" descr="Картинка 79 из 1218887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896360" y="3107160"/>
                  <a:ext cx="2790000" cy="1843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13" descr="Картинка 55 из 12904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09960" y="3107160"/>
                  <a:ext cx="2080800" cy="1393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15" descr="Картинка 36 из 22874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80200" y="5010120"/>
                  <a:ext cx="1573560" cy="1322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17" descr="Картинка 13 из 198436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101680" y="4653360"/>
                  <a:ext cx="1848240" cy="1665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4" name="Группа 15"/>
              <p:cNvGrpSpPr/>
              <p:nvPr/>
            </p:nvGrpSpPr>
            <p:grpSpPr>
              <a:xfrm>
                <a:off x="2577240" y="3463920"/>
                <a:ext cx="4692600" cy="2650680"/>
                <a:chOff x="2577240" y="3463920"/>
                <a:chExt cx="4692600" cy="2650680"/>
              </a:xfrm>
            </p:grpSpPr>
            <p:sp>
              <p:nvSpPr>
                <p:cNvPr id="225" name="Выгнутая вниз стрелка 23"/>
                <p:cNvSpPr/>
                <p:nvPr/>
              </p:nvSpPr>
              <p:spPr>
                <a:xfrm rot="19879200">
                  <a:off x="5607360" y="5325120"/>
                  <a:ext cx="1665000" cy="415440"/>
                </a:xfrm>
                <a:custGeom>
                  <a:avLst/>
                  <a:gdLst>
                    <a:gd name="textAreaLeft" fmla="*/ 377280 w 1665000"/>
                    <a:gd name="textAreaRight" fmla="*/ 1235880 w 1665000"/>
                    <a:gd name="textAreaTop" fmla="*/ 55440 h 415440"/>
                    <a:gd name="textAreaBottom" fmla="*/ 360000 h 415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9789" hR="21600" stAng="10800000" swAng="-5400000"/>
                      <a:lnTo>
                        <a:pt x="11138" y="21600"/>
                      </a:lnTo>
                      <a:arcTo wR="9789" hR="21600" stAng="5400000" swAng="-2886705"/>
                      <a:lnTo>
                        <a:pt x="20880" y="8133"/>
                      </a:lnTo>
                      <a:lnTo>
                        <a:pt x="20252" y="0"/>
                      </a:lnTo>
                      <a:lnTo>
                        <a:pt x="18183" y="8133"/>
                      </a:lnTo>
                      <a:lnTo>
                        <a:pt x="18857" y="8133"/>
                      </a:lnTo>
                      <a:arcTo wR="9789" hR="21600" stAng="2513295" swAng="2779135"/>
                      <a:lnTo>
                        <a:pt x="10463" y="21549"/>
                      </a:lnTo>
                      <a:arcTo wR="9789" hR="21600" stAng="5507571" swAng="5292429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9789" hR="21600" stAng="10800000" swAng="-5400000"/>
                      <a:lnTo>
                        <a:pt x="11138" y="21600"/>
                      </a:lnTo>
                      <a:arcTo wR="9789" hR="21600" stAng="5400000" swAng="107571"/>
                      <a:lnTo>
                        <a:pt x="10463" y="21549"/>
                      </a:lnTo>
                      <a:arcTo wR="9789" hR="21600" stAng="5507571" swAng="5292429"/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Выгнутая вниз стрелка 24"/>
                <p:cNvSpPr/>
                <p:nvPr/>
              </p:nvSpPr>
              <p:spPr>
                <a:xfrm flipV="1" rot="19920000">
                  <a:off x="3027600" y="4523040"/>
                  <a:ext cx="2365200" cy="541080"/>
                </a:xfrm>
                <a:custGeom>
                  <a:avLst/>
                  <a:gdLst>
                    <a:gd name="textAreaLeft" fmla="*/ 540360 w 2365200"/>
                    <a:gd name="textAreaRight" fmla="*/ 1757160 w 2365200"/>
                    <a:gd name="textAreaTop" fmla="*/ 72360 h 541080"/>
                    <a:gd name="textAreaBottom" fmla="*/ 468720 h 54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9874" hR="21600" stAng="10800000" swAng="-5400000"/>
                      <a:lnTo>
                        <a:pt x="11109" y="21600"/>
                      </a:lnTo>
                      <a:arcTo wR="9874" hR="21600" stAng="5400000" swAng="-2523473"/>
                      <a:lnTo>
                        <a:pt x="20534" y="9762"/>
                      </a:lnTo>
                      <a:lnTo>
                        <a:pt x="20365" y="0"/>
                      </a:lnTo>
                      <a:lnTo>
                        <a:pt x="18063" y="9762"/>
                      </a:lnTo>
                      <a:lnTo>
                        <a:pt x="18681" y="9762"/>
                      </a:lnTo>
                      <a:arcTo wR="9874" hR="21600" stAng="2876527" swAng="2425029"/>
                      <a:lnTo>
                        <a:pt x="10491" y="21558"/>
                      </a:lnTo>
                      <a:arcTo wR="9874" hR="21600" stAng="5498444" swAng="5301556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9874" hR="21600" stAng="10800000" swAng="-5400000"/>
                      <a:lnTo>
                        <a:pt x="11109" y="21600"/>
                      </a:lnTo>
                      <a:arcTo wR="9874" hR="21600" stAng="5400000" swAng="98444"/>
                      <a:lnTo>
                        <a:pt x="10491" y="21558"/>
                      </a:lnTo>
                      <a:arcTo wR="9874" hR="21600" stAng="5498444" swAng="5301556"/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Выгнутая вверх стрелка 25"/>
                <p:cNvSpPr/>
                <p:nvPr/>
              </p:nvSpPr>
              <p:spPr>
                <a:xfrm>
                  <a:off x="2577240" y="3463920"/>
                  <a:ext cx="2734920" cy="475920"/>
                </a:xfrm>
                <a:custGeom>
                  <a:avLst/>
                  <a:gdLst>
                    <a:gd name="textAreaLeft" fmla="*/ 639000 w 2734920"/>
                    <a:gd name="textAreaRight" fmla="*/ 2036520 w 2734920"/>
                    <a:gd name="textAreaTop" fmla="*/ 63720 h 475920"/>
                    <a:gd name="textAreaBottom" fmla="*/ 412200 h 47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10095" hR="21600" stAng="10800000" swAng="5400000"/>
                      <a:lnTo>
                        <a:pt x="11035" y="0"/>
                      </a:lnTo>
                      <a:arcTo wR="10095" hR="21600" stAng="-5400000" swAng="2974078"/>
                      <a:lnTo>
                        <a:pt x="20884" y="13609"/>
                      </a:lnTo>
                      <a:lnTo>
                        <a:pt x="20660" y="21600"/>
                      </a:lnTo>
                      <a:lnTo>
                        <a:pt x="19004" y="13609"/>
                      </a:lnTo>
                      <a:lnTo>
                        <a:pt x="19474" y="13609"/>
                      </a:lnTo>
                      <a:arcTo wR="10095" hR="21600" stAng="-2425922" swAng="-2899205"/>
                      <a:lnTo>
                        <a:pt x="10565" y="23"/>
                      </a:lnTo>
                      <a:arcTo wR="10095" hR="21600" stAng="-5474872" swAng="-5325128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10095" hR="21600" stAng="10800000" swAng="5400000"/>
                      <a:lnTo>
                        <a:pt x="10095" y="0"/>
                      </a:lnTo>
                      <a:arcTo wR="10095" hR="21600" stAng="-5400000" swAng="74872"/>
                      <a:lnTo>
                        <a:pt x="10565" y="23"/>
                      </a:lnTo>
                      <a:arcTo wR="10095" hR="21600" stAng="-5474872" swAng="-5325128"/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28" name="Picture 2" descr="http://veraorlova.ucoz.ru/_pu/0/19547379.gif"/>
            <p:cNvPicPr/>
            <p:nvPr/>
          </p:nvPicPr>
          <p:blipFill>
            <a:blip r:embed="rId5"/>
            <a:stretch/>
          </p:blipFill>
          <p:spPr>
            <a:xfrm rot="20989800">
              <a:off x="865080" y="4510080"/>
              <a:ext cx="1347480" cy="101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http://cs4387.vkontakte.ru/u107771362/-14/x_1aa84871.jpg"/>
            <p:cNvPicPr/>
            <p:nvPr/>
          </p:nvPicPr>
          <p:blipFill>
            <a:blip r:embed="rId6"/>
            <a:stretch/>
          </p:blipFill>
          <p:spPr>
            <a:xfrm>
              <a:off x="6977160" y="5405400"/>
              <a:ext cx="123804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Выгнутая вверх стрелка 33"/>
            <p:cNvSpPr/>
            <p:nvPr/>
          </p:nvSpPr>
          <p:spPr>
            <a:xfrm rot="20555400">
              <a:off x="2020680" y="4168440"/>
              <a:ext cx="2554200" cy="387360"/>
            </a:xfrm>
            <a:custGeom>
              <a:avLst/>
              <a:gdLst>
                <a:gd name="textAreaLeft" fmla="*/ 602280 w 2554200"/>
                <a:gd name="textAreaRight" fmla="*/ 1903680 w 2554200"/>
                <a:gd name="textAreaTop" fmla="*/ 51840 h 387360"/>
                <a:gd name="textAreaBottom" fmla="*/ 335520 h 3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186" hR="21600" stAng="10800000" swAng="5400000"/>
                  <a:lnTo>
                    <a:pt x="11004" y="0"/>
                  </a:lnTo>
                  <a:arcTo wR="10186" hR="21600" stAng="-5400000" swAng="3486155"/>
                  <a:lnTo>
                    <a:pt x="21188" y="15517"/>
                  </a:lnTo>
                  <a:lnTo>
                    <a:pt x="20781" y="21600"/>
                  </a:lnTo>
                  <a:lnTo>
                    <a:pt x="19550" y="15517"/>
                  </a:lnTo>
                  <a:lnTo>
                    <a:pt x="19960" y="15517"/>
                  </a:lnTo>
                  <a:arcTo wR="10186" hR="21600" stAng="-1913845" swAng="-3421016"/>
                  <a:lnTo>
                    <a:pt x="10595" y="17"/>
                  </a:lnTo>
                  <a:arcTo wR="10186" hR="21600" stAng="-5465139" swAng="-5334861"/>
                  <a:close/>
                </a:path>
                <a:path fill="darkenLess" w="21600" h="21600">
                  <a:moveTo>
                    <a:pt x="0" y="21600"/>
                  </a:moveTo>
                  <a:arcTo wR="10186" hR="21600" stAng="10800000" swAng="5400000"/>
                  <a:lnTo>
                    <a:pt x="10186" y="0"/>
                  </a:lnTo>
                  <a:arcTo wR="10186" hR="21600" stAng="-5400000" swAng="65139"/>
                  <a:lnTo>
                    <a:pt x="10595" y="17"/>
                  </a:lnTo>
                  <a:arcTo wR="10186" hR="21600" stAng="-5465139" swAng="-5334861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Выгнутая вниз стрелка 34"/>
            <p:cNvSpPr/>
            <p:nvPr/>
          </p:nvSpPr>
          <p:spPr>
            <a:xfrm rot="15480000">
              <a:off x="7219080" y="4732560"/>
              <a:ext cx="1214280" cy="387360"/>
            </a:xfrm>
            <a:custGeom>
              <a:avLst/>
              <a:gdLst>
                <a:gd name="textAreaLeft" fmla="*/ 267120 w 1214280"/>
                <a:gd name="textAreaRight" fmla="*/ 898560 w 1214280"/>
                <a:gd name="textAreaTop" fmla="*/ 51840 h 387360"/>
                <a:gd name="textAreaBottom" fmla="*/ 335520 h 3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508" hR="21600" stAng="10800000" swAng="-5400000"/>
                  <a:lnTo>
                    <a:pt x="11231" y="21600"/>
                  </a:lnTo>
                  <a:arcTo wR="9508" hR="21600" stAng="5400000" swAng="-3576327"/>
                  <a:lnTo>
                    <a:pt x="21298" y="5400"/>
                  </a:lnTo>
                  <a:lnTo>
                    <a:pt x="19878" y="0"/>
                  </a:lnTo>
                  <a:lnTo>
                    <a:pt x="17853" y="5400"/>
                  </a:lnTo>
                  <a:lnTo>
                    <a:pt x="18714" y="5400"/>
                  </a:lnTo>
                  <a:arcTo wR="9508" hR="21600" stAng="1823673" swAng="3438722"/>
                  <a:lnTo>
                    <a:pt x="10370" y="21511"/>
                  </a:lnTo>
                  <a:arcTo wR="9508" hR="21600" stAng="5537605" swAng="5262395"/>
                  <a:close/>
                </a:path>
                <a:path fill="darkenLess" w="21600" h="21600">
                  <a:moveTo>
                    <a:pt x="0" y="0"/>
                  </a:moveTo>
                  <a:arcTo wR="9508" hR="21600" stAng="10800000" swAng="-5400000"/>
                  <a:lnTo>
                    <a:pt x="11231" y="21600"/>
                  </a:lnTo>
                  <a:arcTo wR="9508" hR="21600" stAng="5400000" swAng="137605"/>
                  <a:lnTo>
                    <a:pt x="10370" y="21511"/>
                  </a:lnTo>
                  <a:arcTo wR="9508" hR="21600" stAng="5537605" swAng="5262395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Управляющая кнопка: домой 19">
            <a:hlinkClick r:id="" action="ppaction://hlinkshowjump?jump=firstslide"/>
          </p:cNvPr>
          <p:cNvSpPr/>
          <p:nvPr/>
        </p:nvSpPr>
        <p:spPr>
          <a:xfrm>
            <a:off x="8572680" y="635796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12953" y="3837"/>
                </a:moveTo>
                <a:lnTo>
                  <a:pt x="15530" y="6448"/>
                </a:lnTo>
                <a:lnTo>
                  <a:pt x="15530" y="4707"/>
                </a:lnTo>
                <a:lnTo>
                  <a:pt x="17305" y="4707"/>
                </a:lnTo>
                <a:lnTo>
                  <a:pt x="17305" y="8224"/>
                </a:lnTo>
                <a:lnTo>
                  <a:pt x="19916" y="10800"/>
                </a:lnTo>
                <a:lnTo>
                  <a:pt x="18263" y="10800"/>
                </a:lnTo>
                <a:lnTo>
                  <a:pt x="18263" y="17989"/>
                </a:lnTo>
                <a:lnTo>
                  <a:pt x="7644" y="17989"/>
                </a:lnTo>
                <a:lnTo>
                  <a:pt x="7644" y="10800"/>
                </a:lnTo>
                <a:lnTo>
                  <a:pt x="5991" y="10800"/>
                </a:lnTo>
                <a:close/>
              </a:path>
              <a:path fill="darkenLess" w="25907" h="21600">
                <a:moveTo>
                  <a:pt x="15530" y="6448"/>
                </a:moveTo>
                <a:lnTo>
                  <a:pt x="15530" y="4707"/>
                </a:lnTo>
                <a:lnTo>
                  <a:pt x="17305" y="4707"/>
                </a:lnTo>
                <a:lnTo>
                  <a:pt x="17305" y="8224"/>
                </a:lnTo>
                <a:close/>
              </a:path>
              <a:path fill="darkenLess" w="25907" h="21600">
                <a:moveTo>
                  <a:pt x="12031" y="14299"/>
                </a:moveTo>
                <a:lnTo>
                  <a:pt x="13876" y="14299"/>
                </a:lnTo>
                <a:lnTo>
                  <a:pt x="13876" y="17989"/>
                </a:lnTo>
                <a:lnTo>
                  <a:pt x="18263" y="17989"/>
                </a:lnTo>
                <a:lnTo>
                  <a:pt x="18263" y="10800"/>
                </a:lnTo>
                <a:lnTo>
                  <a:pt x="7644" y="10800"/>
                </a:lnTo>
                <a:lnTo>
                  <a:pt x="7644" y="17989"/>
                </a:lnTo>
                <a:lnTo>
                  <a:pt x="1203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Содержимое 2"/>
          <p:cNvSpPr/>
          <p:nvPr/>
        </p:nvSpPr>
        <p:spPr>
          <a:xfrm>
            <a:off x="7621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0" y="3071880"/>
            <a:ext cx="2593800" cy="1963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2"/>
          <a:stretch/>
        </p:blipFill>
        <p:spPr>
          <a:xfrm>
            <a:off x="6500880" y="2000160"/>
            <a:ext cx="2643120" cy="1857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3"/>
          <a:stretch/>
        </p:blipFill>
        <p:spPr>
          <a:xfrm>
            <a:off x="2428920" y="221472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4"/>
          <a:stretch/>
        </p:blipFill>
        <p:spPr>
          <a:xfrm>
            <a:off x="4000680" y="2857680"/>
            <a:ext cx="2404800" cy="1869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0052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1"/>
          <p:cNvSpPr/>
          <p:nvPr/>
        </p:nvSpPr>
        <p:spPr>
          <a:xfrm>
            <a:off x="1928880" y="1071720"/>
            <a:ext cx="70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Задание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Оставьте те картинки, которые относятся к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нутренней памя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человека или компьютера. Лишнее убер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Заголовок 1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C:\Documents and Settings\Елена\Local Settings\Temporary Internet Files\Content.IE5\YL1I3MTK\MC900442141[1].png"/>
          <p:cNvPicPr/>
          <p:nvPr/>
        </p:nvPicPr>
        <p:blipFill>
          <a:blip r:embed="rId6"/>
          <a:stretch/>
        </p:blipFill>
        <p:spPr>
          <a:xfrm>
            <a:off x="500040" y="723960"/>
            <a:ext cx="135720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50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50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Гость</cp:lastModifiedBy>
  <dcterms:modified xsi:type="dcterms:W3CDTF">2017-10-26T11:21:36Z</dcterms:modified>
  <cp:revision>35</cp:revision>
  <dc:subject/>
  <dc:title>Презентация PowerPoint</dc:title>
</cp:coreProperties>
</file>