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9420B-CB92-4D8E-9863-193A630F5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7EC1B-565F-4B15-B46F-BF994872C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0134-72FE-4FF2-B10B-9B2B80A5D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01788-FBA3-44D4-A7EA-9471DAA37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EEABD-FD25-4947-B210-CFE143167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38311-AE81-47C0-9166-197034A57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BF912-74F9-4CF4-AA5E-35F8FD209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942E8-12CE-4E16-B1B6-CE7F08800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AFAC7-CE07-4375-A070-7CEC91EB3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03CE9-DEC7-4F84-A0FA-EF84B91E3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34292-5F0E-4635-9F17-7B612CCD8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9118-9AD1-4881-B51A-D8607C85B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E5B1E-E4D1-41A3-B67C-0F4B2A77A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E7911-881C-4798-BAB7-78F133DFD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D6122-C7B7-4190-AC5C-7CDBED410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887A9-315C-4937-B89F-72EA675DD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B8B60-B971-4D52-8AA8-F9F74D78B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69CD62-FAB4-4D23-BBA2-278485D7F8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83E10-F74E-4582-A4F1-A6B29EE7C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2199D-50BA-4719-8DF7-A3C0830DB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0FAAF-70D6-464A-9249-8406D6D94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B4EDE-3C27-4D3D-9847-F9CD7BAA3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1776A-45D2-4855-ADC7-D0A15EAE4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F4E33-2C56-42F7-9E96-1CEE9BB44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CEEA7-5899-4F7B-BE08-BD571263A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A2BB1-C591-4189-8602-E4DCD00CF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E9904-66C9-4C14-819C-22CFA24F7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277F8-F396-4EC2-8E5E-2C9696D2B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FE7E56-9023-4F50-9A87-CCBBE4344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E11CEB-0534-4C4C-A47A-ACEF4B62E6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5D69F0-882E-4776-850C-5BB800FCCD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5928A-7B90-46BE-BD4B-FF2E9894F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0712E-E962-47BD-B843-7E11F90AC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9DCB2-3C97-4343-8348-E39A2207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DACBEC-E3E6-462D-8E5D-264D81A39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4CFD0-84A0-4614-BC41-63A402154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63427-269C-40E9-91D5-AE1026103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48BE5-1F0D-4C53-91D6-702C31E8B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C0CEE-6AA0-4564-8BA7-F582BFBB0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5A462-5485-4CDE-ADB3-3E8FEF792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419D7-1488-4A60-ABCE-34BEA7856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F56C07-A488-415D-98ED-A649CB668D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D9E4B6-CA4F-4CC7-B2E3-9AEB63FF5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308862-D295-482E-8353-A6393E053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80D2-2C38-4169-A98D-29F5FB013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298030-A20F-4760-9626-7C26AF948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2D4EF6-9682-42BD-8AE1-95C26E793A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F0BEE0-80FD-48A2-87E6-4D30B33E32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B52182-691A-460D-9A77-0F3C89B649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A4099-3669-40CC-BEEA-3CD6CCFA7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101B6-84AC-45EE-AD7D-BBD0B195F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F6CD2-B15B-4D55-AFD5-416B30089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135C6-9749-41E6-ABFB-6879B342E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A101C2-9E42-4EB5-ABDA-0BF11B9D0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4912CC-5F1D-442A-B3A7-BD9EFDCE20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194A9-7EEA-4B94-A9A8-1FD96AD4A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5075C9-27D1-4F47-850D-26437BDCB6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C332F0-6287-4846-94D0-C0636572A4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6A253A-E104-41B2-9211-570D69850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71B32-D69A-48A8-97A5-B8A52A1E0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28C983-E2F4-48C2-874C-F490A9496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5D4C3B-BF94-4610-BF0A-C7A87F288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3513C8-756E-4615-9742-F7F9B5256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E6F09-A1DD-44EF-9A15-1A9D87485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CFAA5-3683-42B0-B4BC-1D2EB3108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84863-DBDD-4EA8-9E28-FA0A2A2A5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0AA39-2A6A-4301-92A5-195461C45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47FE4-7133-4BC5-920B-E1306B4F7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664216-3788-4924-AFAA-6E9CF15DAD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D50D0C-5DCF-46EC-9531-1896F8DF95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EEF1D3-0C10-4D71-8705-C8375C9838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EBD24-5769-4DC8-922D-64D3B6D6B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F977D-4138-43B5-84CC-E586D182DC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E49C3-E683-4DDD-9129-7F70184776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0E1DA-7A0C-4DBE-83C6-074E0084D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42C7CE-3722-4689-9481-524E8F511E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3EC50-DED0-41AF-9756-433776162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1175-69AE-482B-A6CA-7920D53E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8148B-2675-4F6E-AE9C-040054A1C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D926F-7C71-458B-98B6-E33A81336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DB011-DF7C-400C-B334-9D64C2F09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4845A1-0454-45F7-A12C-97E39D0C75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C220FA-0419-41E6-8D8A-7D160DC1FE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E8F699-833C-4A94-B574-5294A2E4AC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7E6B7A-8B42-4E1A-B608-71FF243A97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9C93AA-5363-42EF-82C4-CFF7AE04A3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BCDA1-CF38-4E3F-8E6C-0DFB98062C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4F1233-34D8-4B42-9EA9-8E1FC87BE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5E00-D411-474E-BE54-06876A487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18F236-0DE2-4740-A730-859A9C81F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BE255-D15D-4C77-B04B-648114E52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B600D-BA4F-4BF7-8367-7780213D4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7A1984-7765-452D-80EB-DE8A3BD1D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56A89-79AA-4033-8CD4-A7827CD9E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2A65A9-1541-47CB-9AEA-875723439C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5CADF9-DF57-4A23-B416-9200370CC73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F400-607B-43DE-B0AD-7109055E1BF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олилиния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D3D3-DDB1-4097-B898-519C76F3EDDD}"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4139-1E81-4FD1-930F-89F19C57E32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84BE-14A2-4C05-A415-AA215C8A013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B507-9C36-41AA-BF01-C8EBF375D4B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55FC-035D-4909-93B2-740A03BA0BE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F8FC-5AB5-4C8E-ADF7-FCD364448E0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Полилиния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5357-937F-4857-A9B2-146B1A3EE7E8}"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042920"/>
            <a:ext cx="8113680" cy="18655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Сделана учителем начальных классов</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Хамидуллиной Г.М.</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2016-2017 учебный год</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143000"/>
            <a:ext cx="8229600" cy="49831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Интерьер – внутреннее пространство помещения</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Манекен – деревянная кукла для изображения человеческих поз художником</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Мольберт – подставка для холста на подрамнике</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Палитра – тонкая дощечка для смешивания красок</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Цветовая гамма – подбор красок для картины</a:t>
            </a:r>
            <a:endParaRPr b="0" lang="en-US" sz="2800" spc="-1" strike="noStrike">
              <a:solidFill>
                <a:srgbClr val="000000"/>
              </a:solidFill>
              <a:latin typeface="Lucida Sans Unicode"/>
            </a:endParaRPr>
          </a:p>
        </p:txBody>
      </p:sp>
      <p:pic>
        <p:nvPicPr>
          <p:cNvPr id="394" name="Заголовок 1" descr=""/>
          <p:cNvPicPr/>
          <p:nvPr/>
        </p:nvPicPr>
        <p:blipFill>
          <a:blip r:embed="rId1"/>
          <a:stretch/>
        </p:blipFill>
        <p:spPr>
          <a:xfrm>
            <a:off x="225360" y="-225360"/>
            <a:ext cx="88092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143000"/>
            <a:ext cx="8229600" cy="49831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Изобразил, запечатлел, показал, описал, создал;</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Картина, художественное полотно, произведение искусства, бытовая зарисовка;</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Художник, живописец, Иван Фирсов;</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Юный художник, молодой живописец;</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Девочка, натурщица, маленькая озорница.</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Заголовок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pic>
        <p:nvPicPr>
          <p:cNvPr id="374" name="Picture 5" descr="И.И. Фирсов - Юный живописец"/>
          <p:cNvPicPr/>
          <p:nvPr/>
        </p:nvPicPr>
        <p:blipFill>
          <a:blip r:embed="rId1"/>
          <a:stretch/>
        </p:blipFill>
        <p:spPr>
          <a:xfrm>
            <a:off x="1600200" y="30492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Lucida Sans Unicode"/>
              </a:rPr>
              <a:t>Картина «Юный живописец»</a:t>
            </a:r>
            <a:r>
              <a:rPr b="0" lang="ru-RU" sz="2400" spc="-1" strike="noStrike">
                <a:solidFill>
                  <a:srgbClr val="000000"/>
                </a:solidFill>
                <a:latin typeface="Lucida Sans Unicode"/>
              </a:rPr>
              <a:t> была написана в восемнадцатом веке, когда жанровая живопись не пользовалась популярностью и не признавалась Академией художеств.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Lucida Sans Unicode"/>
              </a:rPr>
              <a:t>Долгие годы не было установлено авторство полотна. </a:t>
            </a:r>
            <a:r>
              <a:rPr b="0" lang="ru-RU" sz="2400" spc="-1" strike="noStrike">
                <a:solidFill>
                  <a:srgbClr val="000000"/>
                </a:solidFill>
                <a:latin typeface="Lucida Sans Unicode"/>
              </a:rPr>
              <a:t>И лишь в двадцатом веке доподлинно стало известно, что это творение русского художника </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    </a:t>
            </a:r>
            <a:r>
              <a:rPr b="0" lang="ru-RU" sz="2400" spc="-1" strike="noStrike">
                <a:solidFill>
                  <a:srgbClr val="000000"/>
                </a:solidFill>
                <a:latin typeface="Lucida Sans Unicode"/>
              </a:rPr>
              <a:t>И.И. Фирсова, который занимался оформлением спектаклей, в том числе первой русской оперы «Мельник-колдун, обманщик и сват», пышных празднеств, устраиваемых вельможами.</a:t>
            </a:r>
            <a:br>
              <a:rPr sz="2400"/>
            </a:br>
            <a:br>
              <a:rPr sz="2400"/>
            </a:br>
            <a:endParaRPr b="0" lang="en-US" sz="2400" spc="-1" strike="noStrike">
              <a:solidFill>
                <a:srgbClr val="000000"/>
              </a:solidFill>
              <a:latin typeface="Lucida Sans Unicode"/>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Заголовок 1" descr=""/>
          <p:cNvPicPr/>
          <p:nvPr/>
        </p:nvPicPr>
        <p:blipFill>
          <a:blip r:embed="rId1"/>
          <a:stretch/>
        </p:blipFill>
        <p:spPr>
          <a:xfrm>
            <a:off x="225360" y="122400"/>
            <a:ext cx="8467920" cy="1341360"/>
          </a:xfrm>
          <a:prstGeom prst="rect">
            <a:avLst/>
          </a:prstGeom>
          <a:ln w="0">
            <a:noFill/>
          </a:ln>
        </p:spPr>
      </p:pic>
      <p:sp>
        <p:nvSpPr>
          <p:cNvPr id="378"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fontScale="96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Lucida Sans Unicode"/>
            </a:endParaRPr>
          </a:p>
        </p:txBody>
      </p:sp>
      <p:sp>
        <p:nvSpPr>
          <p:cNvPr id="379"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Lucida Sans Unicode"/>
              </a:rPr>
              <a:t>Основоположник нового направления в живописи.</a:t>
            </a:r>
            <a:endParaRPr b="0" lang="en-US" sz="2000" spc="-1" strike="noStrike">
              <a:solidFill>
                <a:srgbClr val="000000"/>
              </a:solidFill>
              <a:latin typeface="Lucida Sans Unicode"/>
            </a:endParaRPr>
          </a:p>
        </p:txBody>
      </p:sp>
      <p:sp>
        <p:nvSpPr>
          <p:cNvPr id="380"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
          <p:cNvSpPr txBox="1"/>
          <p:nvPr/>
        </p:nvSpPr>
        <p:spPr>
          <a:xfrm>
            <a:off x="4644720" y="1444320"/>
            <a:ext cx="4041720" cy="3941640"/>
          </a:xfrm>
          <a:prstGeom prst="rect">
            <a:avLst/>
          </a:prstGeom>
          <a:noFill/>
          <a:ln w="0">
            <a:noFill/>
          </a:ln>
        </p:spPr>
        <p:txBody>
          <a:bodyPr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Lucida Sans Unicode"/>
              </a:rPr>
              <a:t>И только одна картина И.И. Фирсова дошла до наших дней, поражая не свойственным тому времени мастерством создания жанровой живописи. Фирсова можно назвать основоположником этого направления в русской живописи.</a:t>
            </a:r>
            <a:br>
              <a:rPr sz="2200"/>
            </a:br>
            <a:r>
              <a:rPr b="0" lang="ru-RU" sz="2200" spc="-1" strike="noStrike">
                <a:solidFill>
                  <a:srgbClr val="000000"/>
                </a:solidFill>
                <a:latin typeface="Lucida Sans Unicode"/>
              </a:rPr>
              <a:t> </a:t>
            </a:r>
            <a:endParaRPr b="0" lang="en-US" sz="2200" spc="-1" strike="noStrike">
              <a:solidFill>
                <a:srgbClr val="000000"/>
              </a:solidFill>
              <a:latin typeface="Lucida Sans Unicode"/>
            </a:endParaRPr>
          </a:p>
        </p:txBody>
      </p:sp>
      <p:pic>
        <p:nvPicPr>
          <p:cNvPr id="382" name="Picture 4" descr=""/>
          <p:cNvPicPr/>
          <p:nvPr/>
        </p:nvPicPr>
        <p:blipFill>
          <a:blip r:embed="rId2"/>
          <a:stretch/>
        </p:blipFill>
        <p:spPr>
          <a:xfrm>
            <a:off x="685800" y="2209680"/>
            <a:ext cx="325764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Lucida Sans Unicode"/>
              </a:rPr>
              <a:t>Картина проста и незамысловата</a:t>
            </a:r>
            <a:r>
              <a:rPr b="0" lang="ru-RU"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Юное дарование, художник, рисует портрет. Натурщицей ему служит такая же юная особа. Девочке трудно усидеть на месте. Ее глаза горят озорством и лукавинкой. Ей хочется соскочить и посмотреть, что же делает мальчик за мольбертом. Но строгая мама грозит ей пальцем, призывая к терпению и усидчивости. И девочка, сдерживая свой порыв, прижалась к матери. А юный художник так увлечен своим творчеством, что не замечает ничего, кроме своего творения.</a:t>
            </a:r>
            <a:br>
              <a:rPr sz="2400"/>
            </a:br>
            <a:br>
              <a:rPr sz="2400"/>
            </a:br>
            <a:r>
              <a:rPr b="0" lang="ru-RU" sz="2400" spc="-1" strike="noStrike">
                <a:solidFill>
                  <a:srgbClr val="000000"/>
                </a:solidFill>
                <a:latin typeface="Lucida Sans Unicode"/>
              </a:rPr>
              <a:t> </a:t>
            </a:r>
            <a:endParaRPr b="0" lang="en-US" sz="2400" spc="-1" strike="noStrike">
              <a:solidFill>
                <a:srgbClr val="000000"/>
              </a:solidFill>
              <a:latin typeface="Lucida Sans Unicode"/>
            </a:endParaRPr>
          </a:p>
        </p:txBody>
      </p:sp>
      <p:pic>
        <p:nvPicPr>
          <p:cNvPr id="384" name="Rectang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 полу рядом с ним стоит ящик с красками. Слева от него скульптура и бюст, на стене размещены картины. Комната ярко освещена солнечным светом, падающим из окна. Яркая зеленая штора завершает убранство комнаты.</a:t>
            </a:r>
            <a:br>
              <a:rPr sz="2700"/>
            </a:br>
            <a:br>
              <a:rPr sz="2700"/>
            </a:b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6" name="Rectangle 2"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Фирсов пиш_т свободно и мягко… Розовые, бруснично(красные), белые и бледновато(жёлтые) цвета, преобладающие в первой части п_лотна, мягко соч_тают(ть)ся с зелено_ватым оттенком камзола мальчика слева. Этот оттенок наход_т себе отзвук в более глухом зелёном тоне зан_веса в глубине. Такая скромная, тщательно продуманная, красочная гамма с_действует с(з)держанной поэзии картины и атмосфере моральной ч_стоты, разлитой в ней.</a:t>
            </a:r>
            <a:endParaRPr b="0" lang="en-US" sz="2400" spc="-1" strike="noStrike">
              <a:solidFill>
                <a:srgbClr val="000000"/>
              </a:solidFill>
              <a:latin typeface="Lucida Sans Unicode"/>
            </a:endParaRPr>
          </a:p>
        </p:txBody>
      </p:sp>
      <p:pic>
        <p:nvPicPr>
          <p:cNvPr id="388" name="Заголовок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И.И. Фирсов с удивительным мастерством «загромождает» свое творение. На картине практически нет свободного пространства. Но это не делает картину хуже. Наоборот, на ней проступает быт людей того времени, их частная жизнь. Яркие краски придают картине непередаваемую выразительность и поэтичность.</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Lucida Sans Unicode"/>
            </a:endParaRPr>
          </a:p>
        </p:txBody>
      </p:sp>
      <p:pic>
        <p:nvPicPr>
          <p:cNvPr id="390"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143000"/>
            <a:ext cx="8229600" cy="49831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1. Картина И.И. Фирсова – один из лучших образцов бытового жанра.</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2. Описание картины.</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А) сюжет картины</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Б) описание персонажей</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В) изображение художественной мастерской</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Г) цветовая гамма</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3. Мастерство художника.</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Заголовок 1" descr=""/>
          <p:cNvPicPr/>
          <p:nvPr/>
        </p:nvPicPr>
        <p:blipFill>
          <a:blip r:embed="rId1"/>
          <a:stretch/>
        </p:blipFill>
        <p:spPr>
          <a:xfrm>
            <a:off x="115920" y="298440"/>
            <a:ext cx="850428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x2017</dc:creator>
  <dc:description/>
  <dc:language>en-US</dc:language>
  <cp:lastModifiedBy>Tex2017</cp:lastModifiedBy>
  <dcterms:modified xsi:type="dcterms:W3CDTF">2017-04-07T12:48:03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