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1A1-F520-473A-A82C-ADD6B5B1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D7D-5B95-4598-95BA-2B2D8BDF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9AF-EBD6-4C4C-8C5A-99EBBDD1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11C-2435-4861-BC56-F1F03BB3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718-3584-44CD-98C8-6A8E7B20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E99-2C37-425E-B69C-463204FF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B91-2310-428D-AD1A-F7DB492D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4A3-686C-4D0A-B8A2-4E24B066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8EB-E929-428D-BF90-758C5A2D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3AE-D1F0-4E5F-808A-FC152BCB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E5A-DD2F-4D7B-9DB5-697E457C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20D-B795-4717-BA1D-3D4EF5BE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18EB-D3B4-45E1-BAB4-5B76EBC6B5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705800" cy="24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лияние природных условий на хозяйственную деятельность и культуру коренного населения Камчатк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1640" y="4437000"/>
            <a:ext cx="4133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у подготовила ученица 8 В клас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У СОШ №1 г. Фрязи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циферова Елизав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42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оседлых коряков преобладающим типом жилища была полуземлянка(лым-гыян). Ее же размер был около 12 мет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7" descr="jaranga"/>
          <p:cNvPicPr/>
          <p:nvPr/>
        </p:nvPicPr>
        <p:blipFill>
          <a:blip r:embed="rId1"/>
          <a:stretch/>
        </p:blipFill>
        <p:spPr>
          <a:xfrm>
            <a:off x="2192400" y="2924280"/>
            <a:ext cx="45417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деж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всех групп одежда коряков была глухого покроя(это связанно с климатическими условиями).Шили ее обычно из оленьих шкур или шкур морских животн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, 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или зимой мехом внутрь, а летом наруж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8" descr="000108"/>
          <p:cNvPicPr/>
          <p:nvPr/>
        </p:nvPicPr>
        <p:blipFill>
          <a:blip r:embed="rId1"/>
          <a:stretch/>
        </p:blipFill>
        <p:spPr>
          <a:xfrm>
            <a:off x="324000" y="549360"/>
            <a:ext cx="2735280" cy="3236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000134"/>
          <p:cNvPicPr/>
          <p:nvPr/>
        </p:nvPicPr>
        <p:blipFill>
          <a:blip r:embed="rId2"/>
          <a:stretch/>
        </p:blipFill>
        <p:spPr>
          <a:xfrm>
            <a:off x="1908000" y="3716280"/>
            <a:ext cx="2913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17808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ащищая кухлянку от снега, надевали широкую рубаху -камлейку. Так же представлена традиционная обувь коряков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еховой мужской головной убор-малахай капорообразного кроя с наушниками -носили зимой и  летом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6" name="Picture 13" descr="5sKsE-dkYRXpRTAXNXaWFg-wide"/>
          <p:cNvPicPr/>
          <p:nvPr/>
        </p:nvPicPr>
        <p:blipFill>
          <a:blip r:embed="rId1"/>
          <a:stretch/>
        </p:blipFill>
        <p:spPr>
          <a:xfrm>
            <a:off x="6443640" y="1989000"/>
            <a:ext cx="2287440" cy="25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10iz_oleniego_mexa2"/>
          <p:cNvPicPr/>
          <p:nvPr/>
        </p:nvPicPr>
        <p:blipFill>
          <a:blip r:embed="rId2"/>
          <a:stretch/>
        </p:blipFill>
        <p:spPr>
          <a:xfrm>
            <a:off x="3780000" y="4149720"/>
            <a:ext cx="2681280" cy="2187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000066"/>
          <p:cNvPicPr/>
          <p:nvPr/>
        </p:nvPicPr>
        <p:blipFill>
          <a:blip r:embed="rId3"/>
          <a:stretch/>
        </p:blipFill>
        <p:spPr>
          <a:xfrm>
            <a:off x="3924360" y="189000"/>
            <a:ext cx="2636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ищ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й пищей коряков-оленеводов являлось оленье мясо, обычно варе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й пищей приморских оседлых коряков была рыба: летом вареная, зимой – юкола и квашеная («кислая») рыба.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6" descr="image00322"/>
          <p:cNvPicPr/>
          <p:nvPr/>
        </p:nvPicPr>
        <p:blipFill>
          <a:blip r:embed="rId1"/>
          <a:stretch/>
        </p:blipFill>
        <p:spPr>
          <a:xfrm>
            <a:off x="1619280" y="981000"/>
            <a:ext cx="5689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оциальная жизнь, брак, семья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главе семьи стоял самый старший мужчина. Чтобы свадьба состоялась, жених должен был пройти испытательный срок: отработка в хозяйстве будущего тестя, после чего  следовал «обряд хватания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DSC_0104"/>
          <p:cNvPicPr/>
          <p:nvPr/>
        </p:nvPicPr>
        <p:blipFill>
          <a:blip r:embed="rId1"/>
          <a:stretch/>
        </p:blipFill>
        <p:spPr>
          <a:xfrm>
            <a:off x="5219640" y="1413000"/>
            <a:ext cx="3672000" cy="235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43"/>
          <p:cNvPicPr/>
          <p:nvPr/>
        </p:nvPicPr>
        <p:blipFill>
          <a:blip r:embed="rId2"/>
          <a:stretch/>
        </p:blipFill>
        <p:spPr>
          <a:xfrm>
            <a:off x="3995640" y="4292640"/>
            <a:ext cx="3284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аздники и обряды. Фольклор, музыкальные инструменты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36720" y="2031840"/>
            <a:ext cx="410364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ые праздники коряков посвящались встречи и проводам добытых морских животных. Один из них Коянайтатык «Перегонять олене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8" descr="36"/>
          <p:cNvPicPr/>
          <p:nvPr/>
        </p:nvPicPr>
        <p:blipFill>
          <a:blip r:embed="rId1"/>
          <a:stretch/>
        </p:blipFill>
        <p:spPr>
          <a:xfrm>
            <a:off x="179280" y="1773360"/>
            <a:ext cx="4038840" cy="205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post-1244151608"/>
          <p:cNvPicPr/>
          <p:nvPr/>
        </p:nvPicPr>
        <p:blipFill>
          <a:blip r:embed="rId2"/>
          <a:stretch/>
        </p:blipFill>
        <p:spPr>
          <a:xfrm>
            <a:off x="1332000" y="4149720"/>
            <a:ext cx="34401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79311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жанры фольклора коряков- мифы и сказки (лымныло), исторические предания, легенды(ланэнатво) , а также заговоры, песни ,сказ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ая культура. В школах дети изучают родной язык. Есть различные школы искусств. На местном телевидении и радио ведутся передачи на корякском язы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2RIAN_00053537LR"/>
          <p:cNvPicPr/>
          <p:nvPr/>
        </p:nvPicPr>
        <p:blipFill>
          <a:blip r:embed="rId1"/>
          <a:stretch/>
        </p:blipFill>
        <p:spPr>
          <a:xfrm>
            <a:off x="677880" y="3578400"/>
            <a:ext cx="3744720" cy="266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343802"/>
          <p:cNvPicPr/>
          <p:nvPr/>
        </p:nvPicPr>
        <p:blipFill>
          <a:blip r:embed="rId2"/>
          <a:stretch/>
        </p:blipFill>
        <p:spPr>
          <a:xfrm>
            <a:off x="4924440" y="3578400"/>
            <a:ext cx="34639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3311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дведем итог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88688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 жизнь населения Камчатского края влияют несколько факторо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)Географическое полож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)Климатические  услов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им можно объяснить их тип одежды, пищу, виды жилища и обыча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187280" y="141300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лагодарю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лимат Камчат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имат северной части края –субарктическ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има снежн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7(на юге),-24(на север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то дождлив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+12(на запад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14(на восток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7" descr="2"/>
          <p:cNvPicPr/>
          <p:nvPr/>
        </p:nvPicPr>
        <p:blipFill>
          <a:blip r:embed="rId1"/>
          <a:stretch/>
        </p:blipFill>
        <p:spPr>
          <a:xfrm>
            <a:off x="4427640" y="1989000"/>
            <a:ext cx="3519360" cy="198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gallery_promo4479733"/>
          <p:cNvPicPr/>
          <p:nvPr/>
        </p:nvPicPr>
        <p:blipFill>
          <a:blip r:embed="rId2"/>
          <a:stretch/>
        </p:blipFill>
        <p:spPr>
          <a:xfrm>
            <a:off x="5292720" y="4221000"/>
            <a:ext cx="3311640" cy="21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часть полуострова покрыта лесами из каменной березы. В центральной части распространенны леса из лиственницы курильской и ели яанской. В поймах рек растут леса тополя душистого, ольхи волосистой и чоз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7" descr="595ca0dca43c53537ee4c318c767f878_i-130"/>
          <p:cNvPicPr/>
          <p:nvPr/>
        </p:nvPicPr>
        <p:blipFill>
          <a:blip r:embed="rId1"/>
          <a:stretch/>
        </p:blipFill>
        <p:spPr>
          <a:xfrm>
            <a:off x="1476360" y="260280"/>
            <a:ext cx="59040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360" y="-540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отный мир представлен множеством видов крупных сухопутных млекопитающий- бурый медведь, снежный баран, северный олень, лось, росомаха. Также распространенны лисица, соболь, белка, норка, ласка, ондатра, суслик арктический, полевки и бурозуб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Камчатке встречается около 240 видов пти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53_558"/>
          <p:cNvPicPr/>
          <p:nvPr/>
        </p:nvPicPr>
        <p:blipFill>
          <a:blip r:embed="rId1"/>
          <a:stretch/>
        </p:blipFill>
        <p:spPr>
          <a:xfrm>
            <a:off x="539640" y="404640"/>
            <a:ext cx="3745080" cy="259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z_3ca28108"/>
          <p:cNvPicPr/>
          <p:nvPr/>
        </p:nvPicPr>
        <p:blipFill>
          <a:blip r:embed="rId2"/>
          <a:stretch/>
        </p:blipFill>
        <p:spPr>
          <a:xfrm>
            <a:off x="4716360" y="907920"/>
            <a:ext cx="38768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ря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сто проживания -Корякский автономной округ, Камчатская обла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зык- чукотско-камчатская семья язы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ая численность -около 3500 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7" descr="18_68"/>
          <p:cNvPicPr/>
          <p:nvPr/>
        </p:nvPicPr>
        <p:blipFill>
          <a:blip r:embed="rId1"/>
          <a:stretch/>
        </p:blipFill>
        <p:spPr>
          <a:xfrm>
            <a:off x="4648320" y="2000160"/>
            <a:ext cx="4038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40053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начально коряки делились на две групп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601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чевые(«оленеводы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601"/>
              </a:spcBef>
              <a:buClr>
                <a:srgbClr val="ba7c3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длые(«жители», «поселяне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и группы в свою очередь подразделялись на другие подгруппы (карагинцы, паренцы, каменцы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Объект 2" descr=""/>
          <p:cNvPicPr/>
          <p:nvPr/>
        </p:nvPicPr>
        <p:blipFill>
          <a:blip r:embed="rId1"/>
          <a:stretch/>
        </p:blipFill>
        <p:spPr>
          <a:xfrm>
            <a:off x="1557360" y="189000"/>
            <a:ext cx="59054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0600" y="1197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й вид деятельности коряков это оленеводство, но только тех, которые ведут кочевую жизнь. Для оседлых жителей основным занятием была: охота, рыбалка и собирательство. При этом они использовали особые орудия тру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0" descr="tabl-12"/>
          <p:cNvPicPr/>
          <p:nvPr/>
        </p:nvPicPr>
        <p:blipFill>
          <a:blip r:embed="rId1"/>
          <a:stretch/>
        </p:blipFill>
        <p:spPr>
          <a:xfrm>
            <a:off x="6673680" y="1052640"/>
            <a:ext cx="2160720" cy="244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орудия-охоты-на-севере"/>
          <p:cNvPicPr/>
          <p:nvPr/>
        </p:nvPicPr>
        <p:blipFill>
          <a:blip r:embed="rId2"/>
          <a:stretch/>
        </p:blipFill>
        <p:spPr>
          <a:xfrm>
            <a:off x="4429080" y="1052640"/>
            <a:ext cx="208764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 основном коряки охотились на: лахтаку, нерпу, акибу, ларгу, крылатку.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Делали они это на кожаных лодках байдарках(«лодка из шкур лахтака»)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" name="Picture 9" descr="Lahtak01"/>
          <p:cNvPicPr/>
          <p:nvPr/>
        </p:nvPicPr>
        <p:blipFill>
          <a:blip r:embed="rId1"/>
          <a:stretch/>
        </p:blipFill>
        <p:spPr>
          <a:xfrm>
            <a:off x="447840" y="1197000"/>
            <a:ext cx="3497040" cy="23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114"/>
          <p:cNvPicPr/>
          <p:nvPr/>
        </p:nvPicPr>
        <p:blipFill>
          <a:blip r:embed="rId2"/>
          <a:stretch/>
        </p:blipFill>
        <p:spPr>
          <a:xfrm>
            <a:off x="4788000" y="1197000"/>
            <a:ext cx="3232080" cy="233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IMG_4152"/>
          <p:cNvPicPr/>
          <p:nvPr/>
        </p:nvPicPr>
        <p:blipFill>
          <a:blip r:embed="rId3"/>
          <a:stretch/>
        </p:blipFill>
        <p:spPr>
          <a:xfrm>
            <a:off x="457200" y="4097160"/>
            <a:ext cx="348768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250px-Edward_S"/>
          <p:cNvPicPr/>
          <p:nvPr/>
        </p:nvPicPr>
        <p:blipFill>
          <a:blip r:embed="rId4"/>
          <a:stretch/>
        </p:blipFill>
        <p:spPr>
          <a:xfrm>
            <a:off x="4788000" y="4097160"/>
            <a:ext cx="323208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илищ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чевые коряки жили летом и зимой в переносных каркасных ярангах(яяна). Ее стандартный размер достигал 3-3,5 мет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52249646untitled(1)"/>
          <p:cNvPicPr/>
          <p:nvPr/>
        </p:nvPicPr>
        <p:blipFill>
          <a:blip r:embed="rId1"/>
          <a:stretch/>
        </p:blipFill>
        <p:spPr>
          <a:xfrm>
            <a:off x="533520" y="2276640"/>
            <a:ext cx="40384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3:07:50Z</dcterms:created>
  <dc:creator>Юрий</dc:creator>
  <dc:description/>
  <dc:language>en-US</dc:language>
  <cp:lastModifiedBy>113</cp:lastModifiedBy>
  <dcterms:modified xsi:type="dcterms:W3CDTF">2017-12-15T14:14:52Z</dcterms:modified>
  <cp:revision>17</cp:revision>
  <dc:subject/>
  <dc:title>Коренное население камчатки</dc:title>
</cp:coreProperties>
</file>