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0D7-D06B-4C73-8308-BB75E2F4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019-CEBF-4784-86F0-F0B51690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E4F-E42D-40D6-AF2F-EF443E8B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CD7-69B3-47CF-B018-9F6734AF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A27-84D5-4421-AD34-F4C64F84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E70-3922-4EBE-AE68-6AE08E93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6B4-3923-4681-8048-404B721C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69F-FD74-4F08-8EFD-CE2E566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4E7-564D-4D46-9F4E-6BFAD5BA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CC2-0A39-4991-8E27-4DA2B78D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DA2-9620-4BD3-A056-C6891AF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637-CBBF-4C47-B76D-BC0814E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CE1B-B6E6-463A-85CB-6208AD90D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1074;&#1080;&#1076;&#1099;%20&#1087;&#1088;&#1072;&#1082;&#1090;&#1080;&#1095;&#1077;&#1089;&#1082;&#1080;&#1093;%20&#1092;&#1086;&#1088;&#1084;%20&#1089;&#1086;&#1090;&#1088;&#1091;&#1076;&#1085;&#1080;&#1095;&#1077;&#1089;&#1090;&#1074;&#1072;.docx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.minsocium.ru/media/k2/items/cache/339a0e1449b6b4062056bc300d87e893_XL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360" y="6330960"/>
            <a:ext cx="2290680" cy="527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абрь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1280" y="3124080"/>
            <a:ext cx="4122720" cy="21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«Технологии эффективного </a:t>
            </a:r>
            <a:r>
              <a:rPr b="1" lang="ru-RU" sz="23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взаимодействия</a:t>
            </a:r>
            <a:r>
              <a:rPr b="1" lang="ru-RU" sz="22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 специалистов психолого-педагогического профиля с родителями, воспитывающи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ребёнка с ОВЗ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4120" y="-360"/>
            <a:ext cx="701496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9646"/>
                </a:solidFill>
                <a:latin typeface="Calibri"/>
              </a:rPr>
              <a:t>Задачи</a:t>
            </a:r>
            <a:r>
              <a:rPr b="0" lang="ru-RU" sz="3600" spc="-1" strike="noStrike">
                <a:solidFill>
                  <a:srgbClr val="fac09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17760" y="680760"/>
            <a:ext cx="762624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оказание психолого-педагогической, информационно-правовой, учебно-образовательной, методической и организационной помощи семье с ребёнком с ОВЗ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распространение положительного опыта семейного воспитания, традиций семейной  педагогик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содействие развитию ответственного родительств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работа по организации совместной общественно значимой деятельнос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обеспечение прав родителей  детей с ОВЗ на участие в управлении образовательным учреждением, организации учебно-воспитательного процес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активное включение в работу с семьей, воспитывающей ребёнка с ОВЗ  педагога-психолога, социального педагога, педагога ДО и др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привлечение внимания органов государственной власти, местного самоуправления, коммерческих структур, общественных объединений и средств массовой информации к проблемам семь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37960"/>
            <a:ext cx="518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Принципы </a:t>
            </a:r>
            <a:br>
              <a:rPr sz="3200"/>
            </a:b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сотрудничества с семь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749240"/>
            <a:ext cx="885816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личностно-ориентированного подх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целенаправленности, систематичности и  планов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учета возрастных особенностей родит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использования данных социально-педагогической и психологической диагностики при взаимодействии с родителями, воспитывающими  детей с ОВ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дифференцированного подх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открытости О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совместной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«включения родителей» в деятельность О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осуществления прав родителей детей с ОВЗ на участие в управлении образовательным процессом и образовательным учреждением в це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нцип профессионального взаимо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1444680"/>
            <a:ext cx="870408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ac090"/>
                </a:solidFill>
                <a:latin typeface="Calibri"/>
              </a:rPr>
              <a:t>Эффективное общени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2920" y="2360160"/>
            <a:ext cx="8696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Психологические  подсказки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Уметь слушать и слыш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Правильно ставить вопросы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Быть наблюдательным и внимательным ко всем членам групп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000" y="1138320"/>
            <a:ext cx="87040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Технология </a:t>
            </a:r>
            <a:br>
              <a:rPr sz="3200"/>
            </a:b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организации сотрудничества ОО и семьи, воспитывающей ребёнка с ОВ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920" y="2360520"/>
            <a:ext cx="870408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Четкая постановка ц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Проведение социального анамнеза сем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Изучение мотивации и образовательного запроса ро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Поиск форм сотрудничества с родител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5. Реализация сотрудни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Мониторинг эффективности сотрудничества ОО и семьи, воспитывающей ребёнка с ОВ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1444680"/>
            <a:ext cx="855180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9646"/>
                </a:solidFill>
                <a:latin typeface="Calibri"/>
              </a:rPr>
              <a:t>Что необходимо знать педагогу о семье воспитанника?</a:t>
            </a:r>
            <a:br>
              <a:rPr sz="2400"/>
            </a:br>
            <a:r>
              <a:rPr b="1" lang="ru-RU" sz="2400" spc="-1" strike="noStrike">
                <a:solidFill>
                  <a:srgbClr val="f79646"/>
                </a:solidFill>
                <a:latin typeface="Calibri"/>
              </a:rPr>
              <a:t> (В.В. Котырло, С.А. Ладыви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920" y="2206440"/>
            <a:ext cx="8858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циально-демографические характеристики (состав семьи, возраст, профессии, образовательный уровень, условия проживания, уровень занятости родителей и др.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щая семейная атмосфера: основной эмоциональный фон,  особенности взаимоотношений между членами семь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спитательная позиция родителей: преобладающие методы и формы воспитания, стиль воспитания, уровень педагогической куль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иоритеты семьи в воспитании ребёнка: здоровье, развитие нравственных качеств, умственных, художественных способностей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циальная активность семьи: интенсивность взаимодействия с  окружающими, заинтересованность и участие в мероприятиях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ультурный потенциал семьи: наличие библиотеки, предметов культурного досуга, отношения к искусству, литературе, основные духовные потребности членов семьи, круг интересов, хобби членов семьи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рганизация совместных форм деятельности в сем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14640" y="985320"/>
            <a:ext cx="64134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9646"/>
                </a:solidFill>
                <a:latin typeface="Calibri"/>
              </a:rPr>
              <a:t>Информационный запр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000" y="1749600"/>
          <a:ext cx="8704080" cy="4848120"/>
        </p:xfrm>
        <a:graphic>
          <a:graphicData uri="http://schemas.openxmlformats.org/drawingml/2006/table">
            <a:tbl>
              <a:tblPr/>
              <a:tblGrid>
                <a:gridCol w="1984320"/>
                <a:gridCol w="671976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 хотят знать родител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3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словия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00080"/>
                          <a:tab algn="l" pos="222120"/>
                          <a:tab algn="l" pos="1325520"/>
                          <a:tab algn="l" pos="255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 статус имеет ОО? Является ли она популярн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естижной)? Какая  специализация у О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00080"/>
                          <a:tab algn="l" pos="222120"/>
                          <a:tab algn="l" pos="1325520"/>
                          <a:tab algn="l" pos="255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 режим работы УДО? Какова учебная нагрузка на воспитанников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00080"/>
                          <a:tab algn="l" pos="222120"/>
                          <a:tab algn="l" pos="1325520"/>
                          <a:tab algn="l" pos="255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колько безопасно для ребёнка нахождение в  ОО?  Как ОО  заботится  о здоровье дете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00080"/>
                          <a:tab algn="l" pos="222120"/>
                          <a:tab algn="l" pos="1325520"/>
                          <a:tab algn="l" pos="255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условия приёма в О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00080"/>
                          <a:tab algn="l" pos="222120"/>
                          <a:tab algn="l" pos="1325520"/>
                          <a:tab algn="l" pos="255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в ОО платные образовательные и иные   услуги?   Что из себя  представляет соответствующий прайс-лис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00080"/>
                          <a:tab algn="l" pos="222120"/>
                          <a:tab algn="l" pos="1325520"/>
                          <a:tab algn="l" pos="255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 размер родительских денежных взносов в течение учебного года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0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сурс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 квалификация  педагогического коллектива?   Хорошо ли они относятся  к детям?     Насколько     постоянен     кадровый состав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ая   ли   в   ОО   материальная   база? Имеется       ли       достаточное        количество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х материалов? Отремонтированы ли учебные помеще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ётся ли ОО привлекать дополнительные средства       на      своё       развитие       (кроме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х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зовательн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   ли   учит   ОО?   Какие   знания   и практические умения она даё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е      количество      выпускников      ОО поступает гимназии, лицеи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    способна   учить    ОО:     всех    или всех или избранных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680760"/>
            <a:ext cx="457200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f79646"/>
                </a:solidFill>
                <a:latin typeface="Calibri"/>
              </a:rPr>
              <a:t>«</a:t>
            </a:r>
            <a:r>
              <a:rPr b="1" i="1" lang="ru-RU" sz="3300" spc="-1" strike="noStrike">
                <a:solidFill>
                  <a:srgbClr val="f79646"/>
                </a:solidFill>
                <a:latin typeface="Calibri"/>
              </a:rPr>
              <a:t>Терапия искусством</a:t>
            </a:r>
            <a:r>
              <a:rPr b="0" lang="ru-RU" sz="2600" spc="-1" strike="noStrike">
                <a:solidFill>
                  <a:srgbClr val="f79646"/>
                </a:solidFill>
                <a:latin typeface="Calibri"/>
              </a:rPr>
              <a:t> - комплекс разнообразных форм творческого (художественного) самовыражения с применением движений, рисования, живописи, скульптуры, музыки, письма, вокализации, импровизации, - в условиях, обеспечивающих поддержку человека с целью стимулирования его личностного роста, развития и исцеления.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9646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79646"/>
                </a:solidFill>
                <a:latin typeface="Calibri"/>
              </a:rPr>
              <a:t>(Н. Роджерс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9" descr="op2"/>
          <p:cNvPicPr/>
          <p:nvPr/>
        </p:nvPicPr>
        <p:blipFill>
          <a:blip r:embed="rId2"/>
          <a:stretch/>
        </p:blipFill>
        <p:spPr>
          <a:xfrm>
            <a:off x="4724280" y="2360520"/>
            <a:ext cx="4021200" cy="301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1596600"/>
            <a:ext cx="88408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c090"/>
                </a:solidFill>
                <a:latin typeface="Calibri"/>
              </a:rPr>
              <a:t>Мониторинг эффективности работы с семьей</a:t>
            </a:r>
            <a:r>
              <a:rPr b="0" lang="ru-RU" sz="3200" spc="-1" strike="noStrike">
                <a:solidFill>
                  <a:srgbClr val="fac090"/>
                </a:solidFill>
                <a:latin typeface="Calibri"/>
              </a:rPr>
              <a:t> 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2920" y="2360520"/>
            <a:ext cx="885816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истема сбора, хранения, обработки и распространения информации, обеспечивающая непрерывное наблюдение за состоянием взаимодействия ОО с семьей и прогнозирующая возможные условия, средства и методы его улучшения (Атемаскина Ю.В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29024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c090"/>
                </a:solidFill>
                <a:latin typeface="Calibri"/>
              </a:rPr>
              <a:t>Показатели результативности сотрудни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7000" y="1971360"/>
            <a:ext cx="85420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довлетворённость родителей оказанной помощью, характером сложившихся взаимо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вышение родительской посещаемости совместных мероприятий, что говорит об активной субъектной позиции родителей: желание вступать в контакт, готовность к взаимодейст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зитивные изменения в отношении к педаг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величение коллективных и индивидуальных форм работы с семь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явление традиционных совместных меропри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ожительные тенденции в изменении характера детско-родительских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тремление родителей к влиянию на жизнь учреж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ключённость родителей в управление образовательным процессом (созданные родительские комитеты, активы, совет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мена социальных ролей и позиций родителей в рамках сотрудничества. Родитель может выполнять несколько ролей при взаимодействии с УДО: спонсор, помощник, активный участник, собеседник, наблюдат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920" y="1290240"/>
            <a:ext cx="8858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Виды </a:t>
            </a:r>
            <a:br>
              <a:rPr sz="3200"/>
            </a:b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неконструктивного и конструктивного  общ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2560" y="2276640"/>
            <a:ext cx="3970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ренебре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рика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евключённое слушание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оторапливание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Собственная интерпре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Кри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редви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одержимое 2"/>
          <p:cNvSpPr/>
          <p:nvPr/>
        </p:nvSpPr>
        <p:spPr>
          <a:xfrm>
            <a:off x="4572000" y="2360520"/>
            <a:ext cx="397044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Рефлексивное (активное) слуш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дословное повто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- перефразир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- резюмирова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оддержка разного ви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4200" y="1596960"/>
            <a:ext cx="7772400" cy="687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 обучаются взрослые люд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84360" y="2360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ac090"/>
                </a:solidFill>
                <a:latin typeface="Calibri"/>
              </a:rPr>
              <a:t>Обучение – активный процес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ac090"/>
                </a:solidFill>
                <a:latin typeface="Calibri"/>
              </a:rPr>
              <a:t>Мы учимся, делая что-то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ac090"/>
                </a:solidFill>
                <a:latin typeface="Calibri"/>
              </a:rPr>
              <a:t>Только те знания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ac090"/>
                </a:solidFill>
                <a:latin typeface="Calibri"/>
              </a:rPr>
              <a:t>которые мы используем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ac090"/>
                </a:solidFill>
                <a:latin typeface="Calibri"/>
              </a:rPr>
              <a:t>остаются у нас в памя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c090"/>
                </a:solidFill>
                <a:latin typeface="Calibri"/>
              </a:rPr>
              <a:t>Дэйл Карне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374400"/>
            <a:ext cx="427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Calibri"/>
              </a:rPr>
              <a:t>Поддерж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2920" y="1444680"/>
          <a:ext cx="8858160" cy="495144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оддерж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к поддерж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сихологический механ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е ошиб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сильные стороны лич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усть так, однако…», «Я знаю, что ты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 взгляда  человека на себя, переключение с негатива на позит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сторона личности, на которую вы указываете, должна реально существовать. Нельзя льстить челове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ие на ошиб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наешь, это бывает с каждым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ие чувства в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овительственный т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1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ние объективной сложности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 такой ситуации другого выхода н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ие личной ответ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матизация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такой же, как т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бы тоже так поступи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ение равенства поз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тягивание одеяла» на себ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2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положительные стороны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то ты теперь имеешь такой опыт…», «Хорошо, что это произошло сейчас, а не потом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точки зрения на ситуацию. Взгляд на неудачу с положительной сторо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норирование значимости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я могу тебе помочь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ение заботы, готовности разделить ответств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облемы вместо человека, который нуждается в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1138320"/>
            <a:ext cx="65660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c090"/>
                </a:solidFill>
                <a:latin typeface="Calibri"/>
              </a:rPr>
              <a:t>Основные на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9280" y="1901880"/>
            <a:ext cx="320688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6710400" y="4956120"/>
            <a:ext cx="21366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вместная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1060560" y="2206800"/>
            <a:ext cx="21366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свещ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1060560" y="5413320"/>
            <a:ext cx="21366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з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5946840" y="2665440"/>
            <a:ext cx="21366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ир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8"/>
          <p:cNvSpPr/>
          <p:nvPr/>
        </p:nvSpPr>
        <p:spPr>
          <a:xfrm>
            <a:off x="3503520" y="4040280"/>
            <a:ext cx="21351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560" y="681120"/>
            <a:ext cx="3368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c090"/>
                </a:solidFill>
                <a:latin typeface="Calibri"/>
              </a:rPr>
              <a:t>Иерархия</a:t>
            </a:r>
            <a:br>
              <a:rPr sz="3200"/>
            </a:br>
            <a:r>
              <a:rPr b="0" lang="ru-RU" sz="3200" spc="-1" strike="noStrike">
                <a:solidFill>
                  <a:srgbClr val="fac090"/>
                </a:solidFill>
                <a:latin typeface="Calibri"/>
              </a:rPr>
              <a:t> основных напра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9280" y="1901880"/>
            <a:ext cx="320688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4572000" y="5872320"/>
            <a:ext cx="2138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вместная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2281320" y="3733920"/>
            <a:ext cx="2138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свещ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142920" y="1596960"/>
            <a:ext cx="2138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з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1212840" y="2665440"/>
            <a:ext cx="21369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ир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3349800" y="4803840"/>
            <a:ext cx="21366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вниз 9"/>
          <p:cNvSpPr/>
          <p:nvPr/>
        </p:nvSpPr>
        <p:spPr>
          <a:xfrm rot="19221000">
            <a:off x="1984320" y="2219040"/>
            <a:ext cx="255600" cy="60012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трелка вниз 10"/>
          <p:cNvSpPr/>
          <p:nvPr/>
        </p:nvSpPr>
        <p:spPr>
          <a:xfrm rot="19221000">
            <a:off x="3053880" y="3289320"/>
            <a:ext cx="255600" cy="59832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низ 11"/>
          <p:cNvSpPr/>
          <p:nvPr/>
        </p:nvSpPr>
        <p:spPr>
          <a:xfrm rot="19221000">
            <a:off x="4122720" y="4357440"/>
            <a:ext cx="255600" cy="60012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низ 12"/>
          <p:cNvSpPr/>
          <p:nvPr/>
        </p:nvSpPr>
        <p:spPr>
          <a:xfrm rot="19221000">
            <a:off x="5192640" y="5425560"/>
            <a:ext cx="254160" cy="600120"/>
          </a:xfrm>
          <a:prstGeom prst="downArrow">
            <a:avLst>
              <a:gd name="adj1" fmla="val 50000"/>
              <a:gd name="adj2" fmla="val 503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29024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иды практических форм сотрудничест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97000" y="2053800"/>
            <a:ext cx="855000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ы просвещения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ы досу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ы познавательной и творческой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ы актив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ы трудов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000" y="1290240"/>
            <a:ext cx="8245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Calibri"/>
              </a:rPr>
              <a:t>Эмоциональное напря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48920" y="2360520"/>
            <a:ext cx="85424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Термин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"burnout"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(эмоциональное сгорание) был введен американским психиатром Х. Дж. Френденбергером в 1960 году. Термин характеризовал психологическое состояние здоровых людей, находящихся в интенсивном и тесном общении с клиентами, пациентами в эмоционально нагруженной атмосфере при оказании профессиональной помощи. Термин определялся как состояние изнеможения, истощения с ощущением собственной бесполез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000" y="1444320"/>
            <a:ext cx="8542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ac090"/>
                </a:solidFill>
                <a:uFillTx/>
                <a:latin typeface="Calibri"/>
              </a:rPr>
              <a:t>Уровни участия родителей </a:t>
            </a:r>
            <a:br>
              <a:rPr sz="3200"/>
            </a:br>
            <a:r>
              <a:rPr b="1" lang="ru-RU" sz="3200" spc="-1" strike="noStrike" u="sng">
                <a:solidFill>
                  <a:srgbClr val="fac090"/>
                </a:solidFill>
                <a:uFillTx/>
                <a:latin typeface="Calibri"/>
              </a:rPr>
              <a:t>в жизни образовательного учреж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236016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1) оказание разовой помощи, разовое участи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2) неполноценное, несистематическое участие родителей в жизни учреждения (например, посещение только родительских собраний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3) систематическое добровольное участие родителей на партнерской осно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4) частичное выполнение родителями управленческих функций: помогают определять основные направления и приоритеты деятельности в учреждении (работа органов родительского самоуправления: родительского комитета, родительского актив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5) участие родителей в обсуждении и решении вопросов, благотворно влияющих на деятельность педагогической общественности и жизни микрорайона (города) в целом (например, городской родительский комитет, городской совет родителей и т.д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ение родительских пози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нсор – 2-3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тор мероприятий – 2-3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ый участник создания ПРС – 1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ощник (физический труд) – 1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ый участник образовательного процесса ОО – 3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еседник – 1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ссивный сторонний наблюдатель – 29 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йтральное (иногда могу…) – 5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45720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c090"/>
                </a:solidFill>
                <a:latin typeface="Calibri"/>
              </a:rPr>
              <a:t>«Зрелое родитель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60720" y="1444320"/>
            <a:ext cx="518328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нняя профилактика семейного неблагополучия и оптимизация детско-родительского взаимо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ышение уровня родительской компетенции, гармонизация эмоциональной стороны детско-родительских отношений, выработка конструктивной родительской позиции по отношению к ребенку, снижение уровня личностной тревожности, депрессивности, раздражи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3" descr="Программа «Зрелое родительство»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527040"/>
            <a:ext cx="3511440" cy="244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97000" y="3929040"/>
            <a:ext cx="35114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38320"/>
            <a:ext cx="365616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c090"/>
                </a:solidFill>
                <a:latin typeface="Calibri"/>
              </a:rPr>
              <a:t>Как мы получаем информац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6640" y="2053800"/>
            <a:ext cx="34923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% - на вк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,5% - осяз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,5% - обоня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1% - слу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3% - з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808440" y="1901880"/>
            <a:ext cx="4886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ac090"/>
                </a:solidFill>
                <a:latin typeface="Calibri"/>
              </a:rPr>
              <a:t>Мы запоминаем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267080" y="2513160"/>
            <a:ext cx="427860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0% того, что чит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0% того, что слыш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0% того, что вид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0% того, что говор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90% того, что дел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515520" y="942120"/>
            <a:ext cx="8347680" cy="5273280"/>
            <a:chOff x="515520" y="942120"/>
            <a:chExt cx="8347680" cy="5273280"/>
          </a:xfrm>
        </p:grpSpPr>
        <p:sp>
          <p:nvSpPr>
            <p:cNvPr id="50" name="_s1028"/>
            <p:cNvSpPr/>
            <p:nvPr/>
          </p:nvSpPr>
          <p:spPr>
            <a:xfrm flipV="1">
              <a:off x="4166640" y="942120"/>
              <a:ext cx="1045440" cy="658800"/>
            </a:xfrm>
            <a:custGeom>
              <a:avLst/>
              <a:gdLst>
                <a:gd name="textAreaLeft" fmla="*/ 375120 w 1045440"/>
                <a:gd name="textAreaRight" fmla="*/ 670320 w 1045440"/>
                <a:gd name="textAreaTop" fmla="*/ 236160 h 658800"/>
                <a:gd name="textAreaBottom" fmla="*/ 422640 h 6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_s1029"/>
            <p:cNvSpPr/>
            <p:nvPr/>
          </p:nvSpPr>
          <p:spPr>
            <a:xfrm flipV="1">
              <a:off x="3644640" y="1600200"/>
              <a:ext cx="2089440" cy="659160"/>
            </a:xfrm>
            <a:custGeom>
              <a:avLst/>
              <a:gdLst>
                <a:gd name="textAreaLeft" fmla="*/ 459360 w 2089440"/>
                <a:gd name="textAreaRight" fmla="*/ 1630080 w 2089440"/>
                <a:gd name="textAreaTop" fmla="*/ 144720 h 659160"/>
                <a:gd name="textAreaBottom" fmla="*/ 514440 h 6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екции 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_s1030"/>
            <p:cNvSpPr/>
            <p:nvPr/>
          </p:nvSpPr>
          <p:spPr>
            <a:xfrm flipV="1">
              <a:off x="3124800" y="2260080"/>
              <a:ext cx="3129480" cy="658800"/>
            </a:xfrm>
            <a:custGeom>
              <a:avLst/>
              <a:gdLst>
                <a:gd name="textAreaLeft" fmla="*/ 543240 w 3129480"/>
                <a:gd name="textAreaRight" fmla="*/ 2586240 w 3129480"/>
                <a:gd name="textAreaTop" fmla="*/ 114120 h 658800"/>
                <a:gd name="textAreaBottom" fmla="*/ 544680 h 6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тение 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_s1031"/>
            <p:cNvSpPr/>
            <p:nvPr/>
          </p:nvSpPr>
          <p:spPr>
            <a:xfrm flipV="1">
              <a:off x="2602440" y="2918520"/>
              <a:ext cx="4173840" cy="659160"/>
            </a:xfrm>
            <a:custGeom>
              <a:avLst/>
              <a:gdLst>
                <a:gd name="textAreaLeft" fmla="*/ 627840 w 4173840"/>
                <a:gd name="textAreaRight" fmla="*/ 3546000 w 4173840"/>
                <a:gd name="textAreaTop" fmla="*/ 99000 h 659160"/>
                <a:gd name="textAreaBottom" fmla="*/ 560160 h 6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удио-видео 2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_s1032"/>
            <p:cNvSpPr/>
            <p:nvPr/>
          </p:nvSpPr>
          <p:spPr>
            <a:xfrm flipV="1">
              <a:off x="2079720" y="3579120"/>
              <a:ext cx="5219280" cy="658800"/>
            </a:xfrm>
            <a:custGeom>
              <a:avLst/>
              <a:gdLst>
                <a:gd name="textAreaLeft" fmla="*/ 712800 w 5219280"/>
                <a:gd name="textAreaRight" fmla="*/ 4506480 w 5219280"/>
                <a:gd name="textAreaTop" fmla="*/ 90000 h 658800"/>
                <a:gd name="textAreaBottom" fmla="*/ 568800 h 6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глядные пособия 3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_s1033"/>
            <p:cNvSpPr/>
            <p:nvPr/>
          </p:nvSpPr>
          <p:spPr>
            <a:xfrm flipV="1">
              <a:off x="1560600" y="4237920"/>
              <a:ext cx="6257880" cy="658800"/>
            </a:xfrm>
            <a:custGeom>
              <a:avLst/>
              <a:gdLst>
                <a:gd name="textAreaLeft" fmla="*/ 796680 w 6257880"/>
                <a:gd name="textAreaRight" fmla="*/ 5461200 w 6257880"/>
                <a:gd name="textAreaTop" fmla="*/ 83880 h 658800"/>
                <a:gd name="textAreaBottom" fmla="*/ 574920 h 6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суждение в группе 5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_s1034"/>
            <p:cNvSpPr/>
            <p:nvPr/>
          </p:nvSpPr>
          <p:spPr>
            <a:xfrm flipV="1">
              <a:off x="1037880" y="4896000"/>
              <a:ext cx="7303320" cy="659160"/>
            </a:xfrm>
            <a:custGeom>
              <a:avLst/>
              <a:gdLst>
                <a:gd name="textAreaLeft" fmla="*/ 881280 w 7303320"/>
                <a:gd name="textAreaRight" fmla="*/ 6422040 w 7303320"/>
                <a:gd name="textAreaTop" fmla="*/ 79560 h 659160"/>
                <a:gd name="textAreaBottom" fmla="*/ 579600 h 6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учение практикой 7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_s1035"/>
            <p:cNvSpPr/>
            <p:nvPr/>
          </p:nvSpPr>
          <p:spPr>
            <a:xfrm flipV="1">
              <a:off x="515520" y="5556240"/>
              <a:ext cx="8347680" cy="658800"/>
            </a:xfrm>
            <a:custGeom>
              <a:avLst/>
              <a:gdLst>
                <a:gd name="textAreaLeft" fmla="*/ 965880 w 8347680"/>
                <a:gd name="textAreaRight" fmla="*/ 7381800 w 8347680"/>
                <a:gd name="textAreaTop" fmla="*/ 75960 h 658800"/>
                <a:gd name="textAreaBottom" fmla="*/ 582840 h 6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ыступление в роли обучающего 9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они хотят этого и им это ну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язывая изучаемый материал к прошлому, нынешнему или будущему практическому опы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актикуя то, чему научил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им помогают и направля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еформальной и комфортной обстанов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48920" y="1138320"/>
            <a:ext cx="65660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c090"/>
                </a:solidFill>
                <a:latin typeface="Calibri"/>
              </a:rPr>
              <a:t>Взрослые люди уча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8920" y="1138320"/>
            <a:ext cx="65660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c090"/>
                </a:solidFill>
                <a:latin typeface="Calibri"/>
              </a:rPr>
              <a:t>Принципы обучения взрослы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8920" y="1901880"/>
            <a:ext cx="839772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оответствие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– все материалы должны соответствовать потребностям участников тренин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Двухсторонняя коммуникаци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– тренинг лучше всего проходит, если тренер взаимодействует с участниками, а не просто читает им лек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бучение задействует разные органы чувств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– услышать – не единственный способ научиться чему-то (зрение, осязание, обоняние и т.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669680" y="2206800"/>
            <a:ext cx="549756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</a:rPr>
              <a:t>Проблема??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7021015-1-original"/>
          <p:cNvPicPr/>
          <p:nvPr/>
        </p:nvPicPr>
        <p:blipFill>
          <a:blip r:embed="rId2"/>
          <a:stretch/>
        </p:blipFill>
        <p:spPr>
          <a:xfrm>
            <a:off x="2892600" y="3887640"/>
            <a:ext cx="260496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48920" y="1901880"/>
            <a:ext cx="794052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оммуникаци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— в широком смысле обмен информацией между индивидами через посредство общей системы символов. Коммуникация может осуществляться вербальными и невербальными средствам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491280" y="5719680"/>
            <a:ext cx="175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</a:rPr>
              <a:t>Тест!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4120" y="526680"/>
            <a:ext cx="7014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ac09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97000" y="1749600"/>
            <a:ext cx="85914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user</cp:lastModifiedBy>
  <dcterms:modified xsi:type="dcterms:W3CDTF">2015-12-10T08:15:00Z</dcterms:modified>
  <cp:revision>109</cp:revision>
  <dc:subject/>
  <dc:title>PowerPoint Presentation</dc:title>
</cp:coreProperties>
</file>