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916-5091-4D80-B579-CBA98A6F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60D-6875-49A8-9239-236DCDEB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BF4-AF89-4511-847F-A37B49F7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5EC-1A91-4240-9A5E-448C3341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36D-385D-4269-9771-F4D22F17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24E-F544-4B24-8C8D-534946AE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68C-3804-4524-878F-AA9E01EC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0E7-A5CE-47BD-984D-2F125F3C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28F-8FAD-4D85-AF9D-03416661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F2A-570A-42D9-9415-C763CF8C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A27-29D2-4AE6-9E0D-86C1139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C47-805A-43D8-BB12-4B9E0ED8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99BF-019D-4D79-8716-90A9AE7C8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ехника как метод развития познавательно – исследовательской деятельности детей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92912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нц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дефектолог МОУ №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500280" y="628668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ейск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357120" y="304920"/>
            <a:ext cx="84297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 ОБЩЕОБРАЗОВАТЕЛЬНОЕ УЧРЕЖД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ЧАЛЬНАЯ ШКОЛА-ДЕТСКИЙ САД ДЛЯ ОБУЧАЮЩИХСЯ С  ОГРАНИЧЕННЫМИ ВОЗМОЖНОСТЯМИ ЗДОРОВЬЯ №11»  КОПЕЙСКОГО ГОРОДСКОГО ОКРУГА  ЧЕЛЯБИН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14240" y="1357200"/>
          <a:ext cx="7500960" cy="5000760"/>
        </p:xfrm>
        <a:graphic>
          <a:graphicData uri="http://schemas.openxmlformats.org/drawingml/2006/table">
            <a:tbl>
              <a:tblPr/>
              <a:tblGrid>
                <a:gridCol w="4308480"/>
                <a:gridCol w="3192480"/>
              </a:tblGrid>
              <a:tr h="500076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удная картин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ты мне род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лая равнин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ная лун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ет небес высоких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блестящий снег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саней далек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динокий бе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дн крт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к т мн рдн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я рвн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 лн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т нбс выск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блесщ снг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сан длк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дкий б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142920" y="42876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анасий Фет "Чудная картина, как ты мне родн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7"/>
          <p:cNvSpPr/>
          <p:nvPr/>
        </p:nvSpPr>
        <p:spPr>
          <a:xfrm>
            <a:off x="928800" y="71424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дождь по переулку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 самой темн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лашает на прогул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оги, зонты, плащ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071720" y="214308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500040" y="928800"/>
            <a:ext cx="842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ехник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немоника) – искусство запоминания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ехн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овокупность специальных приёмов и способов, облегчающих запоминание нужной информации и увеличивающих объём памяти путём образования ассоциаций (связ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85840" y="500040"/>
            <a:ext cx="8858160" cy="12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ктограммы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Рictus - разрисованный и греч. γράμμα - запись) - это прием, при котором запоминаемую абстрактную или образную информацию схематично изображают упрощенными рисунками (образные пиктограммы), рисунк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 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 В   М с 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 с водой, май с тра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http://i1.wp.com/lora-fitness.org/wp-content/uploads/2013/02/voda.jpg"/>
          <p:cNvPicPr/>
          <p:nvPr/>
        </p:nvPicPr>
        <p:blipFill>
          <a:blip r:embed="rId1"/>
          <a:stretch/>
        </p:blipFill>
        <p:spPr>
          <a:xfrm>
            <a:off x="2124000" y="2708280"/>
            <a:ext cx="1203480" cy="9032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 flipH="1">
            <a:off x="4428360" y="310500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 flipH="1">
            <a:off x="3707640" y="2708280"/>
            <a:ext cx="165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http://www.playcast.ru/uploads/2016/04/19/18326950.png"/>
          <p:cNvPicPr/>
          <p:nvPr/>
        </p:nvPicPr>
        <p:blipFill>
          <a:blip r:embed="rId2"/>
          <a:stretch/>
        </p:blipFill>
        <p:spPr>
          <a:xfrm>
            <a:off x="5715000" y="2421000"/>
            <a:ext cx="21430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87320" y="214200"/>
            <a:ext cx="7427880" cy="4929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1214280" y="607212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 – время собирать урож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14280" y="144360"/>
            <a:ext cx="7143840" cy="264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214280" y="2786040"/>
            <a:ext cx="7143840" cy="2435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071800" y="57150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 красна цветами, а осень – пир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maam.ru/upload/blogs/detsad-243061-1421762844.jpg"/>
          <p:cNvPicPr/>
          <p:nvPr/>
        </p:nvPicPr>
        <p:blipFill>
          <a:blip r:embed="rId1"/>
          <a:stretch/>
        </p:blipFill>
        <p:spPr>
          <a:xfrm>
            <a:off x="285840" y="214200"/>
            <a:ext cx="4643280" cy="281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maam.ru/upload/blogs/detsad-231830-1429851071.jpg"/>
          <p:cNvPicPr/>
          <p:nvPr/>
        </p:nvPicPr>
        <p:blipFill>
          <a:blip r:embed="rId2"/>
          <a:stretch/>
        </p:blipFill>
        <p:spPr>
          <a:xfrm>
            <a:off x="3071880" y="3429000"/>
            <a:ext cx="5286240" cy="3114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4932360" y="9079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шь есть калачи не сиди на п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0" y="5013360"/>
            <a:ext cx="28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время, потехе 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http://do.gendocs.ru/pars_docs/tw_refs/78/77315/77315_html_m46d25afa.jpg"/>
          <p:cNvPicPr/>
          <p:nvPr/>
        </p:nvPicPr>
        <p:blipFill>
          <a:blip r:embed="rId1"/>
          <a:stretch/>
        </p:blipFill>
        <p:spPr>
          <a:xfrm>
            <a:off x="4643280" y="428760"/>
            <a:ext cx="2971800" cy="41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714240" y="305640"/>
            <a:ext cx="2857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зимнем небе, сделав круг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кренились сани вдруг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с подарками мешо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ал прямо на снеж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http://do.gendocs.ru/pars_docs/tw_refs/78/77315/77315_html_m148e5885.jpg"/>
          <p:cNvPicPr/>
          <p:nvPr/>
        </p:nvPicPr>
        <p:blipFill>
          <a:blip r:embed="rId1"/>
          <a:stretch/>
        </p:blipFill>
        <p:spPr>
          <a:xfrm>
            <a:off x="5143680" y="428760"/>
            <a:ext cx="3786120" cy="5357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1285920" y="109800"/>
            <a:ext cx="378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рог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дал снег на порог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 слепил себе пирог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пока лепил и пё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чейком пирог утёк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роги себе пе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из снега – из м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571680" y="285840"/>
            <a:ext cx="8143560" cy="73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ографист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. στενός узкий, ограниченный и γράφειν - писать) - это прием, при котором запоминаемая текстовая информация записывается с помощью отдельных ключевых букв, особых знаков и целого ряда сокращений. Если стенография – это сокращенная и быстрая запись устной речи, то мнемотехнический прием «Стенографист» – это способ изобразить текстовую информацию с помощью изображения каждого слова несколькими ключе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ми, которые позволяют его пон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857160" y="429084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д. пр. ком. с. вс. уд. и в. н. м. од. ин. хол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11-28T13:15:08Z</dcterms:modified>
  <cp:revision>22</cp:revision>
  <dc:subject/>
  <dc:title>Слайд 1</dc:title>
</cp:coreProperties>
</file>