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20.jpeg" ContentType="image/jpeg"/>
  <Override PartName="/ppt/media/image14.gif" ContentType="image/gif"/>
  <Override PartName="/ppt/media/image19.jpeg" ContentType="image/jpeg"/>
  <Override PartName="/ppt/media/image18.gif" ContentType="image/gif"/>
  <Override PartName="/ppt/media/image17.gif" ContentType="image/gif"/>
  <Override PartName="/ppt/media/image21.png" ContentType="image/png"/>
  <Override PartName="/ppt/media/image16.gif" ContentType="image/gif"/>
  <Override PartName="/ppt/media/image15.gif" ContentType="image/gif"/>
  <Override PartName="/ppt/media/image1.png" ContentType="image/png"/>
  <Override PartName="/ppt/media/image2.gif" ContentType="image/gif"/>
  <Override PartName="/ppt/media/image3.gif" ContentType="image/gif"/>
  <Override PartName="/ppt/media/image22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FD7-7752-480E-94CA-CD0264B3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DA2-1A51-40FE-B90C-7B94EF23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8DE-BBC9-4462-BC78-61A43A61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6E7-E41F-4B5D-BE3F-72C66B32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FEB-ABAC-4299-9A3A-EA3939C9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CCF-01BF-4114-93D4-9B4895C0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6BF-220A-4501-8E48-55E40EF9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C3D-D577-4BE9-B41B-13933E94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CF3-CE41-4C11-ADF5-E323BCCD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588-7A2E-403F-AB2C-578B7CFE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737-00A1-4008-9F82-930B04F3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95E-6658-4213-9A72-285F782E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34B9-2F65-45D1-8328-599243255E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17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18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ic.academic.ru/" TargetMode="External"/><Relationship Id="rId3" Type="http://schemas.openxmlformats.org/officeDocument/2006/relationships/hyperlink" Target="http://biblios.newgoo.net/" TargetMode="Externa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МУЗЫКОТЕРАП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32360" y="4149720"/>
            <a:ext cx="3898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дготовила: музыкальный руководитель Фокша С.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2268360" y="5084640"/>
            <a:ext cx="4897440" cy="100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324000" y="549360"/>
            <a:ext cx="2160360" cy="143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Анимашки мызыка, анимашки о музыке, разные анимашки | Smayli.ru"/>
          <p:cNvPicPr/>
          <p:nvPr/>
        </p:nvPicPr>
        <p:blipFill>
          <a:blip r:embed="rId4"/>
          <a:stretch/>
        </p:blipFill>
        <p:spPr>
          <a:xfrm>
            <a:off x="6300720" y="476280"/>
            <a:ext cx="2521080" cy="1512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3"/>
          <p:cNvSpPr/>
          <p:nvPr/>
        </p:nvSpPr>
        <p:spPr>
          <a:xfrm>
            <a:off x="2627280" y="2997360"/>
            <a:ext cx="410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ГРОТЕРА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8598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уются контактные, объединяющие, познав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ы, игры на развитие основных псих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ункций, и терапевтические иг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и игры способствуют мышечной релакса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нятию физической агрессии, негативиз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ют эмоциональную и познавательную 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179280" y="5157720"/>
            <a:ext cx="216072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6732720" y="4941720"/>
            <a:ext cx="210492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Анимашки дети, анимированные картинки детей, разные анимашки | Smayli.ru"/>
          <p:cNvPicPr/>
          <p:nvPr/>
        </p:nvPicPr>
        <p:blipFill>
          <a:blip r:embed="rId4"/>
          <a:stretch/>
        </p:blipFill>
        <p:spPr>
          <a:xfrm>
            <a:off x="3059280" y="3573360"/>
            <a:ext cx="286668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ОКАЛОТЕРА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052640"/>
            <a:ext cx="720072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нятия по вокалотерапии направл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формирование оптимистического настро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нение жизнеутверждающих песен-форму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тимистических детских песен, которые можно петь п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нограмму или аккомпанемен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6804000" y="4437000"/>
            <a:ext cx="2033640" cy="2139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324000" y="4581360"/>
            <a:ext cx="2016000" cy="201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Анимашки мызыка, анимашки о музыке, разные анимашки | Smayli.ru"/>
          <p:cNvPicPr/>
          <p:nvPr/>
        </p:nvPicPr>
        <p:blipFill>
          <a:blip r:embed="rId4"/>
          <a:stretch/>
        </p:blipFill>
        <p:spPr>
          <a:xfrm>
            <a:off x="2987640" y="3429000"/>
            <a:ext cx="338292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МУЗИЦИРОВАНИЕ НА ДЕТСКИХ ШУМОВЫХ И РУССКИХ НАРОДНЫХ МУЗЫКАЛЬНЫХ ИНСТРУМЕН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7020000" y="4869000"/>
            <a:ext cx="1746000" cy="1636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179280" y="4941720"/>
            <a:ext cx="1873440" cy="178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Анимашки мызыка, анимашки о музыке, разные анимашки | Smayli.ru"/>
          <p:cNvPicPr/>
          <p:nvPr/>
        </p:nvPicPr>
        <p:blipFill>
          <a:blip r:embed="rId4"/>
          <a:stretch/>
        </p:blipFill>
        <p:spPr>
          <a:xfrm>
            <a:off x="5292720" y="3141720"/>
            <a:ext cx="2303640" cy="180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Анимашки мызыка, анимашки о музыке, разные анимашки | Smayli.ru"/>
          <p:cNvPicPr/>
          <p:nvPr/>
        </p:nvPicPr>
        <p:blipFill>
          <a:blip r:embed="rId5"/>
          <a:stretch/>
        </p:blipFill>
        <p:spPr>
          <a:xfrm>
            <a:off x="3564000" y="5157720"/>
            <a:ext cx="215892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Анимашки мызыка, анимашки о музыке, разные анимашки | Smayli.ru"/>
          <p:cNvPicPr/>
          <p:nvPr/>
        </p:nvPicPr>
        <p:blipFill>
          <a:blip r:embed="rId6"/>
          <a:stretch/>
        </p:blipFill>
        <p:spPr>
          <a:xfrm>
            <a:off x="1547640" y="3429000"/>
            <a:ext cx="2016360" cy="1584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9311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приема музицирования учит де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только озвучивать при помощи музыкальных инстру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ихотворения, аккомпанировать музыкаль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ьесам, но и импровизировать  свои мини-пьесы, в которых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ображают свои чувства и пережи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РЕКОМЕНДАЦИИ ПО ПРИМЕНЕНИЮ МУЗЫКОТЕРАПИИ В ПОВСЕДНЕВНОЙ ЖИЗНИ ДЕТСКОГО С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147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тренний приём в детском саду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зведения В.А.Моц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Утро» (музыка Грига из сюиты «Пер Гюнт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зыкальные композиции (оркестр Поля Мори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ботки для русского народного оркестра («Барыня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Камаринская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н-Санс «Карнавал живот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6877080" y="4724280"/>
            <a:ext cx="1888920" cy="1781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250920" y="5013360"/>
            <a:ext cx="1800000" cy="1655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Анимашки Дети"/>
          <p:cNvPicPr/>
          <p:nvPr/>
        </p:nvPicPr>
        <p:blipFill>
          <a:blip r:embed="rId4"/>
          <a:stretch/>
        </p:blipFill>
        <p:spPr>
          <a:xfrm>
            <a:off x="7667640" y="2060640"/>
            <a:ext cx="936720" cy="194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Анимашки Дети"/>
          <p:cNvPicPr/>
          <p:nvPr/>
        </p:nvPicPr>
        <p:blipFill>
          <a:blip r:embed="rId5"/>
          <a:stretch/>
        </p:blipFill>
        <p:spPr>
          <a:xfrm>
            <a:off x="4788000" y="4292640"/>
            <a:ext cx="1655640" cy="2305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Анимашки Дети"/>
          <p:cNvPicPr/>
          <p:nvPr/>
        </p:nvPicPr>
        <p:blipFill>
          <a:blip r:embed="rId6"/>
          <a:stretch/>
        </p:blipFill>
        <p:spPr>
          <a:xfrm>
            <a:off x="2556000" y="4149720"/>
            <a:ext cx="143964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1471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Музыкальнотерапевтическое занятие состоит из 3-х фа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ление контакт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нятие напряжен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лабление и заряд положительными эмоциям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6877080" y="5157720"/>
            <a:ext cx="1888920" cy="134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324000" y="4941720"/>
            <a:ext cx="1871640" cy="1708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РЕКОМЕНДАЦИИ ПО ПРИМЕНЕНИЮ МУЗЫКОТЕРАПИИ В ПОВСЕДНЕВНОЙ ЖИЗНИ ДЕТСКОГО С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Анимашки мызыка, анимашки о музыке, разные анимашки | Smayli.ru"/>
          <p:cNvPicPr/>
          <p:nvPr/>
        </p:nvPicPr>
        <p:blipFill>
          <a:blip r:embed="rId4"/>
          <a:stretch/>
        </p:blipFill>
        <p:spPr>
          <a:xfrm>
            <a:off x="3419640" y="3645000"/>
            <a:ext cx="2176200" cy="15127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915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Дневной сон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невной сон может сопровождаться следующими музыка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изведени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о фортепиано (Клейдерман и симфонический оркест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.И. Чайковский «Времена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тховен, соната № 14 «Лунн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х – Гуно «Аве Мар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ыбельные мело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оса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6804000" y="4365720"/>
            <a:ext cx="1960560" cy="2065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Анимашки Дети"/>
          <p:cNvPicPr/>
          <p:nvPr/>
        </p:nvPicPr>
        <p:blipFill>
          <a:blip r:embed="rId3"/>
          <a:stretch/>
        </p:blipFill>
        <p:spPr>
          <a:xfrm>
            <a:off x="3348000" y="3645000"/>
            <a:ext cx="2665440" cy="2116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Анимашки мызыка, анимашки о музыке, разные анимашки | Smayli.ru"/>
          <p:cNvPicPr/>
          <p:nvPr/>
        </p:nvPicPr>
        <p:blipFill>
          <a:blip r:embed="rId4"/>
          <a:stretch/>
        </p:blipFill>
        <p:spPr>
          <a:xfrm>
            <a:off x="250920" y="4365720"/>
            <a:ext cx="2016000" cy="19224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324000" y="47628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РЕКОМЕНДАЦИИ ПО ПРИМЕНЕНИЮ МУЗЫКОТЕРАПИИ В ПОВСЕДНЕВНОЙ ЖИЗНИ ДЕТСКОГО СА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915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Музыка  для   вечернего   времени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зыка, способствующая  снятию  накопившейся устал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овых ситуаций за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Классические мелодии для детей и их родител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дельсон «Концерт для скрипки с оркестр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х «Органные произвед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.Вивальди «Времена г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лоса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6732720" y="4869000"/>
            <a:ext cx="2176200" cy="177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Анимашки Дети"/>
          <p:cNvPicPr/>
          <p:nvPr/>
        </p:nvPicPr>
        <p:blipFill>
          <a:blip r:embed="rId3"/>
          <a:stretch/>
        </p:blipFill>
        <p:spPr>
          <a:xfrm>
            <a:off x="3419640" y="3933720"/>
            <a:ext cx="2192040" cy="2735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Анимашки мызыка, анимашки о музыке, разные анимашки | Smayli.ru"/>
          <p:cNvPicPr/>
          <p:nvPr/>
        </p:nvPicPr>
        <p:blipFill>
          <a:blip r:embed="rId4"/>
          <a:stretch/>
        </p:blipFill>
        <p:spPr>
          <a:xfrm>
            <a:off x="250920" y="4941720"/>
            <a:ext cx="2017440" cy="17272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4"/>
          <p:cNvSpPr/>
          <p:nvPr/>
        </p:nvSpPr>
        <p:spPr>
          <a:xfrm>
            <a:off x="468360" y="54936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ЕКОМЕНДАЦИИ ПО ПРИМЕНЕНИЮ МУЗЫКОТЕРАПИИ В ПОВСЕДНЕВНОЙ ЖИЗНИ ДЕТСКОГО СА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68360" y="1125360"/>
            <a:ext cx="828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зыкотерапия будет благотворно влия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общее эмоциональное состояние, есл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ут созданы благоприятные условия для занятий с детьми    музыкотерапие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уманы методические прием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обраны специальные музыкальные произвед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ействованы все органы чувств у дет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овлена интеграция музыкального воздействия с другими видами деятель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7380360" y="5229360"/>
            <a:ext cx="1457280" cy="1347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6372360" y="4724280"/>
            <a:ext cx="2322360" cy="185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Анимашки мызыка, анимашки о музыке, разные анимашки | Smayli.ru"/>
          <p:cNvPicPr/>
          <p:nvPr/>
        </p:nvPicPr>
        <p:blipFill>
          <a:blip r:embed="rId4"/>
          <a:stretch/>
        </p:blipFill>
        <p:spPr>
          <a:xfrm>
            <a:off x="250920" y="4724280"/>
            <a:ext cx="2449440" cy="1852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Анимашки мызыка, анимашки о музыке, разные анимашки | Smayli.ru"/>
          <p:cNvPicPr/>
          <p:nvPr/>
        </p:nvPicPr>
        <p:blipFill>
          <a:blip r:embed="rId5"/>
          <a:stretch/>
        </p:blipFill>
        <p:spPr>
          <a:xfrm>
            <a:off x="684360" y="4653000"/>
            <a:ext cx="2374920" cy="18525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7380360" y="5229360"/>
            <a:ext cx="1457280" cy="1347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6372360" y="4724280"/>
            <a:ext cx="2322360" cy="1852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Анимашки мызыка, анимашки о музыке, разные анимашки | Smayli.ru"/>
          <p:cNvPicPr/>
          <p:nvPr/>
        </p:nvPicPr>
        <p:blipFill>
          <a:blip r:embed="rId4"/>
          <a:stretch/>
        </p:blipFill>
        <p:spPr>
          <a:xfrm>
            <a:off x="250920" y="4724280"/>
            <a:ext cx="2449440" cy="1852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Анимашки мызыка, анимашки о музыке, разные анимашки | Smayli.ru"/>
          <p:cNvPicPr/>
          <p:nvPr/>
        </p:nvPicPr>
        <p:blipFill>
          <a:blip r:embed="rId5"/>
          <a:stretch/>
        </p:blipFill>
        <p:spPr>
          <a:xfrm>
            <a:off x="684360" y="4653000"/>
            <a:ext cx="2374920" cy="1852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Users\Sofia\Downloads\Новая в НГ\lechenie-zvukami (1).jpg"/>
          <p:cNvPicPr/>
          <p:nvPr/>
        </p:nvPicPr>
        <p:blipFill>
          <a:blip r:embed="rId6"/>
          <a:stretch/>
        </p:blipFill>
        <p:spPr>
          <a:xfrm>
            <a:off x="357120" y="214200"/>
            <a:ext cx="8456760" cy="6429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7380360" y="5229360"/>
            <a:ext cx="1457280" cy="1347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6372360" y="4724280"/>
            <a:ext cx="2322360" cy="1852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Анимашки мызыка, анимашки о музыке, разные анимашки | Smayli.ru"/>
          <p:cNvPicPr/>
          <p:nvPr/>
        </p:nvPicPr>
        <p:blipFill>
          <a:blip r:embed="rId4"/>
          <a:stretch/>
        </p:blipFill>
        <p:spPr>
          <a:xfrm>
            <a:off x="250920" y="4724280"/>
            <a:ext cx="2449440" cy="1852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Анимашки мызыка, анимашки о музыке, разные анимашки | Smayli.ru"/>
          <p:cNvPicPr/>
          <p:nvPr/>
        </p:nvPicPr>
        <p:blipFill>
          <a:blip r:embed="rId5"/>
          <a:stretch/>
        </p:blipFill>
        <p:spPr>
          <a:xfrm>
            <a:off x="684360" y="4653000"/>
            <a:ext cx="2374920" cy="1852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Sofia\Downloads\Новая в НГ\original.jpg"/>
          <p:cNvPicPr/>
          <p:nvPr/>
        </p:nvPicPr>
        <p:blipFill>
          <a:blip r:embed="rId6"/>
          <a:stretch/>
        </p:blipFill>
        <p:spPr>
          <a:xfrm>
            <a:off x="428760" y="214200"/>
            <a:ext cx="814392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МУЗЫКОТЕРАП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4240" y="1196640"/>
            <a:ext cx="7824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зыкотерапия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метод, использующ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зыку в качестве сред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ррекции эмоциона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клонений, страх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вигательных и рече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тройств, отклонений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едении,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муникатив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труднениях, а также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чения различ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матически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сихосомат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болеван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6443640" y="4941720"/>
            <a:ext cx="2249640" cy="149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395280" y="333360"/>
            <a:ext cx="2089080" cy="15829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ВЛИЯНИЕ ЗВУЧАНИЯ МУЗЫКАЛЬНЫХ ИНСТРУМЕНТОВ НА ЛЕЧЕНИЕ И ПРОФИЛАКТИКУ ЗАБОЛЕВАН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14200" y="1341360"/>
            <a:ext cx="3357720" cy="55166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168" name="Picture 8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6588000" y="5084640"/>
            <a:ext cx="2249640" cy="1513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Анимашки мызыка, анимашки о музыке, разные анимашки | Smayli.ru"/>
          <p:cNvPicPr/>
          <p:nvPr/>
        </p:nvPicPr>
        <p:blipFill>
          <a:blip r:embed="rId4"/>
          <a:stretch/>
        </p:blipFill>
        <p:spPr>
          <a:xfrm>
            <a:off x="179280" y="119700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C:\Users\Sofia\Downloads\Новая в НГ\hello_html_m76c4747d.jpg"/>
          <p:cNvPicPr/>
          <p:nvPr/>
        </p:nvPicPr>
        <p:blipFill>
          <a:blip r:embed="rId5"/>
          <a:stretch/>
        </p:blipFill>
        <p:spPr>
          <a:xfrm>
            <a:off x="3786120" y="1285920"/>
            <a:ext cx="5357880" cy="55720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68360" y="836640"/>
            <a:ext cx="8280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исок использованной литератур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Георгиев Ю.А. Музыка здоровья.  – М.: Клуб, 2001 – № 6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Готсдинер А.Л. Музыкальная психология.  – М.: Магистр, 1997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Кэмпбелл Д. Эффект Моцарта.  – М.: ВЛАДОС, 2004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Медведева И.Я. Улыбка судьбы.  – М.: ЛИНКАПРЕСС, 2002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 Петрушин В.И. Музыкальная психология. – М.: ВЛАДОС, 1997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. Петрушин В.И. Музыкальная психотерапия.– М.: ВЛАДОС, 2000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. Тарасова К.В., Рубан Т.Г. Дети слушают музыку. – М.: Мозаика-Синтез, 200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. Теплов Б.М. Психология музыкальных способностей. – М.: Педагогика, 1985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пользованные материалы и интернет ресурс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«Танец 5 движений»: «Течение воды» (диск «Звуки природы для малышей»), «Переход через чащу» (диск «Музыкотерапия»), «Сломанная кукла» П.И.Чайковского, «Полет бабочки» (С.Майкапар «Мотылёк»), «Покой» (диск «Музыкотерапия»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Психотерапевтическая энциклопедия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dic.academic.ru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Большая библиотека психологии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biblios.newgoo.net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Анимашки мызыка, анимашки о музыке, разные анимашки | Smayli.ru"/>
          <p:cNvPicPr/>
          <p:nvPr/>
        </p:nvPicPr>
        <p:blipFill>
          <a:blip r:embed="rId4"/>
          <a:stretch/>
        </p:blipFill>
        <p:spPr>
          <a:xfrm>
            <a:off x="250920" y="5013360"/>
            <a:ext cx="2017440" cy="1635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Анимашки мызыка, анимашки о музыке, разные анимашки | Smayli.ru"/>
          <p:cNvPicPr/>
          <p:nvPr/>
        </p:nvPicPr>
        <p:blipFill>
          <a:blip r:embed="rId5"/>
          <a:stretch/>
        </p:blipFill>
        <p:spPr>
          <a:xfrm>
            <a:off x="6948360" y="5013360"/>
            <a:ext cx="1817640" cy="16351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СПОСОБЫ ВОЗДЕЙСТВИЯ МУЗЫКИ 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НА ЭМОЦИОНАЛЬНОЕ СОСТОЯ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2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179280" y="189000"/>
            <a:ext cx="1457280" cy="12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3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7451640" y="5589720"/>
            <a:ext cx="1457280" cy="12682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7"/>
          <p:cNvSpPr/>
          <p:nvPr/>
        </p:nvSpPr>
        <p:spPr>
          <a:xfrm>
            <a:off x="642960" y="1571760"/>
            <a:ext cx="8072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утомление, нервное истощени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нетённое, меланхолическое настроени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раженная раздражительность, гневность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ижение сосредоточенности, внима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возбуждени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1125360"/>
          <a:ext cx="8137440" cy="4730760"/>
        </p:xfrm>
        <a:graphic>
          <a:graphicData uri="http://schemas.openxmlformats.org/drawingml/2006/table">
            <a:tbl>
              <a:tblPr/>
              <a:tblGrid>
                <a:gridCol w="2833560"/>
                <a:gridCol w="3267000"/>
                <a:gridCol w="2036880"/>
              </a:tblGrid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ед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переутомлен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тро»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лонез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. Григ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инск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угнетённом настроен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 радости»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ве Мария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 Ван Бетховен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Шубер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раздражительно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Хор пилигримов»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ентиментальный вальс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Вагнер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Чайковск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снижении внима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ремена года»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Грёзы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Чайковский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Дебюсс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лабляющее воздейств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астораль»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ната до мажор» (ч 3)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ебедь»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зе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ана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-Санс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изирующее действ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ардаш»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умпарсита»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Шербургские зонтик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ти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ригес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ран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52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179280" y="189000"/>
            <a:ext cx="1457280" cy="1224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3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7451640" y="5589720"/>
            <a:ext cx="145728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435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АКТИВНЫЕ МЕТОДЫ И ПРИЁМЫ МУЗЫКОТЕРАП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457280"/>
            <a:ext cx="79200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им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ычного прослушивания музы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ассивная фор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зыкотерапии) специалисты рекомендуют использовать и множе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ых методов и прием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 арттерап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 цветотерап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лементы сказкотерап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сихогимнастические этюды и упра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калотерап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ем музицирован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6300720" y="5084640"/>
            <a:ext cx="2104920" cy="151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324000" y="404640"/>
            <a:ext cx="1457280" cy="1629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АРТТЕРА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07588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рисуют общие картины, клеят аппликации, строя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ружения из кубиков и т.п., что способствует эмоциональному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торному самовыражению, актуализации положительных эмо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тию творческого воображения и сближению детей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250920" y="4797360"/>
            <a:ext cx="2017440" cy="165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6588000" y="4724280"/>
            <a:ext cx="2033640" cy="1871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Анимашки Дети"/>
          <p:cNvPicPr/>
          <p:nvPr/>
        </p:nvPicPr>
        <p:blipFill>
          <a:blip r:embed="rId4"/>
          <a:stretch/>
        </p:blipFill>
        <p:spPr>
          <a:xfrm>
            <a:off x="2843280" y="3141720"/>
            <a:ext cx="1584360" cy="2965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Анимашки дети, анимированные картинки детей, разные анимашки | Smayli.ru"/>
          <p:cNvPicPr/>
          <p:nvPr/>
        </p:nvPicPr>
        <p:blipFill>
          <a:blip r:embed="rId5"/>
          <a:stretch/>
        </p:blipFill>
        <p:spPr>
          <a:xfrm>
            <a:off x="3708360" y="3860640"/>
            <a:ext cx="1944720" cy="2232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ЦВЕТОТЕРА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611280" y="1268280"/>
            <a:ext cx="820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нный метод включает в себя использовани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личных атрибутов определенного лечебного цвета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ример, в танцевальных композициях, можно предложить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ям использовать шарфики зеленого или желтого цвета, чтобы создать хорошее, благодушного настроения, дать заряд положительной энерг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6372360" y="4653000"/>
            <a:ext cx="2320920" cy="1852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324000" y="4724280"/>
            <a:ext cx="2303280" cy="194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Анимашки дети, анимированные картинки детей, разные анимашки | Smayli.ru"/>
          <p:cNvPicPr/>
          <p:nvPr/>
        </p:nvPicPr>
        <p:blipFill>
          <a:blip r:embed="rId4"/>
          <a:stretch/>
        </p:blipFill>
        <p:spPr>
          <a:xfrm>
            <a:off x="3348000" y="3068640"/>
            <a:ext cx="252108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СКАЗКОТЕРА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042920" y="1125360"/>
            <a:ext cx="712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 наибольший отклик у дете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зывают элементы сказкотерап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, под определенный характер музык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попадают в сказку, изображают герое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юбимых сказок и сами сочиняю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ственные сказк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6659640" y="4437000"/>
            <a:ext cx="2106360" cy="2068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324000" y="4581360"/>
            <a:ext cx="2160360" cy="2067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Анимашки Дети"/>
          <p:cNvPicPr/>
          <p:nvPr/>
        </p:nvPicPr>
        <p:blipFill>
          <a:blip r:embed="rId4"/>
          <a:stretch/>
        </p:blipFill>
        <p:spPr>
          <a:xfrm>
            <a:off x="3059280" y="3141720"/>
            <a:ext cx="302400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7760" y="0"/>
            <a:ext cx="9066240" cy="685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ПСИХОГИМНАСТИЧЕСКИЕ ЭТЮДЫ И УПРАЖНЕНИ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77151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сихогимнастические этюды и упражнения, способству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нятию психоэмоционального напряжения, учат управл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оим настроением и эмоциями, выражать свое эмоциональ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ояние, а также у детей формируются и развива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личные психические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внимание, память, мотори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Анимашки мызыка, анимашки о музыке, разные анимашки | Smayli.ru"/>
          <p:cNvPicPr/>
          <p:nvPr/>
        </p:nvPicPr>
        <p:blipFill>
          <a:blip r:embed="rId2"/>
          <a:stretch/>
        </p:blipFill>
        <p:spPr>
          <a:xfrm>
            <a:off x="6588000" y="4724280"/>
            <a:ext cx="2105280" cy="178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Анимашки мызыка, анимашки о музыке, разные анимашки | Smayli.ru"/>
          <p:cNvPicPr/>
          <p:nvPr/>
        </p:nvPicPr>
        <p:blipFill>
          <a:blip r:embed="rId3"/>
          <a:stretch/>
        </p:blipFill>
        <p:spPr>
          <a:xfrm>
            <a:off x="395280" y="4797360"/>
            <a:ext cx="2305080" cy="1708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Анимашки мызыка, анимашки о музыке, разные анимашки | Smayli.ru"/>
          <p:cNvPicPr/>
          <p:nvPr/>
        </p:nvPicPr>
        <p:blipFill>
          <a:blip r:embed="rId4"/>
          <a:stretch/>
        </p:blipFill>
        <p:spPr>
          <a:xfrm>
            <a:off x="2916360" y="2924280"/>
            <a:ext cx="3297240" cy="36018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6:00:28Z</dcterms:created>
  <dc:creator>User</dc:creator>
  <dc:description/>
  <dc:language>en-US</dc:language>
  <cp:lastModifiedBy>Sofia</cp:lastModifiedBy>
  <dcterms:modified xsi:type="dcterms:W3CDTF">2017-12-12T19:11:34Z</dcterms:modified>
  <cp:revision>32</cp:revision>
  <dc:subject/>
  <dc:title>Слайд 1</dc:title>
</cp:coreProperties>
</file>