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4CB-B5E4-48B8-87DF-016EA041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ABF-C7DA-428A-B63D-A35287F9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17C-FFA6-4736-BC52-0F45CDA8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BB-C533-4330-8F51-8137741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A70-4A8F-4CB5-BCFF-4FF95ED9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A9F2-464C-441E-A92C-C541D18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938-A7B7-4ED9-BB6D-9C36C5B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DC8-41D8-4666-BA89-5F7987C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E76-A79D-4C3F-8077-12F5C95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0AC-431B-47CE-9E9B-84F312A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4BB-2188-4D2D-B0EC-7ED93D5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BE5-F9A0-4C53-A7CA-75DAEA7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56A-ACA6-4437-A1AB-1134379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B1F0-9EC4-48FC-B08E-1D011A1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A0C-A13E-403D-8BD8-5BDF580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9EA2-25E3-44C3-8970-14CFEB90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8C23-7ED1-4200-BA87-518BC07A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40ED-411F-469C-AF81-DF77976E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10D3-704C-4D27-8DD6-466E125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BFDD-FD73-4A17-A498-FE8165DA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E0CB-A132-4061-AFAC-9FBF40B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685D-12EB-42AC-A70F-3DCB37CB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0B6-1790-46A6-A65A-1DD7EC69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1FB0-6B53-464F-8AD1-4F59472E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1919-AB76-4440-912B-4E0054A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1B01-FDBB-452D-8F5E-54839C1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76D3-DAE8-47B9-BB6A-2C6004F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C29B-270E-408D-B815-43B96D08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DCD1-6596-481C-896C-86313B3E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2C00-A205-4CC3-8545-8AFF053D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6911-02EC-4C39-80F7-0F8D8E0C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AF1C-ABBF-4708-9E38-A579D25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B243-1545-473C-877A-7AEC94F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A59-328B-4DF6-A66B-BE2D0A6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DDF8-936A-4875-B705-BBA52585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BD02-70C2-4B53-B9BD-2C3435F5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00D1-9B38-43F6-9C98-532C295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F297-1F70-474E-976C-F2F10F9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7D2C-69E2-43D2-A201-A725521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7164-4215-460E-A401-47A3E18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95EB-3641-4FD2-B6E3-29DC2F1B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8CB4-64A4-4C1F-8B76-42275AC2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DEF0-1072-4A14-B16D-18A34F7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DF18-F555-417F-BAF7-DC90F680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0CA-BBF1-4C6E-B960-CB4F20B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6DAE-D9A8-4325-8A75-236971A3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1616-4F0A-4CF5-A236-568AD8E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D679-8CBB-4EA6-9713-8BFC06F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D014-0A59-4C6E-9581-F8F221C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6A0A-AE9F-4FE5-83DF-B026522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320D-ADAA-46F2-A93A-E96916B1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09FA-C8C9-4D82-B283-EEEB343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079F3-3D6A-419F-8340-523E9B0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C13C-254D-4B4D-B0DE-B7F493F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FE66-99A1-413C-825C-FCB31D44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238-6FC1-4A8D-9FE4-F8BA0FFB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91E68-DB25-4A99-B8EE-281D337A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B5C28-636F-4BFC-B492-1A48ED77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1B68-D5A1-4670-A44C-47DB1B6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FB0DD-39AB-4BD9-A644-B99E64DD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000B-D5BD-4577-97CD-11769FA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5D42-7ECD-4291-A31C-043B2E9B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F6468-AF5F-4CCA-963A-1D51F68F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F303-6C9D-4D58-BD42-6E6F2BC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17DC-D0F3-43F7-A08B-7246D556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360D-FB49-4F21-9241-C5CD8ED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3C3-00C7-4C61-A59D-96C4CB3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35CC-07A5-4E50-9B5F-8BFFB796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D225-0F33-49EE-A5A1-F39E1A3F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B177-891D-4D40-B28E-396EA7DF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4248-BD66-472A-A9D9-C747ED1C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BADB-3E83-456C-9E15-64A7829D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49D7-13A5-4438-8720-607F9F6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5BC4-5830-4411-B183-110FAA2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65BE3-65CC-4F74-8333-881C7F7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0B04-59C6-4235-94AB-2C636FD8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A824-8021-4D53-BA25-A580CD2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AC2-D130-4823-8EFA-697F657D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874F-2600-4A11-8458-FCE5D76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10E2-8AEC-4546-9DE3-3D239FB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8EC6-ABE9-46A4-860C-BB19211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F3337-E2AA-4E84-A129-DF47A771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7804-589F-4341-8740-8C08F4E1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2082-5ABE-4DF3-990B-54C38594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A2EC-20D2-407F-B734-AA86464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FA5D-649D-4491-B18A-E7AC7816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8219-6E7C-4663-9584-42532FBA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0331-94D5-4822-9674-52A47C8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8DC-40F9-4CF0-84EB-D7A9BB5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3B1C7-2E5A-49EA-9B31-7ED6210F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A3BF2-647F-476E-9293-6E0EC214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4D942-3C36-48ED-99D9-16FB670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16418-9B5A-4275-8417-2A643AE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41B0-DEA7-435C-A4F0-4993A10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AFCFA-5A00-4F6C-9C1D-62554DE9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8AAF-2A10-42E2-A097-F501FEAC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1769-2034-4DB9-9B00-AE6E8CB7729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41A-D892-4779-8F9C-4378B481F82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1665-2AC6-4622-8FA3-F9F8449B0CE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658-E30F-4134-B8EB-1AD870EE72E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139-B5CF-4607-A25E-FAB536B23EC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6BB-634E-4D67-8A75-6B6FCCA6FAA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D5E4-731C-45E6-8339-0AE3C976EC1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90C8-9932-42AF-96A2-6B35AEDF8E6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24360" y="4797000"/>
            <a:ext cx="434016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Малыгина О.Н., учитель русского языка и литературы ГБОУ СОШ №88 Санкт-Петербург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57200" y="2133720"/>
            <a:ext cx="5688000" cy="115092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http://buranka.ucoz.ru/1Elena/ob.gif"/>
          <p:cNvPicPr/>
          <p:nvPr/>
        </p:nvPicPr>
        <p:blipFill>
          <a:blip r:embed="rId1"/>
          <a:stretch/>
        </p:blipFill>
        <p:spPr>
          <a:xfrm>
            <a:off x="6161040" y="2133720"/>
            <a:ext cx="2736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048040" y="433440"/>
            <a:ext cx="4760640" cy="92556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"/>
          <p:cNvSpPr/>
          <p:nvPr/>
        </p:nvSpPr>
        <p:spPr>
          <a:xfrm>
            <a:off x="1187280" y="1484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уйте представить правило в виде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Прямоугольник 5" descr=""/>
          <p:cNvPicPr/>
          <p:nvPr/>
        </p:nvPicPr>
        <p:blipFill>
          <a:blip r:embed="rId2"/>
          <a:stretch/>
        </p:blipFill>
        <p:spPr>
          <a:xfrm>
            <a:off x="858960" y="2189160"/>
            <a:ext cx="7456320" cy="9619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6"/>
          <p:cNvSpPr/>
          <p:nvPr/>
        </p:nvSpPr>
        <p:spPr>
          <a:xfrm>
            <a:off x="3059280" y="19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Скругленный прямоугольник 22" descr=""/>
          <p:cNvPicPr/>
          <p:nvPr/>
        </p:nvPicPr>
        <p:blipFill>
          <a:blip r:embed="rId3"/>
          <a:stretch/>
        </p:blipFill>
        <p:spPr>
          <a:xfrm>
            <a:off x="1006560" y="2919240"/>
            <a:ext cx="2333520" cy="1049400"/>
          </a:xfrm>
          <a:prstGeom prst="rect">
            <a:avLst/>
          </a:prstGeom>
          <a:ln w="0">
            <a:noFill/>
          </a:ln>
        </p:spPr>
      </p:pic>
      <p:pic>
        <p:nvPicPr>
          <p:cNvPr id="468" name="Скругленный прямоугольник 23" descr=""/>
          <p:cNvPicPr/>
          <p:nvPr/>
        </p:nvPicPr>
        <p:blipFill>
          <a:blip r:embed="rId4"/>
          <a:stretch/>
        </p:blipFill>
        <p:spPr>
          <a:xfrm>
            <a:off x="5297400" y="2919240"/>
            <a:ext cx="3133800" cy="1049400"/>
          </a:xfrm>
          <a:prstGeom prst="rect">
            <a:avLst/>
          </a:prstGeom>
          <a:ln w="0">
            <a:noFill/>
          </a:ln>
        </p:spPr>
      </p:pic>
      <p:sp>
        <p:nvSpPr>
          <p:cNvPr id="469" name="Стрелка вниз 27"/>
          <p:cNvSpPr/>
          <p:nvPr/>
        </p:nvSpPr>
        <p:spPr>
          <a:xfrm>
            <a:off x="1835280" y="3860640"/>
            <a:ext cx="576000" cy="505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низ 29"/>
          <p:cNvSpPr/>
          <p:nvPr/>
        </p:nvSpPr>
        <p:spPr>
          <a:xfrm>
            <a:off x="6516720" y="3789360"/>
            <a:ext cx="57636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2160" y="4508640"/>
            <a:ext cx="38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Не употребляется без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31"/>
          <p:cNvSpPr/>
          <p:nvPr/>
        </p:nvSpPr>
        <p:spPr>
          <a:xfrm>
            <a:off x="360" y="5084640"/>
            <a:ext cx="44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Можно заменить синони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близким по зна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аж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32"/>
          <p:cNvSpPr/>
          <p:nvPr/>
        </p:nvSpPr>
        <p:spPr>
          <a:xfrm>
            <a:off x="4788720" y="450864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Есть противопост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33"/>
          <p:cNvSpPr/>
          <p:nvPr/>
        </p:nvSpPr>
        <p:spPr>
          <a:xfrm>
            <a:off x="4789800" y="501336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меет 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633240" y="1530360"/>
            <a:ext cx="8053560" cy="5010120"/>
          </a:xfrm>
          <a:prstGeom prst="rect">
            <a:avLst/>
          </a:prstGeom>
          <a:ln w="0">
            <a:noFill/>
          </a:ln>
        </p:spPr>
      </p:pic>
      <p:sp>
        <p:nvSpPr>
          <p:cNvPr id="476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3EF-2DE9-4D76-B6FA-AB3F73E30262}" type="slidenum">
              <a:rPr b="0" lang="ru-RU" sz="1200" spc="-1" strike="noStrike">
                <a:solidFill>
                  <a:srgbClr val="063b81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179280" y="260280"/>
            <a:ext cx="8713800" cy="12034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ffffff"/>
                </a:solidFill>
                <a:uFillTx/>
                <a:latin typeface="Candara"/>
              </a:rPr>
              <a:t>Замените выделенные слова синонимичными. Запишите полученные предложе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 себ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116000" y="1531440"/>
            <a:ext cx="73454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Выборочная работа по упр. 288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Спишите только те предложения, где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 в существительных является частью корн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0" name="Арка 1"/>
          <p:cNvSpPr/>
          <p:nvPr/>
        </p:nvSpPr>
        <p:spPr>
          <a:xfrm>
            <a:off x="4067280" y="3548160"/>
            <a:ext cx="1850760" cy="1296720"/>
          </a:xfrm>
          <a:custGeom>
            <a:avLst/>
            <a:gdLst/>
            <a:ahLst/>
            <a:rect l="l" t="t" r="r" b="b"/>
            <a:pathLst>
              <a:path w="1851025" h="1296987">
                <a:moveTo>
                  <a:pt x="0" y="648494"/>
                </a:moveTo>
                <a:cubicBezTo>
                  <a:pt x="0" y="290341"/>
                  <a:pt x="414366" y="0"/>
                  <a:pt x="925513" y="0"/>
                </a:cubicBezTo>
                <a:cubicBezTo>
                  <a:pt x="1436660" y="0"/>
                  <a:pt x="1851026" y="290341"/>
                  <a:pt x="1851026" y="648494"/>
                </a:cubicBezTo>
                <a:lnTo>
                  <a:pt x="1526778" y="648494"/>
                </a:lnTo>
                <a:cubicBezTo>
                  <a:pt x="1526778" y="469417"/>
                  <a:pt x="1257582" y="324247"/>
                  <a:pt x="925512" y="324247"/>
                </a:cubicBezTo>
                <a:cubicBezTo>
                  <a:pt x="593442" y="324247"/>
                  <a:pt x="324246" y="469417"/>
                  <a:pt x="324246" y="648494"/>
                </a:cubicBezTo>
                <a:lnTo>
                  <a:pt x="0" y="64849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https://ds04.infourok.ru/uploads/ex/0ae3/000959b2-fba8290b/img39.jpg"/>
          <p:cNvPicPr/>
          <p:nvPr/>
        </p:nvPicPr>
        <p:blipFill>
          <a:blip r:embed="rId1"/>
          <a:stretch/>
        </p:blipFill>
        <p:spPr>
          <a:xfrm>
            <a:off x="5643720" y="4292640"/>
            <a:ext cx="3136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Обобщим изученно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объясняем по цепочк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Прямоугольник 1"/>
          <p:cNvSpPr/>
          <p:nvPr/>
        </p:nvSpPr>
        <p:spPr>
          <a:xfrm>
            <a:off x="463680" y="2637000"/>
            <a:ext cx="482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ние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задачливость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83f4"/>
                </a:solidFill>
                <a:latin typeface="Times New Roman"/>
                <a:ea typeface="Times New Roman"/>
              </a:rPr>
              <a:t>нездоровье, </a:t>
            </a:r>
            <a:r>
              <a:rPr b="1" lang="ru-RU" sz="2400" spc="-1" strike="noStrike">
                <a:solidFill>
                  <a:srgbClr val="7c9c1e"/>
                </a:solidFill>
                <a:latin typeface="Times New Roman"/>
                <a:ea typeface="Times New Roman"/>
              </a:rPr>
              <a:t>недели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неверность, 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евид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навистник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благополуч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азбериха,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буд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еряха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сомость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еверие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6814"/>
                </a:solidFill>
                <a:latin typeface="Times New Roman"/>
                <a:ea typeface="Times New Roman"/>
              </a:rPr>
              <a:t>неурядица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го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79640" y="1197000"/>
            <a:ext cx="633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588840" y="2565360"/>
            <a:ext cx="48704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73e87"/>
                </a:solidFill>
                <a:latin typeface="Arial"/>
              </a:rPr>
              <a:t>1.Упр.287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560520" indent="-560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правило на стр.150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560520" indent="-560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рфограмма № 32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560520" indent="-560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6" name="Picture 4" descr="учёный совёнок"/>
          <p:cNvPicPr/>
          <p:nvPr/>
        </p:nvPicPr>
        <p:blipFill>
          <a:blip r:embed="rId1"/>
          <a:stretch/>
        </p:blipFill>
        <p:spPr>
          <a:xfrm>
            <a:off x="395280" y="2205000"/>
            <a:ext cx="273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Прямоугольник 3"/>
          <p:cNvSpPr/>
          <p:nvPr/>
        </p:nvSpPr>
        <p:spPr>
          <a:xfrm>
            <a:off x="1373040" y="465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proshkolu.ru/download/5146373/34cc8a97567a3cf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"/>
          <p:cNvSpPr/>
          <p:nvPr/>
        </p:nvSpPr>
        <p:spPr>
          <a:xfrm>
            <a:off x="1373040" y="3357720"/>
            <a:ext cx="619308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Учебник русского языка для 6 кл. , ч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(М.Т.Баранов Т.А.Ладыж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6"/>
          <p:cNvSpPr/>
          <p:nvPr/>
        </p:nvSpPr>
        <p:spPr>
          <a:xfrm>
            <a:off x="1373040" y="5148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uranka.ucoz.ru/1Elena/ob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части речи относятся данные слова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739800" y="2421000"/>
            <a:ext cx="7848720" cy="36720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площад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ор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е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еж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на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414360" y="260280"/>
            <a:ext cx="8497800" cy="115272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существительные                 общего 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41092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евежа, невежда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(жд//ж)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–  -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вед 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-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«ведать», «знать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 современном русском языке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«невежа»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значит «грубиян»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«невежда»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– «несведущий»,                         «необразованный человек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Содержимое 6" descr="kr3.gif"/>
          <p:cNvPicPr/>
          <p:nvPr/>
        </p:nvPicPr>
        <p:blipFill>
          <a:blip r:embed="rId1"/>
          <a:stretch/>
        </p:blipFill>
        <p:spPr>
          <a:xfrm>
            <a:off x="9396360" y="3789360"/>
            <a:ext cx="2158920" cy="201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92" name="Picture 5" descr=""/>
          <p:cNvPicPr/>
          <p:nvPr/>
        </p:nvPicPr>
        <p:blipFill>
          <a:blip r:embed="rId2"/>
          <a:stretch/>
        </p:blipFill>
        <p:spPr>
          <a:xfrm>
            <a:off x="396720" y="2498760"/>
            <a:ext cx="2249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1620720" y="396720"/>
            <a:ext cx="5950080" cy="9255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2"/>
          <p:cNvSpPr/>
          <p:nvPr/>
        </p:nvSpPr>
        <p:spPr>
          <a:xfrm>
            <a:off x="3034440" y="13413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читайте послов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2868120" y="2060640"/>
            <a:ext cx="579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4445"/>
                </a:solidFill>
                <a:latin typeface="Georgia"/>
              </a:rPr>
              <a:t>Друг научит, а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2400" spc="-1" strike="noStrike">
                <a:solidFill>
                  <a:srgbClr val="2d83f4"/>
                </a:solidFill>
                <a:latin typeface="Georgia"/>
              </a:rPr>
              <a:t>друг</a:t>
            </a:r>
            <a:r>
              <a:rPr b="1" lang="ru-RU" sz="2400" spc="-1" strike="noStrike">
                <a:solidFill>
                  <a:srgbClr val="454445"/>
                </a:solidFill>
                <a:latin typeface="Georgia"/>
              </a:rPr>
              <a:t> проучит.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гри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лесу не най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в бед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оси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3"/>
          <p:cNvSpPr/>
          <p:nvPr/>
        </p:nvSpPr>
        <p:spPr>
          <a:xfrm>
            <a:off x="1267560" y="41497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ите внимание на правописание слов с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Прямоугольник 14" descr=""/>
          <p:cNvPicPr/>
          <p:nvPr/>
        </p:nvPicPr>
        <p:blipFill>
          <a:blip r:embed="rId2"/>
          <a:stretch/>
        </p:blipFill>
        <p:spPr>
          <a:xfrm>
            <a:off x="1749600" y="5516640"/>
            <a:ext cx="4827240" cy="646200"/>
          </a:xfrm>
          <a:prstGeom prst="rect">
            <a:avLst/>
          </a:prstGeom>
          <a:ln w="0">
            <a:noFill/>
          </a:ln>
        </p:spPr>
      </p:pic>
      <p:pic>
        <p:nvPicPr>
          <p:cNvPr id="398" name="Скругленный прямоугольник 16" descr=""/>
          <p:cNvPicPr/>
          <p:nvPr/>
        </p:nvPicPr>
        <p:blipFill>
          <a:blip r:embed="rId3"/>
          <a:stretch/>
        </p:blipFill>
        <p:spPr>
          <a:xfrm>
            <a:off x="1036800" y="5535720"/>
            <a:ext cx="7716600" cy="123012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7"/>
          <p:cNvSpPr/>
          <p:nvPr/>
        </p:nvSpPr>
        <p:spPr>
          <a:xfrm>
            <a:off x="611280" y="4653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ы уже знаете о правописании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нового вам предстоит узн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4"/>
          <a:stretch/>
        </p:blipFill>
        <p:spPr>
          <a:xfrm>
            <a:off x="324000" y="1123920"/>
            <a:ext cx="2519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3680" y="404640"/>
            <a:ext cx="8202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литное и раздельное написание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с именами существительным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755640" y="57340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sova-2"/>
          <p:cNvPicPr/>
          <p:nvPr/>
        </p:nvPicPr>
        <p:blipFill>
          <a:blip r:embed="rId1"/>
          <a:stretch/>
        </p:blipFill>
        <p:spPr>
          <a:xfrm>
            <a:off x="1042920" y="2852640"/>
            <a:ext cx="2130480" cy="24066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"/>
          <p:cNvSpPr/>
          <p:nvPr/>
        </p:nvSpPr>
        <p:spPr>
          <a:xfrm>
            <a:off x="3348000" y="3213000"/>
            <a:ext cx="5408640" cy="2521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 существительными может писаться и слитно, и разд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3733920" y="2035080"/>
            <a:ext cx="46800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робуйте обозначить гипоте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749160" y="426960"/>
            <a:ext cx="7645680" cy="14209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14"/>
          <p:cNvSpPr/>
          <p:nvPr/>
        </p:nvSpPr>
        <p:spPr>
          <a:xfrm>
            <a:off x="3353040" y="2276640"/>
            <a:ext cx="43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чь кормит, а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Прямоугольник 17" descr=""/>
          <p:cNvPicPr/>
          <p:nvPr/>
        </p:nvPicPr>
        <p:blipFill>
          <a:blip r:embed="rId2"/>
          <a:stretch/>
        </p:blipFill>
        <p:spPr>
          <a:xfrm>
            <a:off x="401760" y="1700280"/>
            <a:ext cx="7126200" cy="646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ANd9GcRJu33UyhCZw4t3nzzWIQ0vOymWwiqmDuyWjv1JxgAkZldoHVSY"/>
          <p:cNvPicPr/>
          <p:nvPr/>
        </p:nvPicPr>
        <p:blipFill>
          <a:blip r:embed="rId3"/>
          <a:stretch/>
        </p:blipFill>
        <p:spPr>
          <a:xfrm>
            <a:off x="250920" y="2276640"/>
            <a:ext cx="2619360" cy="17427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4"/>
          <p:cNvSpPr/>
          <p:nvPr/>
        </p:nvSpPr>
        <p:spPr>
          <a:xfrm>
            <a:off x="182160" y="414972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лка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ока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р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ANd9GcSvmXWcushZ14jHgQI2ymrOxqhzgp3TFaiK-ThUs9tWNBh_jns5qA"/>
          <p:cNvPicPr/>
          <p:nvPr/>
        </p:nvPicPr>
        <p:blipFill>
          <a:blip r:embed="rId4"/>
          <a:stretch/>
        </p:blipFill>
        <p:spPr>
          <a:xfrm>
            <a:off x="6659640" y="3716280"/>
            <a:ext cx="2344680" cy="146052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14"/>
          <p:cNvSpPr/>
          <p:nvPr/>
        </p:nvSpPr>
        <p:spPr>
          <a:xfrm>
            <a:off x="3924360" y="2997360"/>
            <a:ext cx="3673440" cy="431640"/>
          </a:xfrm>
          <a:prstGeom prst="roundRect">
            <a:avLst>
              <a:gd name="adj" fmla="val 16667"/>
            </a:avLst>
          </a:prstGeom>
          <a:solidFill>
            <a:srgbClr val="3db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2124000" y="4724280"/>
            <a:ext cx="3673440" cy="432000"/>
          </a:xfrm>
          <a:prstGeom prst="roundRect">
            <a:avLst>
              <a:gd name="adj" fmla="val 16667"/>
            </a:avLst>
          </a:prstGeom>
          <a:solidFill>
            <a:srgbClr val="3db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971640" y="558972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, ко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существительными пишется раз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3"/>
          <p:cNvSpPr/>
          <p:nvPr/>
        </p:nvSpPr>
        <p:spPr>
          <a:xfrm>
            <a:off x="1549800" y="2637000"/>
            <a:ext cx="16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684360" y="45086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а бе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4360" y="1700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аблюдайте за особенностями группы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6444720" y="2708280"/>
            <a:ext cx="153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6" descr="25070"/>
          <p:cNvPicPr/>
          <p:nvPr/>
        </p:nvPicPr>
        <p:blipFill>
          <a:blip r:embed="rId1"/>
          <a:stretch/>
        </p:blipFill>
        <p:spPr>
          <a:xfrm>
            <a:off x="3564000" y="2421000"/>
            <a:ext cx="2376360" cy="1792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7"/>
          <p:cNvSpPr/>
          <p:nvPr/>
        </p:nvSpPr>
        <p:spPr>
          <a:xfrm>
            <a:off x="684360" y="5589720"/>
            <a:ext cx="777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, когд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существительными пишется слитно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84360" y="501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иведённых слов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rc 19"/>
          <p:cNvSpPr/>
          <p:nvPr/>
        </p:nvSpPr>
        <p:spPr>
          <a:xfrm rot="19127400">
            <a:off x="1834920" y="2491920"/>
            <a:ext cx="826920" cy="78732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rc 20"/>
          <p:cNvSpPr/>
          <p:nvPr/>
        </p:nvSpPr>
        <p:spPr>
          <a:xfrm rot="19127400">
            <a:off x="1834920" y="2923920"/>
            <a:ext cx="826920" cy="78732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rc 21"/>
          <p:cNvSpPr/>
          <p:nvPr/>
        </p:nvSpPr>
        <p:spPr>
          <a:xfrm rot="19127400">
            <a:off x="1834920" y="3357360"/>
            <a:ext cx="826920" cy="78732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8101080" y="2924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"/>
          <p:cNvSpPr/>
          <p:nvPr/>
        </p:nvSpPr>
        <p:spPr>
          <a:xfrm>
            <a:off x="1692360" y="47628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должим наблю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8"/>
          <p:cNvSpPr/>
          <p:nvPr/>
        </p:nvSpPr>
        <p:spPr>
          <a:xfrm>
            <a:off x="2707560" y="2205000"/>
            <a:ext cx="400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да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да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частье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часть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84360" y="12668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аблюдай за особенностями другой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2706840" y="2205000"/>
            <a:ext cx="42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да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да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лож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частье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частье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ор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 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ра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539640" y="378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и пары слов. Какой смысл слову придаё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-1620720" y="21384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2"/>
          <p:cNvSpPr/>
          <p:nvPr/>
        </p:nvSpPr>
        <p:spPr>
          <a:xfrm>
            <a:off x="539640" y="43657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можно заменить существительные с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68360" y="5516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2-й вывод о слитном написании существительных с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>
            <a:off x="6719760" y="4371840"/>
            <a:ext cx="2232000" cy="432000"/>
          </a:xfrm>
          <a:prstGeom prst="roundRect">
            <a:avLst>
              <a:gd name="adj" fmla="val 16667"/>
            </a:avLst>
          </a:prstGeom>
          <a:solidFill>
            <a:srgbClr val="3db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"/>
          <p:cNvSpPr/>
          <p:nvPr/>
        </p:nvSpPr>
        <p:spPr>
          <a:xfrm>
            <a:off x="1712880" y="33336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должим наблю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611280" y="4869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явля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данных слова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2847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0"/>
          <p:cNvSpPr/>
          <p:nvPr/>
        </p:nvSpPr>
        <p:spPr>
          <a:xfrm>
            <a:off x="4284720" y="2708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1"/>
          <p:cNvSpPr/>
          <p:nvPr/>
        </p:nvSpPr>
        <p:spPr>
          <a:xfrm>
            <a:off x="4643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2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3"/>
          <p:cNvSpPr/>
          <p:nvPr/>
        </p:nvSpPr>
        <p:spPr>
          <a:xfrm>
            <a:off x="385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4"/>
          <p:cNvSpPr/>
          <p:nvPr/>
        </p:nvSpPr>
        <p:spPr>
          <a:xfrm>
            <a:off x="421164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9" descr="http://korablik29chap.ucoz.ru/novosti_obyavl/2016/monitoring_gotovnosti_k_shkole.jpg"/>
          <p:cNvPicPr/>
          <p:nvPr/>
        </p:nvPicPr>
        <p:blipFill>
          <a:blip r:embed="rId2"/>
          <a:stretch/>
        </p:blipFill>
        <p:spPr>
          <a:xfrm>
            <a:off x="554040" y="1724040"/>
            <a:ext cx="20019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3"/>
          <p:cNvSpPr/>
          <p:nvPr/>
        </p:nvSpPr>
        <p:spPr>
          <a:xfrm>
            <a:off x="613440" y="2924280"/>
            <a:ext cx="16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rc 11"/>
          <p:cNvSpPr/>
          <p:nvPr/>
        </p:nvSpPr>
        <p:spPr>
          <a:xfrm rot="19127400">
            <a:off x="900000" y="3645000"/>
            <a:ext cx="827280" cy="78732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rc 12"/>
          <p:cNvSpPr/>
          <p:nvPr/>
        </p:nvSpPr>
        <p:spPr>
          <a:xfrm rot="19127400">
            <a:off x="900000" y="2781360"/>
            <a:ext cx="827280" cy="78732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13"/>
          <p:cNvSpPr/>
          <p:nvPr/>
        </p:nvSpPr>
        <p:spPr>
          <a:xfrm rot="19127400">
            <a:off x="826920" y="3213000"/>
            <a:ext cx="827280" cy="787680"/>
          </a:xfrm>
          <a:custGeom>
            <a:avLst/>
            <a:gdLst/>
            <a:ahLst/>
            <a:rect l="l" t="t" r="r" b="b"/>
            <a:pathLst>
              <a:path fill="none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</a:path>
              <a:path stroke="0" w="26717" h="25503">
                <a:moveTo>
                  <a:pt x="-1" y="614"/>
                </a:moveTo>
                <a:cubicBezTo>
                  <a:pt x="1674" y="206"/>
                  <a:pt x="3392" y="-1"/>
                  <a:pt x="5117" y="0"/>
                </a:cubicBezTo>
                <a:cubicBezTo>
                  <a:pt x="17046" y="0"/>
                  <a:pt x="26717" y="9670"/>
                  <a:pt x="26717" y="21600"/>
                </a:cubicBezTo>
                <a:cubicBezTo>
                  <a:pt x="26717" y="22909"/>
                  <a:pt x="26597" y="24215"/>
                  <a:pt x="26361" y="25502"/>
                </a:cubicBezTo>
                <a:lnTo>
                  <a:pt x="5117" y="21600"/>
                </a:lnTo>
                <a:lnTo>
                  <a:pt x="-1" y="6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"/>
          <p:cNvSpPr/>
          <p:nvPr/>
        </p:nvSpPr>
        <p:spPr>
          <a:xfrm>
            <a:off x="2846160" y="2924280"/>
            <a:ext cx="16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"/>
          <p:cNvSpPr/>
          <p:nvPr/>
        </p:nvSpPr>
        <p:spPr>
          <a:xfrm>
            <a:off x="5225760" y="299736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_печь, а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"/>
          <p:cNvSpPr/>
          <p:nvPr/>
        </p:nvSpPr>
        <p:spPr>
          <a:xfrm>
            <a:off x="5226120" y="4005360"/>
            <a:ext cx="34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_галка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_сор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_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2124000" y="1484280"/>
            <a:ext cx="62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йте общий вывод о слитном и раздель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ии существительных 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048040" y="433440"/>
            <a:ext cx="4760640" cy="9255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0"/>
          <p:cNvSpPr/>
          <p:nvPr/>
        </p:nvSpPr>
        <p:spPr>
          <a:xfrm>
            <a:off x="324000" y="5157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свои выводы с правилом в учебнике.(стр.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www.xrest.ru/images/collection/00699/196/original.jpg"/>
          <p:cNvPicPr/>
          <p:nvPr/>
        </p:nvPicPr>
        <p:blipFill>
          <a:blip r:embed="rId2"/>
          <a:stretch/>
        </p:blipFill>
        <p:spPr>
          <a:xfrm>
            <a:off x="324000" y="907920"/>
            <a:ext cx="1447560" cy="1676520"/>
          </a:xfrm>
          <a:prstGeom prst="rect">
            <a:avLst/>
          </a:prstGeom>
          <a:ln w="0">
            <a:noFill/>
          </a:ln>
        </p:spPr>
      </p:pic>
      <p:sp>
        <p:nvSpPr>
          <p:cNvPr id="457" name="Line 22"/>
          <p:cNvSpPr/>
          <p:nvPr/>
        </p:nvSpPr>
        <p:spPr>
          <a:xfrm>
            <a:off x="291636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3"/>
          <p:cNvSpPr/>
          <p:nvPr/>
        </p:nvSpPr>
        <p:spPr>
          <a:xfrm>
            <a:off x="334800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4"/>
          <p:cNvSpPr/>
          <p:nvPr/>
        </p:nvSpPr>
        <p:spPr>
          <a:xfrm>
            <a:off x="291636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5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6"/>
          <p:cNvSpPr/>
          <p:nvPr/>
        </p:nvSpPr>
        <p:spPr>
          <a:xfrm>
            <a:off x="298764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7"/>
          <p:cNvSpPr/>
          <p:nvPr/>
        </p:nvSpPr>
        <p:spPr>
          <a:xfrm>
            <a:off x="334800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18:17:02Z</dcterms:created>
  <dc:creator>Ксения</dc:creator>
  <dc:description/>
  <dc:language>en-US</dc:language>
  <cp:lastModifiedBy>ЧННГ</cp:lastModifiedBy>
  <dcterms:modified xsi:type="dcterms:W3CDTF">2017-12-10T06:15:25Z</dcterms:modified>
  <cp:revision>82</cp:revision>
  <dc:subject/>
  <dc:title>Слайд 1</dc:title>
</cp:coreProperties>
</file>