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E96-0F4B-42DC-B5EC-91AA2584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ACE-FCDE-40A3-8709-1F963AAE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6C1-6544-4BC1-83AE-EA3784E8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D6B-D2BD-47ED-A6B1-FBE088FD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D4DD-DD4A-49E1-BA1D-5C5D8BA3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9567-17F4-4AC8-94DB-58707DA6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9FDE-B9A5-4678-BD5C-77D3A272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5C18-5035-4990-857C-67038A9E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8A1D-3AE5-4289-B364-562549DA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51A2-4637-46F6-98FF-3471D446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1317-3094-4AF8-8E33-B9852824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666-B020-4BDA-A373-D02388F4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AE43-228D-440D-819D-AE23547F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37F2-ED53-4A45-9CD1-5DECACB3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F805-4F77-4567-88F6-5E32A92B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45FB-DEAF-400E-A2A4-7356F96F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4A54-AB6B-4B21-AA0B-F30DF92D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2E0-BDC7-4651-AAEB-A6ED4C34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4F6-0A0B-4709-A9ED-FE851C4B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9CC-DCB5-4ABB-AB9A-BE4802B4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B66-4013-4087-887B-6223727F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8D7-A4F7-4C46-AEB9-D5FA9282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197-0A77-4486-97D8-CF4E4B0B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E92-D699-4383-A708-8A716D19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2157-78C4-41C8-A0B7-B90E45A363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9222-962C-4333-98FA-7A37DEED14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620120" cy="36576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Воспитание ответственности у детей в семье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4495680"/>
            <a:ext cx="777240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Дети не всегда умеют слушаться старш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 они очень хорошо умеют их коп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Д.Болду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опросы анкет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142640"/>
            <a:ext cx="6400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домашние обязанности у тебя есть? (Что ты очень часто делаешь в помощь своим близким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ишь ли ты сам без напоминания взрослых прощение у того, перед кем оказался виноват?    А) да,    б) нет,  в) если он первый извинится,     г) сво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ты понимаешь фразу «уважать труд людей»? (приведи прим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часто ты заботишься о своих близких и домашних животных?  А) часто б) редко  в) не было такой необход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ешь ли ты за свой плохой поступок? Ка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Ошибки в воспитании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62320" y="1219320"/>
            <a:ext cx="6400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ответственности при нехватке любви ребенку (инфантилизм ребенка, нежелание брать на себя ответственность, образ взрослого как игнорирующего челове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огласованность требований в семье к ребенку. (можно - нельзя, хорошо-плох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– кумир (воспитание эгоиста). Куплю ему сенсорный телефон, ведь над ним смеются, при этом потерплю, что у меня старые сапо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ое безответственное поведение родителей по отношению друг к другу и к ребенку (обманы, отсутствие взаимопомощи, заботы друг о друг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Ошибки в воспитании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2189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ку не позволяют сделать никакую ошибку (не научится делать выбор, т.к. все решили и сделали за не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зволяют ребенку проявлять заботу. «Она ведь еще не умеет мыть пол, только разведет гряз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ый отказ от наказания, вседозволенность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азы вместо просьб и объяснения, зачем это нужно сделать или не надо 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обождение ребенка от усилий. «Я сделаю быстрее сам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кая похвала или её отсутствие за усилия, потраченные им, за взрослое ответственное поведение (за то, что признал ошибку и готов исправитьс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380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екреты любви и взаимопонимания (тайные мечты каждого ребенка)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те меня и позволяйте мне любить вас. Любите меня, даже когда я плох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те мне, что вы меня любите, даже если вам не нравится то, что я дел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щайте меня. Говорите мне, что вы меня понимаете, даже если я ошибаю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те мне, что я вам нравлюсь. Говорите, что я единственный, что вы всегда будете любить меня, что бы не случ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285640" y="228600"/>
            <a:ext cx="6553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авайте мне того, что вы сами не име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осите меня, что я делал сегодня в школе. Разговаривайте со мной, спрашивайте моё мнение. Делитесь со мной моими пла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луйста, не сравнивайте меня с другими, особенно с моими братьями и сест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зывайте меня, когда я поступаю плохо. Хвалите меня, когда я поступаю хорошо. Не командуйте, просите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щаю, что я научусь  говорить «извините», «пожалуйста», «спасиб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ьте мне. С вашей помощью у меня всё полу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тветственност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пособность личности контролировать свою деятельность в соответствии с принятыми в обществе или коллективе социальными, нравственными и правовыми нормами и правилами, чувством долга (Педагогический слова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еория Выготского Л.С.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интериоризации (внешнее переходит во внутренний пл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свобождение ребенка от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их обяза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жливости по отношению к близ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ажения к труду род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ты о других люд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ния с ровес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х и моральных уси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растает эгоис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24382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Не делайте из ребенка кумира: когда он вырастет – потребует  много жерт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.Буа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Разделите высказывания на 2 групп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ери, пожалуйста, свои игрушки на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и красиво одежду в шкаф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ж жене: «Долго мне ещё ждать мой чай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и маме помыть пос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уляй (поиграй) с братиком, пока я готов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8280" y="38052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я пойду на дискотеку? – Иди у мамы спроси. – А мама сказала спросить у т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па, ты обещал съездить со мной на каток. - Мне некогда. –Но ведь ты обещал! – Мало ли что я обеща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ять весь муке! Я лучше сама сделаю, а то потом всю кухню и тебя мыть придё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твоя очередь гулять с соба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в город съездить. Пропустишь два урока. Ничего страшного не случится. (без предупреждения классного руководител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удрые высказы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еешь поступок – пожнешь привычку, посеешь привычку – пожнешь характер, посеешь характер – пожнешь судь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здность – мать всех поро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.Н.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ти не всегда умеют слушаться старших, но они очень хорошо умеют их коп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.Болду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жно для формирования ответственного повед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ие обязан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ость по отношению к близк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ажение к труду родных люд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ота о других люд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и моральные уси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7-12-15T10:41:5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