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3.wmf" ContentType="image/x-wmf"/>
  <Override PartName="/ppt/media/image15.jpeg" ContentType="image/jpeg"/>
  <Override PartName="/ppt/media/image21.wmf" ContentType="image/x-wmf"/>
  <Override PartName="/ppt/media/image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png" ContentType="image/png"/>
  <Override PartName="/ppt/media/camera.wav" ContentType="audio/x-wav"/>
  <Override PartName="/ppt/media/image18.png" ContentType="image/png"/>
  <Override PartName="/ppt/media/image7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AA7D5-F81B-4F40-B55D-65F877B3EDD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136520" y="5408640"/>
            <a:ext cx="507852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ECC05-59EF-450C-8F37-E4E960B2DA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9CD8-EEF2-41C3-BC23-C53392EEA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DE36-D08B-494C-B2E2-9A04351D9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0438-E2D4-4F29-B2DC-6D715CFDD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599C-F094-4C4F-ABED-0394FC4EB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2B80-F0DB-4FA5-83D9-568BFAB466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7CEB-590C-4A62-A55A-455DAC270B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4BB8-B7A1-4C72-91E0-F92AE14AAF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DEEE-B996-49A6-BFCD-538B65DF8B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6181-1B7E-431E-A6DA-FF5EDA6B20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995D-85B2-479B-A62E-C20D55774D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B987-22FF-4475-AE47-14D6873FB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AA71-D5D3-4459-ADB6-D3B84F632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7FDC-35C0-485D-9CF6-7A44E74C5A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3BF1-F3CE-407D-8056-CEA5E3A283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C777-DA84-4CEE-AD9F-D3B793FE59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71BA-B31E-4BCD-981D-823D1BFF9D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A899-BE3C-4E46-B59B-0580A942BD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EF6-A27D-4044-9F03-F3B169DB73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296-37FD-4286-AD63-E065D77300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1D5-3AFD-4F61-946B-98763D945E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5F3-3CE2-467E-9175-E3055495AA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7B5-0EC9-459D-A250-88F557F7EC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D804-C495-45BD-B075-0A4D5ED9F4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E3B-B4BB-40ED-B5E5-A334C32E33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241-D914-4EA3-A208-2F8731E2E3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65A-403E-42EA-B714-865CC89D33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8A1-5C69-40E5-B58F-8294195115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93F-FC9D-4AF4-AFA9-939AC33769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BA6-3A81-4297-ABF9-4A3C2BBA51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6C2-257C-4BBB-939E-B38E1C79E1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C384D-09C6-45A2-998F-F3DDF69A9B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F50D5-0285-41B6-B1DD-F652063C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C0E32-48D7-48CC-9EB7-51878D49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843C-355A-4E1C-AC4D-5B03BE7BFD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5FD46-CFC5-4F7F-86E4-8EAEA8C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524D6-A3DD-4198-B5D6-B2D014E6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541E-2C7F-43B0-935F-0B79E69F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CDC6D-8B27-429B-B22F-4E80C3B1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2D342-B4F6-4973-9A94-71FAA1B5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C300C-58BD-465A-BFE0-15EE0FEA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6E6B8-2B81-4ECD-B6C9-96862C46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DACC7-EBF6-4B77-A108-AB3585DB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86040-0FB1-4FAF-940D-9FDB265588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79F5B-0D51-4C49-8C52-102FDA0BC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922F-BA8D-4793-BB36-551487A29D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6436C-EEE8-45AA-B5F6-E3624BC1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13843-137A-4C38-979B-0DD2B600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D9F10-5A2D-48E5-9838-2BD0E593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A8C5B-0CA7-4990-A601-FD1AF5EC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E11E0-E224-44E0-95A3-013C3D81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BA0CBA-1447-44E7-9DBF-C91FD5D6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AB9F6-CB16-4352-8826-C5CACB8B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33A29-FC78-4FD1-BDF6-75CB8442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54D108-C4E0-4B63-9A5D-26379F46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36D96-0A54-4092-8774-66B07A6A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7E11-EBF9-42BF-BBF6-3D6256C4D6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7623E-3821-4F4D-915D-D5E167FF40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BBD8-E99C-4891-9910-BBF1BCF911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0279-210F-40EF-8868-FB55044A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CE7F1-8DC2-490E-A272-1B77C18C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F391-B003-4256-B4A8-CECA1FB7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D22A-DFA3-4F55-8C64-B432CA41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40B3D-EF5B-44B6-AC9E-CADC9CDA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2156-C25B-45A7-BDDC-813C57B7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DAD0-1140-461E-BE9E-3CDBAFDA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B76A-EF9F-45AF-BC8C-C5474D5C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E80F-43C6-46E8-AE8D-2E3CCDE196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050D-C31D-4308-AAC7-F032FD21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8A6C-2828-490B-9CB6-5BAAE203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F43F-E8AE-4329-9564-75212DAF1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4426C-906D-43B4-91FC-BFF9AC27C3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57ACD-2DDF-4C6E-BF1C-039DD03E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EAA30-2266-4A7B-B306-0E79D179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2B075-5279-4EFD-8D4A-1A1D6F77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73DD6-FD09-4315-9040-DA7FC726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5AD67-EE1D-408A-98BE-B6559AE0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23A53-B7B0-4A4C-A435-B7133F80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70C6-19BC-4FE5-94DC-F91BA9E634E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91665-3005-4AA0-9029-E59D366E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57B4F-9DFC-45DF-8ED6-042FFFA5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F50A8-97AD-4A95-97DD-0036DF42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DD7ED-B941-42D5-9BCD-19127925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47447-CF6B-4F15-B9FA-90F65E11C0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4F88-85CF-47B2-A78D-557932389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5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15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53282-AA79-4DC5-A6C0-ECCE56B8280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9360" y="152280"/>
            <a:ext cx="8680320" cy="1594080"/>
            <a:chOff x="279360" y="152280"/>
            <a:chExt cx="8680320" cy="1594080"/>
          </a:xfrm>
        </p:grpSpPr>
        <p:sp>
          <p:nvSpPr>
            <p:cNvPr id="42" name=""/>
            <p:cNvSpPr/>
            <p:nvPr/>
          </p:nvSpPr>
          <p:spPr>
            <a:xfrm flipH="1">
              <a:off x="450720" y="1746360"/>
              <a:ext cx="831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37560" y="152280"/>
              <a:ext cx="222120" cy="22212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9360" y="152280"/>
              <a:ext cx="8448840" cy="22212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9360" y="380520"/>
              <a:ext cx="8448840" cy="133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37560" y="382320"/>
              <a:ext cx="222120" cy="129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312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2640" indent="-33264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640" indent="-33264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2640" indent="-33264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2640" indent="-33264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2640" indent="-33264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2640" indent="-33264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17D0F-437F-4C05-A963-5CAD77868126}" type="slidenum">
              <a:rPr b="0" lang="ru-RU" sz="10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F822D-736D-4F93-B365-946FC8395DA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3.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61CF2-F63F-4552-A633-F3F172D817D5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dt" idx="6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4.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Num" idx="7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58004-99FB-4D37-828E-84E739FC81E9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94840" indent="-2948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dt" idx="8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15.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9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4769A-96CC-4719-911E-EACA5D5B4EEB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15.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ldNum" idx="1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6E2C0-FF92-4982-9E32-EF31FFBA43C4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1280" y="563400"/>
            <a:ext cx="7967880" cy="4722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016000" y="4751280"/>
            <a:ext cx="576360" cy="503280"/>
          </a:xfrm>
          <a:prstGeom prst="rect">
            <a:avLst/>
          </a:prstGeom>
          <a:solidFill>
            <a:srgbClr val="0084d1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84720" y="3887640"/>
            <a:ext cx="647640" cy="648000"/>
          </a:xfrm>
          <a:prstGeom prst="triangle">
            <a:avLst>
              <a:gd name="adj" fmla="val 50000"/>
            </a:avLst>
          </a:prstGeom>
          <a:solidFill>
            <a:srgbClr val="ff808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28720" y="3887640"/>
            <a:ext cx="576360" cy="576360"/>
          </a:xfrm>
          <a:prstGeom prst="rect">
            <a:avLst/>
          </a:prstGeom>
          <a:solidFill>
            <a:srgbClr val="0084d1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84720" y="295272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ff808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11640" y="3024360"/>
            <a:ext cx="647640" cy="647640"/>
          </a:xfrm>
          <a:prstGeom prst="ellipse">
            <a:avLst/>
          </a:prstGeom>
          <a:solidFill>
            <a:srgbClr val="ff950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67280" y="2232000"/>
            <a:ext cx="647640" cy="647640"/>
          </a:xfrm>
          <a:prstGeom prst="ellipse">
            <a:avLst/>
          </a:prstGeom>
          <a:solidFill>
            <a:srgbClr val="ff950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4720" y="2160720"/>
            <a:ext cx="936720" cy="863640"/>
          </a:xfrm>
          <a:prstGeom prst="diamond">
            <a:avLst/>
          </a:prstGeom>
          <a:solidFill>
            <a:srgbClr val="aecf0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32360" y="1297080"/>
            <a:ext cx="936720" cy="863640"/>
          </a:xfrm>
          <a:prstGeom prst="diamond">
            <a:avLst/>
          </a:prstGeom>
          <a:solidFill>
            <a:srgbClr val="aecf0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88360" y="1295280"/>
            <a:ext cx="936360" cy="863640"/>
          </a:xfrm>
          <a:prstGeom prst="diamond">
            <a:avLst/>
          </a:prstGeom>
          <a:solidFill>
            <a:srgbClr val="aecf0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-167040" y="-161640"/>
            <a:ext cx="9466560" cy="7154280"/>
            <a:chOff x="-167040" y="-161640"/>
            <a:chExt cx="9466560" cy="7154280"/>
          </a:xfrm>
        </p:grpSpPr>
        <p:sp>
          <p:nvSpPr>
            <p:cNvPr id="315" name=""/>
            <p:cNvSpPr/>
            <p:nvPr/>
          </p:nvSpPr>
          <p:spPr>
            <a:xfrm>
              <a:off x="566640" y="111240"/>
              <a:ext cx="7995960" cy="324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9120" y="46080"/>
              <a:ext cx="8094240" cy="36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2680" y="574560"/>
              <a:ext cx="4680" cy="567864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760" y="533520"/>
              <a:ext cx="360" cy="577512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9880" y="6705720"/>
              <a:ext cx="7995600" cy="36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9120" y="6781680"/>
              <a:ext cx="8098920" cy="324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8417880" y="6045120"/>
              <a:ext cx="881640" cy="938880"/>
              <a:chOff x="8417880" y="6045120"/>
              <a:chExt cx="881640" cy="938880"/>
            </a:xfrm>
          </p:grpSpPr>
          <p:sp>
            <p:nvSpPr>
              <p:cNvPr id="322" name=""/>
              <p:cNvSpPr/>
              <p:nvPr/>
            </p:nvSpPr>
            <p:spPr>
              <a:xfrm flipH="1" flipV="1" rot="5940000">
                <a:off x="8478000" y="6090840"/>
                <a:ext cx="729720" cy="74556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 rot="5940000">
                <a:off x="8509320" y="6200280"/>
                <a:ext cx="769320" cy="69804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9013320" y="571680"/>
              <a:ext cx="360" cy="568152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084600" y="519120"/>
              <a:ext cx="360" cy="577692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-167040" y="-158040"/>
              <a:ext cx="878040" cy="938880"/>
              <a:chOff x="-167040" y="-158040"/>
              <a:chExt cx="878040" cy="938880"/>
            </a:xfrm>
          </p:grpSpPr>
          <p:sp>
            <p:nvSpPr>
              <p:cNvPr id="327" name=""/>
              <p:cNvSpPr/>
              <p:nvPr/>
            </p:nvSpPr>
            <p:spPr>
              <a:xfrm rot="5940000">
                <a:off x="-77760" y="-9000"/>
                <a:ext cx="728280" cy="74448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940000">
                <a:off x="-144360" y="-74880"/>
                <a:ext cx="763560" cy="69732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8414640" y="-161640"/>
              <a:ext cx="877320" cy="935640"/>
              <a:chOff x="8414640" y="-161640"/>
              <a:chExt cx="877320" cy="935640"/>
            </a:xfrm>
          </p:grpSpPr>
          <p:sp>
            <p:nvSpPr>
              <p:cNvPr id="330" name=""/>
              <p:cNvSpPr/>
              <p:nvPr/>
            </p:nvSpPr>
            <p:spPr>
              <a:xfrm flipH="1" rot="15660000">
                <a:off x="8472240" y="-12600"/>
                <a:ext cx="728280" cy="73908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rot="15660000">
                <a:off x="8508960" y="-73800"/>
                <a:ext cx="765360" cy="68832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-165240" y="6052680"/>
              <a:ext cx="880920" cy="939960"/>
              <a:chOff x="-165240" y="6052680"/>
              <a:chExt cx="880920" cy="939960"/>
            </a:xfrm>
          </p:grpSpPr>
          <p:sp>
            <p:nvSpPr>
              <p:cNvPr id="333" name=""/>
              <p:cNvSpPr/>
              <p:nvPr/>
            </p:nvSpPr>
            <p:spPr>
              <a:xfrm flipV="1" rot="15660000">
                <a:off x="-75960" y="6096960"/>
                <a:ext cx="729720" cy="74916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 rot="15660000">
                <a:off x="-143640" y="6207480"/>
                <a:ext cx="768600" cy="70020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1480" y="126828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граниченная, без самопересечений, замкнутой, фигура, линией, ломаной, геометрическ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63640" y="144360"/>
            <a:ext cx="727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ставить определение многоугольника из с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798640" y="1611360"/>
            <a:ext cx="3959280" cy="23479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566640" y="5157720"/>
            <a:ext cx="8155080" cy="116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6320" y="4392720"/>
            <a:ext cx="8132760" cy="181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гоугольник - это геометрическая фигу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 замкнутой ломаной линией без самопересеч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19200" y="188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19760" y="2333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24280" y="3703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91000" y="1243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862360" y="1650960"/>
            <a:ext cx="2514600" cy="698400"/>
          </a:xfrm>
          <a:prstGeom prst="line">
            <a:avLst/>
          </a:prstGeom>
          <a:ln cap="sq"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4120" y="1657440"/>
            <a:ext cx="1371600" cy="969840"/>
          </a:xfrm>
          <a:prstGeom prst="line">
            <a:avLst/>
          </a:prstGeom>
          <a:ln cap="sq"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479920" y="2611440"/>
            <a:ext cx="1231920" cy="1295280"/>
          </a:xfrm>
          <a:prstGeom prst="line">
            <a:avLst/>
          </a:prstGeom>
          <a:ln cap="sq"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362040" y="3871800"/>
            <a:ext cx="2160360" cy="52560"/>
          </a:xfrm>
          <a:prstGeom prst="line">
            <a:avLst/>
          </a:prstGeom>
          <a:ln cap="sq"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6616800" y="2552040"/>
            <a:ext cx="152280" cy="152280"/>
          </a:xfrm>
          <a:prstGeom prst="ellips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13400" y="3757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3844800"/>
            <a:ext cx="152640" cy="152640"/>
          </a:xfrm>
          <a:prstGeom prst="ellips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2813040" y="2336760"/>
            <a:ext cx="574560" cy="1558800"/>
          </a:xfrm>
          <a:prstGeom prst="line">
            <a:avLst/>
          </a:prstGeom>
          <a:ln cap="sq"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281400" y="3788640"/>
            <a:ext cx="152280" cy="152280"/>
          </a:xfrm>
          <a:prstGeom prst="ellips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272200" y="1569960"/>
            <a:ext cx="152280" cy="152640"/>
          </a:xfrm>
          <a:prstGeom prst="ellips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733840" y="2293200"/>
            <a:ext cx="152280" cy="152280"/>
          </a:xfrm>
          <a:prstGeom prst="ellips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85" dur="indefinite" restart="never" nodeType="tmRoot">
          <p:childTnLst>
            <p:audio isNarration="0">
              <p:cMediaNode showWhenStopped="1">
                <p:cTn/>
                <p:tgtEl>
                  <p:sndTgt r:embed="rId2" name="camera.wav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44360" y="287280"/>
            <a:ext cx="8901360" cy="4751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rcRect l="12070" t="27397" r="12323" b="30597"/>
          <a:stretch/>
        </p:blipFill>
        <p:spPr>
          <a:xfrm>
            <a:off x="395280" y="189000"/>
            <a:ext cx="8502480" cy="29527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rcRect l="15748" t="35792" r="14948" b="25638"/>
          <a:stretch/>
        </p:blipFill>
        <p:spPr>
          <a:xfrm>
            <a:off x="971640" y="3573360"/>
            <a:ext cx="7488000" cy="2603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871560" y="981000"/>
            <a:ext cx="74088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6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6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6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6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6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6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6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6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6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нная фигура не является многоугольником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125360"/>
            <a:ext cx="2736720" cy="2125800"/>
          </a:xfrm>
          <a:prstGeom prst="flowChartExtract">
            <a:avLst/>
          </a:prstGeom>
          <a:solidFill>
            <a:srgbClr val="0070c0"/>
          </a:solidFill>
          <a:ln cap="sq"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47640" y="3251160"/>
            <a:ext cx="1872000" cy="1257480"/>
          </a:xfrm>
          <a:prstGeom prst="flowChartMerge">
            <a:avLst/>
          </a:prstGeom>
          <a:solidFill>
            <a:srgbClr val="0070c0"/>
          </a:solidFill>
          <a:ln cap="sq"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762120" y="-320760"/>
            <a:ext cx="77724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МНОГОУГОЛЬН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870680" y="3265560"/>
            <a:ext cx="1273320" cy="609480"/>
          </a:xfrm>
          <a:prstGeom prst="cloudCallout">
            <a:avLst>
              <a:gd name="adj1" fmla="val 25000"/>
              <a:gd name="adj2" fmla="val 9375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13480" y="2948040"/>
            <a:ext cx="914400" cy="609480"/>
          </a:xfrm>
          <a:prstGeom prst="cloudCallout">
            <a:avLst>
              <a:gd name="adj1" fmla="val 49481"/>
              <a:gd name="adj2" fmla="val -54949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077320" y="2604960"/>
            <a:ext cx="914400" cy="609840"/>
          </a:xfrm>
          <a:prstGeom prst="cloudCallout">
            <a:avLst>
              <a:gd name="adj1" fmla="val -18750"/>
              <a:gd name="adj2" fmla="val -20310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86760" y="2224080"/>
            <a:ext cx="1247760" cy="609480"/>
          </a:xfrm>
          <a:prstGeom prst="cloudCallout">
            <a:avLst>
              <a:gd name="adj1" fmla="val -18750"/>
              <a:gd name="adj2" fmla="val 41148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781360" y="1614240"/>
            <a:ext cx="3574800" cy="3663720"/>
            <a:chOff x="2781360" y="1614240"/>
            <a:chExt cx="3574800" cy="3663720"/>
          </a:xfrm>
        </p:grpSpPr>
        <p:sp>
          <p:nvSpPr>
            <p:cNvPr id="513" name=""/>
            <p:cNvSpPr/>
            <p:nvPr/>
          </p:nvSpPr>
          <p:spPr>
            <a:xfrm flipV="1">
              <a:off x="2792160" y="1614240"/>
              <a:ext cx="2498040" cy="691560"/>
            </a:xfrm>
            <a:prstGeom prst="line">
              <a:avLst/>
            </a:prstGeom>
            <a:ln cap="sq"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92000" y="1620720"/>
              <a:ext cx="1054440" cy="2346840"/>
            </a:xfrm>
            <a:prstGeom prst="line">
              <a:avLst/>
            </a:prstGeom>
            <a:ln cap="sq"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065200" y="3974400"/>
              <a:ext cx="1290960" cy="1295640"/>
            </a:xfrm>
            <a:prstGeom prst="line">
              <a:avLst/>
            </a:prstGeom>
            <a:ln cap="sq"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09600" y="4439160"/>
              <a:ext cx="2133360" cy="838800"/>
            </a:xfrm>
            <a:prstGeom prst="line">
              <a:avLst/>
            </a:prstGeom>
            <a:ln cap="sq"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2781360" y="2294640"/>
              <a:ext cx="234720" cy="2140920"/>
            </a:xfrm>
            <a:prstGeom prst="line">
              <a:avLst/>
            </a:prstGeom>
            <a:ln cap="sq"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2557440" y="18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00800" y="3710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9080" y="4179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19640" y="1195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72040" y="5234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067360" y="5234040"/>
            <a:ext cx="76320" cy="76320"/>
          </a:xfrm>
          <a:prstGeom prst="ellipse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47880" y="2262240"/>
            <a:ext cx="76320" cy="76320"/>
          </a:xfrm>
          <a:prstGeom prst="ellipse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4408560"/>
            <a:ext cx="76320" cy="75960"/>
          </a:xfrm>
          <a:prstGeom prst="ellipse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62480" y="1576440"/>
            <a:ext cx="76320" cy="76320"/>
          </a:xfrm>
          <a:prstGeom prst="ellipse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324480" y="3938040"/>
            <a:ext cx="76320" cy="75960"/>
          </a:xfrm>
          <a:prstGeom prst="ellipse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95120" y="2948040"/>
            <a:ext cx="2452680" cy="1483920"/>
            <a:chOff x="195120" y="2948040"/>
            <a:chExt cx="2452680" cy="1483920"/>
          </a:xfrm>
        </p:grpSpPr>
        <p:sp>
          <p:nvSpPr>
            <p:cNvPr id="529" name=""/>
            <p:cNvSpPr/>
            <p:nvPr/>
          </p:nvSpPr>
          <p:spPr>
            <a:xfrm>
              <a:off x="195120" y="2948040"/>
              <a:ext cx="2452680" cy="984240"/>
            </a:xfrm>
            <a:prstGeom prst="cloudCallout">
              <a:avLst>
                <a:gd name="adj1" fmla="val 69430"/>
                <a:gd name="adj2" fmla="val 89745"/>
              </a:avLst>
            </a:prstGeom>
            <a:solidFill>
              <a:srgbClr val="e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0800" y="3116160"/>
              <a:ext cx="1774800" cy="13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л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Е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 rot="660000">
            <a:off x="2918880" y="4092480"/>
            <a:ext cx="492120" cy="542880"/>
          </a:xfrm>
          <a:prstGeom prst="pie">
            <a:avLst/>
          </a:prstGeom>
          <a:noFill/>
          <a:ln cap="sq" w="442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987480"/>
            <a:ext cx="2452680" cy="957240"/>
          </a:xfrm>
          <a:prstGeom prst="cloudCallout">
            <a:avLst>
              <a:gd name="adj1" fmla="val 55652"/>
              <a:gd name="adj2" fmla="val 100759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1195560"/>
            <a:ext cx="2362320" cy="1143000"/>
          </a:xfrm>
          <a:prstGeom prst="cloudCallout">
            <a:avLst>
              <a:gd name="adj1" fmla="val -89046"/>
              <a:gd name="adj2" fmla="val 79861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16160" y="4489560"/>
            <a:ext cx="1485720" cy="609480"/>
          </a:xfrm>
          <a:prstGeom prst="cloudCallout">
            <a:avLst>
              <a:gd name="adj1" fmla="val -1069"/>
              <a:gd name="adj2" fmla="val 21875"/>
            </a:avLst>
          </a:prstGeom>
          <a:solidFill>
            <a:srgbClr val="e2a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4179960"/>
            <a:ext cx="1436760" cy="609480"/>
          </a:xfrm>
          <a:prstGeom prst="cloudCallout">
            <a:avLst>
              <a:gd name="adj1" fmla="val 25000"/>
              <a:gd name="adj2" fmla="val -1560"/>
            </a:avLst>
          </a:prstGeom>
          <a:solidFill>
            <a:srgbClr val="e2a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00240" y="3917880"/>
            <a:ext cx="1339920" cy="609840"/>
          </a:xfrm>
          <a:prstGeom prst="cloudCallout">
            <a:avLst>
              <a:gd name="adj1" fmla="val -3393"/>
              <a:gd name="adj2" fmla="val 21615"/>
            </a:avLst>
          </a:prstGeom>
          <a:solidFill>
            <a:srgbClr val="e2a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74600" y="4844880"/>
            <a:ext cx="1363680" cy="609840"/>
          </a:xfrm>
          <a:prstGeom prst="cloudCallout">
            <a:avLst>
              <a:gd name="adj1" fmla="val -31944"/>
              <a:gd name="adj2" fmla="val 26300"/>
            </a:avLst>
          </a:prstGeom>
          <a:solidFill>
            <a:srgbClr val="e2a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786040" y="738360"/>
            <a:ext cx="716040" cy="571320"/>
          </a:xfrm>
          <a:prstGeom prst="cloudCallout">
            <a:avLst>
              <a:gd name="adj1" fmla="val -15851"/>
              <a:gd name="adj2" fmla="val 32222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09960" y="1347840"/>
            <a:ext cx="716040" cy="609480"/>
          </a:xfrm>
          <a:prstGeom prst="cloudCallout">
            <a:avLst>
              <a:gd name="adj1" fmla="val 43569"/>
              <a:gd name="adj2" fmla="val 2083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32080" y="1309680"/>
            <a:ext cx="716040" cy="609480"/>
          </a:xfrm>
          <a:prstGeom prst="cloudCallout">
            <a:avLst>
              <a:gd name="adj1" fmla="val 30930"/>
              <a:gd name="adj2" fmla="val -5467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2080" y="906480"/>
            <a:ext cx="716040" cy="609480"/>
          </a:xfrm>
          <a:prstGeom prst="cloudCallout">
            <a:avLst>
              <a:gd name="adj1" fmla="val -22282"/>
              <a:gd name="adj2" fmla="val 29425"/>
            </a:avLst>
          </a:prstGeom>
          <a:solidFill>
            <a:srgbClr val="d2d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86040" y="6278400"/>
            <a:ext cx="520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угольник - пяти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3960" y="56912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рон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38560" y="564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ea4e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714800" y="5608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581ab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65320" y="569124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6991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09200" y="5827680"/>
            <a:ext cx="15447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шин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2160" y="565632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лов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1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dur="indefinite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ndTgt r:embed="rId1" name="camera.wav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c1d1e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179280" y="260280"/>
            <a:ext cx="912960" cy="913320"/>
            <a:chOff x="179280" y="260280"/>
            <a:chExt cx="912960" cy="913320"/>
          </a:xfrm>
        </p:grpSpPr>
        <p:sp>
          <p:nvSpPr>
            <p:cNvPr id="550" name=""/>
            <p:cNvSpPr/>
            <p:nvPr/>
          </p:nvSpPr>
          <p:spPr>
            <a:xfrm>
              <a:off x="179280" y="260280"/>
              <a:ext cx="912960" cy="91296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8160" y="260280"/>
              <a:ext cx="49932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ru-RU" sz="5400" spc="-1" strike="noStrike">
                  <a:solidFill>
                    <a:srgbClr val="bfd3f8"/>
                  </a:solidFill>
                  <a:latin typeface="Calibri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1258920" y="333360"/>
            <a:ext cx="8280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d1b66"/>
                </a:solidFill>
                <a:latin typeface="Calibri"/>
              </a:rPr>
              <a:t>Распределите данные многоугольники на две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d1b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d1b66"/>
                </a:solidFill>
                <a:latin typeface="Calibri"/>
              </a:rPr>
              <a:t>Объясните, по какому принципу вы это сдел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64360" y="4221000"/>
            <a:ext cx="432000" cy="432000"/>
          </a:xfrm>
          <a:prstGeom prst="rect">
            <a:avLst/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35280" y="4292640"/>
            <a:ext cx="432000" cy="431640"/>
          </a:xfrm>
          <a:prstGeom prst="rect">
            <a:avLst/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26920" y="4365720"/>
            <a:ext cx="432000" cy="431640"/>
          </a:xfrm>
          <a:prstGeom prst="rect">
            <a:avLst/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16720" y="1484280"/>
            <a:ext cx="431640" cy="432000"/>
          </a:xfrm>
          <a:prstGeom prst="rect">
            <a:avLst/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08360" y="1557360"/>
            <a:ext cx="432000" cy="431640"/>
          </a:xfrm>
          <a:prstGeom prst="rect">
            <a:avLst/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1280" y="1628640"/>
            <a:ext cx="431640" cy="432000"/>
          </a:xfrm>
          <a:prstGeom prst="rect">
            <a:avLst/>
          </a:prstGeom>
          <a:solidFill>
            <a:srgbClr val="e6b9b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8240000">
            <a:off x="613800" y="1994400"/>
            <a:ext cx="2222280" cy="1538280"/>
          </a:xfrm>
          <a:prstGeom prst="rect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9140000">
            <a:off x="6690960" y="1579320"/>
            <a:ext cx="1941480" cy="1482480"/>
          </a:xfrm>
          <a:custGeom>
            <a:avLst/>
            <a:gdLst/>
            <a:ahLst/>
            <a:rect l="l" t="t" r="r" b="b"/>
            <a:pathLst>
              <a:path w="10327" h="4119">
                <a:moveTo>
                  <a:pt x="0" y="4119"/>
                </a:moveTo>
                <a:lnTo>
                  <a:pt x="7860" y="0"/>
                </a:lnTo>
                <a:lnTo>
                  <a:pt x="-2467" y="0"/>
                </a:lnTo>
                <a:lnTo>
                  <a:pt x="5393" y="4119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580000">
            <a:off x="4149360" y="1581120"/>
            <a:ext cx="1297080" cy="2016000"/>
          </a:xfrm>
          <a:custGeom>
            <a:avLst/>
            <a:gdLst/>
            <a:ahLst/>
            <a:rect l="l" t="t" r="r" b="b"/>
            <a:pathLst>
              <a:path w="9326" h="11398">
                <a:moveTo>
                  <a:pt x="0" y="0"/>
                </a:moveTo>
                <a:lnTo>
                  <a:pt x="9326" y="0"/>
                </a:lnTo>
                <a:lnTo>
                  <a:pt x="9326" y="-5798"/>
                </a:lnTo>
                <a:lnTo>
                  <a:pt x="3603" y="-5798"/>
                </a:lnTo>
                <a:lnTo>
                  <a:pt x="3603" y="5600"/>
                </a:lnTo>
                <a:lnTo>
                  <a:pt x="0" y="56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042560" y="4292640"/>
            <a:ext cx="1798560" cy="1727280"/>
            <a:chOff x="1042560" y="4292640"/>
            <a:chExt cx="1798560" cy="1727280"/>
          </a:xfrm>
        </p:grpSpPr>
        <p:sp>
          <p:nvSpPr>
            <p:cNvPr id="563" name=""/>
            <p:cNvSpPr/>
            <p:nvPr/>
          </p:nvSpPr>
          <p:spPr>
            <a:xfrm flipH="1">
              <a:off x="1042560" y="4292640"/>
              <a:ext cx="793080" cy="93492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44000" y="5229360"/>
              <a:ext cx="1797120" cy="79056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000" y="4292640"/>
              <a:ext cx="0" cy="71892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36000" y="5013360"/>
              <a:ext cx="1005120" cy="100656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 rot="19740000">
            <a:off x="3683160" y="4005000"/>
            <a:ext cx="2304720" cy="2232000"/>
          </a:xfrm>
          <a:custGeom>
            <a:avLst/>
            <a:gdLst/>
            <a:ahLst/>
            <a:rect l="l" t="t" r="r" b="b"/>
            <a:pathLst>
              <a:path w="48297" h="35655">
                <a:moveTo>
                  <a:pt x="14015" y="-10360"/>
                </a:moveTo>
                <a:lnTo>
                  <a:pt x="27315" y="-9663"/>
                </a:lnTo>
                <a:lnTo>
                  <a:pt x="3202" y="0"/>
                </a:lnTo>
                <a:lnTo>
                  <a:pt x="-20912" y="-9663"/>
                </a:lnTo>
                <a:lnTo>
                  <a:pt x="-7612" y="-10360"/>
                </a:lnTo>
                <a:lnTo>
                  <a:pt x="-20947" y="-10686"/>
                </a:lnTo>
                <a:lnTo>
                  <a:pt x="-7630" y="-10818"/>
                </a:lnTo>
                <a:lnTo>
                  <a:pt x="3202" y="-35619"/>
                </a:lnTo>
                <a:lnTo>
                  <a:pt x="14033" y="-10818"/>
                </a:lnTo>
                <a:lnTo>
                  <a:pt x="27350" y="-10686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3080" y="3860640"/>
            <a:ext cx="1439640" cy="2376720"/>
          </a:xfrm>
          <a:custGeom>
            <a:avLst/>
            <a:gdLst/>
            <a:ahLst/>
            <a:rect l="l" t="t" r="r" b="b"/>
            <a:pathLst>
              <a:path w="14712" h="6601">
                <a:moveTo>
                  <a:pt x="0" y="6601"/>
                </a:moveTo>
                <a:lnTo>
                  <a:pt x="14712" y="0"/>
                </a:lnTo>
                <a:lnTo>
                  <a:pt x="4000" y="6601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6160" y="1628640"/>
            <a:ext cx="310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81800" y="1557360"/>
            <a:ext cx="310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590160" y="1484280"/>
            <a:ext cx="310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02160" y="4365720"/>
            <a:ext cx="310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10520" y="4292640"/>
            <a:ext cx="310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37800" y="4221000"/>
            <a:ext cx="310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0" y="333360"/>
            <a:ext cx="9137520" cy="1477800"/>
            <a:chOff x="0" y="333360"/>
            <a:chExt cx="9137520" cy="1477800"/>
          </a:xfrm>
        </p:grpSpPr>
        <p:sp>
          <p:nvSpPr>
            <p:cNvPr id="576" name=""/>
            <p:cNvSpPr/>
            <p:nvPr/>
          </p:nvSpPr>
          <p:spPr>
            <a:xfrm>
              <a:off x="0" y="333360"/>
              <a:ext cx="9137520" cy="1477800"/>
            </a:xfrm>
            <a:prstGeom prst="rect">
              <a:avLst/>
            </a:prstGeom>
            <a:solidFill>
              <a:srgbClr val="8eb4e3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4000" y="593640"/>
              <a:ext cx="8634240" cy="11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Calibri"/>
                </a:rPr>
                <a:t>Многоугольник называют </a:t>
              </a:r>
              <a:r>
                <a:rPr b="1" i="1" lang="ru-RU" sz="2800" spc="-1" strike="noStrike">
                  <a:solidFill>
                    <a:srgbClr val="660066"/>
                  </a:solidFill>
                  <a:latin typeface="Calibri"/>
                </a:rPr>
                <a:t>выпуклым</a:t>
              </a:r>
              <a:r>
                <a:rPr b="1" i="1" lang="ru-RU" sz="2000" spc="-1" strike="noStrike">
                  <a:solidFill>
                    <a:srgbClr val="660066"/>
                  </a:solidFill>
                  <a:latin typeface="Calibri"/>
                </a:rPr>
                <a:t>, если он лежит по одну сторону от каждой прямой, проходящей через две его соседние вершины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46560" y="3024000"/>
            <a:ext cx="3328920" cy="2214360"/>
            <a:chOff x="5146560" y="3024000"/>
            <a:chExt cx="3328920" cy="2214360"/>
          </a:xfrm>
        </p:grpSpPr>
        <p:sp>
          <p:nvSpPr>
            <p:cNvPr id="579" name=""/>
            <p:cNvSpPr/>
            <p:nvPr/>
          </p:nvSpPr>
          <p:spPr>
            <a:xfrm flipV="1">
              <a:off x="6358320" y="3024000"/>
              <a:ext cx="2109240" cy="15372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787160" y="3030480"/>
              <a:ext cx="688320" cy="22078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146560" y="3178080"/>
              <a:ext cx="1213200" cy="110232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52680" y="4286880"/>
              <a:ext cx="1696680" cy="554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57640" y="4348800"/>
              <a:ext cx="925920" cy="88632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 rot="18300000">
            <a:off x="766080" y="2999160"/>
            <a:ext cx="2791080" cy="1830240"/>
          </a:xfrm>
          <a:prstGeom prst="rect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09840" y="1989000"/>
            <a:ext cx="1514520" cy="2664000"/>
          </a:xfrm>
          <a:prstGeom prst="line">
            <a:avLst/>
          </a:prstGeom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044440" y="2924280"/>
            <a:ext cx="1957320" cy="2736720"/>
          </a:xfrm>
          <a:prstGeom prst="line">
            <a:avLst/>
          </a:prstGeom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9640" y="4827600"/>
            <a:ext cx="2870280" cy="461880"/>
          </a:xfrm>
          <a:prstGeom prst="line">
            <a:avLst/>
          </a:prstGeom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036440" y="2583000"/>
            <a:ext cx="510840" cy="3149640"/>
          </a:xfrm>
          <a:prstGeom prst="line">
            <a:avLst/>
          </a:prstGeom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939960" y="2269800"/>
            <a:ext cx="2552400" cy="1374840"/>
          </a:xfrm>
          <a:prstGeom prst="line">
            <a:avLst/>
          </a:prstGeom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84280" y="6021360"/>
            <a:ext cx="15721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1b66"/>
                </a:solidFill>
                <a:latin typeface="Calibri"/>
              </a:rPr>
              <a:t>Выпукл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5428800" y="2990520"/>
            <a:ext cx="2894040" cy="2747880"/>
          </a:xfrm>
          <a:prstGeom prst="line">
            <a:avLst/>
          </a:prstGeom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07160" y="5950080"/>
            <a:ext cx="1898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bc0000"/>
                </a:solidFill>
                <a:latin typeface="Calibri"/>
              </a:rPr>
              <a:t>Невыпукл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c1d1e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284040" y="1241640"/>
            <a:ext cx="3197520" cy="3363480"/>
            <a:chOff x="284040" y="1241640"/>
            <a:chExt cx="3197520" cy="3363480"/>
          </a:xfrm>
        </p:grpSpPr>
        <p:sp>
          <p:nvSpPr>
            <p:cNvPr id="594" name=""/>
            <p:cNvSpPr/>
            <p:nvPr/>
          </p:nvSpPr>
          <p:spPr>
            <a:xfrm>
              <a:off x="395280" y="1557360"/>
              <a:ext cx="574560" cy="517320"/>
            </a:xfrm>
            <a:prstGeom prst="rect">
              <a:avLst/>
            </a:prstGeom>
            <a:solidFill>
              <a:srgbClr val="e6b9b8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240000">
              <a:off x="547200" y="1895400"/>
              <a:ext cx="2671200" cy="2055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4320" y="1557360"/>
              <a:ext cx="310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562200" y="1310400"/>
            <a:ext cx="2881800" cy="2878560"/>
            <a:chOff x="3562200" y="1310400"/>
            <a:chExt cx="2881800" cy="2878560"/>
          </a:xfrm>
        </p:grpSpPr>
        <p:sp>
          <p:nvSpPr>
            <p:cNvPr id="598" name=""/>
            <p:cNvSpPr/>
            <p:nvPr/>
          </p:nvSpPr>
          <p:spPr>
            <a:xfrm>
              <a:off x="3562200" y="1557360"/>
              <a:ext cx="574920" cy="496080"/>
            </a:xfrm>
            <a:prstGeom prst="rect">
              <a:avLst/>
            </a:prstGeom>
            <a:solidFill>
              <a:srgbClr val="e6b9b8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580000">
              <a:off x="4154400" y="1587960"/>
              <a:ext cx="1729800" cy="2323080"/>
            </a:xfrm>
            <a:custGeom>
              <a:avLst/>
              <a:gdLst/>
              <a:ahLst/>
              <a:rect l="l" t="t" r="r" b="b"/>
              <a:pathLst>
                <a:path w="9316" h="11391">
                  <a:moveTo>
                    <a:pt x="0" y="0"/>
                  </a:moveTo>
                  <a:lnTo>
                    <a:pt x="9316" y="0"/>
                  </a:lnTo>
                  <a:lnTo>
                    <a:pt x="9316" y="-5791"/>
                  </a:lnTo>
                  <a:lnTo>
                    <a:pt x="3599" y="-5791"/>
                  </a:lnTo>
                  <a:lnTo>
                    <a:pt x="3599" y="5600"/>
                  </a:lnTo>
                  <a:lnTo>
                    <a:pt x="0" y="560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11240" y="1557360"/>
              <a:ext cx="310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08840" y="954720"/>
            <a:ext cx="3160440" cy="3161520"/>
            <a:chOff x="6108840" y="954720"/>
            <a:chExt cx="3160440" cy="3161520"/>
          </a:xfrm>
        </p:grpSpPr>
        <p:sp>
          <p:nvSpPr>
            <p:cNvPr id="602" name=""/>
            <p:cNvSpPr/>
            <p:nvPr/>
          </p:nvSpPr>
          <p:spPr>
            <a:xfrm>
              <a:off x="6370560" y="1268280"/>
              <a:ext cx="495720" cy="651600"/>
            </a:xfrm>
            <a:prstGeom prst="rect">
              <a:avLst/>
            </a:prstGeom>
            <a:solidFill>
              <a:srgbClr val="e6b9b8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9140000">
              <a:off x="6571440" y="1412280"/>
              <a:ext cx="2235240" cy="2246040"/>
            </a:xfrm>
            <a:custGeom>
              <a:avLst/>
              <a:gdLst/>
              <a:ahLst/>
              <a:rect l="l" t="t" r="r" b="b"/>
              <a:pathLst>
                <a:path w="10337" h="4123">
                  <a:moveTo>
                    <a:pt x="0" y="4123"/>
                  </a:moveTo>
                  <a:lnTo>
                    <a:pt x="7865" y="0"/>
                  </a:lnTo>
                  <a:lnTo>
                    <a:pt x="-2472" y="0"/>
                  </a:lnTo>
                  <a:lnTo>
                    <a:pt x="5393" y="4123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77480" y="1268280"/>
              <a:ext cx="310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55640" y="4437000"/>
            <a:ext cx="2014200" cy="1727280"/>
            <a:chOff x="755640" y="4437000"/>
            <a:chExt cx="2014200" cy="1727280"/>
          </a:xfrm>
        </p:grpSpPr>
        <p:sp>
          <p:nvSpPr>
            <p:cNvPr id="606" name=""/>
            <p:cNvSpPr/>
            <p:nvPr/>
          </p:nvSpPr>
          <p:spPr>
            <a:xfrm>
              <a:off x="755640" y="4508640"/>
              <a:ext cx="430200" cy="431640"/>
            </a:xfrm>
            <a:prstGeom prst="rect">
              <a:avLst/>
            </a:prstGeom>
            <a:solidFill>
              <a:srgbClr val="e6b9b8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971640" y="4437000"/>
              <a:ext cx="1798200" cy="1727280"/>
              <a:chOff x="971640" y="4437000"/>
              <a:chExt cx="1798200" cy="1727280"/>
            </a:xfrm>
          </p:grpSpPr>
          <p:sp>
            <p:nvSpPr>
              <p:cNvPr id="608" name=""/>
              <p:cNvSpPr/>
              <p:nvPr/>
            </p:nvSpPr>
            <p:spPr>
              <a:xfrm flipH="1">
                <a:off x="971640" y="4437000"/>
                <a:ext cx="792720" cy="935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73080" y="5373720"/>
                <a:ext cx="1796760" cy="790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64360" y="4437000"/>
                <a:ext cx="0" cy="719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764360" y="5157720"/>
                <a:ext cx="1005480" cy="100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828360" y="4508640"/>
              <a:ext cx="310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687760" y="3150000"/>
            <a:ext cx="4214880" cy="4227840"/>
            <a:chOff x="2687760" y="3150000"/>
            <a:chExt cx="4214880" cy="4227840"/>
          </a:xfrm>
        </p:grpSpPr>
        <p:sp>
          <p:nvSpPr>
            <p:cNvPr id="614" name=""/>
            <p:cNvSpPr/>
            <p:nvPr/>
          </p:nvSpPr>
          <p:spPr>
            <a:xfrm>
              <a:off x="3203640" y="4114800"/>
              <a:ext cx="571320" cy="596880"/>
            </a:xfrm>
            <a:prstGeom prst="rect">
              <a:avLst/>
            </a:prstGeom>
            <a:solidFill>
              <a:srgbClr val="e6b9b8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9740000">
              <a:off x="3266280" y="3715920"/>
              <a:ext cx="3057480" cy="3095280"/>
            </a:xfrm>
            <a:custGeom>
              <a:avLst/>
              <a:gdLst/>
              <a:ahLst/>
              <a:rect l="l" t="t" r="r" b="b"/>
              <a:pathLst>
                <a:path w="48267" h="35655">
                  <a:moveTo>
                    <a:pt x="14006" y="-10360"/>
                  </a:moveTo>
                  <a:lnTo>
                    <a:pt x="27298" y="-9663"/>
                  </a:lnTo>
                  <a:lnTo>
                    <a:pt x="3200" y="0"/>
                  </a:lnTo>
                  <a:lnTo>
                    <a:pt x="-20899" y="-9663"/>
                  </a:lnTo>
                  <a:lnTo>
                    <a:pt x="-7607" y="-10360"/>
                  </a:lnTo>
                  <a:lnTo>
                    <a:pt x="-20934" y="-10686"/>
                  </a:lnTo>
                  <a:lnTo>
                    <a:pt x="-7625" y="-10818"/>
                  </a:lnTo>
                  <a:lnTo>
                    <a:pt x="3200" y="-35619"/>
                  </a:lnTo>
                  <a:lnTo>
                    <a:pt x="14024" y="-10818"/>
                  </a:lnTo>
                  <a:lnTo>
                    <a:pt x="27333" y="-106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50880" y="4114800"/>
              <a:ext cx="310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020000" y="4005360"/>
            <a:ext cx="1438200" cy="2374920"/>
            <a:chOff x="7020000" y="4005360"/>
            <a:chExt cx="1438200" cy="2374920"/>
          </a:xfrm>
        </p:grpSpPr>
        <p:sp>
          <p:nvSpPr>
            <p:cNvPr id="618" name=""/>
            <p:cNvSpPr/>
            <p:nvPr/>
          </p:nvSpPr>
          <p:spPr>
            <a:xfrm>
              <a:off x="7091280" y="4365720"/>
              <a:ext cx="430200" cy="430200"/>
            </a:xfrm>
            <a:prstGeom prst="rect">
              <a:avLst/>
            </a:prstGeom>
            <a:solidFill>
              <a:srgbClr val="e6b9b8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20000" y="4005360"/>
              <a:ext cx="1438200" cy="2374920"/>
            </a:xfrm>
            <a:custGeom>
              <a:avLst/>
              <a:gdLst/>
              <a:ahLst/>
              <a:rect l="l" t="t" r="r" b="b"/>
              <a:pathLst>
                <a:path w="14712" h="6601">
                  <a:moveTo>
                    <a:pt x="0" y="6601"/>
                  </a:moveTo>
                  <a:lnTo>
                    <a:pt x="14712" y="0"/>
                  </a:lnTo>
                  <a:lnTo>
                    <a:pt x="4000" y="6601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65440" y="4365720"/>
              <a:ext cx="310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2280" y="333360"/>
            <a:ext cx="3298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d1b66"/>
                </a:solidFill>
                <a:latin typeface="Calibri"/>
              </a:rPr>
              <a:t>Выпуклые многоугольн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22960" y="333360"/>
            <a:ext cx="3570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d1b66"/>
                </a:solidFill>
                <a:latin typeface="Calibri"/>
              </a:rPr>
              <a:t>Невыпуклые многоугольн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3280" y="0"/>
            <a:ext cx="144720" cy="6858000"/>
          </a:xfrm>
          <a:prstGeom prst="line">
            <a:avLst/>
          </a:prstGeom>
          <a:ln w="255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63737E-006 L -0.00052 -0.1531 E">
                                      <p:cBhvr>
                                        <p:cTn id="316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66512E-007 L -0.47014 0.14732 E">
                                      <p:cBhvr>
                                        <p:cTn id="318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51434E-006 L -0.66927 0.03677 E">
                                      <p:cBhvr>
                                        <p:cTn id="320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6E-007 L 0.18906 -0.07331 E">
                                      <p:cBhvr>
                                        <p:cTn id="322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96947E-006 L 0.68525 -0.2308 E">
                                      <p:cBhvr>
                                        <p:cTn id="32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8353E-006 L 0.15486 -0.00532 E">
                                      <p:cBhvr>
                                        <p:cTn id="326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1981080" cy="18716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33160" y="3645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1872000" cy="33829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7093080" y="1197000"/>
            <a:ext cx="1763640" cy="13669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4"/>
          <a:stretch/>
        </p:blipFill>
        <p:spPr>
          <a:xfrm>
            <a:off x="7380360" y="2781360"/>
            <a:ext cx="1449360" cy="16574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5"/>
          <a:stretch/>
        </p:blipFill>
        <p:spPr>
          <a:xfrm>
            <a:off x="4260960" y="573120"/>
            <a:ext cx="658800" cy="346860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6"/>
          <a:srcRect l="0" t="0" r="0" b="59946"/>
          <a:stretch/>
        </p:blipFill>
        <p:spPr>
          <a:xfrm>
            <a:off x="2195640" y="386064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7"/>
          <a:stretch/>
        </p:blipFill>
        <p:spPr>
          <a:xfrm>
            <a:off x="6012000" y="4508640"/>
            <a:ext cx="2890800" cy="21333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8"/>
          <a:stretch/>
        </p:blipFill>
        <p:spPr>
          <a:xfrm>
            <a:off x="4067280" y="4508640"/>
            <a:ext cx="1977840" cy="20160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9"/>
          <a:stretch/>
        </p:blipFill>
        <p:spPr>
          <a:xfrm>
            <a:off x="395280" y="938160"/>
            <a:ext cx="3745080" cy="263520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0"/>
          <a:stretch/>
        </p:blipFill>
        <p:spPr>
          <a:xfrm>
            <a:off x="317520" y="378000"/>
            <a:ext cx="846612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11280" y="2708280"/>
            <a:ext cx="1785960" cy="3571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931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519280" y="3419640"/>
            <a:ext cx="930240" cy="233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110120" y="3443400"/>
            <a:ext cx="129060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940360" y="3443400"/>
            <a:ext cx="129060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889760" y="3443400"/>
            <a:ext cx="129060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0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0" name=""/>
          <p:cNvSpPr/>
          <p:nvPr/>
        </p:nvSpPr>
        <p:spPr>
          <a:xfrm>
            <a:off x="739800" y="671400"/>
            <a:ext cx="860724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Times New Roman"/>
              </a:rPr>
              <a:t>ВВЕДИТЕ КОД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016000" y="720720"/>
            <a:ext cx="4751640" cy="4032360"/>
          </a:xfrm>
          <a:prstGeom prst="pentagon">
            <a:avLst/>
          </a:prstGeom>
          <a:solidFill>
            <a:srgbClr val="0000ff"/>
          </a:solidFill>
          <a:ln w="1440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84360" y="1703520"/>
            <a:ext cx="576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2720" y="449280"/>
            <a:ext cx="576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40360" y="2087640"/>
            <a:ext cx="576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04000" y="4626000"/>
            <a:ext cx="576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19280" y="4768920"/>
            <a:ext cx="576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stCxn id="635" idx="2"/>
          </p:cNvCxnSpPr>
          <p:nvPr/>
        </p:nvCxnSpPr>
        <p:spPr>
          <a:xfrm>
            <a:off x="2946240" y="4753080"/>
            <a:ext cx="2804400" cy="2160"/>
          </a:xfrm>
          <a:prstGeom prst="straightConnector1">
            <a:avLst/>
          </a:prstGeom>
          <a:ln w="108000">
            <a:solidFill>
              <a:srgbClr val="ff8080"/>
            </a:solidFill>
            <a:round/>
            <a:tailEnd len="med" type="triangle" w="med"/>
          </a:ln>
        </p:spPr>
      </p:cxnSp>
      <p:cxnSp>
        <p:nvCxnSpPr>
          <p:cNvPr id="642" name=""/>
          <p:cNvCxnSpPr>
            <a:endCxn id="635" idx="5"/>
          </p:cNvCxnSpPr>
          <p:nvPr/>
        </p:nvCxnSpPr>
        <p:spPr>
          <a:xfrm flipV="1">
            <a:off x="5749560" y="2261880"/>
            <a:ext cx="1019880" cy="2488320"/>
          </a:xfrm>
          <a:prstGeom prst="straightConnector1">
            <a:avLst/>
          </a:prstGeom>
          <a:ln w="108000">
            <a:solidFill>
              <a:srgbClr val="669900"/>
            </a:solidFill>
            <a:round/>
            <a:tailEnd len="med" type="triangle" w="med"/>
          </a:ln>
        </p:spPr>
      </p:cxnSp>
      <p:cxnSp>
        <p:nvCxnSpPr>
          <p:cNvPr id="643" name=""/>
          <p:cNvCxnSpPr/>
          <p:nvPr/>
        </p:nvCxnSpPr>
        <p:spPr>
          <a:xfrm flipH="1" flipV="1">
            <a:off x="4179240" y="700920"/>
            <a:ext cx="2577240" cy="1561320"/>
          </a:xfrm>
          <a:prstGeom prst="straightConnector1">
            <a:avLst/>
          </a:prstGeom>
          <a:ln w="108000">
            <a:solidFill>
              <a:srgbClr val="99cccc"/>
            </a:solidFill>
            <a:round/>
            <a:tailEnd len="med" type="triangle" w="med"/>
          </a:ln>
        </p:spPr>
      </p:cxnSp>
      <p:cxnSp>
        <p:nvCxnSpPr>
          <p:cNvPr id="644" name=""/>
          <p:cNvCxnSpPr>
            <a:endCxn id="635" idx="1"/>
          </p:cNvCxnSpPr>
          <p:nvPr/>
        </p:nvCxnSpPr>
        <p:spPr>
          <a:xfrm flipH="1" flipV="1">
            <a:off x="2015280" y="2261880"/>
            <a:ext cx="903960" cy="2488320"/>
          </a:xfrm>
          <a:prstGeom prst="straightConnector1">
            <a:avLst/>
          </a:prstGeom>
          <a:ln w="108000">
            <a:solidFill>
              <a:srgbClr val="ffd320"/>
            </a:solidFill>
            <a:round/>
            <a:tailEnd len="med" type="triangle" w="med"/>
          </a:ln>
        </p:spPr>
      </p:cxnSp>
      <p:cxnSp>
        <p:nvCxnSpPr>
          <p:cNvPr id="645" name=""/>
          <p:cNvCxnSpPr>
            <a:endCxn id="637" idx="1"/>
          </p:cNvCxnSpPr>
          <p:nvPr/>
        </p:nvCxnSpPr>
        <p:spPr>
          <a:xfrm flipV="1">
            <a:off x="2016000" y="691920"/>
            <a:ext cx="2377440" cy="1568880"/>
          </a:xfrm>
          <a:prstGeom prst="straightConnector1">
            <a:avLst/>
          </a:prstGeom>
          <a:ln w="108000">
            <a:solidFill>
              <a:srgbClr val="ff420e"/>
            </a:solidFill>
            <a:round/>
            <a:tailEnd len="med" type="triangle" w="med"/>
          </a:ln>
        </p:spPr>
      </p:cxnSp>
      <p:sp>
        <p:nvSpPr>
          <p:cNvPr id="646" name=""/>
          <p:cNvSpPr/>
          <p:nvPr/>
        </p:nvSpPr>
        <p:spPr>
          <a:xfrm flipV="1">
            <a:off x="2919240" y="856800"/>
            <a:ext cx="1328760" cy="3900600"/>
          </a:xfrm>
          <a:prstGeom prst="line">
            <a:avLst/>
          </a:prstGeom>
          <a:ln w="1440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946240" y="2225520"/>
            <a:ext cx="3749760" cy="2532240"/>
          </a:xfrm>
          <a:prstGeom prst="line">
            <a:avLst/>
          </a:prstGeom>
          <a:ln w="1440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55960" y="2376360"/>
            <a:ext cx="3693960" cy="2376720"/>
          </a:xfrm>
          <a:prstGeom prst="line">
            <a:avLst/>
          </a:prstGeom>
          <a:ln w="1440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4384800" y="856800"/>
            <a:ext cx="1420560" cy="3900600"/>
          </a:xfrm>
          <a:prstGeom prst="line">
            <a:avLst/>
          </a:prstGeom>
          <a:ln w="1440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016000" y="2225160"/>
            <a:ext cx="4680000" cy="228600"/>
          </a:xfrm>
          <a:prstGeom prst="line">
            <a:avLst/>
          </a:prstGeom>
          <a:ln w="1440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dur="indefinite" fill="hold">
                      <p:stCondLst>
                        <p:cond delay="indefinite"/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dur="indefinite" fill="hold">
                      <p:stCondLst>
                        <p:cond delay="indefinite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066680" y="5410080"/>
            <a:ext cx="7162920" cy="7621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ЕРИМЕ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66680" y="3048120"/>
            <a:ext cx="2514600" cy="1371600"/>
          </a:xfrm>
          <a:prstGeom prst="diamond">
            <a:avLst/>
          </a:prstGeom>
          <a:solidFill>
            <a:srgbClr val="d9dcf7"/>
          </a:solidFill>
          <a:ln cap="sq"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5800" y="35053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09680" y="25909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58344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1351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066680" y="3041640"/>
            <a:ext cx="1295640" cy="698400"/>
          </a:xfrm>
          <a:prstGeom prst="line">
            <a:avLst/>
          </a:prstGeom>
          <a:ln cap="sq"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2362320" y="3727440"/>
            <a:ext cx="1218960" cy="698400"/>
          </a:xfrm>
          <a:prstGeom prst="line">
            <a:avLst/>
          </a:prstGeom>
          <a:ln cap="sq"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62320" y="3048120"/>
            <a:ext cx="1218960" cy="685800"/>
          </a:xfrm>
          <a:prstGeom prst="line">
            <a:avLst/>
          </a:prstGeom>
          <a:ln cap="sq"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66680" y="3733920"/>
            <a:ext cx="1295640" cy="685800"/>
          </a:xfrm>
          <a:prstGeom prst="line">
            <a:avLst/>
          </a:prstGeom>
          <a:ln cap="sq"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71040" y="2743200"/>
            <a:ext cx="43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метр обозначают букв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метр - это сумма длин сторон многоуголь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43840" y="3809880"/>
            <a:ext cx="10357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13320" y="3809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6872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5880" y="3809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5452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5280" y="3809880"/>
            <a:ext cx="6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664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547400" y="3809880"/>
            <a:ext cx="6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dur="indefinite" fill="hold">
                      <p:stCondLst>
                        <p:cond delay="indefinite"/>
                      </p:stCondLst>
                      <p:childTnLst>
                        <p:par>
                          <p:cTn id="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fill="hold">
                      <p:stCondLst>
                        <p:cond delay="indefinite"/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dur="indefinite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dur="indefinite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506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509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3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dur="indefinite" fill="hold">
                            <p:stCondLst>
                              <p:cond delay="2400"/>
                            </p:stCondLst>
                            <p:childTnLst>
                              <p:par>
                                <p:cTn id="518" dur="indefinite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432080" y="3119400"/>
            <a:ext cx="3706560" cy="2048040"/>
          </a:xfrm>
          <a:prstGeom prst="hexagon">
            <a:avLst>
              <a:gd name="adj" fmla="val 24994"/>
              <a:gd name="vf" fmla="val 115470"/>
            </a:avLst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9236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71640" y="3789360"/>
            <a:ext cx="6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9740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00720" y="2637000"/>
            <a:ext cx="7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06880" y="3692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285080" y="5157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079640" y="12600"/>
            <a:ext cx="6808680" cy="22860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916360" y="2421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87640" y="5157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88000" y="443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16000" y="436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88000" y="3068640"/>
            <a:ext cx="4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58920" y="31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00840" y="2714760"/>
            <a:ext cx="26067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 algn="ctr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Р=</a:t>
            </a:r>
            <a:r>
              <a:rPr b="1" i="1" lang="ru-RU" sz="4800" spc="-1" strike="noStrike">
                <a:solidFill>
                  <a:srgbClr val="c00000"/>
                </a:solidFill>
                <a:latin typeface="Times New Roman"/>
              </a:rPr>
              <a:t>22 с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-36360" y="-68400"/>
            <a:ext cx="9251640" cy="69390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-144360" y="431640"/>
            <a:ext cx="2376360" cy="2087640"/>
          </a:xfrm>
          <a:prstGeom prst="triangle">
            <a:avLst>
              <a:gd name="adj" fmla="val 46338"/>
            </a:avLst>
          </a:prstGeom>
          <a:solidFill>
            <a:srgbClr val="579d1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1280" y="4176720"/>
            <a:ext cx="1800360" cy="2303280"/>
          </a:xfrm>
          <a:prstGeom prst="diamond">
            <a:avLst/>
          </a:prstGeom>
          <a:solidFill>
            <a:srgbClr val="c5000b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428760" y="0"/>
            <a:ext cx="8229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6400"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74520" y="176040"/>
            <a:ext cx="8120160" cy="63928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792000" y="720720"/>
            <a:ext cx="3780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589a"/>
                </a:solidFill>
                <a:latin typeface="Century Schoolbook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3956040" y="5187960"/>
            <a:ext cx="5194440" cy="10476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539640" y="189000"/>
            <a:ext cx="8086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Домашнее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зад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08000" y="-17640"/>
            <a:ext cx="28306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589a"/>
                </a:solidFill>
                <a:latin typeface="Century Schoolbook"/>
              </a:rPr>
              <a:t>Руководствуясь источниками информации,  познакомиться с понятием «Геометрический паркет». Придумать свой паркет из многоугольников.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dur="indefinite" fill="hold">
                      <p:stCondLst>
                        <p:cond delay="0"/>
                      </p:stCondLst>
                      <p:childTnLst>
                        <p:par>
                          <p:cTn id="5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7929360" y="4970880"/>
            <a:ext cx="1389600" cy="1766880"/>
            <a:chOff x="7929360" y="4970880"/>
            <a:chExt cx="1389600" cy="1766880"/>
          </a:xfrm>
        </p:grpSpPr>
        <p:sp>
          <p:nvSpPr>
            <p:cNvPr id="343" name=""/>
            <p:cNvSpPr/>
            <p:nvPr/>
          </p:nvSpPr>
          <p:spPr>
            <a:xfrm flipH="1" rot="21180000">
              <a:off x="8235720" y="5097600"/>
              <a:ext cx="652320" cy="1550880"/>
            </a:xfrm>
            <a:prstGeom prst="pie">
              <a:avLst/>
            </a:prstGeom>
            <a:solidFill>
              <a:srgbClr val="33ccff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rot="21180000">
              <a:off x="8314560" y="6389280"/>
              <a:ext cx="160560" cy="29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78000"/>
            </a:gradFill>
            <a:ln cap="sq"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rot="21180000">
              <a:off x="8327160" y="6573960"/>
              <a:ext cx="57240" cy="109440"/>
            </a:xfrm>
            <a:prstGeom prst="pie">
              <a:avLst/>
            </a:prstGeom>
            <a:solidFill>
              <a:srgbClr val="000000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929360" y="4970880"/>
              <a:ext cx="1389600" cy="1766880"/>
              <a:chOff x="7929360" y="4970880"/>
              <a:chExt cx="1389600" cy="1766880"/>
            </a:xfrm>
          </p:grpSpPr>
          <p:sp>
            <p:nvSpPr>
              <p:cNvPr id="347" name=""/>
              <p:cNvSpPr/>
              <p:nvPr/>
            </p:nvSpPr>
            <p:spPr>
              <a:xfrm flipH="1" rot="21180000">
                <a:off x="8010000" y="5010120"/>
                <a:ext cx="728640" cy="1373400"/>
              </a:xfrm>
              <a:prstGeom prst="pie">
                <a:avLst/>
              </a:prstGeom>
              <a:solidFill>
                <a:srgbClr val="33ccff"/>
              </a:solidFill>
              <a:ln cap="sq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8346960" y="5019840"/>
                <a:ext cx="972000" cy="1717920"/>
                <a:chOff x="8346960" y="5019840"/>
                <a:chExt cx="972000" cy="1717920"/>
              </a:xfrm>
            </p:grpSpPr>
            <p:sp>
              <p:nvSpPr>
                <p:cNvPr id="349" name=""/>
                <p:cNvSpPr/>
                <p:nvPr/>
              </p:nvSpPr>
              <p:spPr>
                <a:xfrm flipH="1" rot="21180000">
                  <a:off x="8812080" y="5069520"/>
                  <a:ext cx="407880" cy="1649160"/>
                </a:xfrm>
                <a:prstGeom prst="pie">
                  <a:avLst/>
                </a:prstGeom>
                <a:solidFill>
                  <a:srgbClr val="777777"/>
                </a:solidFill>
                <a:ln cap="sq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rot="21180000">
                  <a:off x="8359200" y="5048640"/>
                  <a:ext cx="488520" cy="235800"/>
                </a:xfrm>
                <a:prstGeom prst="ellipse">
                  <a:avLst/>
                </a:prstGeom>
                <a:solidFill>
                  <a:srgbClr val="777777"/>
                </a:solidFill>
                <a:ln cap="sq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1" name=""/>
          <p:cNvGrpSpPr/>
          <p:nvPr/>
        </p:nvGrpSpPr>
        <p:grpSpPr>
          <a:xfrm>
            <a:off x="5355720" y="4561560"/>
            <a:ext cx="3300840" cy="3356640"/>
            <a:chOff x="5355720" y="4561560"/>
            <a:chExt cx="3300840" cy="3356640"/>
          </a:xfrm>
        </p:grpSpPr>
        <p:sp>
          <p:nvSpPr>
            <p:cNvPr id="352" name=""/>
            <p:cNvSpPr/>
            <p:nvPr/>
          </p:nvSpPr>
          <p:spPr>
            <a:xfrm flipH="1" rot="2880000">
              <a:off x="5931000" y="5027760"/>
              <a:ext cx="2148840" cy="2506680"/>
            </a:xfrm>
            <a:prstGeom prst="pie">
              <a:avLst/>
            </a:prstGeom>
            <a:solidFill>
              <a:srgbClr val="ffff00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2880000">
              <a:off x="5728680" y="7057800"/>
              <a:ext cx="535680" cy="47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78000"/>
            </a:gradFill>
            <a:ln cap="sq"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880000">
              <a:off x="5752800" y="7317360"/>
              <a:ext cx="195120" cy="174600"/>
            </a:xfrm>
            <a:prstGeom prst="pie">
              <a:avLst/>
            </a:prstGeom>
            <a:solidFill>
              <a:srgbClr val="000000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rot="2880000">
              <a:off x="6205680" y="4912560"/>
              <a:ext cx="1875600" cy="2089800"/>
            </a:xfrm>
            <a:prstGeom prst="pie">
              <a:avLst/>
            </a:prstGeom>
            <a:solidFill>
              <a:srgbClr val="ffff00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121080" y="5081760"/>
            <a:ext cx="3089160" cy="3096720"/>
            <a:chOff x="6121080" y="5081760"/>
            <a:chExt cx="3089160" cy="3096720"/>
          </a:xfrm>
        </p:grpSpPr>
        <p:sp>
          <p:nvSpPr>
            <p:cNvPr id="357" name=""/>
            <p:cNvSpPr/>
            <p:nvPr/>
          </p:nvSpPr>
          <p:spPr>
            <a:xfrm flipH="1" rot="3600000">
              <a:off x="6543720" y="5502960"/>
              <a:ext cx="2242800" cy="2272320"/>
            </a:xfrm>
            <a:prstGeom prst="pie">
              <a:avLst/>
            </a:prstGeom>
            <a:solidFill>
              <a:srgbClr val="ff0000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3600000">
              <a:off x="6390000" y="6735960"/>
              <a:ext cx="558000" cy="434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78000"/>
            </a:gradFill>
            <a:ln cap="sq"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3600000">
              <a:off x="6417000" y="6887520"/>
              <a:ext cx="205920" cy="158760"/>
            </a:xfrm>
            <a:prstGeom prst="pie">
              <a:avLst/>
            </a:prstGeom>
            <a:solidFill>
              <a:srgbClr val="000000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rot="3600000">
              <a:off x="6829920" y="5453640"/>
              <a:ext cx="1954800" cy="1898280"/>
            </a:xfrm>
            <a:prstGeom prst="pie">
              <a:avLst/>
            </a:prstGeom>
            <a:solidFill>
              <a:srgbClr val="ff0000"/>
            </a:solidFill>
            <a:ln cap="sq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9480" y="150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Уст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Какие фигуры изображены на рисунке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-167040" y="-161640"/>
            <a:ext cx="9466560" cy="7154280"/>
            <a:chOff x="-167040" y="-161640"/>
            <a:chExt cx="9466560" cy="7154280"/>
          </a:xfrm>
        </p:grpSpPr>
        <p:sp>
          <p:nvSpPr>
            <p:cNvPr id="364" name=""/>
            <p:cNvSpPr/>
            <p:nvPr/>
          </p:nvSpPr>
          <p:spPr>
            <a:xfrm>
              <a:off x="566640" y="111240"/>
              <a:ext cx="7995960" cy="324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9120" y="46080"/>
              <a:ext cx="8094240" cy="36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680" y="574560"/>
              <a:ext cx="4680" cy="567864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760" y="533520"/>
              <a:ext cx="360" cy="577512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9880" y="6705720"/>
              <a:ext cx="7995600" cy="36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9120" y="6781680"/>
              <a:ext cx="8098920" cy="324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8417880" y="6045120"/>
              <a:ext cx="881640" cy="938880"/>
              <a:chOff x="8417880" y="6045120"/>
              <a:chExt cx="881640" cy="938880"/>
            </a:xfrm>
          </p:grpSpPr>
          <p:sp>
            <p:nvSpPr>
              <p:cNvPr id="371" name=""/>
              <p:cNvSpPr/>
              <p:nvPr/>
            </p:nvSpPr>
            <p:spPr>
              <a:xfrm flipH="1" flipV="1" rot="5940000">
                <a:off x="8478000" y="6090840"/>
                <a:ext cx="729720" cy="74556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 rot="5940000">
                <a:off x="8509320" y="6200280"/>
                <a:ext cx="769320" cy="69804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9013320" y="571680"/>
              <a:ext cx="360" cy="568152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84600" y="519120"/>
              <a:ext cx="360" cy="577692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-167040" y="-158040"/>
              <a:ext cx="878040" cy="938880"/>
              <a:chOff x="-167040" y="-158040"/>
              <a:chExt cx="878040" cy="938880"/>
            </a:xfrm>
          </p:grpSpPr>
          <p:sp>
            <p:nvSpPr>
              <p:cNvPr id="376" name=""/>
              <p:cNvSpPr/>
              <p:nvPr/>
            </p:nvSpPr>
            <p:spPr>
              <a:xfrm rot="5940000">
                <a:off x="-77760" y="-9000"/>
                <a:ext cx="728280" cy="74448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5940000">
                <a:off x="-144360" y="-74880"/>
                <a:ext cx="763560" cy="69732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8414640" y="-161640"/>
              <a:ext cx="877320" cy="935640"/>
              <a:chOff x="8414640" y="-161640"/>
              <a:chExt cx="877320" cy="935640"/>
            </a:xfrm>
          </p:grpSpPr>
          <p:sp>
            <p:nvSpPr>
              <p:cNvPr id="379" name=""/>
              <p:cNvSpPr/>
              <p:nvPr/>
            </p:nvSpPr>
            <p:spPr>
              <a:xfrm flipH="1" rot="15660000">
                <a:off x="8472240" y="-12600"/>
                <a:ext cx="728280" cy="73908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rot="15660000">
                <a:off x="8508960" y="-73800"/>
                <a:ext cx="765360" cy="68832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-165240" y="6052680"/>
              <a:ext cx="880920" cy="939960"/>
              <a:chOff x="-165240" y="6052680"/>
              <a:chExt cx="880920" cy="939960"/>
            </a:xfrm>
          </p:grpSpPr>
          <p:sp>
            <p:nvSpPr>
              <p:cNvPr id="382" name=""/>
              <p:cNvSpPr/>
              <p:nvPr/>
            </p:nvSpPr>
            <p:spPr>
              <a:xfrm flipV="1" rot="15660000">
                <a:off x="-75960" y="6096960"/>
                <a:ext cx="729720" cy="74916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 rot="15660000">
                <a:off x="-143640" y="6207480"/>
                <a:ext cx="768600" cy="70020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"/>
          <p:cNvSpPr/>
          <p:nvPr/>
        </p:nvSpPr>
        <p:spPr>
          <a:xfrm>
            <a:off x="2808360" y="2727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18080" y="244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91320" y="1981080"/>
            <a:ext cx="1752480" cy="1524240"/>
          </a:xfrm>
          <a:prstGeom prst="line">
            <a:avLst/>
          </a:prstGeom>
          <a:ln cap="sq" w="25560">
            <a:solidFill>
              <a:srgbClr val="2d2d8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913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12880" y="5003640"/>
            <a:ext cx="1054080" cy="978120"/>
          </a:xfrm>
          <a:prstGeom prst="pie">
            <a:avLst/>
          </a:prstGeom>
          <a:noFill/>
          <a:ln cap="sq"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15080" y="3835440"/>
            <a:ext cx="1752480" cy="1866960"/>
          </a:xfrm>
          <a:prstGeom prst="pie">
            <a:avLst/>
          </a:prstGeom>
          <a:noFill/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19480" y="4595760"/>
            <a:ext cx="685800" cy="1371600"/>
          </a:xfrm>
          <a:prstGeom prst="line">
            <a:avLst/>
          </a:prstGeom>
          <a:ln cap="sq"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3527280" y="5182560"/>
            <a:ext cx="130320" cy="16668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24360" y="4608360"/>
            <a:ext cx="5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86080" y="525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46440" y="5832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21640" y="3720960"/>
            <a:ext cx="825480" cy="1003320"/>
          </a:xfrm>
          <a:prstGeom prst="pie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44080" y="4483080"/>
            <a:ext cx="203040" cy="190440"/>
          </a:xfrm>
          <a:prstGeom prst="pie">
            <a:avLst/>
          </a:prstGeom>
          <a:noFill/>
          <a:ln cap="sq"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45820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77880" y="3408120"/>
            <a:ext cx="5011560" cy="5317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2000" y="3816360"/>
            <a:ext cx="456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88000" y="3168720"/>
            <a:ext cx="541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785920" y="858600"/>
            <a:ext cx="1994040" cy="1014120"/>
          </a:xfrm>
          <a:prstGeom prst="line">
            <a:avLst/>
          </a:prstGeom>
          <a:ln cap="sq"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317400" y="2444760"/>
            <a:ext cx="2249640" cy="43488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4346280" y="1652400"/>
            <a:ext cx="1220760" cy="796680"/>
          </a:xfrm>
          <a:prstGeom prst="line">
            <a:avLst/>
          </a:prstGeom>
          <a:ln cap="sq"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360680" y="865080"/>
            <a:ext cx="1454040" cy="792360"/>
          </a:xfrm>
          <a:prstGeom prst="line">
            <a:avLst/>
          </a:prstGeom>
          <a:ln cap="sq"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32360" y="1432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34080" y="55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07160" y="151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8640" y="1889280"/>
            <a:ext cx="1143000" cy="99036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ffff00"/>
          </a:solidFill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05280" y="3835440"/>
            <a:ext cx="1295280" cy="1295280"/>
          </a:xfrm>
          <a:prstGeom prst="pentagon">
            <a:avLst/>
          </a:prstGeom>
          <a:solidFill>
            <a:srgbClr val="ff6600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83280" y="314280"/>
            <a:ext cx="1143000" cy="83808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3254400" y="2807640"/>
            <a:ext cx="130320" cy="16668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7774920" y="1776240"/>
            <a:ext cx="129960" cy="16704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5472000" y="2350440"/>
            <a:ext cx="130320" cy="16668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4333320" y="1559880"/>
            <a:ext cx="129960" cy="16668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5773680" y="840600"/>
            <a:ext cx="130320" cy="16668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47640" y="1079640"/>
            <a:ext cx="7775640" cy="403200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650960" y="2154240"/>
            <a:ext cx="6200640" cy="1494000"/>
          </a:xfrm>
          <a:prstGeom prst="rect">
            <a:avLst/>
          </a:prstGeom>
          <a:ln w="0">
            <a:noFill/>
          </a:ln>
          <a:effectLst>
            <a:outerShdw dist="101314" dir="2700000" blurRad="0" rotWithShape="0">
              <a:srgbClr val="808080"/>
            </a:outerShdw>
          </a:effectLst>
        </p:spPr>
      </p:pic>
      <p:grpSp>
        <p:nvGrpSpPr>
          <p:cNvPr id="423" name=""/>
          <p:cNvGrpSpPr/>
          <p:nvPr/>
        </p:nvGrpSpPr>
        <p:grpSpPr>
          <a:xfrm>
            <a:off x="-167040" y="-161640"/>
            <a:ext cx="9466560" cy="7154280"/>
            <a:chOff x="-167040" y="-161640"/>
            <a:chExt cx="9466560" cy="7154280"/>
          </a:xfrm>
        </p:grpSpPr>
        <p:sp>
          <p:nvSpPr>
            <p:cNvPr id="424" name=""/>
            <p:cNvSpPr/>
            <p:nvPr/>
          </p:nvSpPr>
          <p:spPr>
            <a:xfrm>
              <a:off x="566640" y="111240"/>
              <a:ext cx="7995960" cy="324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9120" y="46080"/>
              <a:ext cx="8094240" cy="36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2680" y="574560"/>
              <a:ext cx="4680" cy="567864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760" y="533520"/>
              <a:ext cx="360" cy="577512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9880" y="6705720"/>
              <a:ext cx="7995600" cy="36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9120" y="6781680"/>
              <a:ext cx="8098920" cy="324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417880" y="6045120"/>
              <a:ext cx="881640" cy="938880"/>
              <a:chOff x="8417880" y="6045120"/>
              <a:chExt cx="881640" cy="938880"/>
            </a:xfrm>
          </p:grpSpPr>
          <p:sp>
            <p:nvSpPr>
              <p:cNvPr id="431" name=""/>
              <p:cNvSpPr/>
              <p:nvPr/>
            </p:nvSpPr>
            <p:spPr>
              <a:xfrm flipH="1" flipV="1" rot="5940000">
                <a:off x="8478000" y="6090840"/>
                <a:ext cx="729720" cy="74556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 rot="5940000">
                <a:off x="8509320" y="6200280"/>
                <a:ext cx="769320" cy="69804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9013320" y="571680"/>
              <a:ext cx="360" cy="568152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084600" y="519120"/>
              <a:ext cx="360" cy="5776920"/>
            </a:xfrm>
            <a:prstGeom prst="pie">
              <a:avLst/>
            </a:prstGeom>
            <a:noFill/>
            <a:ln cap="sq"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-167040" y="-158040"/>
              <a:ext cx="878040" cy="938880"/>
              <a:chOff x="-167040" y="-158040"/>
              <a:chExt cx="878040" cy="938880"/>
            </a:xfrm>
          </p:grpSpPr>
          <p:sp>
            <p:nvSpPr>
              <p:cNvPr id="436" name=""/>
              <p:cNvSpPr/>
              <p:nvPr/>
            </p:nvSpPr>
            <p:spPr>
              <a:xfrm rot="5940000">
                <a:off x="-77760" y="-9000"/>
                <a:ext cx="728280" cy="74448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5940000">
                <a:off x="-144360" y="-74880"/>
                <a:ext cx="763560" cy="69732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8414640" y="-161640"/>
              <a:ext cx="877320" cy="935640"/>
              <a:chOff x="8414640" y="-161640"/>
              <a:chExt cx="877320" cy="935640"/>
            </a:xfrm>
          </p:grpSpPr>
          <p:sp>
            <p:nvSpPr>
              <p:cNvPr id="439" name=""/>
              <p:cNvSpPr/>
              <p:nvPr/>
            </p:nvSpPr>
            <p:spPr>
              <a:xfrm flipH="1" rot="15660000">
                <a:off x="8472240" y="-12600"/>
                <a:ext cx="728280" cy="73908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15660000">
                <a:off x="8508960" y="-73800"/>
                <a:ext cx="765360" cy="68832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-165240" y="6052680"/>
              <a:ext cx="880920" cy="939960"/>
              <a:chOff x="-165240" y="6052680"/>
              <a:chExt cx="880920" cy="939960"/>
            </a:xfrm>
          </p:grpSpPr>
          <p:sp>
            <p:nvSpPr>
              <p:cNvPr id="442" name=""/>
              <p:cNvSpPr/>
              <p:nvPr/>
            </p:nvSpPr>
            <p:spPr>
              <a:xfrm flipV="1" rot="15660000">
                <a:off x="-75960" y="6096960"/>
                <a:ext cx="729720" cy="74916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15660000">
                <a:off x="-143640" y="6207480"/>
                <a:ext cx="768600" cy="700200"/>
              </a:xfrm>
              <a:prstGeom prst="pie">
                <a:avLst/>
              </a:prstGeom>
              <a:noFill/>
              <a:ln cap="sq"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00000" y="576360"/>
            <a:ext cx="741996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УРО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Узнать определение много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ознакомиться с диагональю и научиться ее стро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Находить периметр много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7640" y="360360"/>
            <a:ext cx="9126360" cy="568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у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Уг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геометрическая фигура, образованная двумя лучами, выходящими из одной точ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032560" y="3176640"/>
            <a:ext cx="5040720" cy="2728080"/>
            <a:chOff x="2032560" y="3176640"/>
            <a:chExt cx="5040720" cy="2728080"/>
          </a:xfrm>
        </p:grpSpPr>
        <p:grpSp>
          <p:nvGrpSpPr>
            <p:cNvPr id="449" name=""/>
            <p:cNvGrpSpPr/>
            <p:nvPr/>
          </p:nvGrpSpPr>
          <p:grpSpPr>
            <a:xfrm>
              <a:off x="2639880" y="3483000"/>
              <a:ext cx="4260960" cy="2279160"/>
              <a:chOff x="2639880" y="3483000"/>
              <a:chExt cx="4260960" cy="2279160"/>
            </a:xfrm>
          </p:grpSpPr>
          <p:sp>
            <p:nvSpPr>
              <p:cNvPr id="450" name=""/>
              <p:cNvSpPr/>
              <p:nvPr/>
            </p:nvSpPr>
            <p:spPr>
              <a:xfrm>
                <a:off x="2639880" y="5232240"/>
                <a:ext cx="201600" cy="263160"/>
              </a:xfrm>
              <a:prstGeom prst="rect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2817720" y="3483000"/>
                <a:ext cx="2730600" cy="1789200"/>
              </a:xfrm>
              <a:prstGeom prst="line">
                <a:avLst/>
              </a:prstGeom>
              <a:ln w="507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17720" y="5460840"/>
                <a:ext cx="4083120" cy="301320"/>
              </a:xfrm>
              <a:prstGeom prst="line">
                <a:avLst/>
              </a:prstGeom>
              <a:ln w="507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385600" y="3176640"/>
              <a:ext cx="62100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4800" spc="-1" strike="noStrike">
                  <a:solidFill>
                    <a:srgbClr val="002060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52280" y="5083200"/>
              <a:ext cx="62100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4800" spc="-1" strike="noStrike">
                  <a:solidFill>
                    <a:srgbClr val="002060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32560" y="4929120"/>
              <a:ext cx="65484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4800" spc="-1" strike="noStrike">
                  <a:solidFill>
                    <a:srgbClr val="00206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H="1" flipV="1">
            <a:off x="2743200" y="5268240"/>
            <a:ext cx="208080" cy="19692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Виды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030640" y="839880"/>
            <a:ext cx="1793880" cy="1746000"/>
            <a:chOff x="5030640" y="839880"/>
            <a:chExt cx="1793880" cy="1746000"/>
          </a:xfrm>
        </p:grpSpPr>
        <p:sp>
          <p:nvSpPr>
            <p:cNvPr id="459" name=""/>
            <p:cNvSpPr/>
            <p:nvPr/>
          </p:nvSpPr>
          <p:spPr>
            <a:xfrm>
              <a:off x="5227560" y="839880"/>
              <a:ext cx="0" cy="1393560"/>
            </a:xfrm>
            <a:prstGeom prst="line">
              <a:avLst/>
            </a:prstGeom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221080" y="2239920"/>
              <a:ext cx="1276200" cy="0"/>
            </a:xfrm>
            <a:prstGeom prst="line">
              <a:avLst/>
            </a:prstGeom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0640" y="2179800"/>
              <a:ext cx="17938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978440" y="3743280"/>
            <a:ext cx="2359080" cy="1654200"/>
            <a:chOff x="4978440" y="3743280"/>
            <a:chExt cx="2359080" cy="1654200"/>
          </a:xfrm>
        </p:grpSpPr>
        <p:sp>
          <p:nvSpPr>
            <p:cNvPr id="463" name=""/>
            <p:cNvSpPr/>
            <p:nvPr/>
          </p:nvSpPr>
          <p:spPr>
            <a:xfrm flipH="1">
              <a:off x="5262480" y="3743280"/>
              <a:ext cx="1378080" cy="1211400"/>
            </a:xfrm>
            <a:prstGeom prst="line">
              <a:avLst/>
            </a:prstGeom>
            <a:ln w="507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262120" y="4962600"/>
              <a:ext cx="1683000" cy="0"/>
            </a:xfrm>
            <a:prstGeom prst="line">
              <a:avLst/>
            </a:prstGeom>
            <a:ln w="507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78440" y="4886280"/>
              <a:ext cx="2359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184720" y="2438280"/>
            <a:ext cx="2007360" cy="1443240"/>
            <a:chOff x="5184720" y="2438280"/>
            <a:chExt cx="2007360" cy="1443240"/>
          </a:xfrm>
        </p:grpSpPr>
        <p:sp>
          <p:nvSpPr>
            <p:cNvPr id="467" name=""/>
            <p:cNvSpPr/>
            <p:nvPr/>
          </p:nvSpPr>
          <p:spPr>
            <a:xfrm>
              <a:off x="5184720" y="2438280"/>
              <a:ext cx="704160" cy="1082880"/>
            </a:xfrm>
            <a:prstGeom prst="line">
              <a:avLst/>
            </a:prstGeom>
            <a:ln w="507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5887080" y="3529080"/>
              <a:ext cx="1305000" cy="0"/>
            </a:xfrm>
            <a:prstGeom prst="line">
              <a:avLst/>
            </a:prstGeom>
            <a:ln w="507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15200" y="3456000"/>
              <a:ext cx="2649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329080" y="5616720"/>
            <a:ext cx="2583720" cy="739800"/>
            <a:chOff x="5329080" y="5616720"/>
            <a:chExt cx="2583720" cy="739800"/>
          </a:xfrm>
        </p:grpSpPr>
        <p:sp>
          <p:nvSpPr>
            <p:cNvPr id="471" name=""/>
            <p:cNvSpPr/>
            <p:nvPr/>
          </p:nvSpPr>
          <p:spPr>
            <a:xfrm>
              <a:off x="5329080" y="5691240"/>
              <a:ext cx="1210320" cy="0"/>
            </a:xfrm>
            <a:prstGeom prst="line">
              <a:avLst/>
            </a:prstGeom>
            <a:ln w="507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689880" y="5691240"/>
              <a:ext cx="1222920" cy="0"/>
            </a:xfrm>
            <a:prstGeom prst="line">
              <a:avLst/>
            </a:prstGeom>
            <a:ln w="507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60200" y="5845320"/>
              <a:ext cx="3898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5880" y="5616720"/>
              <a:ext cx="145440" cy="145800"/>
            </a:xfrm>
            <a:prstGeom prst="rect">
              <a:avLst/>
            </a:prstGeom>
            <a:solidFill>
              <a:srgbClr val="663300"/>
            </a:solidFill>
            <a:ln w="255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728720" y="1511280"/>
            <a:ext cx="273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й у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28720" y="2952720"/>
            <a:ext cx="20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пой у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28720" y="4392720"/>
            <a:ext cx="230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рый уго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28720" y="5400720"/>
            <a:ext cx="251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ернутый у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7640" y="360360"/>
            <a:ext cx="9126360" cy="568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07:09:55Z</dcterms:created>
  <dc:creator>Users</dc:creator>
  <dc:description/>
  <dc:language>en-US</dc:language>
  <cp:lastModifiedBy/>
  <dcterms:modified xsi:type="dcterms:W3CDTF">2017-12-15T13:37:06Z</dcterms:modified>
  <cp:revision>148</cp:revision>
  <dc:subject/>
  <dc:title>Многоугольники</dc:title>
</cp:coreProperties>
</file>