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F5E-741A-4303-A36B-66705512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259-04F8-4F8C-8316-A65FA2D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804-1B57-4EFF-9A2C-8377298A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17F-3761-40D0-BBF3-8A0B7AD2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0E3-9E03-41BE-8F6D-0174C3E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D89B-CCFF-414F-A2FE-5C9CC74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C7F-A35B-49DD-96BE-BB180237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EA1-F6DA-404A-8BB9-CFE0769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E8A-C2C5-4AC9-9F49-D76DBF5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C21A-05AC-4B4B-9CA3-24D552E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9E2-7E3F-49F5-9E9D-ACE5D4C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6DC-CB1D-4A2E-9857-C8ECBE6B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7A4A-385E-4512-92D2-73012BE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2B62-96F8-4EDE-A00E-5ED0186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543A-FB2C-471D-93C5-E214CAA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C459-542A-4A4A-9033-534736A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9C4-0263-41F2-89AD-8C5931F6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9A0-2889-4539-A4C4-28AB9BC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227-1226-4975-A69C-1CFC464F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21F-299C-4829-898C-4FBDC8E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FEF-F5C3-44DA-8057-1FED031B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38B-D2FA-4DF6-8C1B-D82B861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BBE-FB22-4D48-A619-8713773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ABD-24C3-4D71-8A83-2FF856E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8CE061-1B13-4FF9-9B2B-C644C6CF0A8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7AF15-B40C-4876-ACDE-63B92C71EA2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3240" y="3564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259640" y="543960"/>
            <a:ext cx="633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5290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 4 «Янтарик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 «Янтарный городской округ»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85920" y="2786040"/>
            <a:ext cx="6486120" cy="28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 моделирования в образовательном процессе детского с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СЗД Столярова Е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2" name="TextBox 5"/>
          <p:cNvSpPr/>
          <p:nvPr/>
        </p:nvSpPr>
        <p:spPr>
          <a:xfrm>
            <a:off x="714240" y="571320"/>
            <a:ext cx="7929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Предметно-сх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ыделенные в объекте познания, существенные компоненты и связи между ними обозначаются при помощи предметов-заместителей и графических знаков. Структура такой модели должна быть подобна главнейшим компонентом изучаемого объекта и тем связям, отношениям, которые становятся предметом познания. Предметно-схематическая модель должна обнаружить эти связи, отчётливо представить их в изолированном, обобщё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741960" y="5157360"/>
            <a:ext cx="77864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Графические модел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ённо передают разные виды отношений (графики, формулы, схемы). Этот вид моделей используется преимущественно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396960" y="3144240"/>
            <a:ext cx="3052800" cy="228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088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229320" y="384480"/>
            <a:ext cx="856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323640" y="476640"/>
            <a:ext cx="77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пы работы с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28760" y="1340640"/>
            <a:ext cx="815328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880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725360" y="3285000"/>
            <a:ext cx="4399200" cy="329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126720" y="3277800"/>
            <a:ext cx="435564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540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900000" y="620640"/>
            <a:ext cx="770400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метода «моделирования» в различных видах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Моделирование в математическом развит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блоки Дьенеш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бор объёмных геометрических фигур, различающихся по форме, цвету, размеру, толщ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Моделирование в разделе « Ознакомление с художественной литературой» и «Развиваем речь дете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емо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хема, в которую заложена определённ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Моделирование в экологическом воспитан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блюдая за животными и растениями, воспитатель с детьми обследует объект, и вычленяют на этой основе признаки и свойства живых организмов. Для построения плана обследования предметов природы, можно использовать карточки-симв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но выделить функции живых организмов: дышит, двигается, и обозначить их схематическими моделям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 помощью картинок-моделей можно обозначать выделенные признаки (цвет, форму, численность частей и др.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ы-модели могут обозначать различные среды обитания живых существ (наземную, воздушную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67640" y="332640"/>
            <a:ext cx="7967520" cy="597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51640" y="381960"/>
            <a:ext cx="4176000" cy="313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4716000" y="337536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900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07640" y="3285000"/>
            <a:ext cx="4336200" cy="3252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4543560" y="114120"/>
            <a:ext cx="4430880" cy="3323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539640" y="1052640"/>
            <a:ext cx="8146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основе моделей можно создавать разнообразные дидактические игр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мощи картинок-моделей организовывать различные виды ориентированной деятельности детей. Модели можно использовать на занятиях, в совместной с воспитателем и самостоятельной детской деятельности. К созданию моделей можно привлекать родителей и детей: взаимосвязь – воспитатель+родитель+ребенок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979000" y="2925000"/>
            <a:ext cx="3478320" cy="260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-53280" y="0"/>
            <a:ext cx="9168120" cy="7190280"/>
          </a:xfrm>
          <a:prstGeom prst="rect">
            <a:avLst/>
          </a:prstGeom>
          <a:ln w="9525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251640" y="332640"/>
            <a:ext cx="849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34160" y="1052640"/>
            <a:ext cx="8280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даря моделированию, дети открывают причины, зависимости, связи и изменения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214200" y="2786040"/>
            <a:ext cx="8640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 основной метод для получения обогащенной картины представлений о мире в сознании ребенка. Значение моделирования для формирования умений, навыков и эстетических критериев у детей очень большое. Моделирование это деятельность, при выполнении которой ребенок открыватель и творец. В нем спрятано научность, искусство, мастерство, как и во всем, связанном с обучением и воспитанием детей в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74160" y="0"/>
            <a:ext cx="9143640" cy="6974280"/>
          </a:xfrm>
          <a:prstGeom prst="rect">
            <a:avLst/>
          </a:prstGeom>
          <a:ln w="9525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611640" y="2925000"/>
            <a:ext cx="813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378720" y="2003040"/>
            <a:ext cx="8286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57200" y="470880"/>
            <a:ext cx="8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ель-это наглядно-практическое средств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619640" y="5229360"/>
            <a:ext cx="480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857160" y="2214720"/>
            <a:ext cx="68576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рование –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создания моделей и их использование в целях формирования знаний о свойствах, структуре, отношениях, связях объект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ь моделиров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етода обучения в том, что оно делает наглядным скрытые от непосредственного восприятия свойства, связи, отношения объектов, которые являются существенными для понимания фактов, явлений, при формировании знаний, приближающихся по содержанию к по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86000" y="2148840"/>
            <a:ext cx="4571640" cy="342864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44800" y="56880"/>
            <a:ext cx="8719560" cy="654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33280" y="188640"/>
            <a:ext cx="8659080" cy="649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5840" y="13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57120" y="2219400"/>
            <a:ext cx="820944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642960" y="1857240"/>
            <a:ext cx="76435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 метода моделирования для дошкольников показана была психологами (А.В.Запорожцем, Л.А.Венгером, Н.Н.Поддьяковым, Д.Б.Элькониным). Она определяется тем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е моделирования лежит принцип замещ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ый предмет может быть замещён в деятельности детей другим предметом, изображением, зн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2571840" y="9248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259640" y="746640"/>
            <a:ext cx="7152120" cy="536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2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179640" y="134280"/>
            <a:ext cx="8808120" cy="660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  <Words>260</Words>
  <Paragraphs>7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29:21Z</dcterms:created>
  <dc:creator>user</dc:creator>
  <dc:description/>
  <dc:language>en-US</dc:language>
  <cp:lastModifiedBy>RePack by Diakov</cp:lastModifiedBy>
  <dcterms:modified xsi:type="dcterms:W3CDTF">2017-12-14T21:08:33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