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Franklin Gothic Medium"/>
              </a:rPr>
              <a:t>Click to move the slide</a:t>
            </a:r>
            <a:endParaRPr b="0" lang="en-US" sz="50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6A8D-8D92-4FA0-9057-7FA532B4F1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39B7-0DE6-4E5C-AC14-02EE4282DDE4}" type="slidenum"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8551-E9DD-47FD-BDA0-FA85E27D9159}" type="slidenum"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10C-7E13-46B3-9E3A-2681B46E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9F3-C30E-440F-84CD-DABF93F3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C32-791B-49BD-A336-70EEC4D4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E2D-ABC2-4DB2-8A4B-7CE5EFE8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A403-63AA-4513-9A87-78D00955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D0A1-07C3-446A-9212-88CAC293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2855-10CA-4D11-8F9A-45C92416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DEE8-9B4B-4DE3-A360-5CB7D288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E3C0-1569-4B34-99B0-F1EBEBFB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7DA5-810B-428C-9CA3-DD2D2025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670F-9D54-4CF0-86CE-F0A64A87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21F-2DCC-4BFF-8335-5D4301D7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407D-236D-4772-93B8-4D851525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FFA1-D798-4C4B-A098-A0B3F825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670F-CFCA-42B6-A4D5-DB9D9044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11A0-F9E1-4CEE-A492-614E779F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D997-E113-46B0-8A89-C71018BF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B9A09-6FFC-4C32-B963-6492B88F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0021C-B694-40FB-9457-21093B80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E10C9-64EF-4416-AB4A-682764D1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B3ADE-B88B-4349-936B-78A3B348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3EE2B-F628-445A-A975-6C32AE9A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2C0-2FB0-4E1C-9B12-55D96039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AA86-83E1-4145-B5C9-73897C12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484D-6281-4909-B56F-B9650171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7267-9662-4F27-A19C-20259514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8EF6-A958-4783-962F-98BEF62F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CEB8-35C3-42D5-B3CD-412CBD88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555CF-A0AA-4AEC-AAE6-283C3414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3F7EF-9369-4059-991D-4E8115F7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C79CC-03CD-4C5D-8232-A3C75BEC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9C246-14FB-4709-8E66-9C40775B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76631-A246-4C6E-8554-D701E3C8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F4E-6409-403E-80A4-F76F9C15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98662-FFB5-4D29-803E-4BD76605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5DA8F-89A9-48DA-A783-75A231C3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B96FE-8494-414A-B9AC-6ECBABE4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D2BC7-904C-4B24-88A2-2F23ABD6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B1354-8E50-4C21-B43F-09EEEDBA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FAF4E-0B35-43C2-A220-FA162EAD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D5902-0664-434A-AF0B-9128B09A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E57CE-8A8C-44AD-9752-4FF06BB0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AE74D-4911-4B18-B38D-F706A5FA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3F1-FD15-42E1-9980-44DD90F6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86B-8080-4498-B3C3-070ABDA5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B4F-F169-4F96-98F6-2F4E1AAA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53C-1F69-4CF5-B377-627B6C38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823-0450-4074-B8C0-D50C1D43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CC87-ACD1-4282-BA69-7C09587FF221}" type="slidenum">
              <a:rPr b="0" lang="ru-RU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BD0D-BB36-41BC-BB82-3BB014EB2363}" type="slidenum">
              <a:rPr b="0" lang="ru-RU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5A1F-7DB8-4C8A-9E6C-D3C2323553A1}" type="slidenum">
              <a:rPr b="0" lang="ru-RU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050E-2653-4A39-838B-DA41FC35DD1E}" type="slidenum">
              <a:rPr b="0" lang="ru-RU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Выноска-облако 4"/>
          <p:cNvSpPr/>
          <p:nvPr/>
        </p:nvSpPr>
        <p:spPr>
          <a:xfrm>
            <a:off x="-108000" y="2028960"/>
            <a:ext cx="6357960" cy="42145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03" name="Picture 3" descr="C:\Users\Пользователь\Desktop\Новая папка\изображения для презентаций\disney-16.png"/>
          <p:cNvPicPr/>
          <p:nvPr/>
        </p:nvPicPr>
        <p:blipFill>
          <a:blip r:embed="rId1"/>
          <a:stretch/>
        </p:blipFill>
        <p:spPr>
          <a:xfrm>
            <a:off x="214200" y="1071720"/>
            <a:ext cx="2000520" cy="1857240"/>
          </a:xfrm>
          <a:prstGeom prst="rect">
            <a:avLst/>
          </a:prstGeom>
          <a:ln w="0">
            <a:noFill/>
          </a:ln>
        </p:spPr>
      </p:pic>
      <p:pic>
        <p:nvPicPr>
          <p:cNvPr id="204" name="Заголовок 1" descr=""/>
          <p:cNvPicPr/>
          <p:nvPr/>
        </p:nvPicPr>
        <p:blipFill>
          <a:blip r:embed="rId2"/>
          <a:stretch/>
        </p:blipFill>
        <p:spPr>
          <a:xfrm>
            <a:off x="1547640" y="360360"/>
            <a:ext cx="7261560" cy="1413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787640" y="3284640"/>
            <a:ext cx="4143240" cy="30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ярова Е.К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Заголовок 1"/>
          <p:cNvSpPr/>
          <p:nvPr/>
        </p:nvSpPr>
        <p:spPr>
          <a:xfrm>
            <a:off x="560520" y="34920"/>
            <a:ext cx="82087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07" name="Рисунок 2" descr=""/>
          <p:cNvPicPr/>
          <p:nvPr/>
        </p:nvPicPr>
        <p:blipFill>
          <a:blip r:embed="rId3"/>
          <a:stretch/>
        </p:blipFill>
        <p:spPr>
          <a:xfrm>
            <a:off x="927000" y="2530440"/>
            <a:ext cx="4284720" cy="32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7200" y="311040"/>
            <a:ext cx="8308800" cy="7495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" descr=""/>
          <p:cNvPicPr/>
          <p:nvPr/>
        </p:nvPicPr>
        <p:blipFill>
          <a:blip r:embed="rId2"/>
          <a:stretch/>
        </p:blipFill>
        <p:spPr>
          <a:xfrm>
            <a:off x="468360" y="1442880"/>
            <a:ext cx="3816360" cy="23464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3"/>
          <p:cNvSpPr/>
          <p:nvPr/>
        </p:nvSpPr>
        <p:spPr>
          <a:xfrm>
            <a:off x="468360" y="414972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«Чудо – крестики»    помогают   ребенку  освоить и формы, развивают       умения      сравнивать    и   анализировать, формируют понятия целое и части. В ходе игры  у ребенка развиваются     воображение,   фантазия, ловкость рук, он учится  использовать  схемы  для  решения  поставленных задач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9" name="Рисунок 4" descr=""/>
          <p:cNvPicPr/>
          <p:nvPr/>
        </p:nvPicPr>
        <p:blipFill>
          <a:blip r:embed="rId3"/>
          <a:stretch/>
        </p:blipFill>
        <p:spPr>
          <a:xfrm>
            <a:off x="4788000" y="1442880"/>
            <a:ext cx="3600360" cy="234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7200" y="-30240"/>
            <a:ext cx="8308800" cy="12067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" descr=""/>
          <p:cNvPicPr/>
          <p:nvPr/>
        </p:nvPicPr>
        <p:blipFill>
          <a:blip r:embed="rId2"/>
          <a:stretch/>
        </p:blipFill>
        <p:spPr>
          <a:xfrm>
            <a:off x="1924200" y="1052640"/>
            <a:ext cx="5295600" cy="3024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3"/>
          <p:cNvSpPr/>
          <p:nvPr/>
        </p:nvSpPr>
        <p:spPr>
          <a:xfrm>
            <a:off x="1042920" y="4437000"/>
            <a:ext cx="68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С   помощью   игры и сказочного сюжета ребенок решает     логически      задачи,         осуществляет творческие      замыслы,       осваивает     принцип образования    числа,     учит          анализировать, сравнивать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push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116000" y="765000"/>
            <a:ext cx="676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Актуальность     работы в    том ,   что задачей педагогов на   современном этапе         образования,       является раскрытие   незамеченных     детьми свойств                            окружающей действительности,   причем       таким образом ,          чтобы           избежать превращение повседневной жизни в дидактический процесс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1"/>
          <p:cNvSpPr/>
          <p:nvPr/>
        </p:nvSpPr>
        <p:spPr>
          <a:xfrm>
            <a:off x="755640" y="404640"/>
            <a:ext cx="7345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Цель исследования –   изучить     особенности сенсорного   воспитания   детей  дошкольного возраста и показать   роль  развивающих  игр Воскобовича  в сенсорном  развитии     детей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Объект       исследования -        сенсорное воспитание  детей    дошкольного      возраста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Предмет         исследования   –    процесс сенсорного  воспитания  детей    дошкольного возраста с использованием развивающих игр Воскобовича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push dir="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Franklin Gothic Medium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основы сенсорного развития  детей младшего дошкольного возраста.</a:t>
            </a:r>
            <a:endParaRPr b="0" lang="en-US" sz="18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25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100000"/>
              </a:lnSpc>
              <a:spcBef>
                <a:spcPts val="425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100000"/>
              </a:lnSpc>
              <a:spcBef>
                <a:spcPts val="425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100000"/>
              </a:lnSpc>
              <a:spcBef>
                <a:spcPts val="425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100000"/>
              </a:lnSpc>
              <a:spcBef>
                <a:spcPts val="425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100000"/>
              </a:lnSpc>
              <a:spcBef>
                <a:spcPts val="425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100000"/>
              </a:lnSpc>
              <a:spcBef>
                <a:spcPts val="425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Вертикальный свиток 3"/>
          <p:cNvSpPr/>
          <p:nvPr/>
        </p:nvSpPr>
        <p:spPr>
          <a:xfrm>
            <a:off x="0" y="765000"/>
            <a:ext cx="3500280" cy="3878280"/>
          </a:xfrm>
          <a:prstGeom prst="verticalScroll">
            <a:avLst>
              <a:gd name="adj" fmla="val 12500"/>
            </a:avLst>
          </a:prstGeom>
          <a:solidFill>
            <a:srgbClr val="acc1e8"/>
          </a:solidFill>
          <a:ln w="255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осприятие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 –                 это целостное           отражение предметов,           ситуаций, явлений, возникающих при непосредственном воздействии      физических раздражителей                 на рецепторные   поверхности органов чувств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Вертикальный свиток 7"/>
          <p:cNvSpPr/>
          <p:nvPr/>
        </p:nvSpPr>
        <p:spPr>
          <a:xfrm>
            <a:off x="4572000" y="1700280"/>
            <a:ext cx="3995640" cy="4367160"/>
          </a:xfrm>
          <a:prstGeom prst="verticalScroll">
            <a:avLst>
              <a:gd name="adj" fmla="val 12500"/>
            </a:avLst>
          </a:prstGeom>
          <a:solidFill>
            <a:srgbClr val="acc1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сорное развитие ребен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развитие его      восприятия      и формирование представлений о внешних свойствах предметов : их   форме, цвете,             величине, положении в пространстве и т.п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pull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50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4f8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4f8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1042920" y="708120"/>
            <a:ext cx="7345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азвивающие  игры – интеграция    психологических ,                      педагогических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технологий, осуществляющая стимуляцию развития познавательной сферы и выработку определенных навыков и умений. Очень важно, чтобы при таком многообразии задач, поставленных перед развивающими  играми, они оставались интересными, оригинальными, предоставляли ребенку возможность творчества, не утрачивали своей привлекательности от игры к игре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900000" y="797040"/>
            <a:ext cx="727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И вот среди многообразия творческих подходов, игр, знакомых нам по педагогической дидактике, появилась совершенно особенная, самобытная, творческая очень добрая группа игр – Развивающие игры Воскобовича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push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787680"/>
          </a:xfrm>
          <a:prstGeom prst="rect">
            <a:avLst/>
          </a:prstGeom>
          <a:ln w="0">
            <a:noFill/>
          </a:ln>
        </p:spPr>
      </p:pic>
      <p:pic>
        <p:nvPicPr>
          <p:cNvPr id="217" name="Схема 2" descr=""/>
          <p:cNvPicPr/>
          <p:nvPr/>
        </p:nvPicPr>
        <p:blipFill>
          <a:blip r:embed="rId2"/>
          <a:stretch/>
        </p:blipFill>
        <p:spPr>
          <a:xfrm>
            <a:off x="1511280" y="1395360"/>
            <a:ext cx="6121440" cy="40672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8308800" cy="749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3"/>
          <p:cNvSpPr/>
          <p:nvPr/>
        </p:nvSpPr>
        <p:spPr>
          <a:xfrm>
            <a:off x="395280" y="4292640"/>
            <a:ext cx="842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«Игровой квадрат»      представляет      собой      32   жестких треугольника, наклеенных на гибкую основу с двух сторон. Благодаря такой конструкции квадрат     легко     трансформируется,      позволяя     конструировать   как плоскостные,      так     и     объемные     фигуры. Как    двухцветный,   так и четырёхцветный выполнен из картонных треугольников,    наклеенных   на квадрат    из      материала. Квадрат     свободно     сгибается по границам треугольников, преобразуюсь во всевозможные фигуры и предметы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0" name="Рисунок 4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889440" cy="27370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5" descr=""/>
          <p:cNvPicPr/>
          <p:nvPr/>
        </p:nvPicPr>
        <p:blipFill>
          <a:blip r:embed="rId3"/>
          <a:stretch/>
        </p:blipFill>
        <p:spPr>
          <a:xfrm>
            <a:off x="4788000" y="1268280"/>
            <a:ext cx="410688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308800" cy="8589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" descr=""/>
          <p:cNvPicPr/>
          <p:nvPr/>
        </p:nvPicPr>
        <p:blipFill>
          <a:blip r:embed="rId2"/>
          <a:stretch/>
        </p:blipFill>
        <p:spPr>
          <a:xfrm>
            <a:off x="539640" y="1014480"/>
            <a:ext cx="3672000" cy="30258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3"/>
          <p:cNvSpPr/>
          <p:nvPr/>
        </p:nvSpPr>
        <p:spPr>
          <a:xfrm>
            <a:off x="539640" y="422100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«Геоконт» вводит детей в мир геометрии,   развивая у них мелкую моторику рук, помогают изучить цвета, величины и формы. С помощью данной   игры     ребенок      учится моделировать.     Так      же    это    прекрасный    вариант время провождения ребенка с родителями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5" name="Рисунок 4" descr=""/>
          <p:cNvPicPr/>
          <p:nvPr/>
        </p:nvPicPr>
        <p:blipFill>
          <a:blip r:embed="rId3"/>
          <a:stretch/>
        </p:blipFill>
        <p:spPr>
          <a:xfrm>
            <a:off x="4716360" y="1014480"/>
            <a:ext cx="388800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6:20:36Z</dcterms:created>
  <dc:creator>Пользователь</dc:creator>
  <dc:description/>
  <dc:language>en-US</dc:language>
  <cp:lastModifiedBy>RePack by Diakov</cp:lastModifiedBy>
  <dcterms:modified xsi:type="dcterms:W3CDTF">2017-12-14T21:29:08Z</dcterms:modified>
  <cp:revision>160</cp:revision>
  <dc:subject/>
  <dc:title>Сенсорное развитие в предметно-манипулятивной деятельности детей раннего возраста</dc:title>
</cp:coreProperties>
</file>